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709-66F2-47B9-A60F-BB7EC020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C34-537E-4AD7-8675-E43BC339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AFD-5F0C-404C-B331-4C75A465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C76-7292-46A8-B251-5B8F1384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198-BA7F-44DE-812A-F8832D58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A55-9868-422E-84DA-AFCDCF67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10C-BFA4-4453-828D-85F28B05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35D-123F-4276-80EA-528BE6EA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6BE-7F1B-4581-BF31-8E325E53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72C-FB97-4CD7-8508-D9178CB7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F28-209B-4F5E-88FD-AE3C133D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91D8-1EE0-4F8B-9AFE-0E48D514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C628-443E-48CC-831B-5E8A228FC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172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47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324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4190760" cy="4952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4120" y="1981080"/>
            <a:ext cx="2514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 2</a:t>
            </a:r>
            <a:endParaRPr b="0" lang="en-US" sz="96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14T18:54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