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4AD-5A9F-471A-B30A-41521A23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161-7E55-40EB-98EC-24B57114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166-5E1C-4E7F-94C2-6A67725D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4E5-948B-4CAA-B46B-A553DCFA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706-1A0A-47A5-B80E-644FF666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D75-9880-4615-AA2D-CD0B0528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834-6D9D-4A19-831E-EC6F3B9B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9C5-93EB-404B-950C-0D27AFBE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EF3-C554-4268-AE26-F9625D96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5C3-2765-4CDF-B5E2-784DE8A9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8C5-F01B-4C35-BC6A-5C28616A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74F-792F-4949-BF21-A676077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79A7-687F-48E7-857B-CE8D56C3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172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4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324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190760" cy="4952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4120" y="1981080"/>
            <a:ext cx="2514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 2</a:t>
            </a:r>
            <a:endParaRPr b="0" lang="en-US" sz="96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14T18:54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