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4784-0E63-46E1-BA6A-3CE63537F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BFD4-8898-4599-9171-F62F8315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2940-C7A9-4725-B8CB-06FE3655F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9FF2-50B3-484F-8E54-B7ABB59B5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2AE4-A52F-4FE6-A2A2-A3912862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5187-E656-4156-A16A-FB8D4787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7213-7B0A-4141-B723-658D33DC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4CEA-EC5F-4E90-9065-27D22DBC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8733-A93D-44F5-A136-BBE7C1F3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6F3B-F8B6-4B10-8FD0-821BCFCD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19E2-CD32-4878-B525-F406FDFE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E232-C7B3-41F1-AED4-182AA6FE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A7CC-6C9D-4502-B7EF-B9791D96BFE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следовательская работ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теме :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иалог культур. Развитие лингвистической компетенции: заимствование в русском, французском и английском язык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71760" y="4000680"/>
            <a:ext cx="6400800" cy="21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Авторы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: Русин Илья 9а, Пушкина Мария 9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Руководители проекта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: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Бородаева И.И., Уголева Е.С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(учителя английского языка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осква 2011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витие лингвистической компетенц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имствования иностранных сл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на примере английского, французского и русского языков)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ыявление закономерностей данного языкового явл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нглийские слова в русском языке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00040" y="6143400"/>
            <a:ext cx="82296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рой ошибка становится привлекательной до того, что овладевает массами.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Клевый от 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clever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– умный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C:\Documents and Settings\nik\Рабочий стол\В работе\Картинки\horosh_maner.jpg"/>
          <p:cNvPicPr/>
          <p:nvPr/>
        </p:nvPicPr>
        <p:blipFill>
          <a:blip r:embed="rId2"/>
          <a:stretch/>
        </p:blipFill>
        <p:spPr>
          <a:xfrm>
            <a:off x="3214800" y="714240"/>
            <a:ext cx="2286000" cy="1533600"/>
          </a:xfrm>
          <a:prstGeom prst="rect">
            <a:avLst/>
          </a:prstGeom>
          <a:ln w="28440">
            <a:solidFill>
              <a:srgbClr val="e46c0a"/>
            </a:solidFill>
            <a:miter/>
          </a:ln>
        </p:spPr>
      </p:pic>
      <p:graphicFrame>
        <p:nvGraphicFramePr>
          <p:cNvPr id="48" name=""/>
          <p:cNvGraphicFramePr/>
          <p:nvPr/>
        </p:nvGraphicFramePr>
        <p:xfrm>
          <a:off x="428760" y="2357280"/>
          <a:ext cx="8501040" cy="3714840"/>
        </p:xfrm>
        <a:graphic>
          <a:graphicData uri="http://schemas.openxmlformats.org/drawingml/2006/table">
            <a:tbl>
              <a:tblPr/>
              <a:tblGrid>
                <a:gridCol w="2340000"/>
                <a:gridCol w="6161040"/>
              </a:tblGrid>
              <a:tr h="49068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ОР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рмрестлинг, байкер,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кейтборд, сноуборд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боди-ар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7148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ДА, ОДЕЖДА, АКСЕССУ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ейч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батник, кардиган, то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КУС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рт-дизаин,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мейк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флоризм,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э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32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РАПСИХ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тергейс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экстрасенс, телекине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ОР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ернет, сайт,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канер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принтер,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утбук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8100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вапарк,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йфренд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еативны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массмедиа, пазл,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ирсинг, портфоли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скинхеды, тинэйджер, ток-шо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8472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Французские слова в русском язык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"/>
          <p:cNvPicPr/>
          <p:nvPr/>
        </p:nvPicPr>
        <p:blipFill>
          <a:blip r:embed="rId2"/>
          <a:stretch/>
        </p:blipFill>
        <p:spPr>
          <a:xfrm>
            <a:off x="353880" y="712800"/>
            <a:ext cx="7601040" cy="6084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Documents and Settings\nik\Рабочий стол\В работе\Картинки\франц.bmp"/>
          <p:cNvPicPr/>
          <p:nvPr/>
        </p:nvPicPr>
        <p:blipFill>
          <a:blip r:embed="rId3"/>
          <a:stretch/>
        </p:blipFill>
        <p:spPr>
          <a:xfrm>
            <a:off x="7286760" y="5265720"/>
            <a:ext cx="164304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усские слова в </a:t>
            </a: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английском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французском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600200"/>
          <a:ext cx="8229600" cy="3657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6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з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ельм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л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пут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обо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Шапка-уша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треш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ерез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истро( очень интересное происхождени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ач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нтеллиген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пей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уж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ирож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гр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уб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амов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еп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ай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рой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Цар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Французские заимствования в английск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"/>
          <p:cNvPicPr/>
          <p:nvPr/>
        </p:nvPicPr>
        <p:blipFill>
          <a:blip r:embed="rId2"/>
          <a:stretch/>
        </p:blipFill>
        <p:spPr>
          <a:xfrm>
            <a:off x="353880" y="785880"/>
            <a:ext cx="857088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меры слов, существующих во всех трех языках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600200"/>
          <a:ext cx="8362800" cy="4924440"/>
        </p:xfrm>
        <a:graphic>
          <a:graphicData uri="http://schemas.openxmlformats.org/drawingml/2006/table">
            <a:tbl>
              <a:tblPr/>
              <a:tblGrid>
                <a:gridCol w="2787480"/>
                <a:gridCol w="2787840"/>
                <a:gridCol w="2787480"/>
              </a:tblGrid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ранцуз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глий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с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Le tenne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Tenn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Тенни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82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Le desse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Desse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Десер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L’imres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Impres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Импресс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Les accessoi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Accessoi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Аксессуа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Le parf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Perfu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Парфю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Прямоугольник 3" descr=""/>
          <p:cNvPicPr/>
          <p:nvPr/>
        </p:nvPicPr>
        <p:blipFill>
          <a:blip r:embed="rId2"/>
          <a:stretch/>
        </p:blipFill>
        <p:spPr>
          <a:xfrm>
            <a:off x="676440" y="5010120"/>
            <a:ext cx="8364240" cy="96984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4" descr=""/>
          <p:cNvPicPr/>
          <p:nvPr/>
        </p:nvPicPr>
        <p:blipFill>
          <a:blip r:embed="rId3"/>
          <a:stretch/>
        </p:blipFill>
        <p:spPr>
          <a:xfrm>
            <a:off x="847800" y="3517920"/>
            <a:ext cx="7149960" cy="77940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5" descr=""/>
          <p:cNvPicPr/>
          <p:nvPr/>
        </p:nvPicPr>
        <p:blipFill>
          <a:blip r:embed="rId4"/>
          <a:stretch/>
        </p:blipFill>
        <p:spPr>
          <a:xfrm>
            <a:off x="835200" y="853920"/>
            <a:ext cx="769284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2T07:42:45Z</dcterms:created>
  <dc:creator>user</dc:creator>
  <dc:description/>
  <dc:language>en-US</dc:language>
  <cp:lastModifiedBy>школа</cp:lastModifiedBy>
  <dcterms:modified xsi:type="dcterms:W3CDTF">2011-11-25T11:21:50Z</dcterms:modified>
  <cp:revision>53</cp:revision>
  <dc:subject/>
  <dc:title>Слайд 1</dc:title>
</cp:coreProperties>
</file>