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ED0B-05FB-4667-8E15-367B5ADB7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650C-FDD4-4BA6-8A73-A88B73CC4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57A1-0DC3-459A-9E79-FF284C4EC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26D7-745C-4857-BC84-AB4A835ED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BF34-DD64-4420-9BA6-817A12BFA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4999-200A-4392-B6C9-E094157AA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FCF2-AC99-4BDC-BF73-37596D77C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BAFD-CB7C-42D0-A1C7-F20D2024B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E036-0F08-4370-8438-26363D960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958E-4AB4-4522-91A2-490088323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4DC8-25E5-4B01-8FA6-16BD925E1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EE60-3521-412D-AE0F-83F702F4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18601-9D7F-4F18-813C-0FDCB8CBCAC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сследовательская работа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 теме :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иалог культур. Развитие лингвистической компетенции: заимствование в русском, французском и английском языка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71760" y="4000680"/>
            <a:ext cx="6400800" cy="21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 u="sng">
                <a:solidFill>
                  <a:srgbClr val="000000"/>
                </a:solidFill>
                <a:uFillTx/>
                <a:latin typeface="Calibri"/>
              </a:rPr>
              <a:t>Авторы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: Русин Илья 9а, Пушкина Мария 9в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 u="sng">
                <a:solidFill>
                  <a:srgbClr val="000000"/>
                </a:solidFill>
                <a:uFillTx/>
                <a:latin typeface="Calibri"/>
              </a:rPr>
              <a:t>Руководители проекта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: 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Бородаева И.И., Уголева Е.С.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(учителя английского языка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осква 2011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л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звитие лингвистической компетенци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имствования иностранных сл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на примере английского, французского и русского языков)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ыявление закономерностей данного языкового явлени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712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Английские слова в русском языке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00040" y="6143400"/>
            <a:ext cx="82296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рой ошибка становится привлекательной до того, что овладевает массами.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Клевый от  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clever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 – умный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3" descr="C:\Documents and Settings\nik\Рабочий стол\В работе\Картинки\horosh_maner.jpg"/>
          <p:cNvPicPr/>
          <p:nvPr/>
        </p:nvPicPr>
        <p:blipFill>
          <a:blip r:embed="rId2"/>
          <a:stretch/>
        </p:blipFill>
        <p:spPr>
          <a:xfrm>
            <a:off x="3214800" y="714240"/>
            <a:ext cx="2286000" cy="1533600"/>
          </a:xfrm>
          <a:prstGeom prst="rect">
            <a:avLst/>
          </a:prstGeom>
          <a:ln w="28440">
            <a:solidFill>
              <a:srgbClr val="e46c0a"/>
            </a:solidFill>
            <a:miter/>
          </a:ln>
        </p:spPr>
      </p:pic>
      <p:graphicFrame>
        <p:nvGraphicFramePr>
          <p:cNvPr id="48" name=""/>
          <p:cNvGraphicFramePr/>
          <p:nvPr/>
        </p:nvGraphicFramePr>
        <p:xfrm>
          <a:off x="428760" y="2357280"/>
          <a:ext cx="8501040" cy="3714840"/>
        </p:xfrm>
        <a:graphic>
          <a:graphicData uri="http://schemas.openxmlformats.org/drawingml/2006/table">
            <a:tbl>
              <a:tblPr/>
              <a:tblGrid>
                <a:gridCol w="2340000"/>
                <a:gridCol w="6161040"/>
              </a:tblGrid>
              <a:tr h="490680"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4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ПОР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рмрестлинг, байкер,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кейтборд, сноуборд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боди-ар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71480"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4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ДА, ОДЕЖДА, АКСЕССУ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ейч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батник, кардиган, то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0680"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4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КУС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рт-дизаин,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мейк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флоризм,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э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0320"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4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АРАПСИХОЛОГ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лтергейст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экстрасенс, телекине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0680"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4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ФОРМА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тернет, сайт,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канер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принтер,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оутбук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81000"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4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квапарк,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ойфренд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еативный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массмедиа, пазл,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ирсинг, портфолио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скинхеды, тинэйджер, ток-шо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2560" y="-360"/>
            <a:ext cx="8472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Французские слова в русском язык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Содержимое 3" descr=""/>
          <p:cNvPicPr/>
          <p:nvPr/>
        </p:nvPicPr>
        <p:blipFill>
          <a:blip r:embed="rId2"/>
          <a:stretch/>
        </p:blipFill>
        <p:spPr>
          <a:xfrm>
            <a:off x="353880" y="712800"/>
            <a:ext cx="7601040" cy="6084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C:\Documents and Settings\nik\Рабочий стол\В работе\Картинки\франц.bmp"/>
          <p:cNvPicPr/>
          <p:nvPr/>
        </p:nvPicPr>
        <p:blipFill>
          <a:blip r:embed="rId3"/>
          <a:stretch/>
        </p:blipFill>
        <p:spPr>
          <a:xfrm>
            <a:off x="7286760" y="5265720"/>
            <a:ext cx="164304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усские слова в </a:t>
            </a:r>
            <a:r>
              <a:rPr b="0" lang="ru-RU" sz="4000" spc="-1" strike="noStrike">
                <a:solidFill>
                  <a:srgbClr val="7030a0"/>
                </a:solidFill>
                <a:latin typeface="Calibri"/>
              </a:rPr>
              <a:t>английском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4000" spc="-1" strike="noStrike">
                <a:solidFill>
                  <a:srgbClr val="7030a0"/>
                </a:solidFill>
                <a:latin typeface="Calibri"/>
              </a:rPr>
              <a:t>французском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57200" y="1600200"/>
          <a:ext cx="8229600" cy="3657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66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зб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Ха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ельме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л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путн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обо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Шапка-ушан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атреш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ерез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истро( очень интересное происхождение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ач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нтеллиген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пей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уж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ирож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гр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уб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амова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теп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айг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рой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Цар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78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Французские заимствования в английско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Содержимое 3" descr=""/>
          <p:cNvPicPr/>
          <p:nvPr/>
        </p:nvPicPr>
        <p:blipFill>
          <a:blip r:embed="rId2"/>
          <a:stretch/>
        </p:blipFill>
        <p:spPr>
          <a:xfrm>
            <a:off x="353880" y="785880"/>
            <a:ext cx="8570880" cy="60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имеры слов, существующих во всех трех языках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57200" y="1600200"/>
          <a:ext cx="8362800" cy="4924440"/>
        </p:xfrm>
        <a:graphic>
          <a:graphicData uri="http://schemas.openxmlformats.org/drawingml/2006/table">
            <a:tbl>
              <a:tblPr/>
              <a:tblGrid>
                <a:gridCol w="2787480"/>
                <a:gridCol w="2787840"/>
                <a:gridCol w="2787480"/>
              </a:tblGrid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ранцузск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глийск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усск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Le tenne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Tenn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Тенни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</a:tr>
              <a:tr h="82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Le desse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Desse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Десер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L’imress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Impress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Импресс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Les accessoi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Accessoi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Аксессуар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Le parf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Perfu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Парфю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Прямоугольник 3" descr=""/>
          <p:cNvPicPr/>
          <p:nvPr/>
        </p:nvPicPr>
        <p:blipFill>
          <a:blip r:embed="rId2"/>
          <a:stretch/>
        </p:blipFill>
        <p:spPr>
          <a:xfrm>
            <a:off x="676440" y="5010120"/>
            <a:ext cx="8364240" cy="969840"/>
          </a:xfrm>
          <a:prstGeom prst="rect">
            <a:avLst/>
          </a:prstGeom>
          <a:ln w="0">
            <a:noFill/>
          </a:ln>
        </p:spPr>
      </p:pic>
      <p:pic>
        <p:nvPicPr>
          <p:cNvPr id="59" name="Прямоугольник 4" descr=""/>
          <p:cNvPicPr/>
          <p:nvPr/>
        </p:nvPicPr>
        <p:blipFill>
          <a:blip r:embed="rId3"/>
          <a:stretch/>
        </p:blipFill>
        <p:spPr>
          <a:xfrm>
            <a:off x="847800" y="3517920"/>
            <a:ext cx="7149960" cy="77940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оугольник 5" descr=""/>
          <p:cNvPicPr/>
          <p:nvPr/>
        </p:nvPicPr>
        <p:blipFill>
          <a:blip r:embed="rId4"/>
          <a:stretch/>
        </p:blipFill>
        <p:spPr>
          <a:xfrm>
            <a:off x="835200" y="853920"/>
            <a:ext cx="7692840" cy="19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2T07:42:45Z</dcterms:created>
  <dc:creator>user</dc:creator>
  <dc:description/>
  <dc:language>en-US</dc:language>
  <cp:lastModifiedBy>школа</cp:lastModifiedBy>
  <dcterms:modified xsi:type="dcterms:W3CDTF">2011-11-25T11:21:50Z</dcterms:modified>
  <cp:revision>53</cp:revision>
  <dc:subject/>
  <dc:title>Слайд 1</dc:title>
</cp:coreProperties>
</file>