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BE1-FF25-470B-BDED-D4EC8524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D13-2622-44DC-8110-E3532938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BE6-6EC3-4B78-A7B7-04862030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31C-AA39-49DC-9086-EF44675E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11C1-AC9A-4A66-9E16-B676A0B9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BE6F-BC8B-4AB1-8ECE-70085C0F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7596-BAB6-4E77-B501-97CF83D1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E9AF-479E-4E3D-B6EC-8F511066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E5D3-083F-43B2-AE4E-F7A6BB1E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66D4-F4FC-4D5A-B242-4FFFCC91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A920-EA68-444A-87AE-0B46642B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3FB-5ECC-4545-841F-D0B7343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0334-4730-4DE9-810C-4A4D548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212B-BD25-4D13-852B-F4C2DDDB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E8D2-B732-4F54-B392-214C00B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F19F-8DAC-49B1-83E8-CC8D566B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1E66-1BEE-427B-B3CB-ADE2354D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8B8-67AF-49BA-A4AC-7B9B3446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94C-C2C9-41EE-B6B8-B51DA5ED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110-388F-41C0-9AC5-2421CEC6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F7F-E061-4759-AF36-70B167D8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5BA-D97D-4359-8B2D-CCC53509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8C5-3D64-43D9-BC6D-EDF66E7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585-A923-4740-B342-CFE74CDB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315C-D024-4FC9-BC54-07C48D3EFB6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A2C-B621-417C-BD4C-9E367FC3A06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Фирмы в экономи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такое фир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кторы производства и фактор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ономические и бухгалтерские из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тоянные и переменные издержки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и, уплачиваемые предприя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48360" y="3581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15640" y="762120"/>
            <a:ext cx="2631240" cy="70344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рибы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523520" y="1600200"/>
            <a:ext cx="129564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600200"/>
            <a:ext cx="137160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209680"/>
            <a:ext cx="335268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Экономическая прибы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ручкой фирмы и экономическими издерж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209680"/>
            <a:ext cx="344484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Бухгалтерская прибы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ручкой и бухгалтерски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рны ли суждения о прибыли фирмы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Экономическая прибыль учитывает внутренние и внешние издержк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ы оба су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Что значит эффективный бизне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Эффект (в экономике)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Эффективность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ентабельность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4800600"/>
            <a:ext cx="778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Рентабельность =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прибы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затра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5867280"/>
            <a:ext cx="16761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Налоги -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язательные платежи физических и юридических лиц государству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1752480"/>
            <a:ext cx="3352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Три сист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налогообло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371600" y="2666880"/>
            <a:ext cx="236232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2666880"/>
            <a:ext cx="0" cy="7621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2666880"/>
            <a:ext cx="213336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3429000"/>
            <a:ext cx="28191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ропорциона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42900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рогрессив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50532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Регрессив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0" y="4724280"/>
            <a:ext cx="268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умма налога пр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рциональна д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одам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888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ем ниже до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296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ем выше до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457200"/>
            <a:ext cx="38862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Нал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95280" y="1371600"/>
            <a:ext cx="2895840" cy="5335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371600"/>
            <a:ext cx="2438280" cy="6094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57400"/>
            <a:ext cx="32763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ря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2057400"/>
            <a:ext cx="3276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ос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7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800" y="3206880"/>
            <a:ext cx="55926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язательные платежи, взимаем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осударством с доходов или имущ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юридических и физических ли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оходный налог с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на прибыль с фир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на имущество, недвижимо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рение, наследство, финансов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93400" y="3098880"/>
            <a:ext cx="351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авливаются в ви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дбавок к цене това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кцизные сб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с прода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астично НД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аможенные пош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на экспо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52480" y="685800"/>
            <a:ext cx="495324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Налоги, уплачи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редприятия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904760" y="1600200"/>
            <a:ext cx="160020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600200"/>
            <a:ext cx="152424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рямой на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286000"/>
            <a:ext cx="37335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освенный на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657600"/>
            <a:ext cx="3657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Налог на прибы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3657600"/>
            <a:ext cx="40384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Налог на добавлен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стоимость (НД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4, задания 3, 4 на странице 54 - выполнить письменно, текст лекции - 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228600"/>
            <a:ext cx="5943600" cy="33526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Фирма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то коммерческая  организац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уществляющая затра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номических ресурсов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готовления товаров и услу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ализуемых на рын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505320"/>
            <a:ext cx="4572000" cy="3352680"/>
          </a:xfrm>
          <a:prstGeom prst="upArrowCallout">
            <a:avLst>
              <a:gd name="adj1" fmla="val 34095"/>
              <a:gd name="adj2" fmla="val 34092"/>
              <a:gd name="adj3" fmla="val 16667"/>
              <a:gd name="adj4" fmla="val 66660"/>
            </a:avLst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Ц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получение доход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помощью рациональ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спользования  основ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есурсов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152280"/>
            <a:ext cx="5181480" cy="13716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Факторы производств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факторные 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744400">
            <a:off x="1224000" y="13237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1523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10800">
            <a:off x="7313760" y="1387080"/>
            <a:ext cx="485640" cy="1089000"/>
          </a:xfrm>
          <a:prstGeom prst="downArrow">
            <a:avLst>
              <a:gd name="adj1" fmla="val 50000"/>
              <a:gd name="adj2" fmla="val 5606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590920"/>
            <a:ext cx="190512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Тр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590920"/>
            <a:ext cx="2057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Зем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2590920"/>
            <a:ext cx="221004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Капит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2438280"/>
            <a:ext cx="2362320" cy="121932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Предприним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тель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спосо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57600" y="3581280"/>
            <a:ext cx="457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3505320"/>
            <a:ext cx="4572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962520"/>
            <a:ext cx="15238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Физ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Финанс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Инвест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962520"/>
            <a:ext cx="12189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Ссуд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3840" y="513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3505320"/>
            <a:ext cx="15264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36576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18148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рабо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1055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53341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ц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25780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 условиях рыночной экономики производитель формирует предложение товаров и услуг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ыручка (или валовый доход)  -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ход производителя от реализуемой им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рибыль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ица между доходами и издерж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Цель производителя в рыночной экономике -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получить максимальную прибыль при минимальных затра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ыберите правильный ответ.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оход производителя от реализуемой им продукции назыв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бы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руч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л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02000" y="152280"/>
            <a:ext cx="2125440" cy="5205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Издер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90920" y="762120"/>
            <a:ext cx="76176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762120"/>
            <a:ext cx="68580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600200"/>
            <a:ext cx="4125960" cy="1648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Издержки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то затраты производителя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обретение и использ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акторов производ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81560" y="1371600"/>
            <a:ext cx="4472280" cy="18313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Экономически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то те выплаты, которая фи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лжна произвести поставщи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обходимых ресурсов, что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твлечь эти ресурсы от использ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ания в других производств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057400" y="3276720"/>
            <a:ext cx="3581280" cy="7617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3276720"/>
            <a:ext cx="236196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400" y="4267080"/>
            <a:ext cx="315720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утрен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оимость собств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сур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79840" y="4191120"/>
            <a:ext cx="434016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ешние (бухгалтерск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ыплаты поставщикам труд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сурсов, сырья, топлива, услуг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утренние (неявные) издержки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ешние (бухгалтерские) издержки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сумма денежных выплат, которые фирма осуществляет для оплаты необходимых ресурсов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28800" y="4114800"/>
            <a:ext cx="1371600" cy="5335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114800"/>
            <a:ext cx="1371600" cy="3808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остоянны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еременны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мортизация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Ателье производит закупку тканей, ниток и фурнитуры для пошива одежды. Затраты фирмы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утрен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утренние, постоя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ш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шние, посто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купка кор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оительство воль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рудование д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09-26T13:31:2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