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6E5-31A4-4665-8750-5231161E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14B-7086-4251-9876-12F4C58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BA7-CA4B-4579-84E5-DB074103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CE2-1FDF-4D4C-AE27-5FAB66B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6AFD-CA84-4CA9-9F17-B32B0882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CAA5-CBF1-4FC9-8708-71EFB85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CCB6-2E9C-4BBE-869F-6A97489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C1C7-5960-4CA8-9AB1-2A381AD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0AE-C62F-4A7E-8A72-9A34F39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7D3-663F-418D-9A5B-F18E1D42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D310-1942-4338-82F0-2C1DCC0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82F-8E6D-4BE2-8E04-791FEB1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0CB7-17FB-40FD-958F-1BBE687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16AD-36C6-4260-A228-351B5C0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7A2-E471-4E4B-9242-3A0B26B7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D358-9D31-4245-8EC1-9E74F89A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309C-1A95-40F6-B781-52012F27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BD9-0B24-4877-8525-6737594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E45-D672-4E02-A416-E10AC83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5E2-6647-44DC-9A29-FD3D27E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FE5-06F5-4CD8-8841-EB096374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A75-4DE2-4A26-BB5C-CE7727A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2FE-2F13-4533-865F-B1B09F08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255-16A4-41DE-9BD1-28CCA0E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523-6218-4801-ABF0-041B310652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B0E2-2B30-4AD7-890B-D2F2A9D361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Je me pro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Arial"/>
              </a:rPr>
              <a:t>ène dans Pari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к французского языка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Зверева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лицей г.о. Орехово-Зу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an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Convérsation sur le su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Etude du texte (travail en group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La présentation des résum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7905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«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Paris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’est la f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  <a:ea typeface="Arial"/>
              </a:rPr>
              <a:t>ête qui est toujours avec toi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  <a:ea typeface="Arial"/>
              </a:rPr>
              <a:t>»</a:t>
            </a: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« Mais Paris est un véritable océan»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«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Quand le Dieu s’ennuie dans le ciel, il ouvre la fen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  <a:ea typeface="Arial"/>
              </a:rPr>
              <a:t>être et regarde les boulevards français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781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421000"/>
            <a:ext cx="777528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«Париж это праздник, который всегда с тобой»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Хэмингуэ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761600">
            <a:off x="512280" y="3782160"/>
            <a:ext cx="80186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«Париж –настоящий океан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9736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«Когда Богу на небе скучно, он открывает окно и смотрит на парижские бульва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                                                       </a:t>
            </a:r>
            <a:r>
              <a:rPr b="0" i="1" lang="en-US" sz="2800" spc="-1" strike="noStrike">
                <a:solidFill>
                  <a:srgbClr val="990099"/>
                </a:solidFill>
                <a:latin typeface="Arial"/>
              </a:rPr>
              <a:t>Ге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7428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0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795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ES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836640"/>
            <a:ext cx="25210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symbole de Paris, construite en1889. Elle mesure 320 mètres et a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é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12160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78136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708280"/>
            <a:ext cx="266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_____se trouve sur la Place Charles de Gaulle. Sur ce monument, vous voyez des bas-reliefs des victoires de Napolé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65300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_______un chef-d'oeuvre de l'art gothique, cette belle cathédrale se trouve sur l'Ile de la Cité (une île au milieu de la Sei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044800" cy="306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3375000" cy="208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notre"/>
          <p:cNvPicPr/>
          <p:nvPr/>
        </p:nvPicPr>
        <p:blipFill>
          <a:blip r:embed="rId4"/>
          <a:stretch/>
        </p:blipFill>
        <p:spPr>
          <a:xfrm>
            <a:off x="6227640" y="3645000"/>
            <a:ext cx="21448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8571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cette construction multicolore, appellée plus familierement Beaubour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brite plusieurs musées et une bibliothè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ce basilique construite sur la butte Montmartre. Après la tour Eiffel, c'est le point le plus haut de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581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_____un des plus grands musées du monde. L'entrée (une pyramide en verre) construite par l'architecte Pei attire le reg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3030480" cy="2247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084720" y="2205000"/>
            <a:ext cx="2821320" cy="211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419640" y="4221000"/>
            <a:ext cx="3163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32:38Z</dcterms:created>
  <dc:creator>Pjotr</dc:creator>
  <dc:description/>
  <dc:language>en-US</dc:language>
  <cp:lastModifiedBy>Loner-XP</cp:lastModifiedBy>
  <dcterms:modified xsi:type="dcterms:W3CDTF">2011-11-25T16:56:23Z</dcterms:modified>
  <cp:revision>17</cp:revision>
  <dc:subject/>
  <dc:title>Je me promène dans Paris</dc:title>
</cp:coreProperties>
</file>