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759-3815-4AC6-A90E-03891924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EBC-EE85-4FDE-AEDE-BC73562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C9C-F058-42DB-AB54-749D2C2C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65C-5A56-474C-88AE-352465F1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BC0A-FCB5-455D-A47E-6904BF55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5586-5478-4C55-8561-DE5642C9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1A7D-DF52-438B-B05B-4E099730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F3E9-8D60-4751-AAAB-0EEB243F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E5AD-1DC8-4EBD-9DBB-B1EB11D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5A8-E6E4-4325-A179-292F8193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56E1-4D4A-4E45-AD12-5E4DF73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6B4-EE36-48AC-A6E6-7CAB6B6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AEE-FE02-4582-AF43-FA24A829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9F5A-D9B4-491B-AD48-319DC3B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7C96-F76E-4B92-96CB-E4065B78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0A00-7585-461D-A1A6-1E71A8D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27A2-E53E-47BE-924C-D3F003E0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618-F7A1-421C-BFBF-00FD7F9A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16A-BD36-4CBA-8E31-93A868D8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6A1-995A-48F4-A7F9-C51C294D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BBF-AE41-4779-A803-3CE768F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AD1-3FFF-4A7D-9A3B-5AF912A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C53-F8FB-48D3-A78E-40BC927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A9A-4DD3-4E7D-864E-77378B0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538C-5B0A-4CE5-BEB5-2007B18B79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1A9-2806-44F8-B96C-49DBED6B8C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Je me pro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Arial"/>
              </a:rPr>
              <a:t>ène dans Pari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 французского языка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Зверева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лицей г.о. Орехово-Зу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Convérsation sur le su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Etude du texte (travail en group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La présentation des résum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7905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«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Paris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’est la f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  <a:ea typeface="Arial"/>
              </a:rPr>
              <a:t>ête qui est toujours avec toi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  <a:ea typeface="Arial"/>
              </a:rPr>
              <a:t>»</a:t>
            </a: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« Mais Paris est un véritable océan»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«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Quand le Dieu s’ennuie dans le ciel, il ouvre la fen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  <a:ea typeface="Arial"/>
              </a:rPr>
              <a:t>être et regarde les boulevards français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78136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421000"/>
            <a:ext cx="777528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«Париж это праздник, который всегда с тобой»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Хэмингуэ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761600">
            <a:off x="512280" y="3782160"/>
            <a:ext cx="80186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«Париж –настоящий океан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9736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«Когда Богу на небе скучно, он открывает окно и смотрит на парижские бульва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                                                         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Ге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7428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0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795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ES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836640"/>
            <a:ext cx="25210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symbole de Paris, construite en1889. Elle mesure 320 mètres et a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é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12160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78136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708280"/>
            <a:ext cx="266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_____se trouve sur la Place Charles de Gaulle. Sur ce monument, vous voyez des bas-reliefs des victoires de Napolé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65300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_______un chef-d'oeuvre de l'art gothique, cette belle cathédrale se trouve sur l'Ile de la Cité (une île au milieu de la Sei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044800" cy="306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3375000" cy="208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notre"/>
          <p:cNvPicPr/>
          <p:nvPr/>
        </p:nvPicPr>
        <p:blipFill>
          <a:blip r:embed="rId4"/>
          <a:stretch/>
        </p:blipFill>
        <p:spPr>
          <a:xfrm>
            <a:off x="6227640" y="3645000"/>
            <a:ext cx="21448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8571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_cette construction multicolore, appellée plus familierement Beaubour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brite plusieurs musées et une bibliothè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27813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_ce basilique construite sur la butte Montmartre. Après la tour Eiffel, c'est le point le plus haut de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458136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_un des plus grands musées du monde. L'entrée (une pyramide en verre) construite par l'architecte Pei attire le reg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3030480" cy="2247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084720" y="2205000"/>
            <a:ext cx="2821320" cy="211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419640" y="4221000"/>
            <a:ext cx="31636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32:38Z</dcterms:created>
  <dc:creator>Pjotr</dc:creator>
  <dc:description/>
  <dc:language>en-US</dc:language>
  <cp:lastModifiedBy>Loner-XP</cp:lastModifiedBy>
  <dcterms:modified xsi:type="dcterms:W3CDTF">2011-11-25T16:56:23Z</dcterms:modified>
  <cp:revision>17</cp:revision>
  <dc:subject/>
  <dc:title>Je me promène dans Paris</dc:title>
</cp:coreProperties>
</file>