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7.gif" ContentType="image/gif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6EA5D5-E0E4-4789-B36F-1C962380D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504074-D0E5-4589-A3A0-EFCEAC8AF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B7316E-BE19-4FAE-B0A7-13CBC6A40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A97708-2F0D-471C-B7A2-332E0FC87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CFCE6-705B-49C4-B5BE-1A7B13E93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7ECC8-5171-452E-914D-8B9A83BE7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02401-5048-4174-87B0-B6AB38301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E0F7C-294E-4F58-A548-EB526251C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556F2-FABB-4193-A9BF-97F44FD2A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A0E74-F88F-4211-9FA2-B1DB1E76D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7358D-98C4-492A-885C-1865CB5E7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D5B6BB-C904-44C6-A1DD-54C2DAC74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6BB26-AACE-40A7-93E5-265F44015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1218B-778D-477D-88CF-C5B583640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C6019-E4E0-4F5B-8FA5-E8B61DA94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80178-1DC4-44D4-8B8F-10CE6E368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D59D6-5E65-4607-BD58-08D9C6EB6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7485B0-C327-4BB2-B037-BE819BAA0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4E6D0A-E1FC-417C-AD11-356BF3458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141B5C-CF63-4230-96BB-DDE4E4E32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1F1A83-4628-452B-A448-352CD8407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34F8D0-788F-457F-9C75-52AAA540A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65EFAF-B33B-4A4C-9D33-2EEAB5037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4C794E-9BF8-496E-81E2-7D9901357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fc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b3b095"/>
                </a:gs>
                <a:gs pos="100000">
                  <a:srgbClr val="b0ac9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fafca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fafca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fafc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fafca8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fafca8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50000">
                  <a:srgbClr val="a9a78b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9d9b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fafca8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fafca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c9c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c9c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50000">
                  <a:srgbClr val="c1bf9f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b0ac90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50000">
                  <a:srgbClr val="fafca8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fafca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50000">
                  <a:srgbClr val="c1bf9f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fafca8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fafca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b0ac9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b0ac90"/>
                </a:gs>
                <a:gs pos="50000">
                  <a:srgbClr val="b1ad92"/>
                </a:gs>
                <a:gs pos="100000">
                  <a:srgbClr val="b0ac9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905c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0663C-661C-446D-99B4-847C45FC80EA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fc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b3b095"/>
                </a:gs>
                <a:gs pos="100000">
                  <a:srgbClr val="b0ac9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fafca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fafca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fafc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fafca8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fafca8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50000">
                  <a:srgbClr val="a9a78b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9d9b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fafca8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fafca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c9c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c9c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50000">
                  <a:srgbClr val="c1bf9f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b0ac90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50000">
                  <a:srgbClr val="fafca8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fafca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50000">
                  <a:srgbClr val="c1bf9f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fafca8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fafca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b0ac9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b0ac90"/>
                </a:gs>
                <a:gs pos="50000">
                  <a:srgbClr val="b1ad92"/>
                </a:gs>
                <a:gs pos="100000">
                  <a:srgbClr val="b0ac9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EFE86-5701-4AAF-89CC-60D1030F6F83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fc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 txBox="1"/>
          <p:nvPr/>
        </p:nvSpPr>
        <p:spPr>
          <a:xfrm>
            <a:off x="1979640" y="2205000"/>
            <a:ext cx="5184720" cy="230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оя Родин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равославная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2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fc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Tahoma"/>
              </a:rPr>
              <a:t>Как работали славяне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6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ahoma"/>
              </a:rPr>
              <a:t>1. Славяне были трудолюбивыми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ahoma"/>
              </a:rPr>
              <a:t>    </a:t>
            </a:r>
            <a:r>
              <a:rPr b="1" lang="en-US" sz="3200" spc="-1" strike="noStrike">
                <a:solidFill>
                  <a:srgbClr val="ff0066"/>
                </a:solidFill>
                <a:latin typeface="Tahoma"/>
              </a:rPr>
              <a:t>потому что они такими рождались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95280" y="3716280"/>
            <a:ext cx="734544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ahoma"/>
              </a:rPr>
              <a:t>2. От трудолюбия человека зависит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ahoma"/>
              </a:rPr>
              <a:t>     </a:t>
            </a:r>
            <a:r>
              <a:rPr b="1" lang="en-US" sz="3200" spc="-1" strike="noStrike">
                <a:solidFill>
                  <a:srgbClr val="ff0066"/>
                </a:solidFill>
                <a:latin typeface="Tahoma"/>
              </a:rPr>
              <a:t>будет ли в его доме достаток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ahoma"/>
              </a:rPr>
              <a:t>     </a:t>
            </a:r>
            <a:r>
              <a:rPr b="1" lang="en-US" sz="3200" spc="-1" strike="noStrike">
                <a:solidFill>
                  <a:srgbClr val="ff0066"/>
                </a:solidFill>
                <a:latin typeface="Tahoma"/>
              </a:rPr>
              <a:t>как будут жить его дети и вну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0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1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9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9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9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7" dur="10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10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5" dur="10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10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fc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0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fc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404640"/>
            <a:ext cx="777240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0066"/>
                </a:solidFill>
                <a:latin typeface="Tahoma"/>
              </a:rPr>
              <a:t>помочь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"/>
          <p:cNvSpPr/>
          <p:nvPr/>
        </p:nvSpPr>
        <p:spPr>
          <a:xfrm>
            <a:off x="250920" y="2708280"/>
            <a:ext cx="266544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ahoma"/>
              </a:rPr>
              <a:t>помощ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059280" y="4221000"/>
            <a:ext cx="26650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ahoma"/>
              </a:rPr>
              <a:t>помощн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940360" y="2781360"/>
            <a:ext cx="2592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ahoma"/>
              </a:rPr>
              <a:t>помог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2050920" y="1628640"/>
            <a:ext cx="1441440" cy="1079640"/>
          </a:xfrm>
          <a:prstGeom prst="line">
            <a:avLst/>
          </a:prstGeom>
          <a:ln w="3816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500720" y="1628640"/>
            <a:ext cx="0" cy="2232000"/>
          </a:xfrm>
          <a:prstGeom prst="line">
            <a:avLst/>
          </a:prstGeom>
          <a:ln w="3816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651640" y="1557360"/>
            <a:ext cx="1152360" cy="1079640"/>
          </a:xfrm>
          <a:prstGeom prst="line">
            <a:avLst/>
          </a:prstGeom>
          <a:ln w="3816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4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1000"/>
                            </p:stCondLst>
                            <p:childTnLst>
                              <p:par>
                                <p:cTn id="29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0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2000"/>
                            </p:stCondLst>
                            <p:childTnLst>
                              <p:par>
                                <p:cTn id="30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6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3000"/>
                            </p:stCondLst>
                            <p:childTnLst>
                              <p:par>
                                <p:cTn id="30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9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000"/>
                            </p:stCondLst>
                            <p:childTnLst>
                              <p:par>
                                <p:cTn id="32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9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2000"/>
                            </p:stCondLst>
                            <p:childTnLst>
                              <p:par>
                                <p:cTn id="32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9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fc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2050920" y="260280"/>
            <a:ext cx="4584960" cy="61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0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9" dur="1" fill="hold"/>
                                        <p:tgtEl>
                                          <p:spTgt spid="1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fc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660066"/>
                </a:solidFill>
                <a:latin typeface="Tahoma"/>
              </a:rPr>
              <a:t>Как защищали Родину?</a:t>
            </a: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2204640"/>
            <a:ext cx="8229600" cy="23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Tahoma"/>
              </a:rPr>
              <a:t>«Нам чужой земли не надо, ни пяди, но и своей вершка не отдадим»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fc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7200" y="2565000"/>
            <a:ext cx="822960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ahoma"/>
              </a:rPr>
              <a:t>1. Лучше смерть принять, чем Родину предать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ahoma"/>
              </a:rPr>
              <a:t>2. Смелый воин тысячи водит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ahoma"/>
              </a:rPr>
              <a:t>3. Честь солдата береги свято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"/>
          <p:cNvSpPr/>
          <p:nvPr/>
        </p:nvSpPr>
        <p:spPr>
          <a:xfrm>
            <a:off x="395280" y="333360"/>
            <a:ext cx="8424720" cy="17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ff006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ahoma"/>
              </a:rPr>
              <a:t>Трусливому и пень волком каже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6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ahoma"/>
              </a:rPr>
              <a:t>Смелость города берё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6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ahoma"/>
              </a:rPr>
              <a:t>Кто с Россией не тягался, в правых не оставал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8360" y="4653000"/>
            <a:ext cx="828036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ff006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ahoma"/>
              </a:rPr>
              <a:t>Враг хотел пировать, а пришлось горева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6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ahoma"/>
              </a:rPr>
              <a:t>Если народ един, он непобеди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6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ahoma"/>
              </a:rPr>
              <a:t>Нет в мире краше Родины наш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9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10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9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9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10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9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9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fc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Tahoma"/>
              </a:rPr>
              <a:t>Как принимали гостей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5580000" y="3213000"/>
            <a:ext cx="2430360" cy="3240360"/>
          </a:xfrm>
          <a:prstGeom prst="rect">
            <a:avLst/>
          </a:prstGeom>
          <a:ln w="25560">
            <a:solidFill>
              <a:srgbClr val="0000ff"/>
            </a:solidFill>
            <a:miter/>
          </a:ln>
        </p:spPr>
      </p:pic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1379520" y="1773360"/>
            <a:ext cx="2498760" cy="3671640"/>
          </a:xfrm>
          <a:prstGeom prst="rect">
            <a:avLst/>
          </a:prstGeom>
          <a:ln w="2556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0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2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1000"/>
                            </p:stCondLst>
                            <p:childTnLst>
                              <p:par>
                                <p:cTn id="41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6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fc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660066"/>
                </a:solidFill>
                <a:latin typeface="Tahoma"/>
              </a:rPr>
              <a:t>Как отдыхали славяне?</a:t>
            </a: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468360" y="1268280"/>
            <a:ext cx="8064360" cy="5265720"/>
          </a:xfrm>
          <a:prstGeom prst="rect">
            <a:avLst/>
          </a:prstGeom>
          <a:ln w="25560">
            <a:solidFill>
              <a:srgbClr val="00ffff"/>
            </a:solidFill>
            <a:miter/>
          </a:ln>
        </p:spPr>
      </p:pic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395280" y="1916280"/>
            <a:ext cx="8280360" cy="4530600"/>
          </a:xfrm>
          <a:prstGeom prst="rect">
            <a:avLst/>
          </a:prstGeom>
          <a:ln w="25560">
            <a:solidFill>
              <a:srgbClr val="00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0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1000"/>
                            </p:stCondLst>
                            <p:childTnLst>
                              <p:par>
                                <p:cTn id="42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8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xit" presetID="2" presetSubtype="6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32" dur="10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10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9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fc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1" lang="en-US" sz="4000" spc="-1" strike="noStrike">
                <a:solidFill>
                  <a:srgbClr val="660066"/>
                </a:solidFill>
                <a:latin typeface="Tahoma"/>
              </a:rPr>
              <a:t>Спасибо за работу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3132000" y="2997360"/>
            <a:ext cx="2376720" cy="22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fc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1125360"/>
            <a:ext cx="8229600" cy="27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660066"/>
                </a:solidFill>
                <a:latin typeface="Tunga"/>
              </a:rPr>
              <a:t>    </a:t>
            </a:r>
            <a:r>
              <a:rPr b="1" lang="en-US" sz="6000" spc="-1" strike="noStrike">
                <a:solidFill>
                  <a:srgbClr val="660066"/>
                </a:solidFill>
                <a:latin typeface="Tahoma"/>
              </a:rPr>
              <a:t>Как жили наши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660066"/>
                </a:solidFill>
                <a:latin typeface="Tahoma"/>
              </a:rPr>
              <a:t>           </a:t>
            </a:r>
            <a:r>
              <a:rPr b="1" lang="en-US" sz="6000" spc="-1" strike="noStrike">
                <a:solidFill>
                  <a:srgbClr val="660066"/>
                </a:solidFill>
                <a:latin typeface="Tahoma"/>
              </a:rPr>
              <a:t>предки?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"/>
          <p:cNvSpPr/>
          <p:nvPr/>
        </p:nvSpPr>
        <p:spPr>
          <a:xfrm>
            <a:off x="3635280" y="4292640"/>
            <a:ext cx="158436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276720" y="4581360"/>
            <a:ext cx="251928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ahoma"/>
              </a:rPr>
              <a:t>Истор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348000" y="5157720"/>
            <a:ext cx="24480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ahoma"/>
              </a:rPr>
              <a:t>Пред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276720" y="3789360"/>
            <a:ext cx="25192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ahoma"/>
              </a:rPr>
              <a:t>Славя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500"/>
                            </p:stCondLst>
                            <p:childTnLst>
                              <p:par>
                                <p:cTn id="4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8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fc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7200" y="691920"/>
            <a:ext cx="822960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Tahoma"/>
              </a:rPr>
              <a:t>Черныш                     по внешност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Tahoma"/>
              </a:rPr>
              <a:t>Беляй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Tahoma"/>
              </a:rPr>
              <a:t>Бессон                     порядковый номер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Tahoma"/>
              </a:rPr>
              <a:t>Хорош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Tahoma"/>
              </a:rPr>
              <a:t>Сёмушка                    по цвету волос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Tahoma"/>
              </a:rPr>
              <a:t>Пятый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2195640" y="1197000"/>
            <a:ext cx="2447640" cy="1944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11280" y="1413000"/>
            <a:ext cx="2160720" cy="2879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2484360" y="3068640"/>
            <a:ext cx="2016360" cy="1944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000"/>
                            </p:stCondLst>
                            <p:childTnLst>
                              <p:par>
                                <p:cTn id="6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500"/>
                            </p:stCondLst>
                            <p:childTnLst>
                              <p:par>
                                <p:cTn id="6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5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2000"/>
                            </p:stCondLst>
                            <p:childTnLst>
                              <p:par>
                                <p:cTn id="7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00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250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fc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7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660066"/>
                </a:solidFill>
                <a:uFillTx/>
                <a:latin typeface="Tahoma"/>
              </a:rPr>
              <a:t>Цель:</a:t>
            </a:r>
            <a:r>
              <a:rPr b="1" lang="en-US" sz="3200" spc="-1" strike="noStrike">
                <a:solidFill>
                  <a:srgbClr val="660066"/>
                </a:solidFill>
                <a:latin typeface="Tahoma"/>
              </a:rPr>
              <a:t> Глубже изучить представление о быте и культуре славянского народ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420640"/>
            <a:ext cx="8229600" cy="37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Tunga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0066"/>
                </a:solidFill>
                <a:latin typeface="Tunga"/>
              </a:rPr>
              <a:t>    </a:t>
            </a:r>
            <a:r>
              <a:rPr b="1" lang="en-US" sz="4800" spc="-1" strike="noStrike">
                <a:solidFill>
                  <a:srgbClr val="ff0066"/>
                </a:solidFill>
                <a:latin typeface="Tahoma"/>
              </a:rPr>
              <a:t>«Какими людьми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66"/>
                </a:solidFill>
                <a:latin typeface="Tahoma"/>
              </a:rPr>
              <a:t>   </a:t>
            </a:r>
            <a:r>
              <a:rPr b="1" lang="en-US" sz="4800" spc="-1" strike="noStrike">
                <a:solidFill>
                  <a:srgbClr val="ff0066"/>
                </a:solidFill>
                <a:latin typeface="Tahoma"/>
              </a:rPr>
              <a:t>были наши предки?»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4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fc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40464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Tahoma"/>
              </a:rPr>
              <a:t>Как выглядели славяне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"/>
          <p:cNvSpPr/>
          <p:nvPr/>
        </p:nvSpPr>
        <p:spPr>
          <a:xfrm>
            <a:off x="826920" y="1484280"/>
            <a:ext cx="756144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ff006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0066"/>
                </a:solidFill>
                <a:latin typeface="Tahoma"/>
              </a:rPr>
              <a:t>Краса девица: глаза голубые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ahoma"/>
              </a:rPr>
              <a:t>    </a:t>
            </a:r>
            <a:r>
              <a:rPr b="1" lang="en-US" sz="3200" spc="-1" strike="noStrike">
                <a:solidFill>
                  <a:srgbClr val="ff0066"/>
                </a:solidFill>
                <a:latin typeface="Tahoma"/>
              </a:rPr>
              <a:t>брови соболиные, щёки алые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ahoma"/>
              </a:rPr>
              <a:t>    </a:t>
            </a:r>
            <a:r>
              <a:rPr b="1" lang="en-US" sz="3200" spc="-1" strike="noStrike">
                <a:solidFill>
                  <a:srgbClr val="ff0066"/>
                </a:solidFill>
                <a:latin typeface="Tahoma"/>
              </a:rPr>
              <a:t>будто маков цвет, шея белая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ahoma"/>
              </a:rPr>
              <a:t>    </a:t>
            </a:r>
            <a:r>
              <a:rPr b="1" lang="en-US" sz="3200" spc="-1" strike="noStrike">
                <a:solidFill>
                  <a:srgbClr val="ff0066"/>
                </a:solidFill>
                <a:latin typeface="Tahoma"/>
              </a:rPr>
              <a:t>поступь величав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26920" y="3860640"/>
            <a:ext cx="662472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ahoma"/>
              </a:rPr>
              <a:t>2. Носил мужик окладистую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ahoma"/>
              </a:rPr>
              <a:t>    </a:t>
            </a:r>
            <a:r>
              <a:rPr b="1" lang="en-US" sz="3200" spc="-1" strike="noStrike">
                <a:solidFill>
                  <a:srgbClr val="ff0066"/>
                </a:solidFill>
                <a:latin typeface="Tahoma"/>
              </a:rPr>
              <a:t>бороду, а волосы стриг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ahoma"/>
              </a:rPr>
              <a:t>    </a:t>
            </a:r>
            <a:r>
              <a:rPr b="1" lang="en-US" sz="3200" spc="-1" strike="noStrike">
                <a:solidFill>
                  <a:srgbClr val="ff0066"/>
                </a:solidFill>
                <a:latin typeface="Tahoma"/>
              </a:rPr>
              <a:t>под горшо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5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9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9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5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100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fc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Tahoma"/>
              </a:rPr>
              <a:t>Как выглядели славяне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324000" y="1668600"/>
            <a:ext cx="8496000" cy="44179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2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fc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116000" y="549360"/>
            <a:ext cx="2112840" cy="3024000"/>
          </a:xfrm>
          <a:prstGeom prst="rect">
            <a:avLst/>
          </a:prstGeom>
          <a:ln w="25560">
            <a:solidFill>
              <a:srgbClr val="ff6600"/>
            </a:solidFill>
            <a:miter/>
          </a:ln>
        </p:spPr>
      </p:pic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5796000" y="692280"/>
            <a:ext cx="2384280" cy="2736720"/>
          </a:xfrm>
          <a:prstGeom prst="rect">
            <a:avLst/>
          </a:prstGeom>
          <a:ln w="25560">
            <a:solidFill>
              <a:srgbClr val="ff6600"/>
            </a:solidFill>
            <a:miter/>
          </a:ln>
        </p:spPr>
      </p:pic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3348000" y="3645000"/>
            <a:ext cx="2271600" cy="2781360"/>
          </a:xfrm>
          <a:prstGeom prst="rect">
            <a:avLst/>
          </a:prstGeom>
          <a:ln w="25560">
            <a:solidFill>
              <a:srgbClr val="ff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9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4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9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fc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660066"/>
                </a:solidFill>
                <a:latin typeface="Tahoma"/>
              </a:rPr>
              <a:t>Картинная галерея</a:t>
            </a: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5292720" y="1341360"/>
            <a:ext cx="3257640" cy="4762440"/>
          </a:xfrm>
          <a:prstGeom prst="rect">
            <a:avLst/>
          </a:prstGeom>
          <a:ln w="25560">
            <a:solidFill>
              <a:srgbClr val="00ffff"/>
            </a:solidFill>
            <a:miter/>
          </a:ln>
        </p:spPr>
      </p:pic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468360" y="1341360"/>
            <a:ext cx="3809880" cy="4143600"/>
          </a:xfrm>
          <a:prstGeom prst="rect">
            <a:avLst/>
          </a:prstGeom>
          <a:ln w="25560">
            <a:solidFill>
              <a:srgbClr val="00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2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7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fc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2558880" y="260280"/>
            <a:ext cx="4077000" cy="5129280"/>
          </a:xfrm>
          <a:prstGeom prst="rect">
            <a:avLst/>
          </a:prstGeom>
          <a:ln w="25560">
            <a:solidFill>
              <a:srgbClr val="00ffff"/>
            </a:solidFill>
            <a:miter/>
          </a:ln>
        </p:spPr>
      </p:pic>
      <p:sp>
        <p:nvSpPr>
          <p:cNvPr id="152" name=""/>
          <p:cNvSpPr/>
          <p:nvPr/>
        </p:nvSpPr>
        <p:spPr>
          <a:xfrm>
            <a:off x="2484360" y="5589720"/>
            <a:ext cx="46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И.П.Аргунов Портрет женщи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в русском костюме 18 ве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1187280" y="260280"/>
            <a:ext cx="6624720" cy="6346800"/>
          </a:xfrm>
          <a:prstGeom prst="rect">
            <a:avLst/>
          </a:prstGeom>
          <a:ln w="25560">
            <a:solidFill>
              <a:srgbClr val="00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4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20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8" dur="1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1" dur="5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xit" presetID="2" presetSubtype="1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5" dur="50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xit" presetID="2" presetSubtype="1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1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" nodeType="withEffect" fill="hold" presetClass="exit" presetID="2" presetSubtype="1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5" dur="5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2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4T10:45:27Z</dcterms:created>
  <dc:creator>Пользователь</dc:creator>
  <dc:description/>
  <dc:language>en-US</dc:language>
  <cp:lastModifiedBy>1</cp:lastModifiedBy>
  <dcterms:modified xsi:type="dcterms:W3CDTF">2001-12-31T21:25:34Z</dcterms:modified>
  <cp:revision>8</cp:revision>
  <dc:subject/>
  <dc:title>Какими людьми были наши предки.</dc:title>
</cp:coreProperties>
</file>