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FB66-23E4-4237-959A-51F655F4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B60D-53ED-4C60-8E1A-341EC65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6E42-374C-43A0-AC33-DC8458F6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2C40-22AB-4369-BFE9-1F7DE621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886-1422-4830-BFBD-C36F03DE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B108-3689-405A-AD53-17E1C45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D03-5F42-404E-B79E-3C7533FD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25E-9A06-44F6-9E27-D2D122AE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D3C4-CFF0-4F22-80B5-7972C63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04E8-B89B-4445-8187-4A66583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C0A5-1EB5-40C4-9A71-032B300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00E0-1FE4-4754-8EB0-2537CCD4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410-1D86-4532-8169-8325C22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21BF-F923-4B0A-B4F2-79AF0A6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D18-6050-4045-86F7-A40E4DAC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688A-D403-434B-AD80-8C5738D7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BC65-EDDA-4DA1-B230-9EBB7071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6B39-F361-4DD1-8CCD-13BA78F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279A-D48D-4093-814D-C218ECA1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16C5-09BD-4959-9880-E5F104D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BC23-62F4-4A04-AEA8-97C86366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B5BD-8FD4-4C09-B207-2522F61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D3E3-DCA3-47B0-8C7A-00A1FAB7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B169-6D27-47E4-802A-D5ABD68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af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2245-735F-4CB5-BCCF-C978824383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af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61A4-B4EB-4F97-A58B-D57B041FF5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979640" y="2205000"/>
            <a:ext cx="5184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 Род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слав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работали славян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1. Славяне были трудолюбивым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тому что они такими рождали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71628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2. От трудолюбия человека завис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удет ли в его доме доста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ак будут жить его дети и вн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помоч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708280"/>
            <a:ext cx="266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4221000"/>
            <a:ext cx="266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мощ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278136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мо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920" y="1628640"/>
            <a:ext cx="1441440" cy="1079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1628640"/>
            <a:ext cx="0" cy="2232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1557360"/>
            <a:ext cx="1152360" cy="1079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5849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Как защищали Родину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«Нам чужой земли не надо, ни пяди, но и своей вершка не отдадим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1. Лучше смерть принять, чем Родину пред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2. Смелый воин тысячи вод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. Честь солдата береги свят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Трусливому и пень волком каж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мелость города бер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то с Россией не тягался, в правых не остав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Враг хотел пировать, а пришлось гор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Если народ един, он непобе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Нет в мире краше Родины на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принимали гостей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430360" cy="324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79520" y="1773360"/>
            <a:ext cx="2498760" cy="3671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Как отдыхали славяне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526572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80360" cy="453060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Спасибо за работ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3767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unga"/>
              </a:rPr>
              <a:t>    </a:t>
            </a:r>
            <a:r>
              <a:rPr b="1" lang="en-US" sz="6000" spc="-1" strike="noStrike">
                <a:solidFill>
                  <a:srgbClr val="660066"/>
                </a:solidFill>
                <a:latin typeface="Tahoma"/>
              </a:rPr>
              <a:t>Как жили наш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1" lang="en-US" sz="6000" spc="-1" strike="noStrike">
                <a:solidFill>
                  <a:srgbClr val="660066"/>
                </a:solidFill>
                <a:latin typeface="Tahoma"/>
              </a:rPr>
              <a:t>предки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429264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813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515772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ре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789360"/>
            <a:ext cx="25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Славя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Черныш                     по внеш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Беля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Бессон                     порядковый но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Хоро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ёмушка                    по цвету вол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я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95640" y="1197000"/>
            <a:ext cx="244764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1413000"/>
            <a:ext cx="2160720" cy="28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484360" y="3068640"/>
            <a:ext cx="201636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Цель: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Глубже изучить представление о быте и культуре славянского нар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ung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unga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«Какими людьм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были наши предки?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выглядели славян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484280"/>
            <a:ext cx="7561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раса девица: глаза голуб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рови соболиные, щёки ал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удто маков цвет, шея бел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ступь велича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860640"/>
            <a:ext cx="662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2. Носил мужик окладист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ороду, а волосы стри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д гор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 выглядели славян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668600"/>
            <a:ext cx="8496000" cy="44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2112840" cy="3024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96000" y="692280"/>
            <a:ext cx="2384280" cy="27367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348000" y="3645000"/>
            <a:ext cx="2271600" cy="27813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Картинная галерея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257640" cy="476244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09880" cy="414360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8880" y="260280"/>
            <a:ext cx="4077000" cy="512928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484360" y="55897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.П.Аргунов Портрет женщ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русском костюме 18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624720" cy="634680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0:45:27Z</dcterms:created>
  <dc:creator>Пользователь</dc:creator>
  <dc:description/>
  <dc:language>en-US</dc:language>
  <cp:lastModifiedBy>1</cp:lastModifiedBy>
  <dcterms:modified xsi:type="dcterms:W3CDTF">2001-12-31T21:25:34Z</dcterms:modified>
  <cp:revision>8</cp:revision>
  <dc:subject/>
  <dc:title>Какими людьми были наши предки.</dc:title>
</cp:coreProperties>
</file>