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66B-6398-4840-A741-15C341A7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28D-BCD3-4FC5-BB81-831E4EFE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3BB-7AC8-4A5D-BF3F-1FCE3E5B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5F6-57BF-4C3B-AAE6-8950161F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646B-50ED-4A37-A8CF-9D410E29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1B5B-4FA9-43EC-B21D-634D1F0F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D1C2-0F30-401D-82D5-9F9D3879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68BA-DF1F-466A-AB87-56483BE4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105B-B713-443C-8082-043234EF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2438-136D-4E0B-82EC-EF3D5A3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4D67-23DD-4F00-A1E5-56A9508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CBE-FAE5-4C19-96F9-3C085ED0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2179-D7FE-49AA-83E6-89DFB76D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5EEF-789F-4233-8F15-FD669AA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5080-06EB-4E8C-AC37-34428AF4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7F7F-ACD4-4273-9039-4F0C9861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894D-8714-4F0C-8939-E2531358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57B-7984-44BF-A381-08BCC17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923-B36C-4175-ACBF-46C715C8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7B9-17DB-4891-A799-DB7BC251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58E-751B-4E79-914A-D33A43FE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CB2-6E6B-4224-B9E1-0FC3968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CDA-5EAF-49D5-A3DF-E61B99B7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001-2E47-42EE-A5F0-701EA1F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D77BB-4D28-416A-B5DA-9A262E7515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CC0BE6-0D2A-4A67-B672-948A53C90D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16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Усадьбы дворянские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800" bIns="46800" anchor="t">
            <a:noAutofit/>
          </a:bodyPr>
          <a:p>
            <a:pPr marL="343080" indent="0" algn="ctr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ензенская облас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5580000"/>
            <a:ext cx="6119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273560" cy="5689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03640" y="155736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1989000"/>
            <a:ext cx="38163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6800" anchor="t">
            <a:spAutoFit/>
          </a:bodyPr>
          <a:p>
            <a:pPr algn="ctr">
              <a:lnSpc>
                <a:spcPct val="96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рушенная лест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арь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800" bIns="46800" anchor="t">
            <a:normAutofit/>
          </a:bodyPr>
          <a:p>
            <a:pPr marL="343080" indent="0">
              <a:lnSpc>
                <a:spcPct val="96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нтерьер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едел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нтерьер - это (от франц. interieur — внутренний), в архитектуре — внутреннее пространство здания или помещение в здании (вестибюль, комната, зал)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2913120" y="3202200"/>
            <a:ext cx="1043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ctr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ар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2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ссейн в парк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696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ристовоздвиженская церковь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. Нижнее Аблязов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ункции помест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612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лавной функцией помещичьих хозяйств было сельскохозяйственное производство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жным вкладом поместий в развитие экономики края является его и промышленное осво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ладельцы усадеб внедряли и поддерживали промыслы, которые ориентировались на дворянскую культуру (вышивание бисером в усадьбе с. Беково, плетение кружев в усадьбе Шаховских "Вазерки", художественное рукоделие в усадьбе Воейкова в Каменк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ункции поместий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ладельцы усадеб внедряли и поддерживали промыслы, которые, в отличие от народных промыслов, ориентировались на дворянскую культуру (вышивание бисером в усадьбе с. Беково, плетение кружев в усадьбе Шаховских "Вазерки", художественное рукоделие в усадьбе Воейкова в Каменке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садьбы в настоящее врем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полусотни усадеб, в разной степени сохранившихся на территории области, в настоящее время широко известны две: усадьба "Тарханы", связанная с именем Лермонтова, и усадьба, связанная с именем А. Н. Радищева, в с. Радищево. Они восстановлены и используются как музе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садьб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орянские усадьбы были местом жизни помещиков и центром экономического и культурного развития окружающих их территори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х формирование в Пензенском крае началось во 2-й половине 17 ве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4330800" y="2993040"/>
            <a:ext cx="17807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ctr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ладельцы усаде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и владевших поместьями в Пензенском крае были представители древнейших дворянских родов: Шереметевы, Долгоруковы, Шаховские, Апраксины, Воронцовы, Голицыны. Усадьбы часто были «культурными гнездами». В их быт были включены музыка, живопись, театр, библиотеки, коллекции антиквариата и редких растени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арь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10160" bIns="4680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воряне , усадьб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ворянст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дно из высших сословий феодального общества (наряду с духовенством), обладавшее закрепленными в законе и передаваемыми по наследству привилеги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садьб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комплекс жилых, хозяйственных, парковых и других построек, составляющих одно хозяйственное и архитектурное цело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696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ывшая усадьба князя Куракина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. Куракино Сердобский райо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352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3745080" cy="33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дание и территор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3000" bIns="46800" anchor="t">
            <a:normAutofit/>
          </a:bodyPr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сохранившихся усадеб относятся к эпохе классицизма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и занимают значительные территории и включают парадное архитектурное ядро, хозяйственные постройки, парк с пруд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мимо художественного преобразования территории дворянской усадьбы облагораживал природный ландшаф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ар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332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ериод классицизма регулярные парки уступали место пейзажным, приближенным к естественным формам природы. Старые парки во многих случаях включались в новую композицию или переделывались в угоду ей. Известно, что владелец Зубриловки Ф. Голицын в 1820-е годы безжалостно вырубал аллеи старого регулярного парка, придавая дорожкам и опушкам живописные очерт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убри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715000" cy="3752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03280" y="5589720"/>
            <a:ext cx="6697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6800" anchor="t">
            <a:spAutoFit/>
          </a:bodyPr>
          <a:p>
            <a:pPr>
              <a:lnSpc>
                <a:spcPct val="96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адьба Ф. Голицын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12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нтерьер усадьб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502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2:13:33Z</dcterms:created>
  <dc:creator>gal</dc:creator>
  <dc:description/>
  <dc:language>en-US</dc:language>
  <cp:lastModifiedBy/>
  <dcterms:modified xsi:type="dcterms:W3CDTF">2011-11-25T17:34:35Z</dcterms:modified>
  <cp:revision>34</cp:revision>
  <dc:subject/>
  <dc:title>Усадьбы дворянские.</dc:title>
</cp:coreProperties>
</file>