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81F-C740-4970-8D24-95F923B3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2C6-ECD0-475B-BFBA-B6C8514D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C21-F3E2-4E1A-AC35-199A5E6A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916-EF0E-4D5B-BBD3-A4381042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04AB-5F74-4189-86C5-9AB6DFFC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6EEF-41B0-4070-83AF-5C16149B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C57A-C39B-4D50-8A76-E9C688FB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26A3-2073-4396-A9AA-CFEFBAB2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F29F-6B86-4473-A6B9-09E3B1F9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CA5D-AF05-41C6-B892-27EBD4AE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14A3-FF60-4B80-974D-922BC214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70B-5565-4012-8626-A1E1C5CB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8B8B-43CF-4746-8CB0-554C1DB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9055-946A-4966-B4B3-6C58ED4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D8DE-64A5-473B-ACEA-3AD8D933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42F3-08AC-4AB6-8892-3754C54D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E39C-B7A7-46C2-BAB8-CE7111D3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138-7989-42B4-AE39-E7765F2F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11A-2E34-4615-AD68-F11A7C73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531-3A9A-449D-A953-9760BA6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82E-7E68-420C-9AC5-66F8A608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72B-6ECE-46CD-924A-1C5C637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0D5-E8BE-487F-9A34-53CB56F9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ED7-0512-4A8D-A992-139941E4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F83C8-8363-45E3-B034-70DD108020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FA75FF-0D3E-4749-8FE4-6DEBB0C213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16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Усадьбы дворянские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800" bIns="46800" anchor="t">
            <a:noAutofit/>
          </a:bodyPr>
          <a:p>
            <a:pPr marL="343080"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ензенская облас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5580000"/>
            <a:ext cx="6119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273560" cy="5689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03640" y="155736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1989000"/>
            <a:ext cx="38163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6800" anchor="t">
            <a:spAutoFit/>
          </a:bodyPr>
          <a:p>
            <a:pPr algn="ctr">
              <a:lnSpc>
                <a:spcPct val="96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рушенная лест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арь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8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нтерьер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едел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нтерьер - это (от франц. interieur — внутренний), в архитектуре — внутреннее пространство здания или помещение в здании (вестибюль, комната, зал)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2913120" y="3202200"/>
            <a:ext cx="1043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ctr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ар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ссейн в парк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696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ристовоздвиженская церковь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. Нижнее Аблязов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ункции помест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612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ной функцией помещичьих хозяйств было сельскохозяйственное производств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жным вкладом поместий в развитие экономики края является его и промышленное осво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ладельцы усадеб внедряли и поддерживали промыслы, которые ориентировались на дворянскую культуру (вышивание бисером в усадьбе с. Беково, плетение кружев в усадьбе Шаховских "Вазерки", художественное рукоделие в усадьбе Воейкова в Каменк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ункции поместий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ладельцы усадеб внедряли и поддерживали промыслы, которые, в отличие от народных промыслов, ориентировались на дворянскую культуру (вышивание бисером в усадьбе с. Беково, плетение кружев в усадьбе Шаховских "Вазерки", художественное рукоделие в усадьбе Воейкова в Каменк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садьбы в настоящее врем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полусотни усадеб, в разной степени сохранившихся на территории области, в настоящее время широко известны две: усадьба "Тарханы", связанная с именем Лермонтова, и усадьба, связанная с именем А. Н. Радищева, в с. Радищево. Они восстановлены и используются как музе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садьб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орянские усадьбы были местом жизни помещиков и центром экономического и культурного развития окружающих их территори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х формирование в Пензенском крае началось во 2-й половине 17 ве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4330800" y="2993040"/>
            <a:ext cx="17807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ctr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ладельцы усаде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и владевших поместьями в Пензенском крае были представители древнейших дворянских родов: Шереметевы, Долгоруковы, Шаховские, Апраксины, Воронцовы, Голицыны. Усадьбы часто были «культурными гнездами». В их быт были включены музыка, живопись, театр, библиотеки, коллекции антиквариата и редких растени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арь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0160" bIns="4680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воряне , усадьб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ворянст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дно из высших сословий феодального общества (наряду с духовенством), обладавшее закрепленными в законе и передаваемыми по наследству привилеги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садьб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комплекс жилых, хозяйственных, парковых и других построек, составляющих одно хозяйственное и архитектурное цело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696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ывшая усадьба князя Куракина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. Куракино Сердобский райо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352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3745080" cy="33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дание и территор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сохранившихся усадеб относятся к эпохе классицизма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и занимают значительные территории и включают парадное архитектурное ядро, хозяйственные постройки, парк с пруд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мимо художественного преобразования территории дворянской усадьбы облагораживал природный ландшаф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ар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332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ериод классицизма регулярные парки уступали место пейзажным, приближенным к естественным формам природы. Старые парки во многих случаях включались в новую композицию или переделывались в угоду ей. Известно, что владелец Зубриловки Ф. Голицын в 1820-е годы безжалостно вырубал аллеи старого регулярного парка, придавая дорожкам и опушкам живописные очерт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убри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715000" cy="3752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03280" y="5589720"/>
            <a:ext cx="6697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6800" anchor="t">
            <a:spAutoFit/>
          </a:bodyPr>
          <a:p>
            <a:pPr>
              <a:lnSpc>
                <a:spcPct val="96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адьба Ф. Голицын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нтерьер усадьб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502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2:13:33Z</dcterms:created>
  <dc:creator>gal</dc:creator>
  <dc:description/>
  <dc:language>en-US</dc:language>
  <cp:lastModifiedBy/>
  <dcterms:modified xsi:type="dcterms:W3CDTF">2011-11-25T17:34:35Z</dcterms:modified>
  <cp:revision>34</cp:revision>
  <dc:subject/>
  <dc:title>Усадьбы дворянские.</dc:title>
</cp:coreProperties>
</file>