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331-E608-4453-86BD-97D98271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CF5-860C-4820-8EF0-9F7BED69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23B-A910-4039-8E3D-0BC6B08C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56C-578C-4242-97E4-B4AEE983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CE7-B8FA-4332-B210-0041E070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542-75B8-40DD-93E9-9BD637F4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B3C-6A15-43D9-83C3-D6398167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B14-9277-453C-8A4F-3C854B51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897-4B94-45E6-AC52-C97FD897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704-EDEB-4C19-B9D2-101FB1AB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B96-DF2E-4805-8E8F-1BABF0AB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127-78B4-453C-9615-91579C79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1580-4FEF-4B17-8030-765952C72D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ществознание. 8 класс. Учитель Гришакина О.П. Электронные материалы  урокам. 5-й урок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Тип урока – урок изучения нового материла </a:t>
            </a:r>
            <a:br>
              <a:rPr sz="25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ема урока: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«СОЦИАЛЬНЫЙ ПРОГРЕСС И РАЗВИТИЕ ОБЩЕСТВ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5732280"/>
            <a:ext cx="7016760" cy="8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На дом:     </a:t>
            </a:r>
            <a:r>
              <a:rPr b="1" lang="ru-RU" sz="2500" spc="-1" strike="noStrike">
                <a:solidFill>
                  <a:srgbClr val="0000ff"/>
                </a:solidFill>
                <a:latin typeface="Calibri"/>
              </a:rPr>
              <a:t>§4, эссе «Возможен ли социальный прогресс в нашем класс и при каких условиях?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User\Desktop\background_diagram.jpg"/>
          <p:cNvPicPr/>
          <p:nvPr/>
        </p:nvPicPr>
        <p:blipFill>
          <a:blip r:embed="rId1"/>
          <a:stretch/>
        </p:blipFill>
        <p:spPr>
          <a:xfrm>
            <a:off x="1763640" y="2492280"/>
            <a:ext cx="5715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рогресс есть равномерное развитие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следующих четырех составляющи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социальной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— процесс приближения общест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материальной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— процесс наиболее полного удовлетворения материальных потребностей всех людей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научной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— процесс непрерывного, расширяющегося и углубляющегося познания окружающего мира, его освоение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alibri"/>
              </a:rPr>
              <a:t>культурной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(духовной) — процесс приближения нравственности, трансформация человека-потребителя в человека-созидател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700360" y="333360"/>
            <a:ext cx="3456000" cy="71928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ОГР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5003640" y="1557360"/>
            <a:ext cx="3456000" cy="71928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611280" y="1557360"/>
            <a:ext cx="3456000" cy="71928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Е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250920" y="2637000"/>
            <a:ext cx="3384360" cy="72072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250920" y="3573360"/>
            <a:ext cx="3529080" cy="71928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ЭКОНО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250920" y="4437000"/>
            <a:ext cx="3384360" cy="72072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ЛИ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5651640" y="2421000"/>
            <a:ext cx="2808000" cy="86364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РАТ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User\Desktop\6BCCA475376D.jpg"/>
          <p:cNvPicPr/>
          <p:nvPr/>
        </p:nvPicPr>
        <p:blipFill>
          <a:blip r:embed="rId1"/>
          <a:stretch/>
        </p:blipFill>
        <p:spPr>
          <a:xfrm>
            <a:off x="3780000" y="3357720"/>
            <a:ext cx="2519280" cy="3240000"/>
          </a:xfrm>
          <a:prstGeom prst="rect">
            <a:avLst/>
          </a:prstGeom>
          <a:ln w="0">
            <a:noFill/>
          </a:ln>
        </p:spPr>
      </p:pic>
      <p:cxnSp>
        <p:nvCxnSpPr>
          <p:cNvPr id="107" name="Прямая со стрелкой 14"/>
          <p:cNvCxnSpPr>
            <a:stCxn id="99" idx="1"/>
          </p:cNvCxnSpPr>
          <p:nvPr/>
        </p:nvCxnSpPr>
        <p:spPr>
          <a:xfrm flipH="1">
            <a:off x="1331280" y="692280"/>
            <a:ext cx="1369080" cy="79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Прямая со стрелкой 15"/>
          <p:cNvCxnSpPr/>
          <p:nvPr/>
        </p:nvCxnSpPr>
        <p:spPr>
          <a:xfrm>
            <a:off x="6156360" y="691920"/>
            <a:ext cx="1296000" cy="865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9" name="Прямая со стрелкой 17"/>
          <p:cNvCxnSpPr/>
          <p:nvPr/>
        </p:nvCxnSpPr>
        <p:spPr>
          <a:xfrm flipH="1">
            <a:off x="465840" y="1917720"/>
            <a:ext cx="252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0" name="Прямая со стрелкой 20"/>
          <p:cNvCxnSpPr/>
          <p:nvPr/>
        </p:nvCxnSpPr>
        <p:spPr>
          <a:xfrm flipH="1">
            <a:off x="8604000" y="1844640"/>
            <a:ext cx="216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1" name="TextBox 21"/>
          <p:cNvSpPr/>
          <p:nvPr/>
        </p:nvSpPr>
        <p:spPr>
          <a:xfrm>
            <a:off x="395280" y="551664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рогресс может идти постепенным и скачкообразным пу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6372360" y="530064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рочитаем  в учебнике на с. 37-38 какие  характеристики могут быть  у реф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179280" y="2602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ишите определения со стр. 37-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5724360" y="3357720"/>
            <a:ext cx="2735280" cy="79200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ОЛ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Эссе «Возможен ли социальный прогресс           в нашем класс и при каких условиях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48392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Возможные варианты вопросов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для раскрытия те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такое прогресс и регресс вообщ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ужен ли классу (коллективу) прогрес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м бы характеризовался  прогресс в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м бы характеризовался регресс в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 каких условиях возможен прогресс в нашем конкретном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отдельный  человек может сделать                         для прогресса в класс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овторяем пройденно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общест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ие типы 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деляют уче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какие  4 сферы делится общест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такое мировое сообщест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ловек существо биологическое                 или социально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ведите примеры самых развитых стран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User\Desktop\123722.jpg"/>
          <p:cNvPicPr/>
          <p:nvPr/>
        </p:nvPicPr>
        <p:blipFill>
          <a:blip r:embed="rId1"/>
          <a:stretch/>
        </p:blipFill>
        <p:spPr>
          <a:xfrm>
            <a:off x="6012000" y="189000"/>
            <a:ext cx="28080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4000" y="2565000"/>
            <a:ext cx="849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равнивая эволюцию обществ, стадии развития стран, ученые выяснили ряд закономернос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) закон ускорения истории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а каждую последующую стадию развития у человечества уходит меньше времени чем на предыдущую (примерно в 34 раза по време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)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на каждую последующую стадию развития приходится больше  орудий труда, технических изобретений и научных открытий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ример: за 50 лет 5 поколений телевизор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User\Desktop\012.gif"/>
          <p:cNvPicPr/>
          <p:nvPr/>
        </p:nvPicPr>
        <p:blipFill>
          <a:blip r:embed="rId1"/>
          <a:stretch/>
        </p:blipFill>
        <p:spPr>
          <a:xfrm>
            <a:off x="179280" y="260280"/>
            <a:ext cx="1827360" cy="2089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User\Desktop\1400587.jpg"/>
          <p:cNvPicPr/>
          <p:nvPr/>
        </p:nvPicPr>
        <p:blipFill>
          <a:blip r:embed="rId2"/>
          <a:srcRect l="6438" t="27822" r="5151" b="27822"/>
          <a:stretch/>
        </p:blipFill>
        <p:spPr>
          <a:xfrm>
            <a:off x="2124000" y="404640"/>
            <a:ext cx="4969080" cy="187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User\Desktop\6889ab326150f1_b.jpg"/>
          <p:cNvPicPr/>
          <p:nvPr/>
        </p:nvPicPr>
        <p:blipFill>
          <a:blip r:embed="rId3"/>
          <a:srcRect l="0" t="8223" r="0" b="12998"/>
          <a:stretch/>
        </p:blipFill>
        <p:spPr>
          <a:xfrm>
            <a:off x="7236000" y="189000"/>
            <a:ext cx="17236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он ускоре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рического вре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C:\Users\User\Desktop\50541.jpg"/>
          <p:cNvPicPr/>
          <p:nvPr/>
        </p:nvPicPr>
        <p:blipFill>
          <a:blip r:embed="rId1"/>
          <a:stretch/>
        </p:blipFill>
        <p:spPr>
          <a:xfrm>
            <a:off x="6084720" y="260280"/>
            <a:ext cx="2697480" cy="1800360"/>
          </a:xfrm>
          <a:prstGeom prst="rect">
            <a:avLst/>
          </a:prstGeom>
          <a:ln w="0">
            <a:noFill/>
          </a:ln>
        </p:spPr>
      </p:pic>
      <p:cxnSp>
        <p:nvCxnSpPr>
          <p:cNvPr id="53" name="Прямая со стрелкой 5"/>
          <p:cNvCxnSpPr/>
          <p:nvPr/>
        </p:nvCxnSpPr>
        <p:spPr>
          <a:xfrm flipV="1">
            <a:off x="684360" y="5660640"/>
            <a:ext cx="799200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Прямая со стрелкой 8"/>
          <p:cNvCxnSpPr/>
          <p:nvPr/>
        </p:nvCxnSpPr>
        <p:spPr>
          <a:xfrm flipH="1" flipV="1">
            <a:off x="684000" y="1412640"/>
            <a:ext cx="8640" cy="4402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Прямая соединительная линия 23"/>
          <p:cNvSpPr/>
          <p:nvPr/>
        </p:nvSpPr>
        <p:spPr>
          <a:xfrm flipV="1">
            <a:off x="1187280" y="4692600"/>
            <a:ext cx="5569200" cy="2491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Дуга 25"/>
          <p:cNvSpPr/>
          <p:nvPr/>
        </p:nvSpPr>
        <p:spPr>
          <a:xfrm rot="3574800">
            <a:off x="4862880" y="1410120"/>
            <a:ext cx="2513160" cy="4397400"/>
          </a:xfrm>
          <a:custGeom>
            <a:avLst/>
            <a:gdLst>
              <a:gd name="textAreaLeft" fmla="*/ 1256760 w 2513160"/>
              <a:gd name="textAreaRight" fmla="*/ 2513520 w 2513160"/>
              <a:gd name="textAreaTop" fmla="*/ 0 h 4397400"/>
              <a:gd name="textAreaBottom" fmla="*/ 2198880 h 4397400"/>
            </a:gdLst>
            <a:ahLst/>
            <a:rect l="textAreaLeft" t="textAreaTop" r="textAreaRight" b="textAreaBottom"/>
            <a:pathLst>
              <a:path stroke="0" w="2513013" h="4397375">
                <a:moveTo>
                  <a:pt x="1256509" y="0"/>
                </a:moveTo>
                <a:lnTo>
                  <a:pt x="1256509" y="0"/>
                </a:lnTo>
                <a:arcTo wR="1256507" hR="2198688" stAng="-5399995" swAng="5400004"/>
                <a:lnTo>
                  <a:pt x="1256507" y="2198688"/>
                </a:lnTo>
                <a:close/>
              </a:path>
              <a:path fill="none" w="2513013" h="4397375">
                <a:moveTo>
                  <a:pt x="1256509" y="0"/>
                </a:moveTo>
                <a:lnTo>
                  <a:pt x="1256509" y="0"/>
                </a:lnTo>
                <a:arcTo wR="1256507" hR="2198688" stAng="-5399995" swAng="5400004"/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1187280" y="486900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2268360" y="486900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3276720" y="479736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4356000" y="472428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5580000" y="472428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6659640" y="4653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33"/>
          <p:cNvSpPr/>
          <p:nvPr/>
        </p:nvSpPr>
        <p:spPr>
          <a:xfrm>
            <a:off x="7596360" y="386064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34"/>
          <p:cNvSpPr/>
          <p:nvPr/>
        </p:nvSpPr>
        <p:spPr>
          <a:xfrm>
            <a:off x="8028000" y="2924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5"/>
          <p:cNvSpPr/>
          <p:nvPr/>
        </p:nvSpPr>
        <p:spPr>
          <a:xfrm>
            <a:off x="97164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ле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6"/>
          <p:cNvSpPr/>
          <p:nvPr/>
        </p:nvSpPr>
        <p:spPr>
          <a:xfrm>
            <a:off x="2343240" y="50133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з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7"/>
          <p:cNvSpPr/>
          <p:nvPr/>
        </p:nvSpPr>
        <p:spPr>
          <a:xfrm>
            <a:off x="3495240" y="48690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8"/>
          <p:cNvSpPr/>
          <p:nvPr/>
        </p:nvSpPr>
        <p:spPr>
          <a:xfrm rot="19141200">
            <a:off x="4347720" y="45208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ронзовый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9"/>
          <p:cNvSpPr/>
          <p:nvPr/>
        </p:nvSpPr>
        <p:spPr>
          <a:xfrm>
            <a:off x="5367960" y="49417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езный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0"/>
          <p:cNvSpPr/>
          <p:nvPr/>
        </p:nvSpPr>
        <p:spPr>
          <a:xfrm>
            <a:off x="4294440" y="378936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индустри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1"/>
          <p:cNvSpPr/>
          <p:nvPr/>
        </p:nvSpPr>
        <p:spPr>
          <a:xfrm>
            <a:off x="4797720" y="314172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дустри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3"/>
          <p:cNvSpPr/>
          <p:nvPr/>
        </p:nvSpPr>
        <p:spPr>
          <a:xfrm>
            <a:off x="4871160" y="24210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4"/>
          <p:cNvSpPr/>
          <p:nvPr/>
        </p:nvSpPr>
        <p:spPr>
          <a:xfrm>
            <a:off x="4356000" y="5805360"/>
            <a:ext cx="2519640" cy="3682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к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е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5"/>
          <p:cNvSpPr/>
          <p:nvPr/>
        </p:nvSpPr>
        <p:spPr>
          <a:xfrm>
            <a:off x="1187280" y="5805360"/>
            <a:ext cx="3313440" cy="3682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аменный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47"/>
          <p:cNvSpPr/>
          <p:nvPr/>
        </p:nvSpPr>
        <p:spPr>
          <a:xfrm>
            <a:off x="4427640" y="5229360"/>
            <a:ext cx="23760" cy="140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8"/>
          <p:cNvSpPr/>
          <p:nvPr/>
        </p:nvSpPr>
        <p:spPr>
          <a:xfrm>
            <a:off x="755640" y="170028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ровень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49"/>
          <p:cNvSpPr/>
          <p:nvPr/>
        </p:nvSpPr>
        <p:spPr>
          <a:xfrm>
            <a:off x="6804000" y="5229360"/>
            <a:ext cx="23760" cy="140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сколько примеров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ток информации удваивается сейчас  каждые 20 месяц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ди, родившиеся в нашей стране в начале ХХ века пережили 3 стадии развития общества: доинд., индустр, и постиндустриальну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я история человечества пережила 1600 поколений, из них 1200 жили в пещерах, 240 в условиях письменности,                        22 имели напечатанные книги, электричество у 5 поколений, автомобили, самолеты у 4-х, компьютеры у 2-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User\Desktop\man_computer.gif"/>
          <p:cNvPicPr/>
          <p:nvPr/>
        </p:nvPicPr>
        <p:blipFill>
          <a:blip r:embed="rId1"/>
          <a:stretch/>
        </p:blipFill>
        <p:spPr>
          <a:xfrm>
            <a:off x="5940360" y="1700280"/>
            <a:ext cx="285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ремя между  появлением изобретения как идеей и его практическим использованием составлял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бумаги – 1000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паровой машины – 80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телефона -50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самолета -20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транзисторной техники (радиоприемник) – 3 г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лазеров - 6 месяце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ля факсов  - 3 месяц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User\Desktop\HappyComputerMan.gif"/>
          <p:cNvPicPr/>
          <p:nvPr/>
        </p:nvPicPr>
        <p:blipFill>
          <a:blip r:embed="rId1"/>
          <a:stretch/>
        </p:blipFill>
        <p:spPr>
          <a:xfrm>
            <a:off x="4788000" y="1628640"/>
            <a:ext cx="4038480" cy="4149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611280" y="5877000"/>
            <a:ext cx="8064360" cy="7038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итаем в учебнике на с. 34, внизу  как технический и культурный прогресс влиял на развитие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alibri"/>
              </a:rPr>
              <a:t>3-я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закономерность -  разные народы развиваются с разной скоро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4280"/>
            <a:ext cx="4402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 одном и том же историческом отрезке времени, разные страны находятся на разном уровне развит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одних и тех же странах могут быть и  развитые и отсталые райо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стречи цивилизаций ускоряют взаиморазвитие или уничтожают н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Если развитие  общества происходит в положительную сторону, то ученые говорят о ПРОГРЕСС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User\Desktop\a35064aed652.jpg"/>
          <p:cNvPicPr/>
          <p:nvPr/>
        </p:nvPicPr>
        <p:blipFill>
          <a:blip r:embed="rId1"/>
          <a:stretch/>
        </p:blipFill>
        <p:spPr>
          <a:xfrm>
            <a:off x="5076720" y="1413000"/>
            <a:ext cx="3598920" cy="26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User\Desktop\12.jpg"/>
          <p:cNvPicPr/>
          <p:nvPr/>
        </p:nvPicPr>
        <p:blipFill>
          <a:blip r:embed="rId2"/>
          <a:srcRect l="0" t="0" r="0" b="4644"/>
          <a:stretch/>
        </p:blipFill>
        <p:spPr>
          <a:xfrm>
            <a:off x="5076720" y="4149720"/>
            <a:ext cx="35989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User\Desktop\background_diagram.jpg"/>
          <p:cNvPicPr/>
          <p:nvPr/>
        </p:nvPicPr>
        <p:blipFill>
          <a:blip r:embed="rId1"/>
          <a:stretch/>
        </p:blipFill>
        <p:spPr>
          <a:xfrm>
            <a:off x="1908000" y="3429000"/>
            <a:ext cx="5715000" cy="31338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2195640" y="260280"/>
            <a:ext cx="4824360" cy="93672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оциальный прог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2700360" y="1341360"/>
            <a:ext cx="3887640" cy="100800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ий прог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395280" y="2349360"/>
            <a:ext cx="3097080" cy="93528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хн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5580000" y="2349360"/>
            <a:ext cx="3024360" cy="93528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ч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Прогре́сс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ат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progressu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— движение вперёд, успех) —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направление развития               от низшего к высшему, поступательное движение вперед, к лучшему. Противоположность — 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регресс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Социальный прогресс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глобальный, всемирно-исторический процесс восхождения человеческих обществ                       от примитивных состояни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дикости)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 вершинам цивилизованного состоя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основанного на высших научно-технических, политико-правовых, нравственно-этических достижен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020000" y="1773360"/>
            <a:ext cx="1728720" cy="7038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кум стр. 39-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5"/>
          <p:cNvCxnSpPr/>
          <p:nvPr/>
        </p:nvCxnSpPr>
        <p:spPr>
          <a:xfrm>
            <a:off x="6372000" y="2133720"/>
            <a:ext cx="64836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3:45:00Z</dcterms:created>
  <dc:creator>User</dc:creator>
  <dc:description/>
  <dc:language>en-US</dc:language>
  <cp:lastModifiedBy>User</cp:lastModifiedBy>
  <dcterms:modified xsi:type="dcterms:W3CDTF">2011-11-25T15:49:10Z</dcterms:modified>
  <cp:revision>16</cp:revision>
  <dc:subject/>
  <dc:title>Обществознание. 8 класс. Учитель Гришакина О.П. Электронные материалы  урокам. 5-й урок.   Тема урока: «СОЦИАЛЬНЫЙ ПРОГРЕСС И РАЗВИТИЕ ОБЩЕСТВА»</dc:title>
</cp:coreProperties>
</file>