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A2C-F77D-4263-AA91-B3826E88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6DB-F2B2-4625-AB19-96DE2CA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385-C169-40C7-94D2-235B6F82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7B0-5981-4A9B-99B0-F1E52BC4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7A1-CE17-4AE7-BE25-AD0550E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B3A-1436-4B49-8147-EC3224F2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41C-76B4-4CDE-8EF1-61A37B6B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ABF-9654-4FF9-81C8-22CB30D7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6D9-DA2F-46E9-BE7C-A2C63281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FFD-4B24-4020-8DBF-3B5758B0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3E5-1EB3-4E20-841C-1DC86A4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9A1-A3FA-4009-B013-D2344E7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375-6701-40D0-8C6B-AA1CB9603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ществознание. 8 класс. Учитель Гришакина О.П. Электронные материалы  урокам. 5-й урок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ип урока – урок изучения нового материла </a:t>
            </a:r>
            <a:br>
              <a:rPr sz="25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ема урока: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«СОЦИАЛЬНЫЙ ПРОГРЕСС И РАЗВИТИЕ ОБЩ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5732280"/>
            <a:ext cx="701676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На дом:     </a:t>
            </a: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§4, эссе «Возможен ли социальный прогресс в нашем класс и при каких условиях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background_diagram.jpg"/>
          <p:cNvPicPr/>
          <p:nvPr/>
        </p:nvPicPr>
        <p:blipFill>
          <a:blip r:embed="rId1"/>
          <a:stretch/>
        </p:blipFill>
        <p:spPr>
          <a:xfrm>
            <a:off x="1763640" y="2492280"/>
            <a:ext cx="5715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огресс есть равномерное развитие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следующих четырех составля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социально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— процесс приближения обще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материально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— процесс наиболее полного удовлетворения материальных потребностей всех людей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научной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— процесс непрерывного, расширяющегося и углубляющегося познания окружающего мира, его освоение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культурно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(духовной) — процесс приближения нравственности, трансформация человека-потребителя в человека-созида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700360" y="333360"/>
            <a:ext cx="345600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Г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5003640" y="1557360"/>
            <a:ext cx="345600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11280" y="1557360"/>
            <a:ext cx="345600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250920" y="2637000"/>
            <a:ext cx="3384360" cy="720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250920" y="3573360"/>
            <a:ext cx="352908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ЭКОНО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250920" y="4437000"/>
            <a:ext cx="3384360" cy="720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ЛИ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5651640" y="2421000"/>
            <a:ext cx="2808000" cy="86364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Т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User\Desktop\6BCCA475376D.jpg"/>
          <p:cNvPicPr/>
          <p:nvPr/>
        </p:nvPicPr>
        <p:blipFill>
          <a:blip r:embed="rId1"/>
          <a:stretch/>
        </p:blipFill>
        <p:spPr>
          <a:xfrm>
            <a:off x="3780000" y="3357720"/>
            <a:ext cx="2519280" cy="324000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4"/>
          <p:cNvCxnSpPr>
            <a:stCxn id="99" idx="1"/>
          </p:cNvCxnSpPr>
          <p:nvPr/>
        </p:nvCxnSpPr>
        <p:spPr>
          <a:xfrm flipH="1">
            <a:off x="1331280" y="692280"/>
            <a:ext cx="1369080" cy="79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15"/>
          <p:cNvCxnSpPr/>
          <p:nvPr/>
        </p:nvCxnSpPr>
        <p:spPr>
          <a:xfrm>
            <a:off x="6156360" y="691920"/>
            <a:ext cx="1296000" cy="865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>
            <a:off x="465840" y="1917720"/>
            <a:ext cx="252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" name="Прямая со стрелкой 20"/>
          <p:cNvCxnSpPr/>
          <p:nvPr/>
        </p:nvCxnSpPr>
        <p:spPr>
          <a:xfrm flipH="1">
            <a:off x="8604000" y="1844640"/>
            <a:ext cx="216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1" name="TextBox 21"/>
          <p:cNvSpPr/>
          <p:nvPr/>
        </p:nvSpPr>
        <p:spPr>
          <a:xfrm>
            <a:off x="395280" y="5516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рогресс может идти постепенным и скачкообразным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6372360" y="530064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рочитаем  в учебнике на с. 37-38 какие  характеристики могут быть  у ре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79280" y="260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ишите определения со стр. 37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5724360" y="3357720"/>
            <a:ext cx="2735280" cy="79200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Л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Эссе «Возможен ли социальный прогресс           в нашем класс и при каких условиях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48392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Возможные варианты вопросов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для раскрытия т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такое прогресс и регресс вообщ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жен ли классу (коллективу) прогрес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м бы характеризовался  прогресс в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м бы характеризовался регресс в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каких условиях возможен прогресс в нашем конкретном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отдельный  человек может сделать                         для прогресса в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овторяем пройденно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об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ие типы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деляют уче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какие  4 сферы делится об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мировое сооб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ловек существо биологическое                 или социаль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самых развитых стран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User\Desktop\123722.jpg"/>
          <p:cNvPicPr/>
          <p:nvPr/>
        </p:nvPicPr>
        <p:blipFill>
          <a:blip r:embed="rId1"/>
          <a:stretch/>
        </p:blipFill>
        <p:spPr>
          <a:xfrm>
            <a:off x="6012000" y="189000"/>
            <a:ext cx="2808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2565000"/>
            <a:ext cx="849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равнивая эволюцию обществ, стадии развития стран, ученые выяснили ряд закономер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закон ускорения истори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а каждую последующую стадию развития у человечества уходит меньше времени чем на предыдущую (примерно в 34 раза по време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на каждую последующую стадию развития приходится больше  орудий труда, технических изобретений и научных открыти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ример: за 50 лет 5 поколений телевизор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012.gif"/>
          <p:cNvPicPr/>
          <p:nvPr/>
        </p:nvPicPr>
        <p:blipFill>
          <a:blip r:embed="rId1"/>
          <a:stretch/>
        </p:blipFill>
        <p:spPr>
          <a:xfrm>
            <a:off x="179280" y="260280"/>
            <a:ext cx="1827360" cy="2089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User\Desktop\1400587.jpg"/>
          <p:cNvPicPr/>
          <p:nvPr/>
        </p:nvPicPr>
        <p:blipFill>
          <a:blip r:embed="rId2"/>
          <a:srcRect l="6438" t="27822" r="5151" b="27822"/>
          <a:stretch/>
        </p:blipFill>
        <p:spPr>
          <a:xfrm>
            <a:off x="2124000" y="404640"/>
            <a:ext cx="4969080" cy="18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User\Desktop\6889ab326150f1_b.jpg"/>
          <p:cNvPicPr/>
          <p:nvPr/>
        </p:nvPicPr>
        <p:blipFill>
          <a:blip r:embed="rId3"/>
          <a:srcRect l="0" t="8223" r="0" b="12998"/>
          <a:stretch/>
        </p:blipFill>
        <p:spPr>
          <a:xfrm>
            <a:off x="7236000" y="189000"/>
            <a:ext cx="1723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ускор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рическог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Users\User\Desktop\50541.jpg"/>
          <p:cNvPicPr/>
          <p:nvPr/>
        </p:nvPicPr>
        <p:blipFill>
          <a:blip r:embed="rId1"/>
          <a:stretch/>
        </p:blipFill>
        <p:spPr>
          <a:xfrm>
            <a:off x="6084720" y="260280"/>
            <a:ext cx="2697480" cy="180036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5"/>
          <p:cNvCxnSpPr/>
          <p:nvPr/>
        </p:nvCxnSpPr>
        <p:spPr>
          <a:xfrm flipV="1">
            <a:off x="684360" y="5660640"/>
            <a:ext cx="799200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Прямая со стрелкой 8"/>
          <p:cNvCxnSpPr/>
          <p:nvPr/>
        </p:nvCxnSpPr>
        <p:spPr>
          <a:xfrm flipH="1" flipV="1">
            <a:off x="684000" y="1412640"/>
            <a:ext cx="8640" cy="440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Прямая соединительная линия 23"/>
          <p:cNvSpPr/>
          <p:nvPr/>
        </p:nvSpPr>
        <p:spPr>
          <a:xfrm flipV="1">
            <a:off x="1187280" y="4692600"/>
            <a:ext cx="5569200" cy="249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уга 25"/>
          <p:cNvSpPr/>
          <p:nvPr/>
        </p:nvSpPr>
        <p:spPr>
          <a:xfrm rot="3574800">
            <a:off x="4862880" y="1410120"/>
            <a:ext cx="2513160" cy="4397400"/>
          </a:xfrm>
          <a:custGeom>
            <a:avLst/>
            <a:gdLst>
              <a:gd name="textAreaLeft" fmla="*/ 1256760 w 2513160"/>
              <a:gd name="textAreaRight" fmla="*/ 2513520 w 2513160"/>
              <a:gd name="textAreaTop" fmla="*/ 0 h 4397400"/>
              <a:gd name="textAreaBottom" fmla="*/ 2198880 h 4397400"/>
            </a:gdLst>
            <a:ahLst/>
            <a:rect l="textAreaLeft" t="textAreaTop" r="textAreaRight" b="textAreaBottom"/>
            <a:pathLst>
              <a:path stroke="0" w="2513013" h="4397375">
                <a:moveTo>
                  <a:pt x="1256509" y="0"/>
                </a:moveTo>
                <a:lnTo>
                  <a:pt x="1256509" y="0"/>
                </a:lnTo>
                <a:arcTo wR="1256507" hR="2198688" stAng="-5399995" swAng="5400004"/>
                <a:lnTo>
                  <a:pt x="1256507" y="2198688"/>
                </a:lnTo>
                <a:close/>
              </a:path>
              <a:path fill="none" w="2513013" h="4397375">
                <a:moveTo>
                  <a:pt x="1256509" y="0"/>
                </a:moveTo>
                <a:lnTo>
                  <a:pt x="1256509" y="0"/>
                </a:lnTo>
                <a:arcTo wR="1256507" hR="2198688" stAng="-5399995" swAng="5400004"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1187280" y="486900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2268360" y="486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3276720" y="47973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4356000" y="472428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5580000" y="472428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6659640" y="4653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3"/>
          <p:cNvSpPr/>
          <p:nvPr/>
        </p:nvSpPr>
        <p:spPr>
          <a:xfrm>
            <a:off x="7596360" y="386064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4"/>
          <p:cNvSpPr/>
          <p:nvPr/>
        </p:nvSpPr>
        <p:spPr>
          <a:xfrm>
            <a:off x="8028000" y="2924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97164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л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6"/>
          <p:cNvSpPr/>
          <p:nvPr/>
        </p:nvSpPr>
        <p:spPr>
          <a:xfrm>
            <a:off x="2343240" y="5013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з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7"/>
          <p:cNvSpPr/>
          <p:nvPr/>
        </p:nvSpPr>
        <p:spPr>
          <a:xfrm>
            <a:off x="3495240" y="4869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8"/>
          <p:cNvSpPr/>
          <p:nvPr/>
        </p:nvSpPr>
        <p:spPr>
          <a:xfrm rot="19141200">
            <a:off x="4347720" y="4520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онзов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9"/>
          <p:cNvSpPr/>
          <p:nvPr/>
        </p:nvSpPr>
        <p:spPr>
          <a:xfrm>
            <a:off x="5367960" y="49417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ез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0"/>
          <p:cNvSpPr/>
          <p:nvPr/>
        </p:nvSpPr>
        <p:spPr>
          <a:xfrm>
            <a:off x="4294440" y="378936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1"/>
          <p:cNvSpPr/>
          <p:nvPr/>
        </p:nvSpPr>
        <p:spPr>
          <a:xfrm>
            <a:off x="4797720" y="314172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3"/>
          <p:cNvSpPr/>
          <p:nvPr/>
        </p:nvSpPr>
        <p:spPr>
          <a:xfrm>
            <a:off x="4871160" y="2421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4"/>
          <p:cNvSpPr/>
          <p:nvPr/>
        </p:nvSpPr>
        <p:spPr>
          <a:xfrm>
            <a:off x="4356000" y="5805360"/>
            <a:ext cx="251964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к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5"/>
          <p:cNvSpPr/>
          <p:nvPr/>
        </p:nvSpPr>
        <p:spPr>
          <a:xfrm>
            <a:off x="1187280" y="5805360"/>
            <a:ext cx="331344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мен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7"/>
          <p:cNvSpPr/>
          <p:nvPr/>
        </p:nvSpPr>
        <p:spPr>
          <a:xfrm>
            <a:off x="4427640" y="522936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8"/>
          <p:cNvSpPr/>
          <p:nvPr/>
        </p:nvSpPr>
        <p:spPr>
          <a:xfrm>
            <a:off x="755640" y="170028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ровень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9"/>
          <p:cNvSpPr/>
          <p:nvPr/>
        </p:nvSpPr>
        <p:spPr>
          <a:xfrm>
            <a:off x="6804000" y="522936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сколько примеров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ок информации удваивается сейчас  каждые 20 меся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ди, родившиеся в нашей стране в начале ХХ века пережили 3 стадии развития общества: доинд., индустр, и постиндустриальн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я история человечества пережила 1600 поколений, из них 1200 жили в пещерах, 240 в условиях письменности,                        22 имели напечатанные книги, электричество у 5 поколений, автомобили, самолеты у 4-х, компьютеры у 2-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User\Desktop\man_computer.gif"/>
          <p:cNvPicPr/>
          <p:nvPr/>
        </p:nvPicPr>
        <p:blipFill>
          <a:blip r:embed="rId1"/>
          <a:stretch/>
        </p:blipFill>
        <p:spPr>
          <a:xfrm>
            <a:off x="5940360" y="1700280"/>
            <a:ext cx="285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емя между  появлением изобретения как идеей и его практическим использованием составлял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бумаги – 100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паровой машины – 8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телефона -5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самолета -2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транзисторной техники (радиоприемник) – 3 г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лазеров - 6 месяце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факсов  - 3 меся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esktop\HappyComputerMan.gif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4149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611280" y="5877000"/>
            <a:ext cx="8064360" cy="703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итаем в учебнике на с. 34, внизу  как технический и культурный прогресс влиял на развитие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3-я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закономерность -  разные народы развиваются с разной скор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4402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одном и том же историческом отрезке времени, разные страны находятся на разном уровне разви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одних и тех же странах могут быть и  развитые и отсталые райо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тречи цивилизаций ускоряют взаиморазвитие или уничтожают н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Если развитие  общества происходит в положительную сторону, то ученые говорят о ПРОГРЕС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User\Desktop\a35064aed652.jpg"/>
          <p:cNvPicPr/>
          <p:nvPr/>
        </p:nvPicPr>
        <p:blipFill>
          <a:blip r:embed="rId1"/>
          <a:stretch/>
        </p:blipFill>
        <p:spPr>
          <a:xfrm>
            <a:off x="5076720" y="1413000"/>
            <a:ext cx="359892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User\Desktop\12.jpg"/>
          <p:cNvPicPr/>
          <p:nvPr/>
        </p:nvPicPr>
        <p:blipFill>
          <a:blip r:embed="rId2"/>
          <a:srcRect l="0" t="0" r="0" b="4644"/>
          <a:stretch/>
        </p:blipFill>
        <p:spPr>
          <a:xfrm>
            <a:off x="5076720" y="4149720"/>
            <a:ext cx="35989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Desktop\background_diagram.jpg"/>
          <p:cNvPicPr/>
          <p:nvPr/>
        </p:nvPicPr>
        <p:blipFill>
          <a:blip r:embed="rId1"/>
          <a:stretch/>
        </p:blipFill>
        <p:spPr>
          <a:xfrm>
            <a:off x="1908000" y="3429000"/>
            <a:ext cx="5715000" cy="3133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2195640" y="260280"/>
            <a:ext cx="4824360" cy="936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циальный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700360" y="1341360"/>
            <a:ext cx="3887640" cy="100800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ий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395280" y="2349360"/>
            <a:ext cx="3097080" cy="935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5580000" y="2349360"/>
            <a:ext cx="3024360" cy="935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Прогре́с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ат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progressu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— движение вперёд, успех) —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аправление развития               от низшего к высшему, поступательное движение вперед, к лучшему. Противоположность — 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регресс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оциальный прогрес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глобальный, всемирно-исторический процесс восхождения человеческих обществ                       от примитивных состояни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дикости)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 вершинам цивилизованного состоя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основанного на высших научно-технических, политико-правовых, нравственно-этических достиж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020000" y="1773360"/>
            <a:ext cx="1728720" cy="703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кум стр. 39-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5"/>
          <p:cNvCxnSpPr/>
          <p:nvPr/>
        </p:nvCxnSpPr>
        <p:spPr>
          <a:xfrm>
            <a:off x="6372000" y="2133720"/>
            <a:ext cx="64836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5:00Z</dcterms:created>
  <dc:creator>User</dc:creator>
  <dc:description/>
  <dc:language>en-US</dc:language>
  <cp:lastModifiedBy>User</cp:lastModifiedBy>
  <dcterms:modified xsi:type="dcterms:W3CDTF">2011-11-25T15:49:10Z</dcterms:modified>
  <cp:revision>16</cp:revision>
  <dc:subject/>
  <dc:title>Обществознание. 8 класс. Учитель Гришакина О.П. Электронные материалы  урокам. 5-й урок.   Тема урока: «СОЦИАЛЬНЫЙ ПРОГРЕСС И РАЗВИТИЕ ОБЩЕСТВА»</dc:title>
</cp:coreProperties>
</file>