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2F5-334B-44EC-9F62-DC722740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73F-563E-4DFA-9BB8-AADD4AD8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09E-924C-4BBB-A81F-0A831BCF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C2F-212A-4EDF-88E3-EF1E5E31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57B8-EFAB-4AEC-AFC5-D7D9D702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42E1-4C63-49AF-8702-F6001996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413-AFB0-4F90-9137-D40FD8E6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1CF6-583D-4E8E-888E-53BA8F44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945-9675-46C5-8234-B5EBE0B1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FE9-6734-488B-8E98-BE313566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B8DA-1CDB-4387-AE47-C99FE15F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F03-7B6A-43C2-B3D2-1BC3F52C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0414-5636-41B2-A913-24AA4222C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781200" y="633240"/>
            <a:ext cx="7729560" cy="5158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Администратор\Мои документы\Мои сканированные изображения\2011-11 (ноя)\сканирование0002.jpg"/>
          <p:cNvPicPr/>
          <p:nvPr/>
        </p:nvPicPr>
        <p:blipFill>
          <a:blip r:embed="rId2"/>
          <a:stretch/>
        </p:blipFill>
        <p:spPr>
          <a:xfrm>
            <a:off x="1214280" y="1214280"/>
            <a:ext cx="6715440" cy="5253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298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Администратор\Мои документы\Мои сканированные изображения\2011-11 (ноя)\сканирование0001.jpg"/>
          <p:cNvPicPr/>
          <p:nvPr/>
        </p:nvPicPr>
        <p:blipFill>
          <a:blip r:embed="rId2"/>
          <a:srcRect l="0" t="0" r="231" b="0"/>
          <a:stretch/>
        </p:blipFill>
        <p:spPr>
          <a:xfrm>
            <a:off x="1357200" y="1357200"/>
            <a:ext cx="6769080" cy="4929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11-25T19:34:42Z</dcterms:modified>
  <cp:revision>17</cp:revision>
  <dc:subject/>
  <dc:title>Презентация  воспитателя МДОУ «Детский сад №15 «Лужок»  Варгиной Марины Николаевны к занятию во II младшей группе  по развитию речи на тему: «Петушок и его семья» </dc:title>
</cp:coreProperties>
</file>