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0C0-70EB-45C9-AC01-5FF24915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9C7-2572-43DE-BDCA-1CA3300B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5BE-7355-4104-99C4-DAD864F1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844-1B5A-4143-9F1F-C570DC6A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CF0-9865-4106-8F18-6B3F571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2FE-22E6-41DA-B602-5837274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B6D-171D-4B3A-9DCC-F278C1A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A63-EBEC-44CD-B231-EEB83150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A5C-D70B-46E8-BC67-B27F823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131-20CD-4670-AEFB-21029D1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14B-D054-4A13-9A4E-6108691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775-4235-4044-8F47-E96836E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087-EA04-4E64-9166-9FB08FBDF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72956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Администратор\Мои документы\Мои сканированные изображения\2011-11 (ноя)\сканирование0002.jpg"/>
          <p:cNvPicPr/>
          <p:nvPr/>
        </p:nvPicPr>
        <p:blipFill>
          <a:blip r:embed="rId2"/>
          <a:stretch/>
        </p:blipFill>
        <p:spPr>
          <a:xfrm>
            <a:off x="1214280" y="1214280"/>
            <a:ext cx="6715440" cy="5253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Администратор\Мои документы\Мои сканированные изображения\2011-11 (ноя)\сканирование0001.jpg"/>
          <p:cNvPicPr/>
          <p:nvPr/>
        </p:nvPicPr>
        <p:blipFill>
          <a:blip r:embed="rId2"/>
          <a:srcRect l="0" t="0" r="231" b="0"/>
          <a:stretch/>
        </p:blipFill>
        <p:spPr>
          <a:xfrm>
            <a:off x="1357200" y="1357200"/>
            <a:ext cx="6769080" cy="4929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11-25T19:34:42Z</dcterms:modified>
  <cp:revision>17</cp:revision>
  <dc:subject/>
  <dc:title>Презентация  воспитателя МДОУ «Детский сад №15 «Лужок»  Варгиной Марины Николаевны к занятию во II младшей группе  по развитию речи на тему: «Петушок и его семья» </dc:title>
</cp:coreProperties>
</file>