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C9C-DF8D-44E4-8DBE-1BF44491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F49-017D-4F89-BF52-0C6C3A9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71522-80C3-4C9F-99B4-C7F15380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18210-D181-4C11-8F95-04E445FD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22DA2-1E63-4517-95CC-7DC741AD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1C4D8-C5A4-49BB-A686-55E4B017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8C620-C81E-438F-A5E7-86D5F8C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4F303-5C11-42DD-BAC2-078B952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6D1BF-C941-41AB-B59E-79651ED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41686-B46F-406A-A146-2B714ADF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F772-156D-4AC0-B298-CF33AF84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A46-6ECE-4FB3-A545-073F90B8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0B8-7292-4123-BB95-64895A23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2FB4-E93F-43DA-B3E2-EAB8CD57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5430-85E9-4ED4-A45D-473CB1C1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3E14-C35B-488E-9C49-F9B091A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D81C-2BAF-462D-B1D9-885FFE7B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7416-8DDF-4B7E-B5C2-E2BECEB2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6663-FECA-409F-861B-8678CD56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1BC-CCC3-4B61-8398-3350EDC8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119-D546-40B5-8D3F-AC88CF07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7D4D-5FA3-4F24-AEAD-4FD1FF5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B85D-828E-4FB1-A536-685D415A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AB0E-978D-496C-A5E4-A991ABAF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FA2B-539C-4A71-8D4D-3F760734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C849-4AB6-4C38-B6B4-5578EF1D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E91B-B1CE-4A1C-980F-25095BDE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C5FD-EFF1-4757-BDA1-3EB6B92A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659E-B4D8-45E5-A862-17E3F97B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9D59-16A6-46B3-B9D8-EDBE5E3A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F6D9-E204-4DD1-B921-136C783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B96-EAF9-480A-9B7C-D8FAE01D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9919-D5A0-42E2-9DCB-DBF4719D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F09BC-A322-4D10-9ECA-F043D78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9338-3CBA-4C11-B3E4-66A3566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F3A94-94AC-4A67-88AF-CB86129A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9744B-D1F6-4768-8A4E-029A1CC1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A8B6-ADFC-4AE3-B4D2-39B7A84E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6375-30B7-4833-B97A-056D5F1D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379E7-1546-4BFD-8884-3F7ABB12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D459-795C-4A99-9E87-CEA77032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A9A9-C208-4D36-813B-B65B633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D65-9168-4E0B-870C-1D3005E5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BC9E-1668-4C99-8AFA-E2A997A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22AE-EEFC-4FC2-9057-F19C7E61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8067-FC1D-4C98-AA42-FF8F3C4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4A9EA-A6BB-436A-B1A2-642EAD2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4977-53F5-49A2-A3AE-146BF8C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BF8B-DDF8-40F5-8137-DEDA8499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274B8-A3C5-4600-9411-443FD117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0F3A6-1B1B-4CB2-B726-D85499A4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1AD4F-1183-436E-A7E8-2D03844C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92E0-212F-4D3B-82E9-1843DA0C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DDD-CBD7-4BFF-9EBC-8CA37352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4E77-414F-4329-85EC-AE7F8A11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6A432-64FE-4504-A016-0E4A47E4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853A-D697-43A7-B687-A98CE3D7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E8EC-42ED-4675-9BE1-B168A2A6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2D800-41FC-44AA-A1B6-21085163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9C0C7-A4CB-42F2-BAF6-7BA6D03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83CA-D5A8-46A2-A538-5A6D543E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50DE-CC4F-4887-BAE2-46A76B8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638F-D827-4685-8C4C-E2627B5E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65456-6BB7-4FEB-82FA-AEFA263C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4B04-0C3D-41B4-B56F-1736210A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6819-634E-4303-AA83-530AFC23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4469-0A38-4EB6-B5F2-E19CDEE1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ED521-7908-497D-93F7-561EA689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47E2F-D3EC-47A2-9EAA-4057621C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157A1-03E7-43C6-A9BE-B93BF33A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B1595-3159-47C5-8CC5-3D554C31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CEEE-6952-466A-A076-C58B66FC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D0501-538A-4700-813C-D19DD4E7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4E72-599C-4829-BB7A-DEEC96B4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929A-BD35-403E-8FC1-3DD080F0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C4B-02E4-4959-8B52-238665E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0026-A032-4F4B-BDE3-07324B8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08FE-1CF9-42B9-BE48-90E250B9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8E86-D728-49EF-A7B9-B30F63FC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55A68-8E84-42D2-8D77-CCF25408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A11B-4B1E-4361-802F-E7580BA4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A8D5-7F73-4778-9BD7-1CAFFF05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66516-069D-4C97-AA79-3E4BC46E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27133-3AA0-465D-A75D-75051EAB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5145-7D7A-421B-8735-D63465A6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8B022-5C98-473D-B681-0EEBDBE3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8BB-E53C-41BC-9D83-67C17BB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E14C4-1603-408A-A7E9-58DDD4FF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E3C4F-DC6F-48AA-AED1-44B9721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D0F41-6794-4397-BC9E-BC4E2AA8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43BEA-D32E-419D-A8E6-96FB105C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8532D-83C1-4421-976A-EB477191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706F4-2308-49A7-B3AC-FD101EB8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40E99-5D70-4DB2-BF21-2988903F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D9EAA-CC88-40E9-847C-18EBD2D0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1096-76C3-4F8A-A36F-3B01A0C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7C2E8-4392-480F-8526-2D490AA7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0D2-7217-4ECE-B54F-B987C2B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FC899-C851-4A0C-BBFD-1DD01C9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4C2AE-774F-4B26-834C-465DB036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88611-085A-4C2D-9A94-52C90C5F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C6371-EC0C-483C-B312-DABC32D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A3874-69DF-47D8-B980-4DC30CB8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A1193-355B-4AAA-843B-B1F4FCF6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B131F-8386-4DBF-BA23-2DB57C12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AEBF4-9662-4819-83D4-EBFB3CB2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3CA82-C459-42E7-B94D-22F52430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A7CE9-6FD1-41F4-A86D-511EB9C4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4761-95A8-4F06-B599-37E6A402C7B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5565-0E4A-4298-8B13-7DF4F74DF4C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5F5A-6F17-452F-868A-22E0D64993A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087B-6A98-43F3-9631-FB61FEA6912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C38-5638-48D2-BE39-B170236D84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E6B9-E7FC-46A5-9667-0A976960BB8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DCD6-86EB-4ED3-B00C-DDE9B46600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C0EA-822E-4A9B-9F75-F7434FC9346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6494-36E4-4B77-AF1F-C622732C139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53880" y="1139760"/>
            <a:ext cx="8466120" cy="1517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28400" y="28576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Franklin Gothic Book"/>
              </a:rPr>
              <a:t>Коротко и ясно, оттого и прекрасно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5688000" y="37861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Русская пословиц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4" descr="gallery_2_371_22074.gif"/>
          <p:cNvPicPr/>
          <p:nvPr/>
        </p:nvPicPr>
        <p:blipFill>
          <a:blip r:embed="rId2"/>
          <a:stretch/>
        </p:blipFill>
        <p:spPr>
          <a:xfrm>
            <a:off x="785880" y="4143240"/>
            <a:ext cx="1800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1"/>
          <p:cNvSpPr/>
          <p:nvPr/>
        </p:nvSpPr>
        <p:spPr>
          <a:xfrm>
            <a:off x="1143000" y="785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Какие получились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"/>
          <p:cNvSpPr/>
          <p:nvPr/>
        </p:nvSpPr>
        <p:spPr>
          <a:xfrm>
            <a:off x="2786040" y="228600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785880" y="307188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Здесь и сверкающие, оживлённые улицы, и старинные задумчивые переулки. Здесь сохранились дома пушкинских и лермонтовских времён, уголки литературной и театральной Москвы прошл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214200" y="4287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Трен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"/>
          <p:cNvSpPr/>
          <p:nvPr/>
        </p:nvSpPr>
        <p:spPr>
          <a:xfrm>
            <a:off x="2428920" y="28584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ократить текст за счёт замены прямой речи косвенной (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выделено курсивом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). /Проследите за употреблением личных местоимений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"/>
          <p:cNvSpPr/>
          <p:nvPr/>
        </p:nvSpPr>
        <p:spPr>
          <a:xfrm>
            <a:off x="357120" y="159552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 реке надо всегда прислушиваться ко всяческим звукам. Грозы налетают как-то исподтишка, внезап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Я стоял на якоре у самого лозняка, когда мимо меня торопливо проехал  бакенщик и крикну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Гроза находит. С ветром. Приставайте к лесному берегу, вон – за мысом. Там изба стоит в лесу. Я тоже в ней укрою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Чья изба? – спросил я.- До тех пор я что-то её не заме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Святослава Рихтера, музыканта. А вы разве не знали? Московский музыкант. Жена у него певица. Только фамилию её не выговорю. Трудная в обращении фам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     </a:t>
            </a: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Я не знал об этом и не мог предполагать, что в такой безлюдной глуши поселился наш известный пианист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1071720" y="85716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Какие получились вариант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"/>
          <p:cNvSpPr/>
          <p:nvPr/>
        </p:nvSpPr>
        <p:spPr>
          <a:xfrm>
            <a:off x="2571840" y="257184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571680" y="34290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н предупредил меня, что приближается гроза и посоветовал укрыться в избе, которая стояла в лесу. От бакенщика я узнал, что эта изба принадлежала музыканту Святославу Рих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1857240" y="100008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2"/>
          <p:cNvSpPr/>
          <p:nvPr/>
        </p:nvSpPr>
        <p:spPr>
          <a:xfrm>
            <a:off x="1214280" y="2500200"/>
            <a:ext cx="73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Перехо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Book"/>
              </a:rPr>
              <a:t>к самостоятельной      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5643720" y="5143680"/>
            <a:ext cx="28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70c0"/>
                </a:solidFill>
                <a:latin typeface="Franklin Gothic Book"/>
              </a:rPr>
              <a:t>Успехов</a:t>
            </a:r>
            <a:r>
              <a:rPr b="0" lang="ru-RU" sz="4800" spc="-1" strike="noStrike">
                <a:solidFill>
                  <a:srgbClr val="0070c0"/>
                </a:solidFill>
                <a:latin typeface="Franklin Gothic Book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Рисунок 5" descr="gallery_2_371_22074.gif"/>
          <p:cNvPicPr/>
          <p:nvPr/>
        </p:nvPicPr>
        <p:blipFill>
          <a:blip r:embed="rId1"/>
          <a:stretch/>
        </p:blipFill>
        <p:spPr>
          <a:xfrm>
            <a:off x="1714680" y="4572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отобрать основное содержание текст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выделить главное в текст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исключить второстепенно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найти факты, которые можно обобщить,      выразить более кратко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заменять синтаксические конструкции синонимичным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облюсти связность текс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480" y="2357280"/>
            <a:ext cx="4190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основное содержание текст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общий смысл (тема, идея) текст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главные мысли основных микротем (абзацы), которые развивают тему реч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1640" y="23572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связность текста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последовательность мыс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связь предложен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428760" y="15717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отраз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5000760" y="157176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Franklin Gothic Book"/>
              </a:rPr>
              <a:t>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трелка вправо 6"/>
          <p:cNvSpPr/>
          <p:nvPr/>
        </p:nvSpPr>
        <p:spPr>
          <a:xfrm rot="7859400">
            <a:off x="2732400" y="1495800"/>
            <a:ext cx="492120" cy="46080"/>
          </a:xfrm>
          <a:prstGeom prst="rightArrow">
            <a:avLst>
              <a:gd name="adj1" fmla="val 100000"/>
              <a:gd name="adj2" fmla="val 4993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трелка вправо 7"/>
          <p:cNvSpPr/>
          <p:nvPr/>
        </p:nvSpPr>
        <p:spPr>
          <a:xfrm rot="3223800">
            <a:off x="5560920" y="1474560"/>
            <a:ext cx="493560" cy="46080"/>
          </a:xfrm>
          <a:prstGeom prst="rightArrow">
            <a:avLst>
              <a:gd name="adj1" fmla="val 100000"/>
              <a:gd name="adj2" fmla="val 4993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2840" y="371520"/>
            <a:ext cx="895500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Ключевые фразы – </a:t>
            </a:r>
            <a:r>
              <a:rPr b="0" lang="ru-RU" sz="4800" spc="-1" strike="noStrike" u="sng">
                <a:solidFill>
                  <a:srgbClr val="c00000"/>
                </a:solidFill>
                <a:uFillTx/>
                <a:latin typeface="Franklin Gothic Book"/>
              </a:rPr>
              <a:t>аргументы автора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c00000"/>
                </a:solidFill>
                <a:uFillTx/>
                <a:latin typeface="Franklin Gothic Book"/>
              </a:rPr>
              <a:t>Основные детали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, выражающие авторскую позицию, основную мысль текста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642960" y="5000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Приёмы сжатия тек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642960" y="200016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ис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3500280" y="292896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об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6572160" y="392904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357120" y="278604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второстеп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нформация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500040" y="3786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збыточная информация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7"/>
          <p:cNvSpPr/>
          <p:nvPr/>
        </p:nvSpPr>
        <p:spPr>
          <a:xfrm>
            <a:off x="3357720" y="40006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подр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3500280" y="471492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перечисление фактов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9"/>
          <p:cNvSpPr/>
          <p:nvPr/>
        </p:nvSpPr>
        <p:spPr>
          <a:xfrm>
            <a:off x="6286680" y="471492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синтаксические  синонимы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163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42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42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411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42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42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857160" y="21420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Языковые приёмы сжа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214200" y="785880"/>
            <a:ext cx="235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ис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2928960" y="78588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об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6143760" y="7858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упр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214200" y="1500120"/>
            <a:ext cx="2286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повто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многосло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синон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водные сл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уточняющие, пояснительные констр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фрагменты пред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риторические вопросы, восклиц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6"/>
          <p:cNvSpPr/>
          <p:nvPr/>
        </p:nvSpPr>
        <p:spPr>
          <a:xfrm>
            <a:off x="2428920" y="1428840"/>
            <a:ext cx="342900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однородных членов обобщающим сло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замена гипонима пиронимом (видо-родовые поня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- замена предложения или его части определительным или отрицательным местоимением с обобщающим знач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7"/>
          <p:cNvSpPr/>
          <p:nvPr/>
        </p:nvSpPr>
        <p:spPr>
          <a:xfrm>
            <a:off x="6215040" y="1285920"/>
            <a:ext cx="264312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мена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части текста одним предлож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мена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СПП простым предл-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мена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 прямой речи, диалога косвенной реч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-придаточные части СПП – причастным и деепричастным оборо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 замена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части предложения указательным местоим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"/>
          <p:cNvSpPr/>
          <p:nvPr/>
        </p:nvSpPr>
        <p:spPr>
          <a:xfrm>
            <a:off x="571680" y="50004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Тренин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"/>
          <p:cNvSpPr/>
          <p:nvPr/>
        </p:nvSpPr>
        <p:spPr>
          <a:xfrm>
            <a:off x="3929040" y="35712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сключить избыточную информацию (</a:t>
            </a:r>
            <a:r>
              <a:rPr b="0" i="1" lang="ru-RU" sz="2800" spc="-1" strike="noStrike">
                <a:solidFill>
                  <a:srgbClr val="0070c0"/>
                </a:solidFill>
                <a:latin typeface="Franklin Gothic Book"/>
              </a:rPr>
              <a:t>написано</a:t>
            </a:r>
            <a:r>
              <a:rPr b="0" i="1" lang="ru-RU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Franklin Gothic Book"/>
              </a:rPr>
              <a:t>курсивом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), выразить мысль обобщё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500040" y="25718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Хотя детство моё прошло  в Пятигорске, сам я всё же коренной москвич. В каких бы городах мира я ни бывал, как бы ни восхищался их красотой, Москва остаётся для меня лучшим городом в мире</a:t>
            </a:r>
            <a:r>
              <a:rPr b="0" i="1" lang="ru-RU" sz="2800" spc="-1" strike="noStrike">
                <a:solidFill>
                  <a:srgbClr val="0070c0"/>
                </a:solidFill>
                <a:latin typeface="Franklin Gothic Book"/>
              </a:rPr>
              <a:t>. Идёшь по Москве, по её  площадям, по тихим переулкам и чувствуешь, сердцем своим ощущаешь: это твой город. Он есть у тебя так же, как есть мать, родина, небо над головой, воздух, которым дышишь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1"/>
          <p:cNvSpPr/>
          <p:nvPr/>
        </p:nvSpPr>
        <p:spPr>
          <a:xfrm>
            <a:off x="2786040" y="335772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"/>
          <p:cNvSpPr/>
          <p:nvPr/>
        </p:nvSpPr>
        <p:spPr>
          <a:xfrm>
            <a:off x="1357200" y="4143240"/>
            <a:ext cx="678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Franklin Gothic Book"/>
              </a:rPr>
              <a:t>Я ощущаю его сердцем, он есть у меня как мать, как родина, как небо над гол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1571760" y="571680"/>
            <a:ext cx="62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акие получились вариа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1"/>
          <p:cNvSpPr/>
          <p:nvPr/>
        </p:nvSpPr>
        <p:spPr>
          <a:xfrm>
            <a:off x="428760" y="785880"/>
            <a:ext cx="19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Трен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2"/>
          <p:cNvSpPr/>
          <p:nvPr/>
        </p:nvSpPr>
        <p:spPr>
          <a:xfrm>
            <a:off x="2928960" y="71424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Исключить  поясняющие примеры (</a:t>
            </a:r>
            <a:r>
              <a:rPr b="0" i="1" lang="ru-RU" sz="3200" spc="-1" strike="noStrike">
                <a:solidFill>
                  <a:srgbClr val="0070c0"/>
                </a:solidFill>
                <a:latin typeface="Franklin Gothic Book"/>
              </a:rPr>
              <a:t>написано курсивом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"/>
          <p:cNvSpPr/>
          <p:nvPr/>
        </p:nvSpPr>
        <p:spPr>
          <a:xfrm>
            <a:off x="500040" y="20001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осква бесконечно разнообразна. </a:t>
            </a:r>
            <a:r>
              <a:rPr b="0" i="1" lang="ru-RU" sz="2400" spc="-1" strike="noStrike">
                <a:solidFill>
                  <a:srgbClr val="0070c0"/>
                </a:solidFill>
                <a:latin typeface="Franklin Gothic Book"/>
              </a:rPr>
              <a:t>На её сверкающие, оживлённые улицы спешишь, когда на душе радостно и хочешь побыть среди людей. В старинные задумчивые переулки её идёшь, когда хочется поразмыслить о чём-нибудь. Остаться наедине с собой. Эта Москва задумчива, есть в ней переулки пушкинских и лермонтовских времён. Сохранились до сих пор дома, где бывали великие русские поэты, писатели, композиторы, художники. Сохранились уголки литературной и театральной Москвы прошлого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-  живая история, культура и гордость н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2:07:37Z</dcterms:created>
  <dc:creator>Admin</dc:creator>
  <dc:description/>
  <dc:language>en-US</dc:language>
  <cp:lastModifiedBy>Admin</cp:lastModifiedBy>
  <dcterms:modified xsi:type="dcterms:W3CDTF">2010-10-10T05:45:16Z</dcterms:modified>
  <cp:revision>35</cp:revision>
  <dc:subject/>
  <dc:title>Пишем сжатое изложение.</dc:title>
</cp:coreProperties>
</file>