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96F-16F7-4ED7-B748-C5812A8F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116-8301-4AA8-86E9-387F4046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FD2B1-8778-4EF9-A4D0-CF0118B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2C525-E65A-47D9-8653-88D99132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FEC23-FE56-4D4B-80B3-37A27EB5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D9E63-F906-4BFB-A19A-AFDA2721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F0BE7-2A4C-43C3-AD10-3BA116A3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5EC42-593B-4163-8291-1E999B6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898B8-5E04-4C30-A5C6-33861FB3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ACAE7-7B78-46E5-920C-0FCCE786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7E245-78F2-4C72-AE71-8D96D24D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6A8-6BDC-4BFB-9DA5-2EF8B423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B94-FDB7-4483-8034-1C41408A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971C-EBD9-40CB-9AA4-2C8189B9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A868-DB61-4231-B8EB-4869449E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1FC2-0AB6-42CF-8146-0F430C7D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2060-28E3-4F91-B98D-850C2F10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ABA-44C1-422A-A7E1-8D86A002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F1E4-962F-4F03-95F7-1F880B97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922C-2E9E-4AE5-BE9A-F4D444E7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56F-F9A7-4423-A2A8-AE3E2B19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F9B9-205C-4BA5-9703-4676BA66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1845-BA05-424C-836C-81B705B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5D76-EA85-49DA-95AF-8B660D62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4107-47DA-4014-897B-DD34835D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EE72-F2D4-4091-A772-3E25B4DF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9611-88D1-4CC4-8BCC-3E2430F0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21E3-1392-4167-84A0-0F0E22D5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50A8-A443-4080-AF1B-1215A52E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5E51-73B1-43A0-A581-7EE7F9FE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E4FD-BC72-4A19-9777-3ABFAA6D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DB3-CC50-420F-B2D7-800BE0A4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F3D9-2930-446B-9B7C-4F9AF8F9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2BA9-DECD-4286-AEA0-4AB1B21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1400-AAB9-424B-9248-9F818D53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D0BA-51BB-4C00-B58B-924C063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9FDF7-80E0-4DA1-96B0-CA1E6516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185C-F1D4-489E-8C56-FBB50CC7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8CC6-3643-4B92-8DB8-55EB6EFA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B986-9660-4F55-8832-82D8E800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3446-2A49-4CCE-A6A3-129C4F79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D2CE-2680-44DF-81FF-B7F6652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B47-33B9-4EDE-B5D6-6B03E0B0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2697-002C-4299-AE9A-DA5C8E7E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0A79-4DB2-42EC-B23F-1D9E6251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8914-50B3-4E81-8B51-3BF797E2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E142-3D8A-45BE-A6C6-B11796C3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67D51-2BF3-496B-83AF-D6035A95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4DF16-A840-4CFC-BC24-8EFB478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AA7B-C405-443D-99CC-44C21297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4417-65CC-4D84-B0C7-66708D5F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1224-81BF-4C3E-803E-C82ACEEE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66DAB-B7F8-4934-8759-3A0B3756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08B-AE41-4F91-91E6-E44E3377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861D4-F2B9-44A7-8665-2F353371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2A9E-59D1-4D21-BACC-1B023966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3E4E9-DD09-44D5-A508-FA4DF312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DBF5-AE70-450D-9023-698EAA74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A97C1-6E64-444E-B5D5-4368300A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1709-6FF0-4A19-9B6C-B0F08C4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FAE4D-168C-4215-B7DD-DE68462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CAF9-B4BF-460B-9271-AC8EEF3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CF3A4-7C5B-4834-8B43-B9471D1A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06F4-EF72-4C45-ACC8-4A3D51DB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966-8AE7-4077-8093-D1ABE1A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8CD98-2DA0-430D-8C51-7C5B50BF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075D-C654-437C-967B-DD6D984E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AF990-9B52-4BAC-95EC-EFFE8920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6735D-6C42-4928-B875-4397FCD5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0E42-74AB-470A-901E-16A32E15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923C3-141E-48BC-AB86-6AF02A5B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7CF6-AC49-43EB-9C27-F01FCB4A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386FF-284D-4B46-8936-7122AB2C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BA6E-04BC-46DB-A87E-3B3C9DC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C5B44-914C-41D2-8DD3-CC60AB3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74D-9D31-408E-95E4-AB253DF9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98A31-E675-461A-A5B3-A9D283C0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E8D83-26B8-4C29-A397-38906F5A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FD0DE-C276-4EB5-9D6B-88A9648E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9C414-57B8-41DA-B862-097B2A24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95A8F-FD8F-42DD-86A2-3B79B9E4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25FFE-7125-4C56-AC84-491BC771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E5216-9820-4370-A92D-E4CA3E28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2984-F964-4A44-A588-9B84224B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84C56-E293-4316-B55C-BB3BE468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2A848-B3F6-4A4E-8DF0-23D6340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2B7-FE72-404A-8DE8-EEF7FAF9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799F-787E-4115-BAF4-A0DFD0E6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89405-F21D-445C-A757-2E819C52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5D3A2-32B8-45BB-868A-E48BF3FB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A9B46-CA3F-4A11-A0BB-CA54EF03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37900-7F43-4281-B8E8-3AAA3170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7240A-9196-42E9-A81B-FA2CE275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C803F-5A2C-4F6C-9217-2A7EF8C9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6D96-E921-486A-B592-82D1E206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0627-5BBF-4D8B-8A8F-4DA024EE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15DD0-8FAB-4620-AD6B-34A76EA2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A8F-ED7B-4487-89FE-83A12D8A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FD34C-0CBB-4666-BEA4-15EA54AC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A9CAA-794B-41F0-9ECF-A9297A97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33FD-38F4-4C6F-B9CB-E8E579D0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7F0DD-09A3-4CBB-B4CE-2C94F85D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B68B4-39CD-49CB-90C1-4DAF510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22248-C055-4DF5-96A3-00A3F8E0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5483-364A-4153-A799-FB10916C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63168-88D5-45A5-BA1D-60D65091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96B19-2C85-493B-8941-B834BEA0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0761A-5694-4BB5-8D2E-204B531A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8F91-6714-4103-822E-82421BED16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17FF-BE73-4FBA-8C69-30816AF1021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9391-62D2-4EAA-A077-6D371A7425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F4B9-959D-49C6-AB56-F96C696CBB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4D49-64FA-4F0A-BE27-C286F26CC0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6974-BB25-4ED6-900F-957620FDA4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6A46-036A-46BC-A5D9-EC0720DEEB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CD64-6D96-4071-923F-AF2D7E0856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9E6-057B-4493-9AB5-C714EE17ECF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53880" y="1139760"/>
            <a:ext cx="8466120" cy="1517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28400" y="28576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Franklin Gothic Book"/>
              </a:rPr>
              <a:t>Коротко и ясно, оттого и прекрасно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5688000" y="37861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Русская пословиц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4" descr="gallery_2_371_22074.gif"/>
          <p:cNvPicPr/>
          <p:nvPr/>
        </p:nvPicPr>
        <p:blipFill>
          <a:blip r:embed="rId2"/>
          <a:stretch/>
        </p:blipFill>
        <p:spPr>
          <a:xfrm>
            <a:off x="785880" y="4143240"/>
            <a:ext cx="1800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1143000" y="785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Какие получились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2786040" y="228600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785880" y="3071880"/>
            <a:ext cx="77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Здесь и сверкающие, оживлённые улицы, и старинные задумчивые переулки. Здесь сохранились дома пушкинских и лермонтовских времён, уголки литературной и театральной Москвы прошл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214200" y="4287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Трен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"/>
          <p:cNvSpPr/>
          <p:nvPr/>
        </p:nvSpPr>
        <p:spPr>
          <a:xfrm>
            <a:off x="2428920" y="28584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ократить текст за счёт замены прямой речи косвенной (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выделено курсивом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). /Проследите за употреблением личных местоимений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"/>
          <p:cNvSpPr/>
          <p:nvPr/>
        </p:nvSpPr>
        <p:spPr>
          <a:xfrm>
            <a:off x="357120" y="159552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 реке надо всегда прислушиваться ко всяческим звукам. Грозы налетают как-то исподтишка, внезап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Я стоял на якоре у самого лозняка, когда мимо меня торопливо проехал  бакенщик и крикну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Гроза находит. С ветром. Приставайте к лесному берегу, вон – за мысом. Там изба стоит в лесу. Я тоже в ней укрою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Чья изба? – спросил я.- До тех пор я что-то её не заме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Святослава Рихтера, музыканта. А вы разве не знали? Московский музыкант. Жена у него певица. Только фамилию её не выговорю. Трудная в обращении фам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     </a:t>
            </a: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Я не знал об этом и не мог предполагать, что в такой безлюдной глуши поселился наш известный пианист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1071720" y="85716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Какие получились вариант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"/>
          <p:cNvSpPr/>
          <p:nvPr/>
        </p:nvSpPr>
        <p:spPr>
          <a:xfrm>
            <a:off x="2571840" y="257184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571680" y="34290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н предупредил меня, что приближается гроза и посоветовал укрыться в избе, которая стояла в лесу. От бакенщика я узнал, что эта изба принадлежала музыканту Святославу Рихт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1857240" y="100008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2"/>
          <p:cNvSpPr/>
          <p:nvPr/>
        </p:nvSpPr>
        <p:spPr>
          <a:xfrm>
            <a:off x="1214280" y="2500200"/>
            <a:ext cx="73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Перехо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к самостоятельной      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5643720" y="5143680"/>
            <a:ext cx="285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70c0"/>
                </a:solidFill>
                <a:latin typeface="Franklin Gothic Book"/>
              </a:rPr>
              <a:t>Успехов</a:t>
            </a:r>
            <a:r>
              <a:rPr b="0" lang="ru-RU" sz="4800" spc="-1" strike="noStrike">
                <a:solidFill>
                  <a:srgbClr val="0070c0"/>
                </a:solidFill>
                <a:latin typeface="Franklin Gothic Book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5" descr="gallery_2_371_22074.gif"/>
          <p:cNvPicPr/>
          <p:nvPr/>
        </p:nvPicPr>
        <p:blipFill>
          <a:blip r:embed="rId1"/>
          <a:stretch/>
        </p:blipFill>
        <p:spPr>
          <a:xfrm>
            <a:off x="1714680" y="4572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отобрать основное содержание текст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выделить главное в текст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исключить второстепенно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найти факты, которые можно обобщить,      выразить более кратко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заменять синтаксические конструкции синонимичным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облюсти связность текс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480" y="2357280"/>
            <a:ext cx="4190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основное содержание текст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общий смысл (тема, идея) текст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главные мысли основных микротем (абзацы), которые развивают тему реч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1640" y="23572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связность текста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последовательность мыс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связь предложен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428760" y="15717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отраз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5000760" y="157176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трелка вправо 6"/>
          <p:cNvSpPr/>
          <p:nvPr/>
        </p:nvSpPr>
        <p:spPr>
          <a:xfrm rot="7859400">
            <a:off x="2732400" y="1495800"/>
            <a:ext cx="492120" cy="46080"/>
          </a:xfrm>
          <a:prstGeom prst="rightArrow">
            <a:avLst>
              <a:gd name="adj1" fmla="val 100000"/>
              <a:gd name="adj2" fmla="val 4993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трелка вправо 7"/>
          <p:cNvSpPr/>
          <p:nvPr/>
        </p:nvSpPr>
        <p:spPr>
          <a:xfrm rot="3223800">
            <a:off x="5560920" y="1474560"/>
            <a:ext cx="493560" cy="46080"/>
          </a:xfrm>
          <a:prstGeom prst="rightArrow">
            <a:avLst>
              <a:gd name="adj1" fmla="val 100000"/>
              <a:gd name="adj2" fmla="val 4993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84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Ключевые фразы – </a:t>
            </a:r>
            <a:r>
              <a:rPr b="0" lang="ru-RU" sz="4800" spc="-1" strike="noStrike" u="sng">
                <a:solidFill>
                  <a:srgbClr val="c00000"/>
                </a:solidFill>
                <a:uFillTx/>
                <a:latin typeface="Franklin Gothic Book"/>
              </a:rPr>
              <a:t>аргументы автора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c00000"/>
                </a:solidFill>
                <a:uFillTx/>
                <a:latin typeface="Franklin Gothic Book"/>
              </a:rPr>
              <a:t>Основные детали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, выражающие авторскую позицию, основную мысль текста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642960" y="50004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Приёмы сжатия тек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642960" y="2000160"/>
            <a:ext cx="27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ис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3500280" y="292896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6572160" y="392904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357120" y="278604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второстеп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информация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500040" y="3786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избыточная информация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3357720" y="40006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подр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3500280" y="471492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перечисление фактов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9"/>
          <p:cNvSpPr/>
          <p:nvPr/>
        </p:nvSpPr>
        <p:spPr>
          <a:xfrm>
            <a:off x="6286680" y="471492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интаксические  синонимы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857160" y="21420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Языковые приёмы сжа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214200" y="785880"/>
            <a:ext cx="235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ис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2928960" y="785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об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6143760" y="7858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упр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214200" y="1500120"/>
            <a:ext cx="2286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повто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многосло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синон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водные сл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уточняющие, пояснительные констр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фрагменты пред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риторические вопросы, восклиц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6"/>
          <p:cNvSpPr/>
          <p:nvPr/>
        </p:nvSpPr>
        <p:spPr>
          <a:xfrm>
            <a:off x="2428920" y="1428840"/>
            <a:ext cx="342900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однородных членов обобщающим сло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замена гипонима пиронимом (видо-родовые поня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- замена предложения или его части определительным или отрицательным местоимением с обобщающим знач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7"/>
          <p:cNvSpPr/>
          <p:nvPr/>
        </p:nvSpPr>
        <p:spPr>
          <a:xfrm>
            <a:off x="6215040" y="1285920"/>
            <a:ext cx="264312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мена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части текста одним предлож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мена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СПП простым предл-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мена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прямой речи, диалога косвенной реч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-придаточные части СПП – причастным и деепричастным оборо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 замена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части предложения указательным местоим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1"/>
          <p:cNvSpPr/>
          <p:nvPr/>
        </p:nvSpPr>
        <p:spPr>
          <a:xfrm>
            <a:off x="571680" y="50004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Тренин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"/>
          <p:cNvSpPr/>
          <p:nvPr/>
        </p:nvSpPr>
        <p:spPr>
          <a:xfrm>
            <a:off x="3929040" y="357120"/>
            <a:ext cx="56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сключить избыточную информацию (</a:t>
            </a:r>
            <a:r>
              <a:rPr b="0" i="1" lang="ru-RU" sz="2800" spc="-1" strike="noStrike">
                <a:solidFill>
                  <a:srgbClr val="0070c0"/>
                </a:solidFill>
                <a:latin typeface="Franklin Gothic Book"/>
              </a:rPr>
              <a:t>написано</a:t>
            </a:r>
            <a:r>
              <a:rPr b="0" i="1" lang="ru-RU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Franklin Gothic Book"/>
              </a:rPr>
              <a:t>курсивом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), выразить мысль обобщё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"/>
          <p:cNvSpPr/>
          <p:nvPr/>
        </p:nvSpPr>
        <p:spPr>
          <a:xfrm>
            <a:off x="500040" y="25718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Хотя детство моё прошло  в Пятигорске, сам я всё же коренной москвич. В каких бы городах мира я ни бывал, как бы ни восхищался их красотой, Москва остаётся для меня лучшим городом в мире</a:t>
            </a:r>
            <a:r>
              <a:rPr b="0" i="1" lang="ru-RU" sz="2800" spc="-1" strike="noStrike">
                <a:solidFill>
                  <a:srgbClr val="0070c0"/>
                </a:solidFill>
                <a:latin typeface="Franklin Gothic Book"/>
              </a:rPr>
              <a:t>. Идёшь по Москве, по её  площадям, по тихим переулкам и чувствуешь, сердцем своим ощущаешь: это твой город. Он есть у тебя так же, как есть мать, родина, небо над головой, воздух, которым дышишь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"/>
          <p:cNvSpPr/>
          <p:nvPr/>
        </p:nvSpPr>
        <p:spPr>
          <a:xfrm>
            <a:off x="2786040" y="335772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"/>
          <p:cNvSpPr/>
          <p:nvPr/>
        </p:nvSpPr>
        <p:spPr>
          <a:xfrm>
            <a:off x="1357200" y="4143240"/>
            <a:ext cx="678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ranklin Gothic Book"/>
              </a:rPr>
              <a:t>Я ощущаю его сердцем, он есть у меня как мать, как родина, как небо над голо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1571760" y="571680"/>
            <a:ext cx="62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Какие получились вариа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1"/>
          <p:cNvSpPr/>
          <p:nvPr/>
        </p:nvSpPr>
        <p:spPr>
          <a:xfrm>
            <a:off x="428760" y="785880"/>
            <a:ext cx="19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Трен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"/>
          <p:cNvSpPr/>
          <p:nvPr/>
        </p:nvSpPr>
        <p:spPr>
          <a:xfrm>
            <a:off x="2928960" y="714240"/>
            <a:ext cx="62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сключить  поясняющие примеры (</a:t>
            </a:r>
            <a:r>
              <a:rPr b="0" i="1" lang="ru-RU" sz="3200" spc="-1" strike="noStrike">
                <a:solidFill>
                  <a:srgbClr val="0070c0"/>
                </a:solidFill>
                <a:latin typeface="Franklin Gothic Book"/>
              </a:rPr>
              <a:t>написано курсивом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"/>
          <p:cNvSpPr/>
          <p:nvPr/>
        </p:nvSpPr>
        <p:spPr>
          <a:xfrm>
            <a:off x="500040" y="20001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осква бесконечно разнообразна. </a:t>
            </a: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На её сверкающие, оживлённые улицы спешишь, когда на душе радостно и хочешь побыть среди людей. В старинные задумчивые переулки её идёшь, когда хочется поразмыслить о чём-нибудь. Остаться наедине с собой. Эта Москва задумчива, есть в ней переулки пушкинских и лермонтовских времён. Сохранились до сих пор дома, где бывали великие русские поэты, писатели, композиторы, художники. Сохранились уголки литературной и театральной Москвы прошлого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-  живая история, культура и гордость н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2:07:37Z</dcterms:created>
  <dc:creator>Admin</dc:creator>
  <dc:description/>
  <dc:language>en-US</dc:language>
  <cp:lastModifiedBy>Admin</cp:lastModifiedBy>
  <dcterms:modified xsi:type="dcterms:W3CDTF">2010-10-10T05:45:16Z</dcterms:modified>
  <cp:revision>35</cp:revision>
  <dc:subject/>
  <dc:title>Пишем сжатое изложение.</dc:title>
</cp:coreProperties>
</file>