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949-5C25-4565-9B32-C9FAC8DA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E6F-7947-4146-9B0A-FC8E4687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609-7858-45CE-AF39-F1807169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CCA-898E-4149-8E44-78707546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6FD0-C78F-4DC9-8F8B-0CDB2DAF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BDF8-25FC-41CA-ADC3-BA6DDD3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D67D-870E-4174-BD55-3F5421C5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F8D9-9B81-4FAD-A063-B0ECE91D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1EF4-E309-4DE8-9C51-7C50B99B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85E2-62B6-4449-8BB1-BD7466E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26BC-6567-4201-AD24-195AB6C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CD4-8F98-423E-B1FB-8D86D6A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56CA-CEAC-4DCB-B93C-A9F54B72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AB38-0A7B-4432-A653-1C2033EC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3D64-CC2E-4135-AD83-C0F21D94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D29E-AA40-4C80-9C56-3EC4B6FD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36D-BA4F-4801-836F-0250ACB5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7BC-0D2C-4653-83C8-A0B32964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DBE-E563-4DBE-9BB6-9D4EA5A4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7B9-F0D8-4811-B9E9-7132A138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286-843E-4937-AE9A-FD5AE00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68D-FB78-4244-9C61-F274942B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E6D-0150-451F-BA2F-640D2A0F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D06-783C-4849-B8A3-12C3A46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66E2-675C-4389-B911-CA2E0AA160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9DAF-F277-4C3D-AE5A-58A86EA638E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Рекреационные  ресурс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809880" y="46483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полнила ученица 10 «а» класса МОУ-СОШ №1 р.п. Степное Советского района Саратовской области Журумбаева Менуа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011/2012 учебный год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3657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креация – восстановление здоровья и трудоспособности путем отдыха вне жилища – на зоне природы или во время туристской поездки; рекреация – синоним понятия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"отдых"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4" descr="5927"/>
          <p:cNvPicPr/>
          <p:nvPr/>
        </p:nvPicPr>
        <p:blipFill>
          <a:blip r:embed="rId1"/>
          <a:stretch/>
        </p:blipFill>
        <p:spPr>
          <a:xfrm>
            <a:off x="4343400" y="1295280"/>
            <a:ext cx="4800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екреационные ресурсы выделяются не по особенностям происхождения, а по характеру использования. К ним относятся как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риродны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так и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антропогенны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бъекты и явления, которые можно использовать в целях отдыха, туризма и леч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4" descr="lekiz"/>
          <p:cNvPicPr/>
          <p:nvPr/>
        </p:nvPicPr>
        <p:blipFill>
          <a:blip r:embed="rId1"/>
          <a:stretch/>
        </p:blipFill>
        <p:spPr>
          <a:xfrm>
            <a:off x="0" y="3898800"/>
            <a:ext cx="49528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екреационные ресурсы подразделяются на 4 главных типа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креационно-лечебны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лечение минеральными водам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креационно-оздоровительные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купально-пляжные местност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креационно-спортивные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горнолыжные базы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креационно-познавательны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(исторические памятники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Широко применяются также подразделение рекреационных ресурсов на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иродно-рекреационные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культурно-исторические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д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топримеча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6"/>
          <p:cNvPicPr/>
          <p:nvPr/>
        </p:nvPicPr>
        <p:blipFill>
          <a:blip r:embed="rId1"/>
          <a:stretch/>
        </p:blipFill>
        <p:spPr>
          <a:xfrm>
            <a:off x="2362320" y="3505320"/>
            <a:ext cx="44956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родно-рекреационные ресурс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 ним относятся: морские побережья, берега рек и озёр, горы, лесные массивы, выходы минеральных источников и лечебные грязей. Там отдыхающие и туристы находят наибольшее разнообразие и живописность природных ландшафтов, богатство растительности, целительный климат, хорошие возможности для отдыха, занятий спортом, охотой, рыбной ловлей и д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лавные формы природно-рекреационных территорий – зелёные зоны вокруг больших городов, заповедники, национальные пар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ультурно-исторические достопримечательн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о памятники истории, археологии, архитектуры, искусст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m_5512"/>
          <p:cNvPicPr/>
          <p:nvPr/>
        </p:nvPicPr>
        <p:blipFill>
          <a:blip r:embed="rId1"/>
          <a:stretch/>
        </p:blipFill>
        <p:spPr>
          <a:xfrm>
            <a:off x="609480" y="39625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914400" y="3581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сковский Кремл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8" descr="rus_spb_petergof"/>
          <p:cNvPicPr/>
          <p:nvPr/>
        </p:nvPicPr>
        <p:blipFill>
          <a:blip r:embed="rId2"/>
          <a:stretch/>
        </p:blipFill>
        <p:spPr>
          <a:xfrm>
            <a:off x="5029200" y="3962520"/>
            <a:ext cx="3500280" cy="2625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5029200" y="3352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етергоф под Санкт - Петербурго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наибольшей мере отдыхающих и туристов привлекают такие страны, как Италия, Франция, Испания, Швейцария, Болгария, Индия, Мексика, Египет и т.д.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де богатые природно-рекреационн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есурсы сочетаются с культурно-историческими достопримечательностя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то же относится и к отдельным района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map_europe"/>
          <p:cNvPicPr/>
          <p:nvPr/>
        </p:nvPicPr>
        <p:blipFill>
          <a:blip r:embed="rId1"/>
          <a:stretch/>
        </p:blipFill>
        <p:spPr>
          <a:xfrm>
            <a:off x="1523880" y="2800440"/>
            <a:ext cx="5943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д проектом работала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Журумбаева Менуа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4" descr="podzub1"/>
          <p:cNvPicPr/>
          <p:nvPr/>
        </p:nvPicPr>
        <p:blipFill>
          <a:blip r:embed="rId1"/>
          <a:stretch/>
        </p:blipFill>
        <p:spPr>
          <a:xfrm>
            <a:off x="1371600" y="1905120"/>
            <a:ext cx="3048120" cy="236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odzub2"/>
          <p:cNvPicPr/>
          <p:nvPr/>
        </p:nvPicPr>
        <p:blipFill>
          <a:blip r:embed="rId2"/>
          <a:stretch/>
        </p:blipFill>
        <p:spPr>
          <a:xfrm>
            <a:off x="4648320" y="441972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podzub4"/>
          <p:cNvPicPr/>
          <p:nvPr/>
        </p:nvPicPr>
        <p:blipFill>
          <a:blip r:embed="rId3"/>
          <a:stretch/>
        </p:blipFill>
        <p:spPr>
          <a:xfrm>
            <a:off x="380880" y="4419720"/>
            <a:ext cx="3353040" cy="2133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pechil1"/>
          <p:cNvPicPr/>
          <p:nvPr/>
        </p:nvPicPr>
        <p:blipFill>
          <a:blip r:embed="rId4"/>
          <a:stretch/>
        </p:blipFill>
        <p:spPr>
          <a:xfrm>
            <a:off x="5638680" y="1905120"/>
            <a:ext cx="3124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1-11-25T11:04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