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C76-49D4-4DCC-8D35-937AA83E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3FD-DAC1-49B6-941B-1A5E008D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5B5-E03B-4C68-88CA-6EA360E6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674-9651-4862-B66D-7F6E5220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6026-38E6-4522-9E0B-003C9A6E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C570-063C-4313-925E-C7847887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3D19-40E4-45C1-A00B-9CEAB93C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CD64-1BAD-40E2-BBA9-8875543F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9D05-DDE6-4046-BB63-2D8F33C0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8A41-B470-49CD-B302-EE72A0D5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3322-9A2C-4C7D-9F66-D855950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93C-6462-4C30-9F13-652D9287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F163-48A3-40BC-A949-BE8A59D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83CF-1425-49C5-AFB6-826BFD25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BA29-C726-43E5-9B2B-A2590C41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DC20-7D4D-43B5-AD7A-FC855A3E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D1BD-4CD7-476C-858D-E195E69B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B0E-DA46-4537-B04B-BE27D43F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32E-1E5E-4656-A2D5-04700848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8A9-616C-4EF6-8A43-94DAEA5E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5EC-41C2-4CC1-BF3B-277C0D0F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B3A-8FD3-4DBB-9E49-5B24BF51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2D6-FE40-49E2-A8D2-26E26A1B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4DA-E183-45F0-9F4B-A5EDB27C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793C-2B3A-47F6-ADBE-C19ECDC908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28DC-3AD0-4A9D-B042-03676834EB0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Рекреационные  ресурс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809880" y="46483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полнила ученица 10 «а» класса МОУ-СОШ №1 р.п. Степное Советского района Саратовской области Журумбаева Менуар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011/2012 учебный год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3657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креация – восстановление здоровья и трудоспособности путем отдыха вне жилища – на зоне природы или во время туристской поездки; рекреация – синоним понятия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"отдых"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4" descr="5927"/>
          <p:cNvPicPr/>
          <p:nvPr/>
        </p:nvPicPr>
        <p:blipFill>
          <a:blip r:embed="rId1"/>
          <a:stretch/>
        </p:blipFill>
        <p:spPr>
          <a:xfrm>
            <a:off x="4343400" y="1295280"/>
            <a:ext cx="4800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екреационные ресурсы выделяются не по особенностям происхождения, а по характеру использования. К ним относятся как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риродны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так и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антропогенны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бъекты и явления, которые можно использовать в целях отдыха, туризма и леч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4" descr="lekiz"/>
          <p:cNvPicPr/>
          <p:nvPr/>
        </p:nvPicPr>
        <p:blipFill>
          <a:blip r:embed="rId1"/>
          <a:stretch/>
        </p:blipFill>
        <p:spPr>
          <a:xfrm>
            <a:off x="0" y="3898800"/>
            <a:ext cx="49528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екреационные ресурсы подразделяются на 4 главных типа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креационно-лечебны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(лечение минеральными водам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креационно-оздоровительные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(купально-пляжные местност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креационно-спортивные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(горнолыжные базы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креационно-познавательны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(исторические памятник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Широко применяются также подразделение рекреационных ресурсов на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иродно-рекреационные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культурно-исторические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д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топримеча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6"/>
          <p:cNvPicPr/>
          <p:nvPr/>
        </p:nvPicPr>
        <p:blipFill>
          <a:blip r:embed="rId1"/>
          <a:stretch/>
        </p:blipFill>
        <p:spPr>
          <a:xfrm>
            <a:off x="2362320" y="3505320"/>
            <a:ext cx="44956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родно-рекреационные ресурс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 ним относятся: морские побережья, берега рек и озёр, горы, лесные массивы, выходы минеральных источников и лечебные грязей. Там отдыхающие и туристы находят наибольшее разнообразие и живописность природных ландшафтов, богатство растительности, целительный климат, хорошие возможности для отдыха, занятий спортом, охотой, рыбной ловлей и д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лавные формы природно-рекреационных территорий – зелёные зоны вокруг больших городов, заповедники, национальные пар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ультурно-исторические достопримечательн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Это памятники истории, археологии, архитектуры, искусст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m_5512"/>
          <p:cNvPicPr/>
          <p:nvPr/>
        </p:nvPicPr>
        <p:blipFill>
          <a:blip r:embed="rId1"/>
          <a:stretch/>
        </p:blipFill>
        <p:spPr>
          <a:xfrm>
            <a:off x="609480" y="39625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914400" y="3581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сковский Кремл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8" descr="rus_spb_petergof"/>
          <p:cNvPicPr/>
          <p:nvPr/>
        </p:nvPicPr>
        <p:blipFill>
          <a:blip r:embed="rId2"/>
          <a:stretch/>
        </p:blipFill>
        <p:spPr>
          <a:xfrm>
            <a:off x="5029200" y="3962520"/>
            <a:ext cx="3500280" cy="2625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5029200" y="3352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етергоф под Санкт - Петербурго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наибольшей мере отдыхающих и туристов привлекают такие страны, как Италия, Франция, Испания, Швейцария, Болгария, Индия, Мексика, Египет и т.д.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де богатые природно-рекреационн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есурсы сочетаются с культурно-историческими достопримечательностя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Это же относится и к отдельным района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map_europe"/>
          <p:cNvPicPr/>
          <p:nvPr/>
        </p:nvPicPr>
        <p:blipFill>
          <a:blip r:embed="rId1"/>
          <a:stretch/>
        </p:blipFill>
        <p:spPr>
          <a:xfrm>
            <a:off x="1523880" y="2800440"/>
            <a:ext cx="5943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д проектом работала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Журумбаева Менуа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podzub1"/>
          <p:cNvPicPr/>
          <p:nvPr/>
        </p:nvPicPr>
        <p:blipFill>
          <a:blip r:embed="rId1"/>
          <a:stretch/>
        </p:blipFill>
        <p:spPr>
          <a:xfrm>
            <a:off x="1371600" y="1905120"/>
            <a:ext cx="3048120" cy="236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odzub2"/>
          <p:cNvPicPr/>
          <p:nvPr/>
        </p:nvPicPr>
        <p:blipFill>
          <a:blip r:embed="rId2"/>
          <a:stretch/>
        </p:blipFill>
        <p:spPr>
          <a:xfrm>
            <a:off x="4648320" y="441972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podzub4"/>
          <p:cNvPicPr/>
          <p:nvPr/>
        </p:nvPicPr>
        <p:blipFill>
          <a:blip r:embed="rId3"/>
          <a:stretch/>
        </p:blipFill>
        <p:spPr>
          <a:xfrm>
            <a:off x="380880" y="4419720"/>
            <a:ext cx="3353040" cy="2133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echil1"/>
          <p:cNvPicPr/>
          <p:nvPr/>
        </p:nvPicPr>
        <p:blipFill>
          <a:blip r:embed="rId4"/>
          <a:stretch/>
        </p:blipFill>
        <p:spPr>
          <a:xfrm>
            <a:off x="5638680" y="1905120"/>
            <a:ext cx="3124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1-11-25T11:04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