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11.jpeg" ContentType="image/jpeg"/>
  <Override PartName="/ppt/media/image4.wmf" ContentType="image/x-wmf"/>
  <Override PartName="/ppt/media/%D0%97%D0%B8%D0%BC%D0%B0.wav" ContentType="audio/x-wav"/>
  <Override PartName="/ppt/media/image9.jpeg" ContentType="image/jpeg"/>
  <Override PartName="/ppt/media/image10.jpeg" ContentType="image/jpeg"/>
  <Override PartName="/ppt/media/image30.png" ContentType="image/png"/>
  <Override PartName="/ppt/media/image31.png" ContentType="image/png"/>
  <Override PartName="/ppt/media/image32.png" ContentType="image/png"/>
  <Override PartName="/ppt/media/image22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1.wmf" ContentType="image/x-wmf"/>
  <Override PartName="/ppt/media/image13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88E-2896-48F6-8C40-6620FD5B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290-FF51-4D20-A0FB-8C5D38C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30C-7DD7-474E-A063-7196B52B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E3E-9B16-4056-908A-85A97CA0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4E9-5E99-47F0-8454-D6F6DFE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B88-171D-4AE4-99F9-93CC357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231-7FD9-4F84-BFD5-45B0DF2F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681-0ABE-4332-86B6-1194335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32F-2481-4539-B741-1496D3F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60F-31E8-4A79-BFB8-80F8871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362-A86D-4C18-95D9-253475F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E11-395D-4C09-8E9F-C75D64E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2B7-F52A-4B10-9AEA-939646F0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1.wmf"/><Relationship Id="rId9" Type="http://schemas.openxmlformats.org/officeDocument/2006/relationships/image" Target="../media/image8.wmf"/><Relationship Id="rId10" Type="http://schemas.openxmlformats.org/officeDocument/2006/relationships/audio" Target="../media/&#1047;&#1080;&#1084;&#1072;.wav"/><Relationship Id="rId1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4856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2205000"/>
            <a:ext cx="604836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657360" cy="67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32000" y="404640"/>
            <a:ext cx="727200" cy="73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54432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95640" y="5589720"/>
            <a:ext cx="72576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148360" y="981000"/>
            <a:ext cx="7142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867280" y="4724280"/>
            <a:ext cx="611280" cy="62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524720" y="765000"/>
            <a:ext cx="611280" cy="641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596360" y="5084640"/>
            <a:ext cx="657000" cy="67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556000" y="4653000"/>
            <a:ext cx="544320" cy="523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тям о з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717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8%D0%BC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Зимой очень краси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има в лесу (Иней)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36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Admin\Рабочий стол\9k.jpg"/>
          <p:cNvPicPr/>
          <p:nvPr/>
        </p:nvPicPr>
        <p:blipFill>
          <a:blip r:embed="rId2"/>
          <a:stretch/>
        </p:blipFill>
        <p:spPr>
          <a:xfrm>
            <a:off x="762120" y="1600200"/>
            <a:ext cx="34290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ки сели на карниз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растут все время вниз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2205000"/>
            <a:ext cx="4038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Monotype Corsiva"/>
              </a:rPr>
              <a:t>Снег - это много, очень много красивых снежинок. Они падают и падают с высоты на землю, на деревья, на крыши домов - чистые, хрупкие, сверкающие.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160800" cy="2186280"/>
          </a:xfrm>
          <a:prstGeom prst="rect">
            <a:avLst/>
          </a:prstGeom>
          <a:ln w="0">
            <a:noFill/>
          </a:ln>
        </p:spPr>
      </p:pic>
      <p:pic>
        <p:nvPicPr>
          <p:cNvPr id="56" name="010602-a080" descr=""/>
          <p:cNvPicPr/>
          <p:nvPr/>
        </p:nvPicPr>
        <p:blipFill>
          <a:blip r:embed="rId2"/>
          <a:stretch/>
        </p:blipFill>
        <p:spPr>
          <a:xfrm>
            <a:off x="2771640" y="98100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57" name="011902-a133a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006720" cy="3573360"/>
          </a:xfrm>
          <a:prstGeom prst="rect">
            <a:avLst/>
          </a:prstGeom>
          <a:ln w="0">
            <a:noFill/>
          </a:ln>
        </p:spPr>
      </p:pic>
      <p:pic>
        <p:nvPicPr>
          <p:cNvPr id="58" name="020202-a092" descr=""/>
          <p:cNvPicPr/>
          <p:nvPr/>
        </p:nvPicPr>
        <p:blipFill>
          <a:blip r:embed="rId4"/>
          <a:stretch/>
        </p:blipFill>
        <p:spPr>
          <a:xfrm>
            <a:off x="5580000" y="3429000"/>
            <a:ext cx="3564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011902-c083" descr=""/>
          <p:cNvPicPr/>
          <p:nvPr/>
        </p:nvPicPr>
        <p:blipFill>
          <a:blip r:embed="rId5"/>
          <a:stretch/>
        </p:blipFill>
        <p:spPr>
          <a:xfrm>
            <a:off x="5724360" y="981000"/>
            <a:ext cx="341964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122701-063b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808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103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нежинки медленно-медленно опускаются, они собираются хлопьями и падают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74932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2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_15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849480" cy="6337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259920"/>
            <a:ext cx="4171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Мир вокруг нас необыкновенно удивителен. Давайте вместе находить волшебство в привычных для нас вещах, давайте учиться видеть красоту и чувствовать её в своей душ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Поймайте на ладонь снежинку, рассмотрите её. Какой великий волшебник смог создать столь совершенную форму?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Маленькое чудо – на вашей ладошк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Раз – и нет его. Ладошка тёплая – вот снежинка и растаяла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Посмотрите вокруг: как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 куличик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Надюха зимой 1" descr=""/>
          <p:cNvPicPr/>
          <p:nvPr/>
        </p:nvPicPr>
        <p:blipFill>
          <a:blip r:embed="rId1"/>
          <a:stretch/>
        </p:blipFill>
        <p:spPr>
          <a:xfrm>
            <a:off x="2739960" y="1600200"/>
            <a:ext cx="36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негов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зима" descr=""/>
          <p:cNvPicPr/>
          <p:nvPr/>
        </p:nvPicPr>
        <p:blipFill>
          <a:blip r:embed="rId1"/>
          <a:stretch/>
        </p:blipFill>
        <p:spPr>
          <a:xfrm>
            <a:off x="2104920" y="1600200"/>
            <a:ext cx="49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 снегов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_325_960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вот скульпторы могут лепить из снега просто фантастические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now_zar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08360" cy="5329440"/>
          </a:xfrm>
          <a:prstGeom prst="rect">
            <a:avLst/>
          </a:prstGeom>
          <a:ln w="0">
            <a:noFill/>
          </a:ln>
        </p:spPr>
      </p:pic>
      <p:pic>
        <p:nvPicPr>
          <p:cNvPr id="75" name="newyear16" descr=""/>
          <p:cNvPicPr/>
          <p:nvPr/>
        </p:nvPicPr>
        <p:blipFill>
          <a:blip r:embed="rId2"/>
          <a:stretch/>
        </p:blipFill>
        <p:spPr>
          <a:xfrm>
            <a:off x="5208480" y="1197000"/>
            <a:ext cx="3467160" cy="2589120"/>
          </a:xfrm>
          <a:prstGeom prst="rect">
            <a:avLst/>
          </a:prstGeom>
          <a:ln w="0">
            <a:noFill/>
          </a:ln>
        </p:spPr>
      </p:pic>
      <p:pic>
        <p:nvPicPr>
          <p:cNvPr id="76" name="snezhnaja_skulptura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35402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33:25Z</dcterms:created>
  <dc:creator>Пользователь</dc:creator>
  <dc:description/>
  <dc:language>en-US</dc:language>
  <cp:lastModifiedBy>Пользователь</cp:lastModifiedBy>
  <dcterms:modified xsi:type="dcterms:W3CDTF">2003-12-31T22:17:56Z</dcterms:modified>
  <cp:revision>2</cp:revision>
  <dc:subject/>
  <dc:title>Детям о зиме.</dc:title>
</cp:coreProperties>
</file>