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3FD-99B9-4CF5-9EE3-CD50D9BA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339-0755-4C32-875C-2088B689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5B2-2950-4175-82AF-DC8DEB09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CA5-D998-46D5-9A9F-930D2768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9B87-CECD-41F1-8835-BAD8F907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C11C-53CF-4CF3-8D9D-F9958553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B5DE-0CA1-48DE-AFEA-12243A9B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D709-F035-49B6-B31F-A2C0D31F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A161-F648-4A29-9E2E-59F8939E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8E33-A098-4C0F-9A71-C6CA09B4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73E9-2944-4B0C-B879-9DA794ED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466-E17F-477C-BC22-034E0593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4CF7-1FB4-49EF-9E10-9EA3686F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930F-4C64-4557-BDC9-795DFE93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FFD7-440F-4772-92B5-FAEDF086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67E5-8AD3-4088-9F6E-D348836F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AA66-7DC8-45EB-9881-46C5A61D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DF6-76AD-42BC-818D-3C18C19A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598-7EAB-4E33-90A0-B57006A4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802-3ED1-4A0E-AED9-97E4B767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48D-C719-449E-B3A9-C0E4EF5B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5F3-C880-4013-8CE8-BD0BC1E5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BC0-CDFB-407B-A852-8A3EBD23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8B9-A088-4138-8B4E-79823255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D2BC-0C34-4188-84C2-C252FCF3780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8544-2F3B-42B8-A65D-F4ECE026C5F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Garamond"/>
              </a:rPr>
              <a:t>ГИА. Сочинение-рассуждение по прочитанному тексту. С 2.2.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жко О.В. ОУ СОШ 254,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Garamond"/>
              </a:rPr>
              <a:t>Памятка «Как построить сочинение-рассуждение по прочитанному тексту?» (С 2.2)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тупление к сочинению может быть небольшим (до 3-х предложений), но интересным, привлекающим внимание. Вступление можно писать на сразу, а после написания  в черновике основной части. Основные типы вступлений: - вопрос по теме или риторический; - интересное наблюдение; - высказывания знаменитых людей, пословицы; - восклицание и другие типы. Вступление может отсутствоват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зис может быть объединен со вступлением. От того, насколько правильно сформулирован тезис, будет зависеть  ход написания всей работы. Помните, что тексты для сжатого изложения и  сочинения объединены темой. Если вы правильно поняли тему и идею прослушанного текста, то вам нетрудно будет понять содержание прочитанного текс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ргументация. От тезиса к аргументации (обоснованию) можно перейти, используя фразу «Докажем это, обратившись к тексту (автор)». Каждый аргумент должен сопровождаться примером (лучше цитировать текст) и начинаться с красной строк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канчивается работа выводом, который не должен повторить тезис. Если повторяющаяся мысль и прозвучит, то это должно быть сделано другими словами и в обобщенном виде. Лучше, когда вывод представляет собой миниоткрытие, сделанное автором сочинения к концу рабо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Garamond"/>
              </a:rPr>
              <a:t>Шаблон С 2.2 ( шаблон не является чем-то обязательным, он рекомендован тем ученикам, который формулируют свои мысли несвободно):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Вступление и тезис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инал текста (автор) какой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казался мне (каким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Что может означать многоточие (восклицательный знак, вопросительный знак) в конце последней фразы? По-моему, автор приглашает нас задуматься и понять героя: (далее следует 1-2 предложения, которые характеризуют героя или героиню текста, выделяются, как правило, главные черты, наиболее яркие, проявленные в описанной ситуации). Докажем это, обратимся к текст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Garamond"/>
              </a:rPr>
              <a:t>Обоснование (аргументы (2) и примеры (2)):</a:t>
            </a: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о-первых, (следуют аргумент, пример из текста и промежуточный вывод, умозаключение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Чтобы выбрать первый аргумент,  обратите внимание на то, как ведет себя герой в общении с другими людьми,   прокомментируйте, проанализируйте свои наблюдения. Возможно, автор даст портретную характеристику главного героя (чаще это подросток, характер и мировоззрение которого только формируются). Следите за средствами художественной выразительности (эпитетами, метафорами  и др. – эти тропы помогут понять авторское отношение к герою). Наблюдайте за повторяющимися («перекликающимися») словами, которые имеют отношение к пониманию характера героя и той ситуации, в которой герой оказывае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Можно действовать и по-другому: найти то предложение в тексте, которое, по-вашему мнению, является наиболее важным (оно должно помочь вам понять характер героя). Это будет пример, а потом уже сформулировать  к примеру аргумен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о-вторых, (следуют аргумент, пример из текста и промежуточный вывод, умозаключение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Второй аргумент по теме и логически должен быть связан с первым. Проследите за тем, как автор раскрывает характер своего героя. Отметьте новые черты, которые обычно раскрываются в момент кульминации. Или найдите то предложение, которое вам даст возможность окончательно понять суть характера героя или его мировоззрение. Помните, что второй аргумент доказывает тот же тезис (чаще возвращайтесь к тезису, смотрите, не прервалась ли нить, связывающая тезис и аргумен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Garamond"/>
              </a:rPr>
              <a:t>Вывод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так, все основное, что мы узнали о главном герое в тексте, (автор)  обобщил в выразительном финале: (подводится итог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Таким образом, мы понимаем, что автор симпатизирует герою. Для читателя (герой) становится примером …………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ногда в выводе становится уместным повторить финальную фразу (если логика мысли, конечно, вас к этому приведет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омните, вывод не должен стать чем-то неожиданным, противоречащим всему, что было написано ранее. Лучше, чтобы вывод звучал как маленькое открытие, которые вы сделали для себя после детального прочтения нового текс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Garamond"/>
              </a:rPr>
              <a:t>Примерная работа на уроке «Подготовка к написанию сочинения-рассуждения по прочитанному тексту»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 Целеполага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 Чтение учащимися текста и задания к нем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. Обращение к критериям оценки части С2.2 в ГИ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4. Вопросы на восприятие текста и заполнение таблицы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определите тему текс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коротко изложите сюжет (обычно на экзамене предлагается текст, являющийся отрывком из рассказа или повест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попробуйте сформулировать идею отрывк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прочитайте текст еще раз с карандашом, отмечайте все то, что может помочь вам охарактеризовать героя: портрет, настроение, внутреннее состояние, поведение, поступки, желания, мысли, речь, поведение в общении с другими людьми(часто это родители или друзья), тропы (за ними может скрываться авторское отношение к герою и к той ситуации, в которой он оказался), повторяющиеся ( перекликающиеся) сл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 помогите ученикам сформулировать идею текста окончательн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помогите ученикам систематизировать отобранный материал (например, это можно сделать в виде таблицы). Таблица приводится условная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Garamond"/>
              </a:rPr>
              <a:t>Систематизация материала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ачал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ч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е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5. Учащиеся получают </a:t>
            </a:r>
            <a:r>
              <a:rPr b="1" lang="ru-RU" sz="1700" spc="-1" strike="noStrike">
                <a:solidFill>
                  <a:srgbClr val="006633"/>
                </a:solidFill>
                <a:latin typeface="Garamond"/>
              </a:rPr>
              <a:t>опорные схемы</a:t>
            </a: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 и заполняют их.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1.Тезис (проблема, требующая решения)</a:t>
            </a:r>
            <a:br>
              <a:rPr sz="1700"/>
            </a:br>
            <a:r>
              <a:rPr b="1" i="1" lang="ru-RU" sz="1700" spc="-1" strike="noStrike">
                <a:solidFill>
                  <a:srgbClr val="006633"/>
                </a:solidFill>
                <a:latin typeface="Garamond"/>
              </a:rPr>
              <a:t>Мне кажется,…</a:t>
            </a:r>
            <a:br>
              <a:rPr sz="1700"/>
            </a:br>
            <a:r>
              <a:rPr b="1" i="1" lang="ru-RU" sz="1700" spc="-1" strike="noStrike">
                <a:solidFill>
                  <a:srgbClr val="006633"/>
                </a:solidFill>
                <a:latin typeface="Garamond"/>
              </a:rPr>
              <a:t>Я согласен,…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    </a:t>
            </a:r>
            <a:r>
              <a:rPr b="0" lang="en-US" sz="1700" spc="-1" strike="noStrike">
                <a:solidFill>
                  <a:srgbClr val="006633"/>
                </a:solidFill>
                <a:latin typeface="Garamond"/>
              </a:rPr>
              <a:t>II</a:t>
            </a: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. Аргументация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Аргументы Примеры (предложения из текста)</a:t>
            </a:r>
            <a:br>
              <a:rPr sz="1700"/>
            </a:br>
            <a:r>
              <a:rPr b="1" i="1" lang="ru-RU" sz="1700" spc="-1" strike="noStrike">
                <a:solidFill>
                  <a:srgbClr val="006633"/>
                </a:solidFill>
                <a:latin typeface="Garamond"/>
              </a:rPr>
              <a:t>Во-первых,….</a:t>
            </a:r>
            <a:br>
              <a:rPr sz="1700"/>
            </a:br>
            <a:r>
              <a:rPr b="1" i="1" lang="ru-RU" sz="1700" spc="-1" strike="noStrike">
                <a:solidFill>
                  <a:srgbClr val="006633"/>
                </a:solidFill>
                <a:latin typeface="Garamond"/>
              </a:rPr>
              <a:t>Во-вторых,…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Вывод.</a:t>
            </a:r>
            <a:br>
              <a:rPr sz="1700"/>
            </a:br>
            <a:r>
              <a:rPr b="1" i="1" lang="ru-RU" sz="1700" spc="-1" strike="noStrike">
                <a:solidFill>
                  <a:srgbClr val="006633"/>
                </a:solidFill>
                <a:latin typeface="Garamond"/>
              </a:rPr>
              <a:t>Таким образом,…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6. Оформляется черновик. Далее работами можно обменяться и проверить их друг у друга по критериям. (Так ребята могут научиться находить то, чего не хватает в их собственной работе).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7. Окончательное оформление работ( или зачитывание).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Garamond"/>
              </a:rPr>
              <a:t>Ученическая работа по тексту А.Алексина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трывок из текста А.Алексина заканчивается фразами: « В тот день мне тоже было неясно, кем я в будущем стану. «Но как это здорово, - думал я, - выйти из операционной, увидеть глаза матери, которые остановились от страха и ожидания, устало так улыбнуться и тихо сказать: «Он будет жив… и здоров. Не волнуйтесь…» Эти слова натолкнули меня на следующие размыш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Герой рассказа мальчик необычный. Узнав о проблеме Игнатия, он переживает за него, как и все его родные. Мальчик просит позвонить и сообщить ему, как только будет известно болеет ли Игнатий. Мальчик способен к состраданию (предложение 27,28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Когда наконец позвонил папа и сказал, что у Игнатия «этого нет», мальчик был искренне счастлив. И герой рассказа был очень рад рассказать об этом бедной женщине, матери Игната: «Он будет жив и здоров! Этого у него нет! Точно установили! Этого нет. Клянусь своим здоровьем!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Действительно, мальчик еще не решил, кем он хочет стать. Но каждому человеку хотелось бы делать кого-то счастливым. Врачи прилагают все свои силы, чтобы человек стал здоровым и его близкие вместе с ним радовались жизн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очка</cp:lastModifiedBy>
  <dcterms:modified xsi:type="dcterms:W3CDTF">2011-11-26T18:55:0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