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E05B-FF8E-418C-97C4-2347E8B1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3D99-8140-4E2A-8AC3-1FB7711B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E280-221C-43EB-B7AD-3F4E24CA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0B1E-CBE5-4700-96BA-0DAC868D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FE33-5669-49E3-9A57-295C5952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9D82-D94A-4B44-A866-59DAB361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09AA-5760-4A9C-9E0E-867B3E98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BCBA-6E88-4A96-8567-4337CCF8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9328-74DB-49D7-9624-52F8DDBA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2580-0F5A-4DB3-AA14-7A19A1FA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CDAC-7683-4064-B114-F7F6EC2D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B890-36FC-4CB2-ACD1-05BC6E62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BD7E-5742-4E71-9BEF-6773646D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E657-7262-4BDB-93BA-64A7F972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0CE2-6CE7-4B50-9674-651C02C1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4097-7BAE-4444-8E1A-621FE881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746E-2326-4E10-85B2-DAE398AF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3A56-3EF1-4020-82B7-470586F4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D5B5-7C1F-4E6A-A880-07D0196A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2A4A-060E-4C3F-9893-3D988B32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57A3-8D00-4A37-959C-F33DBB56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E84A-40C0-450C-8249-F5A967F1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A5D2-109D-4D54-A8A4-AD097520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BB4-264F-4A63-950F-CBA2249C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5CD1-2896-42B5-BA6D-2E5C228DDFA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AE91-82E0-4D4F-85FE-B325C80AFF9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Garamond"/>
              </a:rPr>
              <a:t>ГИА. Сочинение-рассуждение по прочитанному тексту. С 2.2.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жко О.В. ОУ СОШ 254,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Garamond"/>
              </a:rPr>
              <a:t>Памятка «Как построить сочинение-рассуждение по прочитанному тексту?» (С 2.2)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ступление к сочинению может быть небольшим (до 3-х предложений), но интересным, привлекающим внимание. Вступление можно писать на сразу, а после написания  в черновике основной части. Основные типы вступлений: - вопрос по теме или риторический; - интересное наблюдение; - высказывания знаменитых людей, пословицы; - восклицание и другие типы. Вступление может отсутствовать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езис может быть объединен со вступлением. От того, насколько правильно сформулирован тезис, будет зависеть  ход написания всей работы. Помните, что тексты для сжатого изложения и  сочинения объединены темой. Если вы правильно поняли тему и идею прослушанного текста, то вам нетрудно будет понять содержание прочитанного текс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ргументация. От тезиса к аргументации (обоснованию) можно перейти, используя фразу «Докажем это, обратившись к тексту (автор)». Каждый аргумент должен сопровождаться примером (лучше цитировать текст) и начинаться с красной строк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аканчивается работа выводом, который не должен повторить тезис. Если повторяющаяся мысль и прозвучит, то это должно быть сделано другими словами и в обобщенном виде. Лучше, когда вывод представляет собой миниоткрытие, сделанное автором сочинения к концу работ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Garamond"/>
              </a:rPr>
              <a:t>Шаблон С 2.2 ( шаблон не является чем-то обязательным, он рекомендован тем ученикам, который формулируют свои мысли несвободно):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Arial"/>
              </a:rPr>
              <a:t>Вступление и тезис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Финал текста (автор) какой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казался мне (каким?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Что может означать многоточие (восклицательный знак, вопросительный знак) в конце последней фразы? По-моему, автор приглашает нас задуматься и понять героя: (далее следует 1-2 предложения, которые характеризуют героя или героиню текста, выделяются, как правило, главные черты, наиболее яркие, проявленные в описанной ситуации). Докажем это, обратимся к текст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Garamond"/>
              </a:rPr>
              <a:t>Обоснование (аргументы (2) и примеры (2)):</a:t>
            </a: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о-первых, (следуют аргумент, пример из текста и промежуточный вывод, умозаключение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Чтобы выбрать первый аргумент,  обратите внимание на то, как ведет себя герой в общении с другими людьми,   прокомментируйте, проанализируйте свои наблюдения. Возможно, автор даст портретную характеристику главного героя (чаще это подросток, характер и мировоззрение которого только формируются). Следите за средствами художественной выразительности (эпитетами, метафорами  и др. – эти тропы помогут понять авторское отношение к герою). Наблюдайте за повторяющимися («перекликающимися») словами, которые имеют отношение к пониманию характера героя и той ситуации, в которой герой оказывае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Можно действовать и по-другому: найти то предложение в тексте, которое, по-вашему мнению, является наиболее важным (оно должно помочь вам понять характер героя). Это будет пример, а потом уже сформулировать  к примеру аргумен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о-вторых, (следуют аргумент, пример из текста и промежуточный вывод, умозаключение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торой аргумент по теме и логически должен быть связан с первым. Проследите за тем, как автор раскрывает характер своего героя. Отметьте новые черты, которые обычно раскрываются в момент кульминации. Или найдите то предложение, которое вам даст возможность окончательно понять суть характера героя или его мировоззрение. Помните, что второй аргумент доказывает тот же тезис (чаще возвращайтесь к тезису, смотрите, не прервалась ли нить, связывающая тезис и аргумен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Garamond"/>
              </a:rPr>
              <a:t>Вывод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Итак, все основное, что мы узнали о главном герое в тексте, (автор)  обобщил в выразительном финале: (подводится итог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Таким образом, мы понимаем, что автор симпатизирует герою. Для читателя (герой) становится примером …………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Иногда в выводе становится уместным повторить финальную фразу (если логика мысли, конечно, вас к этому приведет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омните, вывод не должен стать чем-то неожиданным, противоречащим всему, что было написано ранее. Лучше, чтобы вывод звучал как маленькое открытие, которые вы сделали для себя после детального прочтения нового текст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Garamond"/>
              </a:rPr>
              <a:t>Примерная работа на уроке «Подготовка к написанию сочинения-рассуждения по прочитанному тексту»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 Целеполага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 Чтение учащимися текста и задания к нем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3. Обращение к критериям оценки части С2.2 в ГИ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4. Вопросы на восприятие текста и заполнение таблицы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определите тему текс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коротко изложите сюжет (обычно на экзамене предлагается текст, являющийся отрывком из рассказа или повест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попробуйте сформулировать идею отрывк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прочитайте текст еще раз с карандашом, отмечайте все то, что может помочь вам охарактеризовать героя: портрет, настроение, внутреннее состояние, поведение, поступки, желания, мысли, речь, поведение в общении с другими людьми(часто это родители или друзья), тропы (за ними может скрываться авторское отношение к герою и к той ситуации, в которой он оказался), повторяющиеся ( перекликающиеся) сло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 помогите ученикам сформулировать идею текста окончательн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помогите ученикам систематизировать отобранный материал (например, это можно сделать в виде таблицы). Таблица приводится условная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Garamond"/>
              </a:rPr>
              <a:t>Систематизация материала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ачал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ьчи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е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5. Учащиеся получают </a:t>
            </a:r>
            <a:r>
              <a:rPr b="1" lang="ru-RU" sz="1700" spc="-1" strike="noStrike">
                <a:solidFill>
                  <a:srgbClr val="006633"/>
                </a:solidFill>
                <a:latin typeface="Garamond"/>
              </a:rPr>
              <a:t>опорные схемы</a:t>
            </a: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 и заполняют их.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1.Тезис (проблема, требующая решения)</a:t>
            </a:r>
            <a:br>
              <a:rPr sz="1700"/>
            </a:br>
            <a:r>
              <a:rPr b="1" i="1" lang="ru-RU" sz="1700" spc="-1" strike="noStrike">
                <a:solidFill>
                  <a:srgbClr val="006633"/>
                </a:solidFill>
                <a:latin typeface="Garamond"/>
              </a:rPr>
              <a:t>Мне кажется,…</a:t>
            </a:r>
            <a:br>
              <a:rPr sz="1700"/>
            </a:br>
            <a:r>
              <a:rPr b="1" i="1" lang="ru-RU" sz="1700" spc="-1" strike="noStrike">
                <a:solidFill>
                  <a:srgbClr val="006633"/>
                </a:solidFill>
                <a:latin typeface="Garamond"/>
              </a:rPr>
              <a:t>Я согласен,…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    </a:t>
            </a:r>
            <a:r>
              <a:rPr b="0" lang="en-US" sz="1700" spc="-1" strike="noStrike">
                <a:solidFill>
                  <a:srgbClr val="006633"/>
                </a:solidFill>
                <a:latin typeface="Garamond"/>
              </a:rPr>
              <a:t>II</a:t>
            </a: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. Аргументация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Аргументы Примеры (предложения из текста)</a:t>
            </a:r>
            <a:br>
              <a:rPr sz="1700"/>
            </a:br>
            <a:r>
              <a:rPr b="1" i="1" lang="ru-RU" sz="1700" spc="-1" strike="noStrike">
                <a:solidFill>
                  <a:srgbClr val="006633"/>
                </a:solidFill>
                <a:latin typeface="Garamond"/>
              </a:rPr>
              <a:t>Во-первых,….</a:t>
            </a:r>
            <a:br>
              <a:rPr sz="1700"/>
            </a:br>
            <a:r>
              <a:rPr b="1" i="1" lang="ru-RU" sz="1700" spc="-1" strike="noStrike">
                <a:solidFill>
                  <a:srgbClr val="006633"/>
                </a:solidFill>
                <a:latin typeface="Garamond"/>
              </a:rPr>
              <a:t>Во-вторых,…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Вывод.</a:t>
            </a:r>
            <a:br>
              <a:rPr sz="1700"/>
            </a:br>
            <a:r>
              <a:rPr b="1" i="1" lang="ru-RU" sz="1700" spc="-1" strike="noStrike">
                <a:solidFill>
                  <a:srgbClr val="006633"/>
                </a:solidFill>
                <a:latin typeface="Garamond"/>
              </a:rPr>
              <a:t>Таким образом,…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6. Оформляется черновик. Далее работами можно обменяться и проверить их друг у друга по критериям. (Так ребята могут научиться находить то, чего не хватает в их собственной работе).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7. Окончательное оформление работ( или зачитывание).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Garamond"/>
              </a:rPr>
              <a:t>Ученическая работа по тексту А.Алексина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трывок из текста А.Алексина заканчивается фразами: « В тот день мне тоже было неясно, кем я в будущем стану. «Но как это здорово, - думал я, - выйти из операционной, увидеть глаза матери, которые остановились от страха и ожидания, устало так улыбнуться и тихо сказать: «Он будет жив… и здоров. Не волнуйтесь…» Эти слова натолкнули меня на следующие размыш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Герой рассказа мальчик необычный. Узнав о проблеме Игнатия, он переживает за него, как и все его родные. Мальчик просит позвонить и сообщить ему, как только будет известно болеет ли Игнатий. Мальчик способен к состраданию (предложение 27,28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Когда наконец позвонил папа и сказал, что у Игнатия «этого нет», мальчик был искренне счастлив. И герой рассказа был очень рад рассказать об этом бедной женщине, матери Игната: «Он будет жив и здоров! Этого у него нет! Точно установили! Этого нет. Клянусь своим здоровьем!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Действительно, мальчик еще не решил, кем он хочет стать. Но каждому человеку хотелось бы делать кого-то счастливым. Врачи прилагают все свои силы, чтобы человек стал здоровым и его близкие вместе с ним радовались жизн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ксаночка</cp:lastModifiedBy>
  <dcterms:modified xsi:type="dcterms:W3CDTF">2011-11-26T18:55:05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