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4E18-190D-4C82-92CA-FF301CE0E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E8F2-F0F9-463D-9F01-26FCCDAEB3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DC5-A749-4FB3-ACDA-E4ABF852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96A-26AE-46B8-8521-058BB0A5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DA7-1DFF-4DF1-8D8D-4A9A6EC3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F8F-1A6C-4631-996A-0AADC303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4B7-21D6-4673-B22A-54B1A8E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2A6-2A6B-4119-9F09-5637F24E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2AC-710C-4A8D-BDBD-97F1F79D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00E-5BBF-43C4-AB95-1DB78565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8EA-C698-4EE1-B74D-545C846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E42-B406-4693-96BE-AA68EF4F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5FB-7241-41C1-8443-62483931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0BD-65B1-4B17-9FB4-777C1C2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3439-67AA-4C87-9A4E-1DE04C9C91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image" Target="../media/image8.png"/><Relationship Id="rId4" Type="http://schemas.openxmlformats.org/officeDocument/2006/relationships/slide" Target="slide11.xm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1743120"/>
            <a:ext cx="7053120" cy="2646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140360" y="4869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МОУ ВСОШ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д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10"/>
          <p:cNvSpPr/>
          <p:nvPr/>
        </p:nvSpPr>
        <p:spPr>
          <a:xfrm flipH="1">
            <a:off x="5940360" y="2089080"/>
            <a:ext cx="1224000" cy="13669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50920" y="2276640"/>
            <a:ext cx="8642160" cy="48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= 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─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 NaOH + Na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среды –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щелочн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быток гидроксид-анионов, лакмус сине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287280" y="111132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олей, образованных сильным основанием и слабой кислото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Управляющая кнопка: возврат 11"/>
          <p:cNvGrpSpPr/>
          <p:nvPr/>
        </p:nvGrpSpPr>
        <p:grpSpPr>
          <a:xfrm>
            <a:off x="8332920" y="5992920"/>
            <a:ext cx="542880" cy="541080"/>
            <a:chOff x="8332920" y="5992920"/>
            <a:chExt cx="542880" cy="541080"/>
          </a:xfrm>
        </p:grpSpPr>
        <p:pic>
          <p:nvPicPr>
            <p:cNvPr id="122" name="Управляющая кнопка: возврат 11" descr=""/>
            <p:cNvPicPr/>
            <p:nvPr/>
          </p:nvPicPr>
          <p:blipFill>
            <a:blip r:embed="rId1"/>
            <a:stretch/>
          </p:blipFill>
          <p:spPr>
            <a:xfrm>
              <a:off x="8332920" y="5992920"/>
              <a:ext cx="54288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88360" y="602136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TextBox 7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8"/>
          <p:cNvSpPr/>
          <p:nvPr/>
        </p:nvSpPr>
        <p:spPr>
          <a:xfrm>
            <a:off x="611280" y="2549520"/>
            <a:ext cx="914400" cy="2171880"/>
          </a:xfrm>
          <a:prstGeom prst="flowChartMagneticDisk">
            <a:avLst/>
          </a:prstGeom>
          <a:solidFill>
            <a:srgbClr val="eeec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магнитный диск 1"/>
          <p:cNvSpPr/>
          <p:nvPr/>
        </p:nvSpPr>
        <p:spPr>
          <a:xfrm>
            <a:off x="611280" y="3429000"/>
            <a:ext cx="914400" cy="129240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0c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Овал 8"/>
          <p:cNvSpPr/>
          <p:nvPr/>
        </p:nvSpPr>
        <p:spPr>
          <a:xfrm>
            <a:off x="4140360" y="2238480"/>
            <a:ext cx="1295280" cy="139680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2349000"/>
            <a:ext cx="8436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Al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=  AlOH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среды 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л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быток катионов водорода, лакмус красного ц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50920" y="11113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олей, образованных слабым основанием и сильной кислот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Управляющая кнопка: возврат 9"/>
          <p:cNvGrpSpPr/>
          <p:nvPr/>
        </p:nvGrpSpPr>
        <p:grpSpPr>
          <a:xfrm>
            <a:off x="8120160" y="6132600"/>
            <a:ext cx="609480" cy="542880"/>
            <a:chOff x="8120160" y="6132600"/>
            <a:chExt cx="609480" cy="542880"/>
          </a:xfrm>
        </p:grpSpPr>
        <p:pic>
          <p:nvPicPr>
            <p:cNvPr id="131" name="Управляющая кнопка: возврат 9" descr=""/>
            <p:cNvPicPr/>
            <p:nvPr/>
          </p:nvPicPr>
          <p:blipFill>
            <a:blip r:embed="rId1"/>
            <a:stretch/>
          </p:blipFill>
          <p:spPr>
            <a:xfrm>
              <a:off x="8120160" y="6132600"/>
              <a:ext cx="609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2360" y="616572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TextBox 7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8"/>
          <p:cNvSpPr/>
          <p:nvPr/>
        </p:nvSpPr>
        <p:spPr>
          <a:xfrm>
            <a:off x="611280" y="2549520"/>
            <a:ext cx="914400" cy="2171880"/>
          </a:xfrm>
          <a:prstGeom prst="flowChartMagneticDisk">
            <a:avLst/>
          </a:prstGeom>
          <a:solidFill>
            <a:srgbClr val="eeec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магнитный диск 12"/>
          <p:cNvSpPr/>
          <p:nvPr/>
        </p:nvSpPr>
        <p:spPr>
          <a:xfrm>
            <a:off x="611280" y="3429000"/>
            <a:ext cx="914400" cy="129240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Овал 5"/>
          <p:cNvSpPr/>
          <p:nvPr/>
        </p:nvSpPr>
        <p:spPr>
          <a:xfrm>
            <a:off x="6300720" y="2368440"/>
            <a:ext cx="1224000" cy="13669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4"/>
          <p:cNvSpPr/>
          <p:nvPr/>
        </p:nvSpPr>
        <p:spPr>
          <a:xfrm>
            <a:off x="4427640" y="2349360"/>
            <a:ext cx="1296720" cy="13669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000" y="2491920"/>
            <a:ext cx="82803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+ HC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=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+ HC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среды зависит от силы образовавшегося слабого электрол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277920" y="11113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олей, образованных слабым основанием и слабой кислот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TextBox 6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8"/>
          <p:cNvSpPr/>
          <p:nvPr/>
        </p:nvSpPr>
        <p:spPr>
          <a:xfrm>
            <a:off x="250920" y="1197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обратимый гидролиз солей, образованных слабым основанием и слабой кислот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50920" y="2349360"/>
            <a:ext cx="878508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 соли, которые нельзя получить реакцией обмена  между водными растворами двух солей (в ТР – разлагаются в водной среде) </a:t>
            </a:r>
            <a:r>
              <a:rPr b="1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Fe</a:t>
            </a:r>
            <a:r>
              <a:rPr b="1" lang="ru-RU" sz="2800" spc="-1" strike="noStrike" baseline="-25000">
                <a:solidFill>
                  <a:srgbClr val="4f6228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4f6228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 baseline="-25000">
                <a:solidFill>
                  <a:srgbClr val="4f6228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e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2Fe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+3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 6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e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+3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между двумя растворами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необратимой, а карбонат железа (+3) не образ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Управляющая кнопка: возврат 7"/>
          <p:cNvGrpSpPr/>
          <p:nvPr/>
        </p:nvGrpSpPr>
        <p:grpSpPr>
          <a:xfrm>
            <a:off x="8259840" y="5973840"/>
            <a:ext cx="689040" cy="615960"/>
            <a:chOff x="8259840" y="5973840"/>
            <a:chExt cx="689040" cy="615960"/>
          </a:xfrm>
        </p:grpSpPr>
        <p:pic>
          <p:nvPicPr>
            <p:cNvPr id="144" name="Управляющая кнопка: возврат 7" descr=""/>
            <p:cNvPicPr/>
            <p:nvPr/>
          </p:nvPicPr>
          <p:blipFill>
            <a:blip r:embed="rId1"/>
            <a:stretch/>
          </p:blipFill>
          <p:spPr>
            <a:xfrm>
              <a:off x="8259840" y="5973840"/>
              <a:ext cx="689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317080" y="6006960"/>
              <a:ext cx="576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TextBox 8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6"/>
          <p:cNvSpPr/>
          <p:nvPr/>
        </p:nvSpPr>
        <p:spPr>
          <a:xfrm>
            <a:off x="250920" y="1413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олей, образованных сильным основанием и сильной кислот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Управляющая кнопка: возврат 7"/>
          <p:cNvGrpSpPr/>
          <p:nvPr/>
        </p:nvGrpSpPr>
        <p:grpSpPr>
          <a:xfrm>
            <a:off x="7900920" y="5772240"/>
            <a:ext cx="689040" cy="689040"/>
            <a:chOff x="7900920" y="5772240"/>
            <a:chExt cx="689040" cy="689040"/>
          </a:xfrm>
        </p:grpSpPr>
        <p:pic>
          <p:nvPicPr>
            <p:cNvPr id="149" name="Управляющая кнопка: возврат 7" descr=""/>
            <p:cNvPicPr/>
            <p:nvPr/>
          </p:nvPicPr>
          <p:blipFill>
            <a:blip r:embed="rId1"/>
            <a:stretch/>
          </p:blipFill>
          <p:spPr>
            <a:xfrm>
              <a:off x="7900920" y="5772240"/>
              <a:ext cx="689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56720" y="5805360"/>
              <a:ext cx="57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TextBox 5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8"/>
          <p:cNvSpPr/>
          <p:nvPr/>
        </p:nvSpPr>
        <p:spPr>
          <a:xfrm>
            <a:off x="465120" y="4365720"/>
            <a:ext cx="914400" cy="2171520"/>
          </a:xfrm>
          <a:prstGeom prst="flowChartMagneticDisk">
            <a:avLst/>
          </a:prstGeom>
          <a:solidFill>
            <a:srgbClr val="eeec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магнитный диск 6"/>
          <p:cNvSpPr/>
          <p:nvPr/>
        </p:nvSpPr>
        <p:spPr>
          <a:xfrm>
            <a:off x="468360" y="5181480"/>
            <a:ext cx="914400" cy="129060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1619280" y="357336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х ионов нет, гидролиз не идет, среда нейтральная, лакмус фиолетового цв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2574360" y="2708280"/>
            <a:ext cx="33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f497a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24000" y="1413000"/>
          <a:ext cx="8496000" cy="5113080"/>
        </p:xfrm>
        <a:graphic>
          <a:graphicData uri="http://schemas.openxmlformats.org/drawingml/2006/table">
            <a:tbl>
              <a:tblPr/>
              <a:tblGrid>
                <a:gridCol w="2232000"/>
                <a:gridCol w="1512720"/>
                <a:gridCol w="1511280"/>
                <a:gridCol w="1541520"/>
                <a:gridCol w="1698480"/>
              </a:tblGrid>
              <a:tr h="39672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не подвергающиеся гидроли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1224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подвергающиеся гидроли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и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рати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створимые соли  и соли, о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+ С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+ Сл.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.о + 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.о + Сл.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лиз по анион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 раствора 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Н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лиз по катион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 раствора кисло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лиз по катиону и анион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 раствора зависит от константы диссоциации образующихся при гидролизе  основания и кисл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324000" y="1341360"/>
            <a:ext cx="8496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Условия смещения реакций обратимого гидролиза (согласно принципу Ле Шатель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ть гидролиз соли можно следующими способ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ь воды (уменьшить концентрацию раств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Нагреть раств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вязать один из продуктов гидролиза в труднорастворимое соединение или удалить  один из продуктов в газовую ф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Box 7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317520" y="1901880"/>
            <a:ext cx="8650440" cy="4748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195120" y="14842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лному и необратимому гидролизу в водном растворе подвергаются  некоторые бинарн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extBox 3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468360" y="1490760"/>
            <a:ext cx="806436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карб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ид                                                                 ацет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l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ид                                                                   ме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539640" y="1428840"/>
            <a:ext cx="806472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галоген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ния (+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фосф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ид                                                                                     фосф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TextBox 7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– это реакция обменного разложения веществ 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3428640"/>
            <a:ext cx="84960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 растворенного вещества в воде окружены гидратной оболочкой. В некоторых случаях это приводит к химическому взаимодействию с образованием новых веществ, к реакции гидролиз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а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ysi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сп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7"/>
          <p:cNvSpPr/>
          <p:nvPr/>
        </p:nvSpPr>
        <p:spPr>
          <a:xfrm>
            <a:off x="324000" y="1413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оль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24000" y="19890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 природе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е земной коры; обеспечение слабощелочной среды морск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 народном хозяйстве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из непищевого сырья ценных продуктов (бумага, мыло, спирт, глюкоза, белковые дрожжи); очистка промышленных стоков и питьевой воды; подготовка тканей к окрашиванию; известкование почв; порча производственного обору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 повседневной жизн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ка; мытье посуды; умывание с мылом; процессы пищев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TextBox 4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311040" y="262080"/>
            <a:ext cx="8485200" cy="618804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317520" y="262080"/>
            <a:ext cx="8710560" cy="61880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3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0920" y="1341360"/>
            <a:ext cx="77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галогеноводород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O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Cl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↔   R-OH +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ложных эфи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∕∕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 , 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         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↔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H +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5"/>
          <p:cNvSpPr/>
          <p:nvPr/>
        </p:nvSpPr>
        <p:spPr>
          <a:xfrm>
            <a:off x="1512720" y="4941720"/>
            <a:ext cx="287640" cy="2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6"/>
          <p:cNvSpPr/>
          <p:nvPr/>
        </p:nvSpPr>
        <p:spPr>
          <a:xfrm>
            <a:off x="6875640" y="4941720"/>
            <a:ext cx="287280" cy="2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655640" y="375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6875640" y="3755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4105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углевод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4"/>
          <p:cNvSpPr/>
          <p:nvPr/>
        </p:nvSpPr>
        <p:spPr>
          <a:xfrm>
            <a:off x="250920" y="3357720"/>
            <a:ext cx="2071440" cy="86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 пи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5"/>
          <p:cNvSpPr/>
          <p:nvPr/>
        </p:nvSpPr>
        <p:spPr>
          <a:xfrm>
            <a:off x="3419640" y="3284640"/>
            <a:ext cx="185724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6"/>
          <p:cNvSpPr/>
          <p:nvPr/>
        </p:nvSpPr>
        <p:spPr>
          <a:xfrm>
            <a:off x="6443640" y="3284640"/>
            <a:ext cx="2232000" cy="865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7"/>
          <p:cNvSpPr/>
          <p:nvPr/>
        </p:nvSpPr>
        <p:spPr>
          <a:xfrm>
            <a:off x="3348000" y="5445000"/>
            <a:ext cx="1728720" cy="951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8"/>
          <p:cNvSpPr/>
          <p:nvPr/>
        </p:nvSpPr>
        <p:spPr>
          <a:xfrm>
            <a:off x="6516720" y="5373720"/>
            <a:ext cx="1727280" cy="9493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9"/>
          <p:cNvSpPr/>
          <p:nvPr/>
        </p:nvSpPr>
        <p:spPr>
          <a:xfrm>
            <a:off x="2340000" y="386064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10"/>
          <p:cNvSpPr/>
          <p:nvPr/>
        </p:nvSpPr>
        <p:spPr>
          <a:xfrm>
            <a:off x="5364000" y="3716280"/>
            <a:ext cx="928800" cy="4608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11"/>
          <p:cNvSpPr/>
          <p:nvPr/>
        </p:nvSpPr>
        <p:spPr>
          <a:xfrm>
            <a:off x="4211640" y="4149720"/>
            <a:ext cx="46080" cy="121608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12"/>
          <p:cNvSpPr/>
          <p:nvPr/>
        </p:nvSpPr>
        <p:spPr>
          <a:xfrm>
            <a:off x="5148360" y="5950080"/>
            <a:ext cx="1295280" cy="71280"/>
          </a:xfrm>
          <a:prstGeom prst="rightArrow">
            <a:avLst>
              <a:gd name="adj1" fmla="val 50000"/>
              <a:gd name="adj2" fmla="val 50140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верх 13"/>
          <p:cNvSpPr/>
          <p:nvPr/>
        </p:nvSpPr>
        <p:spPr>
          <a:xfrm>
            <a:off x="7380360" y="4292640"/>
            <a:ext cx="71280" cy="1000080"/>
          </a:xfrm>
          <a:prstGeom prst="upArrow">
            <a:avLst>
              <a:gd name="adj1" fmla="val 50000"/>
              <a:gd name="adj2" fmla="val 50080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2340000" y="3429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219640" y="328464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 rot="5400000">
            <a:off x="3853080" y="4477320"/>
            <a:ext cx="165564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конд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076720" y="55166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 rot="5400000">
            <a:off x="6951960" y="46490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468360" y="1989000"/>
            <a:ext cx="7632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о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оз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356000" y="1557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бел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85840" y="166680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H             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║    │              ║   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 – N – CH – C – N – CH – 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              OH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епти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 H             HO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                            O                               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          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 – C         +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 –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                              OH                                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                           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1"/>
          <p:cNvSpPr/>
          <p:nvPr/>
        </p:nvSpPr>
        <p:spPr>
          <a:xfrm>
            <a:off x="2143080" y="178596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4"/>
          <p:cNvSpPr/>
          <p:nvPr/>
        </p:nvSpPr>
        <p:spPr>
          <a:xfrm>
            <a:off x="3643200" y="17859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41"/>
          <p:cNvCxnSpPr/>
          <p:nvPr/>
        </p:nvCxnSpPr>
        <p:spPr>
          <a:xfrm>
            <a:off x="5867280" y="2421000"/>
            <a:ext cx="643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Прямая соединительная линия 49"/>
          <p:cNvSpPr/>
          <p:nvPr/>
        </p:nvSpPr>
        <p:spPr>
          <a:xfrm>
            <a:off x="1908000" y="4941720"/>
            <a:ext cx="1429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66"/>
          <p:cNvSpPr/>
          <p:nvPr/>
        </p:nvSpPr>
        <p:spPr>
          <a:xfrm>
            <a:off x="6804000" y="4869000"/>
            <a:ext cx="2890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9"/>
          <p:cNvSpPr/>
          <p:nvPr/>
        </p:nvSpPr>
        <p:spPr>
          <a:xfrm>
            <a:off x="4427640" y="4869000"/>
            <a:ext cx="21420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5"/>
          <p:cNvSpPr/>
          <p:nvPr/>
        </p:nvSpPr>
        <p:spPr>
          <a:xfrm>
            <a:off x="2630520" y="25653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2630520" y="31417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9"/>
          <p:cNvSpPr/>
          <p:nvPr/>
        </p:nvSpPr>
        <p:spPr>
          <a:xfrm>
            <a:off x="4142880" y="25653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0"/>
          <p:cNvSpPr/>
          <p:nvPr/>
        </p:nvSpPr>
        <p:spPr>
          <a:xfrm>
            <a:off x="4142880" y="31417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2"/>
          <p:cNvSpPr/>
          <p:nvPr/>
        </p:nvSpPr>
        <p:spPr>
          <a:xfrm>
            <a:off x="3638520" y="486900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4"/>
          <p:cNvSpPr/>
          <p:nvPr/>
        </p:nvSpPr>
        <p:spPr>
          <a:xfrm>
            <a:off x="3638520" y="551664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6"/>
          <p:cNvSpPr/>
          <p:nvPr/>
        </p:nvSpPr>
        <p:spPr>
          <a:xfrm>
            <a:off x="5942880" y="486900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7"/>
          <p:cNvSpPr/>
          <p:nvPr/>
        </p:nvSpPr>
        <p:spPr>
          <a:xfrm>
            <a:off x="6012000" y="55166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5"/>
          <p:cNvSpPr/>
          <p:nvPr/>
        </p:nvSpPr>
        <p:spPr>
          <a:xfrm>
            <a:off x="1982160" y="4437000"/>
            <a:ext cx="3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∕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6"/>
          <p:cNvSpPr/>
          <p:nvPr/>
        </p:nvSpPr>
        <p:spPr>
          <a:xfrm>
            <a:off x="4358520" y="4437000"/>
            <a:ext cx="3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∕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0"/>
          <p:cNvSpPr/>
          <p:nvPr/>
        </p:nvSpPr>
        <p:spPr>
          <a:xfrm>
            <a:off x="6735240" y="4508640"/>
            <a:ext cx="3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∕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539640" y="141300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гидролиза сводится к обменному химическому взаимодействию катионов или анионов соли с молекулами воды. В результате образуется слабый электро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ая соль – это продукт взаимодействия основания с кислотой. В зависимости от силы основания и кислоты выделяют  4 типа с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"/>
          <p:cNvPicPr/>
          <p:nvPr/>
        </p:nvPicPr>
        <p:blipFill>
          <a:blip r:embed="rId1"/>
          <a:stretch/>
        </p:blipFill>
        <p:spPr>
          <a:xfrm>
            <a:off x="438120" y="1487520"/>
            <a:ext cx="8291520" cy="4883040"/>
          </a:xfrm>
          <a:prstGeom prst="rect">
            <a:avLst/>
          </a:prstGeom>
          <a:ln w="0">
            <a:noFill/>
          </a:ln>
        </p:spPr>
      </p:pic>
      <p:grpSp>
        <p:nvGrpSpPr>
          <p:cNvPr id="104" name="Управляющая кнопка: справка 5"/>
          <p:cNvGrpSpPr/>
          <p:nvPr/>
        </p:nvGrpSpPr>
        <p:grpSpPr>
          <a:xfrm>
            <a:off x="871560" y="3255840"/>
            <a:ext cx="469800" cy="395280"/>
            <a:chOff x="871560" y="3255840"/>
            <a:chExt cx="469800" cy="395280"/>
          </a:xfrm>
        </p:grpSpPr>
        <p:pic>
          <p:nvPicPr>
            <p:cNvPr id="105" name="Управляющая кнопка: справка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71560" y="3255840"/>
              <a:ext cx="4698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928800" y="3286080"/>
              <a:ext cx="357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Управляющая кнопка: справка 6"/>
          <p:cNvGrpSpPr/>
          <p:nvPr/>
        </p:nvGrpSpPr>
        <p:grpSpPr>
          <a:xfrm>
            <a:off x="7948440" y="3328920"/>
            <a:ext cx="390600" cy="395280"/>
            <a:chOff x="7948440" y="3328920"/>
            <a:chExt cx="390600" cy="395280"/>
          </a:xfrm>
        </p:grpSpPr>
        <p:pic>
          <p:nvPicPr>
            <p:cNvPr id="108" name="Управляющая кнопка: справка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48440" y="3328920"/>
              <a:ext cx="3906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001000" y="335772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Управляющая кнопка: справка 7"/>
          <p:cNvGrpSpPr/>
          <p:nvPr/>
        </p:nvGrpSpPr>
        <p:grpSpPr>
          <a:xfrm>
            <a:off x="871560" y="4254480"/>
            <a:ext cx="469800" cy="469800"/>
            <a:chOff x="871560" y="4254480"/>
            <a:chExt cx="469800" cy="469800"/>
          </a:xfrm>
        </p:grpSpPr>
        <p:pic>
          <p:nvPicPr>
            <p:cNvPr id="111" name="Управляющая кнопка: справка 7" descr=""/>
            <p:cNvPicPr/>
            <p:nvPr/>
          </p:nvPicPr>
          <p:blipFill>
            <a:blip r:embed="rId6"/>
            <a:stretch/>
          </p:blipFill>
          <p:spPr>
            <a:xfrm>
              <a:off x="871560" y="4254480"/>
              <a:ext cx="4698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928800" y="428616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Управляющая кнопка: справка 8"/>
          <p:cNvGrpSpPr/>
          <p:nvPr/>
        </p:nvGrpSpPr>
        <p:grpSpPr>
          <a:xfrm>
            <a:off x="7948440" y="4181400"/>
            <a:ext cx="390600" cy="469800"/>
            <a:chOff x="7948440" y="4181400"/>
            <a:chExt cx="390600" cy="469800"/>
          </a:xfrm>
        </p:grpSpPr>
        <p:pic>
          <p:nvPicPr>
            <p:cNvPr id="114" name="Управляющая кнопка: справка 8" descr=""/>
            <p:cNvPicPr/>
            <p:nvPr/>
          </p:nvPicPr>
          <p:blipFill>
            <a:blip r:embed="rId7"/>
            <a:stretch/>
          </p:blipFill>
          <p:spPr>
            <a:xfrm>
              <a:off x="7948440" y="4181400"/>
              <a:ext cx="3906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001000" y="4214880"/>
              <a:ext cx="285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Управляющая кнопка: справка 11"/>
          <p:cNvSpPr/>
          <p:nvPr/>
        </p:nvSpPr>
        <p:spPr>
          <a:xfrm>
            <a:off x="3643200" y="421488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extBox 9" descr=""/>
          <p:cNvPicPr/>
          <p:nvPr/>
        </p:nvPicPr>
        <p:blipFill>
          <a:blip r:embed="rId8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7:42:23Z</dcterms:created>
  <dc:creator>Ирина</dc:creator>
  <dc:description/>
  <dc:language>en-US</dc:language>
  <cp:lastModifiedBy>Admin</cp:lastModifiedBy>
  <dcterms:modified xsi:type="dcterms:W3CDTF">2011-11-26T13:51:31Z</dcterms:modified>
  <cp:revision>38</cp:revision>
  <dc:subject/>
  <dc:title>Гидролиз</dc:title>
</cp:coreProperties>
</file>