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AB7F-6461-4E25-849F-524540D7C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C347-9D99-4E85-A30C-58D8F778D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3E39-9936-4548-919E-761A57383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22C1-B7E2-44E2-811A-81B8F9A1F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7F2DB-48B8-4E99-A223-3AFFBB716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B99F1-E1E7-44C3-9584-48B6D085E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0CCF8-2F2C-45E6-BB6F-2A6D9D28F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A8CCC-2382-420D-8FB5-644F4FC76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500AC-20E3-4F47-8700-AD04DAC60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B2C09-CC63-44DD-BAE2-A6A4F4C11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33BD9-6702-4EA6-B235-33A049A0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EA42-551C-4CA5-A679-43BD1B0EA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B6FB0-E37E-42BE-9981-69596155F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57F23-4F78-47B5-BD3B-315647751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FDFE8-8A91-40CA-B689-50FD0C098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6278C-B8FE-4D6E-9B61-B876DF1BF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180C7-24CB-4308-8DFA-0804A81EC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C732-5B5C-436F-984D-6F24A6355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9985-F63A-4183-BFDE-B54F29F1A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93E2-A553-4C50-BAB4-62DCFB14C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E881-F8EF-44FE-B92C-3D8F18BCF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0198-2BAE-4DC4-9A07-06CD9D9C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6592-397C-41B4-AEE7-8BA5118A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6554-7C5E-447F-A575-4BA2DF5C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94DD6-55F5-48A8-B9E5-C8C83D17FD8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83875-1A44-4350-A269-3CE0E4DC6F3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c00"/>
                </a:solidFill>
                <a:latin typeface="Arial"/>
              </a:rPr>
              <a:t>Ломоносов Михаил Васильевич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готовил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шеничный Никита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ченик 4 «А» класс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" dur="2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" dur="2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5" descr=""/>
          <p:cNvPicPr/>
          <p:nvPr/>
        </p:nvPicPr>
        <p:blipFill>
          <a:blip r:embed="rId1"/>
          <a:stretch/>
        </p:blipFill>
        <p:spPr>
          <a:xfrm>
            <a:off x="5867280" y="189000"/>
            <a:ext cx="2957760" cy="309708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648180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Verdana"/>
              </a:rPr>
              <a:t>Ломоносов – один из величайших учёных в мировой истории. Его открытия повлияли на дальнейшие исследования во всех науках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Verdana"/>
              </a:rPr>
              <a:t>Ломоносов является одним из создателей современного русского языка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0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7" dur="2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0" dur="2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cc00"/>
                </a:solidFill>
                <a:latin typeface="Verdana"/>
              </a:rPr>
              <a:t>Благодарю </a:t>
            </a:r>
            <a:endParaRPr b="0" lang="en-US" sz="6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cc00"/>
                </a:solidFill>
                <a:latin typeface="Verdana"/>
              </a:rPr>
              <a:t>за</a:t>
            </a:r>
            <a:endParaRPr b="0" lang="en-US" sz="6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1" i="1" lang="ru-RU" sz="6600" spc="-1" strike="noStrike">
                <a:solidFill>
                  <a:srgbClr val="ffcc00"/>
                </a:solidFill>
                <a:latin typeface="Verdana"/>
              </a:rPr>
              <a:t>внимание !</a:t>
            </a:r>
            <a:endParaRPr b="0" lang="en-US" sz="6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7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1" dur="2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2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5" dur="2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ЦЕЛЬ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РАБОТЫ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Verdana"/>
              </a:rPr>
              <a:t>рассмотреть роль Ломоносова М.В. в развитии российской и мировой науки и культуры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cc00"/>
                </a:solidFill>
                <a:uFillTx/>
                <a:latin typeface="Arial Unicode MS"/>
              </a:rPr>
              <a:t>Задачи работы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Verdana"/>
              </a:rPr>
              <a:t>познакомиться с биографией Ломоносова М.В.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Verdana"/>
              </a:rPr>
              <a:t>рассмотреть основные достижения Михаила Васильевича в науке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Verdana"/>
              </a:rPr>
              <a:t>изучить его вклад в развитие истории и литературы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Verdana"/>
              </a:rPr>
              <a:t>сделать выводы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" dur="2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6000"/>
                            </p:stCondLst>
                            <p:childTnLst>
                              <p:par>
                                <p:cTn id="3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" dur="2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" dur="2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" dur="2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4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" dur="20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Ломоносов Михаил Васильевич (8/19.11.1711 года - 4/15.04.1765 года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Verdana"/>
              </a:rPr>
              <a:t>Родился он в семье крестьянина в архангельской деревне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2" name="Picture 10" descr=""/>
          <p:cNvPicPr/>
          <p:nvPr/>
        </p:nvPicPr>
        <p:blipFill>
          <a:blip r:embed="rId1"/>
          <a:stretch/>
        </p:blipFill>
        <p:spPr>
          <a:xfrm>
            <a:off x="5081760" y="1960560"/>
            <a:ext cx="31716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бразование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140000" y="1341360"/>
            <a:ext cx="46796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В 1730 он приходит пешком в Москву, где получает образование в Славяно-греко-латинской академи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В начале 1736 года Ломоносов был направлен в университет при Петербургской академии наук, а осенью того же года – в Германию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Picture 22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36082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2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озвращение в Россию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600" spc="-1" strike="noStrike">
                <a:solidFill>
                  <a:srgbClr val="ffcc00"/>
                </a:solidFill>
                <a:latin typeface="Verdana"/>
              </a:rPr>
              <a:t>В 1741</a:t>
            </a: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600" spc="-1" strike="noStrike">
                <a:solidFill>
                  <a:srgbClr val="ffcc00"/>
                </a:solidFill>
                <a:latin typeface="Verdana"/>
              </a:rPr>
              <a:t> он назначен адъюнктом физического класса,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600" spc="-1" strike="noStrike">
                <a:solidFill>
                  <a:srgbClr val="ffcc00"/>
                </a:solidFill>
                <a:latin typeface="Verdana"/>
              </a:rPr>
              <a:t>в 1745 – профессором химии (академиком) Академии наук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cc00"/>
                </a:solidFill>
                <a:latin typeface="Verdana"/>
              </a:rPr>
              <a:t>в 1757 Ломоносов член Академической канцелярии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8" name="Picture 7" descr=""/>
          <p:cNvPicPr/>
          <p:nvPr/>
        </p:nvPicPr>
        <p:blipFill>
          <a:blip r:embed="rId1"/>
          <a:stretch/>
        </p:blipFill>
        <p:spPr>
          <a:xfrm>
            <a:off x="4859280" y="1628640"/>
            <a:ext cx="403848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4000"/>
                            </p:stCondLst>
                            <p:childTnLst>
                              <p:par>
                                <p:cTn id="9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6000"/>
                            </p:stCondLst>
                            <p:childTnLst>
                              <p:par>
                                <p:cTn id="9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7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8" presetSubtype="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0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Научные достижения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0" name="Picture 21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306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Verdana"/>
              </a:rPr>
              <a:t>Ломоносов публикует труды по теории цвета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Verdana"/>
              </a:rPr>
              <a:t>исследует атмосферное электричество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cc00"/>
                </a:solidFill>
                <a:latin typeface="Verdana"/>
              </a:rPr>
              <a:t>открывает  закон сохранения материи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Verdana"/>
              </a:rPr>
              <a:t>в 1752 он пишет на латинском языке "Введение в истинную физическую химию</a:t>
            </a:r>
            <a:r>
              <a:rPr b="0" lang="en-US" sz="2000" spc="-1" strike="noStrike">
                <a:solidFill>
                  <a:srgbClr val="ffcc00"/>
                </a:solidFill>
                <a:latin typeface="Verdana"/>
              </a:rPr>
              <a:t>”</a:t>
            </a:r>
            <a:r>
              <a:rPr b="0" lang="ru-RU" sz="2000" spc="-1" strike="noStrike">
                <a:solidFill>
                  <a:srgbClr val="ffcc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Verdana"/>
              </a:rPr>
              <a:t>изобретает “ночезрительную трубу”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7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1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4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7" dur="2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0" dur="2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3" dur="2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6" dur="2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Литературные достиже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Первым сочинением Ломоносова, касавшимся проблем языка, было написанное еще в Германии «Письмо о правилах российского стихотворства» (1739, опубликовано в 1778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4" name="Picture 16" descr=""/>
          <p:cNvPicPr/>
          <p:nvPr/>
        </p:nvPicPr>
        <p:blipFill>
          <a:blip r:embed="rId1"/>
          <a:stretch/>
        </p:blipFill>
        <p:spPr>
          <a:xfrm>
            <a:off x="5102280" y="1600200"/>
            <a:ext cx="31305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3" dur="3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7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8" presetSubtype="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0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оизведения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6" name="Picture 8" descr=""/>
          <p:cNvPicPr/>
          <p:nvPr/>
        </p:nvPicPr>
        <p:blipFill>
          <a:blip r:embed="rId1"/>
          <a:stretch/>
        </p:blipFill>
        <p:spPr>
          <a:xfrm>
            <a:off x="533520" y="1341360"/>
            <a:ext cx="3612960" cy="51642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Verdana"/>
              </a:rPr>
              <a:t>Его перу принадлежат две трагедии: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Verdana"/>
              </a:rPr>
              <a:t>"Тамара и Селим" (1750)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fcc00"/>
                </a:solidFill>
                <a:latin typeface="Verdana"/>
              </a:rPr>
              <a:t>"Демофонт" (1752);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Verdana"/>
              </a:rPr>
              <a:t>"История Российская</a:t>
            </a: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”</a:t>
            </a:r>
            <a:r>
              <a:rPr b="0" lang="ru-RU" sz="2800" spc="-1" strike="noStrike">
                <a:solidFill>
                  <a:srgbClr val="ffcc00"/>
                </a:solidFill>
                <a:latin typeface="Verdana"/>
              </a:rPr>
              <a:t>; публицистические работ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7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4000"/>
                            </p:stCondLst>
                            <p:childTnLst>
                              <p:par>
                                <p:cTn id="15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5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6000"/>
                            </p:stCondLst>
                            <p:childTnLst>
                              <p:par>
                                <p:cTn id="15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9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80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2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Ломоносов был крупнейшим историком своего времени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067280" y="1600200"/>
            <a:ext cx="46195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Verdana"/>
              </a:rPr>
              <a:t>Его основные сочинения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Verdana"/>
              </a:rPr>
              <a:t> “</a:t>
            </a:r>
            <a:r>
              <a:rPr b="0" lang="ru-RU" sz="2000" spc="-1" strike="noStrike">
                <a:solidFill>
                  <a:srgbClr val="ffcc00"/>
                </a:solidFill>
                <a:latin typeface="Verdana"/>
              </a:rPr>
              <a:t>Древняя Российская история” (ч. 1-2, 1766)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Verdana"/>
              </a:rPr>
              <a:t>замечания на диссертацию Г.Ф. Миллера “Происхождение имени и народа российского” (1749-50)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Verdana"/>
              </a:rPr>
              <a:t> “</a:t>
            </a:r>
            <a:r>
              <a:rPr b="0" lang="ru-RU" sz="2000" spc="-1" strike="noStrike">
                <a:solidFill>
                  <a:srgbClr val="ffcc00"/>
                </a:solidFill>
                <a:latin typeface="Verdana"/>
              </a:rPr>
              <a:t>Краткий российский летописец” (1760)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Verdana"/>
              </a:rPr>
              <a:t>“</a:t>
            </a:r>
            <a:r>
              <a:rPr b="0" lang="ru-RU" sz="2000" spc="-1" strike="noStrike">
                <a:solidFill>
                  <a:srgbClr val="ffcc00"/>
                </a:solidFill>
                <a:latin typeface="Verdana"/>
              </a:rPr>
              <a:t>Замечания на “Историю...” Вольтера” (1757-60, изд. 1829) и на “Сибирскую историю” Г.Ф. Миллера (1751); “Краткое описание разных путешествий по северным морям...” (1763)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0" name="Picture 7" descr=""/>
          <p:cNvPicPr/>
          <p:nvPr/>
        </p:nvPicPr>
        <p:blipFill>
          <a:blip r:embed="rId1"/>
          <a:srcRect l="7618" t="0" r="8374" b="0"/>
          <a:stretch/>
        </p:blipFill>
        <p:spPr>
          <a:xfrm>
            <a:off x="179280" y="1700280"/>
            <a:ext cx="3773520" cy="41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4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1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4" dur="2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7" dur="2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0" dur="20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3" dur="20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9T09:07:43Z</dcterms:created>
  <dc:creator>1</dc:creator>
  <dc:description/>
  <dc:language>en-US</dc:language>
  <cp:lastModifiedBy>Учитель</cp:lastModifiedBy>
  <dcterms:modified xsi:type="dcterms:W3CDTF">2011-11-18T08:10:53Z</dcterms:modified>
  <cp:revision>7</cp:revision>
  <dc:subject/>
  <dc:title>Ломоносов Михаил Васильевич - гениальный русский ученый </dc:title>
</cp:coreProperties>
</file>