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B85-2E1D-4BB9-9D83-64920D0A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F5A-0CA1-4CCC-B922-E0371AF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591-A1F7-48C5-8261-ACAB9148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392-6C2E-4F09-A63B-D7FBA6B5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73F-A0EF-4408-81D9-293025C2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9C2-8BCC-4187-A0BD-D64CE806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1ECE-AE90-4963-985E-3912B1A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B68F-D1D0-4A2C-9E41-76708E56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AE34-0D17-4F9F-94CE-1516E065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CB73-2418-4342-A862-CDFEFBFC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86E-BABA-4214-9A9D-0372672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399-0E7C-4BD7-ADE9-06B286BC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4E3-0F28-4879-A8B2-505D07F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542-7B69-493B-A24F-20C22D65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52A-43C8-4E13-B37A-E2C9BFC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8EFC-4739-4403-A0E3-4E54C734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968A-98D1-40FF-AB17-D6DCAACB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22A-DB3F-41B9-A11F-0C23170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9B9-8075-489B-A750-6791B55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BAC-BFF8-4110-BA3C-669F512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39D-29FE-462D-ABE2-7C976222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79A-26C2-4141-BD49-2AF1E1D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E12-A1CA-4709-B272-FC6AA343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903-FB5B-4AD7-88C1-876FAE6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3E6-0D49-42AA-9E78-672C521751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328E-5F68-4234-8615-99A591BEE3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Ломоносов Михаил Васильевич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л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шеничный Никит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ник 4 «А» кл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7760" cy="3097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4818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Ломоносов – один из величайших учёных в мировой истории. Его открытия повлияли на дальнейшие исследования во всех наук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Ломоносов является одним из создателей современного русского язы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Благодарю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за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внимание !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Ц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ассмотреть роль Ломоносова М.В. в развитии российской и мировой науки и культур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 Unicode MS"/>
              </a:rPr>
              <a:t>Задачи рабо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познакомиться с биографией Ломоносова М.В.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ассмотреть основные достижения Михаила Васильевича в наук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изучить его вклад в развитие истории и литератур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сделать выво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Ломоносов Михаил Васильевич (8/19.11.1711 года - 4/15.04.1765 года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одился он в семье крестьянина в архангельской деревн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5081760" y="1960560"/>
            <a:ext cx="3171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зо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467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В 1730 он приходит пешком в Москву, где получает образование в Славяно-греко-латинской академ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В начале 1736 года Ломоносов был направлен в университет при Петербургской академии наук, а осенью того же года – в Герма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08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звращение в Россию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В 1741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 он назначен адъюнктом физического класса,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в 1745 – профессором химии (академиком) Академии нау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в 1757 Ломоносов член Академической канцелярии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8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ые достиж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Ломоносов публикует труды по теории цве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исследует атмосферное электричество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открывает  закон сохранения матер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в 1752 он пишет на латинском языке "Введение в истинную физическую химию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”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изобретает “ночезрительную трубу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ные достиж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ервым сочинением Ломоносова, касавшимся проблем языка, было написанное еще в Германии «Письмо о правилах российского стихотворства» (1739, опубликовано в 177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3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извед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1"/>
          <a:stretch/>
        </p:blipFill>
        <p:spPr>
          <a:xfrm>
            <a:off x="533520" y="1341360"/>
            <a:ext cx="3612960" cy="5164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Его перу принадлежат две трагеди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"Тамара и Селим" (1750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"Демофонт" (1752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"История Российская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”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; публицистические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омоносов был крупнейшим историком своего времен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Его основные сочин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 “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Древняя Российская история” (ч. 1-2, 1766)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замечания на диссертацию Г.Ф. Миллера “Происхождение имени и народа российского” (1749-50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 “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Краткий российский летописец” (1760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Замечания на “Историю...” Вольтера” (1757-60, изд. 1829) и на “Сибирскую историю” Г.Ф. Миллера (1751); “Краткое описание разных путешествий по северным морям...” (1763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rcRect l="7618" t="0" r="8374" b="0"/>
          <a:stretch/>
        </p:blipFill>
        <p:spPr>
          <a:xfrm>
            <a:off x="179280" y="1700280"/>
            <a:ext cx="37735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9:07:43Z</dcterms:created>
  <dc:creator>1</dc:creator>
  <dc:description/>
  <dc:language>en-US</dc:language>
  <cp:lastModifiedBy>Учитель</cp:lastModifiedBy>
  <dcterms:modified xsi:type="dcterms:W3CDTF">2011-11-18T08:10:53Z</dcterms:modified>
  <cp:revision>7</cp:revision>
  <dc:subject/>
  <dc:title>Ломоносов Михаил Васильевич - гениальный русский ученый </dc:title>
</cp:coreProperties>
</file>