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021-3512-4DAB-ABFA-121A64C6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183-5549-464C-B41A-2E2CEA0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47D-A924-4240-951C-BFEDF349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BA7-6B36-4D52-BD7E-2A5C1F29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FC5-C987-4941-8367-7218E938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F8D-67B3-4A5D-A369-87A2962B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573-D659-4988-BB3E-85A10F8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7A3-951F-4EB0-977E-3839FFB0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1C5-93A7-4012-9EAC-D58D86A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07F-04AF-41E6-8F7F-C293D55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5A7-D0AD-455B-AFF1-F87ED37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909-182E-40ED-94E5-FF12966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E4F-275E-40B4-A10B-22A817DA1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img-fotki.yandex.ru/get/3002/mborsky.0/0_1233_baeda986_X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oriontour.ru/Prague-hotels/4-star/Maximilian04-758ext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228600"/>
            <a:ext cx="8001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66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ünchen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66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04920" y="2133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Lucida Calligraphy"/>
              </a:rPr>
              <a:t>München ist die Landeshauptstadt und mit rund 1,3 Millionen Einwohne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Lucida Calligraphy"/>
              </a:rPr>
              <a:t>gleichzeitig größte Stadt des Freistaates Bayer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ffff"/>
                </a:solidFill>
                <a:latin typeface="Lucida Calligraphy"/>
              </a:rPr>
              <a:t>die drittgrößte Stadt Deutschlands sowie die zwölftgrößte der Europäischen Union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46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80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Die Gesamtfläc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der Stadt Münch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beträgt 31</a:t>
            </a:r>
            <a:r>
              <a:rPr b="1" i="1" lang="ru-RU" sz="36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i="1" lang="de-DE" sz="3600" spc="-1" strike="noStrike">
                <a:solidFill>
                  <a:srgbClr val="ffffff"/>
                </a:solidFill>
                <a:latin typeface="Lucida Calligraphy"/>
              </a:rPr>
              <a:t>Hektar.</a:t>
            </a:r>
            <a:r>
              <a:rPr b="0" lang="de-DE" sz="4000" spc="-1" strike="noStrike">
                <a:solidFill>
                  <a:srgbClr val="a87dff"/>
                </a:solidFill>
                <a:latin typeface="Lucida Calligraphy"/>
              </a:rPr>
              <a:t> </a:t>
            </a:r>
            <a:r>
              <a:rPr b="0" lang="ru-RU" sz="4000" spc="-1" strike="noStrike">
                <a:solidFill>
                  <a:srgbClr val="a87dff"/>
                </a:solidFill>
                <a:latin typeface="Lucida Calligraph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Wappen der Stadt München"/>
          <p:cNvPicPr/>
          <p:nvPr/>
        </p:nvPicPr>
        <p:blipFill>
          <a:blip r:embed="rId1"/>
          <a:stretch/>
        </p:blipFill>
        <p:spPr>
          <a:xfrm>
            <a:off x="5338800" y="304920"/>
            <a:ext cx="2949480" cy="35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Deutschlandkarte, Position der Stadt München hervorgehoben"/>
          <p:cNvPicPr/>
          <p:nvPr/>
        </p:nvPicPr>
        <p:blipFill>
          <a:blip r:embed="rId2"/>
          <a:stretch/>
        </p:blipFill>
        <p:spPr>
          <a:xfrm>
            <a:off x="914400" y="304920"/>
            <a:ext cx="2944800" cy="35049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97960" y="3885480"/>
            <a:ext cx="32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Lucida Calligraphy"/>
              </a:rPr>
              <a:t>Deutschlandkarte</a:t>
            </a:r>
            <a:r>
              <a:rPr b="0" i="1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83560" y="388548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Lucida Calligraphy"/>
              </a:rPr>
              <a:t>Wappen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ff"/>
                </a:solidFill>
                <a:latin typeface="Modern No. 20"/>
              </a:rPr>
              <a:t>Sehensw</a:t>
            </a:r>
            <a:r>
              <a:rPr b="1" i="1" lang="de-DE" sz="8000" spc="-1" strike="noStrike">
                <a:solidFill>
                  <a:srgbClr val="6600ff"/>
                </a:solidFill>
                <a:latin typeface="Modern No. 20"/>
              </a:rPr>
              <a:t>ü</a:t>
            </a:r>
            <a:r>
              <a:rPr b="1" i="1" lang="en-US" sz="8000" spc="-1" strike="noStrike">
                <a:solidFill>
                  <a:srgbClr val="6600ff"/>
                </a:solidFill>
                <a:latin typeface="Modern No. 20"/>
              </a:rPr>
              <a:t>rdigke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9360">
            <a:solidFill>
              <a:srgbClr val="ff66cc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9360">
            <a:solidFill>
              <a:srgbClr val="ff66cc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1447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Lucida Calligraphy"/>
              </a:rPr>
              <a:t>Die Frauenkirche ist ein Wahrzeichen der Stadt </a:t>
            </a:r>
            <a:r>
              <a:rPr b="1" i="1" lang="de-DE" sz="3600" spc="-1" strike="noStrike">
                <a:solidFill>
                  <a:srgbClr val="6600cc"/>
                </a:solidFill>
                <a:latin typeface="Lucida Calligraphy"/>
              </a:rPr>
              <a:t>München</a:t>
            </a:r>
            <a:r>
              <a:rPr b="1" i="1" lang="ru-RU" sz="3600" spc="-1" strike="noStrike">
                <a:solidFill>
                  <a:srgbClr val="9933ff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333399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876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Im Norden der Stadt liegt der für die Olympis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Sommerspiele 1972 errichtete Olympiapa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Das architektonisch sehenswe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Ensemble aus Olympiastad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Olympia-Schwimmhalle und Olympiahalle</a:t>
            </a:r>
            <a:r>
              <a:rPr b="1" i="1" lang="ru-RU" sz="3200" spc="-1" strike="noStrike">
                <a:solidFill>
                  <a:srgbClr val="9999ff"/>
                </a:solidFill>
                <a:latin typeface="Lucida Calligraphy"/>
              </a:rPr>
              <a:t>.</a:t>
            </a:r>
            <a:r>
              <a:rPr b="1" i="1" lang="de-DE" sz="3200" spc="-1" strike="noStrike">
                <a:solidFill>
                  <a:srgbClr val="9999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743200" cy="365760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3924360" cy="203508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947920" y="2056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9999ff"/>
                </a:solidFill>
                <a:latin typeface="Lucida Calligraphy"/>
              </a:rPr>
              <a:t>Olympiatu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7080" y="639972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9999ff"/>
                </a:solidFill>
                <a:latin typeface="Lucida Calligraphy"/>
              </a:rPr>
              <a:t>Allianz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0099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9680" y="5942880"/>
            <a:ext cx="37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Lucida Calligraphy"/>
              </a:rPr>
              <a:t>Das</a:t>
            </a:r>
            <a:r>
              <a:rPr b="1" i="1" lang="de-DE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de-DE" sz="3200" spc="-1" strike="noStrike">
                <a:solidFill>
                  <a:srgbClr val="ffffff"/>
                </a:solidFill>
                <a:latin typeface="Lucida Calligraphy"/>
              </a:rPr>
              <a:t>Altes 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2320" cy="586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982040" y="5943600"/>
            <a:ext cx="36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Lucida Calligraphy"/>
              </a:rPr>
              <a:t>Das neue Rat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97440" y="0"/>
            <a:ext cx="4246560" cy="586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cc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3030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33501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Der Marienplatz gilt als der Mittelpunkt Münchens und lieg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umgeben von dem Neuen und dem Alten Ratha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mitten im Zentrum der Altstad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Wenige Schritte davon liegt die Peterskirch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die älteste Kirche der Altstadt, deren erster Bau no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Lucida Calligraphy"/>
              </a:rPr>
              <a:t>aus der Romanik stammte.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2979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4561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>
                <a:solidFill>
                  <a:srgbClr val="ffcc00"/>
                </a:solidFill>
                <a:latin typeface="Lucida Calligraphy"/>
              </a:rPr>
              <a:t>Theatinerkirc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cc00"/>
                </a:solidFill>
                <a:latin typeface="Lucida Calligraphy"/>
              </a:rPr>
              <a:t>Das berühmte Theater der Stadt Münch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8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Картинка 1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4038840" cy="119880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pic>
        <p:nvPicPr>
          <p:cNvPr id="69" name="" descr="Картинка 16 из 8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152280"/>
            <a:ext cx="2857680" cy="3810240"/>
          </a:xfrm>
          <a:prstGeom prst="rect">
            <a:avLst/>
          </a:prstGeom>
          <a:ln w="9360">
            <a:solidFill>
              <a:srgbClr val="00cc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80880" y="2867040"/>
            <a:ext cx="8763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Nach Norden Richtung Schwabing entstand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 </a:t>
            </a: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Ludwigstraße zwischen Feldherrnhalle und Sieges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An ihr liegen die Bayerische Staatsbibliothe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cc00"/>
                </a:solidFill>
                <a:latin typeface="Lucida Calligraphy"/>
              </a:rPr>
              <a:t>die Ludwigskirche und die Ludwig-Maximilians-Universitä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86080" cy="4572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908520" cy="48006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04920" y="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600" spc="-1" strike="noStrike">
                <a:solidFill>
                  <a:srgbClr val="0066ff"/>
                </a:solidFill>
                <a:latin typeface="Monotype Corsiva"/>
              </a:rPr>
              <a:t>Die Pr</a:t>
            </a:r>
            <a:r>
              <a:rPr b="1" i="1" lang="ru-RU" sz="6600" spc="-1" strike="noStrike">
                <a:solidFill>
                  <a:srgbClr val="0066ff"/>
                </a:solidFill>
                <a:latin typeface="Monotype Corsiva"/>
              </a:rPr>
              <a:t>е</a:t>
            </a:r>
            <a:r>
              <a:rPr b="1" i="1" lang="de-DE" sz="6600" spc="-1" strike="noStrike">
                <a:solidFill>
                  <a:srgbClr val="0066ff"/>
                </a:solidFill>
                <a:latin typeface="Monotype Corsiva"/>
              </a:rPr>
              <a:t>sentation hat erfüllt</a:t>
            </a:r>
            <a:r>
              <a:rPr b="1" i="1" lang="ru-RU" sz="6600" spc="-1" strike="noStrike">
                <a:solidFill>
                  <a:srgbClr val="0066ff"/>
                </a:solidFill>
                <a:latin typeface="Monotype Corsiv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643040"/>
            <a:ext cx="70102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Die Schulerin </a:t>
            </a:r>
            <a:r>
              <a:rPr b="1" i="1" lang="ru-RU" sz="4800" spc="-1" strike="noStrike">
                <a:solidFill>
                  <a:srgbClr val="66ccff"/>
                </a:solidFill>
                <a:latin typeface="Monotype Corsiva"/>
              </a:rPr>
              <a:t>9 «В»</a:t>
            </a: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 Klass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Shesterneva Irin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die Hauptschule das Duhownick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2010</a:t>
            </a:r>
            <a:r>
              <a:rPr b="1" i="1" lang="ru-RU" sz="4800" spc="-1" strike="noStrike">
                <a:solidFill>
                  <a:srgbClr val="66ccff"/>
                </a:solidFill>
                <a:latin typeface="Monotype Corsiva"/>
              </a:rPr>
              <a:t> </a:t>
            </a:r>
            <a:r>
              <a:rPr b="1" i="1" lang="de-DE" sz="4800" spc="-1" strike="noStrike">
                <a:solidFill>
                  <a:srgbClr val="66ccff"/>
                </a:solidFill>
                <a:latin typeface="Monotype Corsiva"/>
              </a:rPr>
              <a:t>Jah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Й</cp:lastModifiedBy>
  <dcterms:modified xsi:type="dcterms:W3CDTF">2010-05-02T08:27:5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