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6FE-F453-46C8-BD38-A28E2862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3EA-BD95-46ED-95F9-306F00F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BBE-8DD6-42BE-A130-B8FB60E1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238-C3A8-4CC1-8845-01C70BC2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F9D-643C-44FF-A987-89B3A0FC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05C-372C-4033-AEB3-67B81F84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DF4-53F7-449B-BA54-B43DC7F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5B1-1F49-441A-9F72-7A98890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2F9-5338-4FF4-A6EC-F217706B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3EC-87A2-4705-BAE6-1410333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CAE-26B1-49BE-AA56-8DB575E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B31-69A7-409C-8C6A-DC1292C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AA7-18FF-48A7-9123-62702A0AE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img-fotki.yandex.ru/get/3002/mborsky.0/0_1233_baeda986_X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oriontour.ru/Prague-hotels/4-star/Maximilian04-758ext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228600"/>
            <a:ext cx="8001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66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ünchen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66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04920" y="2133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Lucida Calligraphy"/>
              </a:rPr>
              <a:t>München ist die Landeshauptstadt und mit rund 1,3 Millionen Einwohne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Lucida Calligraphy"/>
              </a:rPr>
              <a:t>gleichzeitig größte Stadt des Freistaates Bayer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Lucida Calligraphy"/>
              </a:rPr>
              <a:t>die drittgrößte Stadt Deutschlands sowie die zwölftgrößte der Europäischen Union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46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80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Die Gesamtfläc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der Stadt Münc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beträgt 31</a:t>
            </a:r>
            <a:r>
              <a:rPr b="1" i="1" lang="ru-RU" sz="36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Hektar.</a:t>
            </a:r>
            <a:r>
              <a:rPr b="0" lang="de-DE" sz="4000" spc="-1" strike="noStrike">
                <a:solidFill>
                  <a:srgbClr val="a87dff"/>
                </a:solidFill>
                <a:latin typeface="Lucida Calligraphy"/>
              </a:rPr>
              <a:t> </a:t>
            </a:r>
            <a:r>
              <a:rPr b="0" lang="ru-RU" sz="4000" spc="-1" strike="noStrike">
                <a:solidFill>
                  <a:srgbClr val="a87dff"/>
                </a:solidFill>
                <a:latin typeface="Lucida Calligraph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Wappen der Stadt München"/>
          <p:cNvPicPr/>
          <p:nvPr/>
        </p:nvPicPr>
        <p:blipFill>
          <a:blip r:embed="rId1"/>
          <a:stretch/>
        </p:blipFill>
        <p:spPr>
          <a:xfrm>
            <a:off x="5338800" y="304920"/>
            <a:ext cx="2949480" cy="35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Deutschlandkarte, Position der Stadt München hervorgehoben"/>
          <p:cNvPicPr/>
          <p:nvPr/>
        </p:nvPicPr>
        <p:blipFill>
          <a:blip r:embed="rId2"/>
          <a:stretch/>
        </p:blipFill>
        <p:spPr>
          <a:xfrm>
            <a:off x="914400" y="304920"/>
            <a:ext cx="2944800" cy="35049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97960" y="3885480"/>
            <a:ext cx="32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Lucida Calligraphy"/>
              </a:rPr>
              <a:t>Deutschlandkarte</a:t>
            </a:r>
            <a:r>
              <a:rPr b="0" i="1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83560" y="388548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Lucida Calligraphy"/>
              </a:rPr>
              <a:t>Wappen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ff"/>
                </a:solidFill>
                <a:latin typeface="Modern No. 20"/>
              </a:rPr>
              <a:t>Sehensw</a:t>
            </a:r>
            <a:r>
              <a:rPr b="1" i="1" lang="de-DE" sz="8000" spc="-1" strike="noStrike">
                <a:solidFill>
                  <a:srgbClr val="6600ff"/>
                </a:solidFill>
                <a:latin typeface="Modern No. 20"/>
              </a:rPr>
              <a:t>ü</a:t>
            </a:r>
            <a:r>
              <a:rPr b="1" i="1" lang="en-US" sz="8000" spc="-1" strike="noStrike">
                <a:solidFill>
                  <a:srgbClr val="6600ff"/>
                </a:solidFill>
                <a:latin typeface="Modern No. 20"/>
              </a:rPr>
              <a:t>rdigke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9360">
            <a:solidFill>
              <a:srgbClr val="ff66cc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9360">
            <a:solidFill>
              <a:srgbClr val="ff66cc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1447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Lucida Calligraphy"/>
              </a:rPr>
              <a:t>Die Frauenkirche ist ein Wahrzeichen der Stadt </a:t>
            </a:r>
            <a:r>
              <a:rPr b="1" i="1" lang="de-DE" sz="3600" spc="-1" strike="noStrike">
                <a:solidFill>
                  <a:srgbClr val="6600cc"/>
                </a:solidFill>
                <a:latin typeface="Lucida Calligraphy"/>
              </a:rPr>
              <a:t>München</a:t>
            </a:r>
            <a:r>
              <a:rPr b="1" i="1" lang="ru-RU" sz="3600" spc="-1" strike="noStrike">
                <a:solidFill>
                  <a:srgbClr val="9933ff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333399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876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Im Norden der Stadt liegt der für die Olympis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Sommerspiele 1972 errichtete Olympia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Das architektonisch sehenswe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Ensemble aus Olympiastad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Olympia-Schwimmhalle und Olympiahalle</a:t>
            </a:r>
            <a:r>
              <a:rPr b="1" i="1" lang="ru-RU" sz="3200" spc="-1" strike="noStrike">
                <a:solidFill>
                  <a:srgbClr val="9999ff"/>
                </a:solidFill>
                <a:latin typeface="Lucida Calligraphy"/>
              </a:rPr>
              <a:t>.</a:t>
            </a: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743200" cy="365760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3924360" cy="203508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947920" y="2056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9999ff"/>
                </a:solidFill>
                <a:latin typeface="Lucida Calligraphy"/>
              </a:rPr>
              <a:t>Olympiatu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7080" y="639972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9999ff"/>
                </a:solidFill>
                <a:latin typeface="Lucida Calligraphy"/>
              </a:rPr>
              <a:t>Allianz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0099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9680" y="5942880"/>
            <a:ext cx="37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Lucida Calligraphy"/>
              </a:rPr>
              <a:t>Das</a:t>
            </a:r>
            <a:r>
              <a:rPr b="1" i="1" lang="de-DE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de-DE" sz="3200" spc="-1" strike="noStrike">
                <a:solidFill>
                  <a:srgbClr val="ffffff"/>
                </a:solidFill>
                <a:latin typeface="Lucida Calligraphy"/>
              </a:rPr>
              <a:t>Altes 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2320" cy="586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982040" y="5943600"/>
            <a:ext cx="36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Lucida Calligraphy"/>
              </a:rPr>
              <a:t>Das neue 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97440" y="0"/>
            <a:ext cx="4246560" cy="586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cc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030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33501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Der Marienplatz gilt als der Mittelpunkt Münchens und lieg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umgeben von dem Neuen und dem Alten Ratha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mitten im Zentrum der Altstad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Wenige Schritte davon liegt die Peterskirch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die älteste Kirche der Altstadt, deren erster Bau no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aus der Romanik stammte.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979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4561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ffcc00"/>
                </a:solidFill>
                <a:latin typeface="Lucida Calligraphy"/>
              </a:rPr>
              <a:t>Theatinerkirc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cc00"/>
                </a:solidFill>
                <a:latin typeface="Lucida Calligraphy"/>
              </a:rPr>
              <a:t>Das berühmte Theater der Stadt Münch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8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Картинка 1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4038840" cy="119880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69" name="" descr="Картинка 16 из 8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152280"/>
            <a:ext cx="2857680" cy="381024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80880" y="2867040"/>
            <a:ext cx="8763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Nach Norden Richtung Schwabing entstand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 </a:t>
            </a: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Ludwigstraße zwischen Feldherrnhalle und Sieges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An ihr liegen die Bayerische Staatsbibliothe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die Ludwigskirche und die Ludwig-Maximilians-Universitä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86080" cy="4572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908520" cy="48006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04920" y="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600" spc="-1" strike="noStrike">
                <a:solidFill>
                  <a:srgbClr val="0066ff"/>
                </a:solidFill>
                <a:latin typeface="Monotype Corsiva"/>
              </a:rPr>
              <a:t>Die Pr</a:t>
            </a:r>
            <a:r>
              <a:rPr b="1" i="1" lang="ru-RU" sz="6600" spc="-1" strike="noStrike">
                <a:solidFill>
                  <a:srgbClr val="0066ff"/>
                </a:solidFill>
                <a:latin typeface="Monotype Corsiva"/>
              </a:rPr>
              <a:t>е</a:t>
            </a:r>
            <a:r>
              <a:rPr b="1" i="1" lang="de-DE" sz="6600" spc="-1" strike="noStrike">
                <a:solidFill>
                  <a:srgbClr val="0066ff"/>
                </a:solidFill>
                <a:latin typeface="Monotype Corsiva"/>
              </a:rPr>
              <a:t>sentation hat erfüllt</a:t>
            </a:r>
            <a:r>
              <a:rPr b="1" i="1" lang="ru-RU" sz="6600" spc="-1" strike="noStrike">
                <a:solidFill>
                  <a:srgbClr val="0066ff"/>
                </a:solidFill>
                <a:latin typeface="Monotype Corsiv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643040"/>
            <a:ext cx="7010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Die Schulerin </a:t>
            </a:r>
            <a:r>
              <a:rPr b="1" i="1" lang="ru-RU" sz="4800" spc="-1" strike="noStrike">
                <a:solidFill>
                  <a:srgbClr val="66ccff"/>
                </a:solidFill>
                <a:latin typeface="Monotype Corsiva"/>
              </a:rPr>
              <a:t>9 «В»</a:t>
            </a: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 Klass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Shesterneva Irin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die Hauptschule das Duhownick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2010</a:t>
            </a:r>
            <a:r>
              <a:rPr b="1" i="1" lang="ru-RU" sz="4800" spc="-1" strike="noStrike">
                <a:solidFill>
                  <a:srgbClr val="66ccff"/>
                </a:solidFill>
                <a:latin typeface="Monotype Corsiva"/>
              </a:rPr>
              <a:t> </a:t>
            </a: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Jah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Й</cp:lastModifiedBy>
  <dcterms:modified xsi:type="dcterms:W3CDTF">2010-05-02T08:27:5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