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4D0A-28ED-48D4-81F2-84E8149C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E9A7-5020-49EA-B42D-A0C7882C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6BFB-9A6B-44D6-B603-2913E442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2394-B941-4424-907D-2C3CC327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8C98-7567-4B29-BC46-5A7D4C9D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F868-D449-453C-BA32-27846AD6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A15A-7D73-4B2F-A7B2-89112527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63D9-BB2D-416A-97C7-3AF32408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6490-003B-4C6C-8329-7367E506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00B8-BCC9-4DE7-9266-532884A3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6044-1967-417B-BB49-4D60EDFF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82B1-0110-456E-9C1A-77DC4A18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B9BB-697E-4280-BD18-B84E34A0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1BB3-6E28-4549-838F-376ABC2C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B0F8-653A-4562-993F-A9F875A5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1FB6-8014-441D-920E-0F41E903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CEE0-F157-46F8-ABC7-52CC2081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F6BD-EAC3-4256-AA5C-68E0D771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1704-A996-4406-95D8-E9C20B70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082F-CE06-41E3-902F-EFF0E5F7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D08E-2CDB-495D-B616-D8F43E69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245A-8877-4370-A252-47A493BF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DB3A-0F52-4919-8737-A1EFE0B8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9EBB-EC44-4231-A3C6-2171CE8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063D-D4C0-4E42-914A-988243BFC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67D9-829C-4E64-9D5B-CFF7990F53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e Exkursion nach Saratow</a:t>
            </a:r>
            <a:br>
              <a:rPr sz="4400"/>
            </a:b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aljukina Tanja. Klasse 8”a”  Leiter: Fokina G.W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4" descr="01"/>
          <p:cNvPicPr/>
          <p:nvPr/>
        </p:nvPicPr>
        <p:blipFill>
          <a:blip r:embed="rId1"/>
          <a:stretch/>
        </p:blipFill>
        <p:spPr>
          <a:xfrm>
            <a:off x="1952640" y="2209680"/>
            <a:ext cx="5238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16692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fdef6"/>
                </a:solidFill>
                <a:latin typeface="Arial"/>
              </a:rPr>
              <a:t>Die Kirche stille meine Trauer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4643280" y="2349360"/>
            <a:ext cx="26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3635280" y="764640"/>
            <a:ext cx="55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Stille meine die Trauern — orthodox den Tempel in der Mitte von Sarat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es Temp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6" descr="Utolisaratov"/>
          <p:cNvPicPr/>
          <p:nvPr/>
        </p:nvPicPr>
        <p:blipFill>
          <a:blip r:embed="rId1"/>
          <a:stretch/>
        </p:blipFill>
        <p:spPr>
          <a:xfrm>
            <a:off x="1547640" y="2565360"/>
            <a:ext cx="5435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388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dfdef6"/>
                </a:solidFill>
                <a:latin typeface="Arial"/>
              </a:rPr>
              <a:t>Die Kirche Pokrowa Preswjatoj Bogorodizy, dass auf den Bergen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Picture 4" descr="saratov-pokrova01b"/>
          <p:cNvPicPr/>
          <p:nvPr/>
        </p:nvPicPr>
        <p:blipFill>
          <a:blip r:embed="rId1"/>
          <a:stretch/>
        </p:blipFill>
        <p:spPr>
          <a:xfrm>
            <a:off x="2050920" y="2133720"/>
            <a:ext cx="622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b1531"/>
                </a:solidFill>
                <a:latin typeface="Arial"/>
              </a:rPr>
              <a:t>Wir sind stolz auf unsere </a:t>
            </a:r>
            <a:br>
              <a:rPr sz="4800"/>
            </a:br>
            <a:r>
              <a:rPr b="1" i="1" lang="en-US" sz="4800" spc="-1" strike="noStrike">
                <a:solidFill>
                  <a:srgbClr val="bb1531"/>
                </a:solidFill>
                <a:latin typeface="Arial"/>
              </a:rPr>
              <a:t>Stadt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"/>
              </a:rPr>
              <a:t>Willkommen nach Saratow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5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2627280" y="1691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Der Wolgabezi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10" descr="17109212_59YE1CAK7P843CALVYNQFCAIFJUDSCA6TDNBKCALUEGVFCAUOMPSNCAMP2XY6CA69UAV1CA9C4TUXCASO18NACA0SI1WYCAOQBCP3CAP7C95UCAJ5LXUTCA50MMQ3CASFFX2BCATR82AUCA69Y"/>
          <p:cNvPicPr/>
          <p:nvPr/>
        </p:nvPicPr>
        <p:blipFill>
          <a:blip r:embed="rId1"/>
          <a:stretch/>
        </p:blipFill>
        <p:spPr>
          <a:xfrm>
            <a:off x="0" y="2349360"/>
            <a:ext cx="4289400" cy="45086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1" descr="PIC_0045"/>
          <p:cNvPicPr/>
          <p:nvPr/>
        </p:nvPicPr>
        <p:blipFill>
          <a:blip r:embed="rId2"/>
          <a:stretch/>
        </p:blipFill>
        <p:spPr>
          <a:xfrm>
            <a:off x="4211640" y="2349360"/>
            <a:ext cx="4932360" cy="4508640"/>
          </a:xfrm>
          <a:prstGeom prst="rect">
            <a:avLst/>
          </a:prstGeom>
          <a:ln w="0">
            <a:noFill/>
          </a:ln>
        </p:spPr>
      </p:pic>
      <p:sp>
        <p:nvSpPr>
          <p:cNvPr id="519" name="WordArt 14"/>
          <p:cNvSpPr txBox="1"/>
          <p:nvPr/>
        </p:nvSpPr>
        <p:spPr>
          <a:xfrm>
            <a:off x="684360" y="549360"/>
            <a:ext cx="7056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6 administrative Bezirk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712764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Der Kirower Bezi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Picture 5" descr="21"/>
          <p:cNvPicPr/>
          <p:nvPr/>
        </p:nvPicPr>
        <p:blipFill>
          <a:blip r:embed="rId1"/>
          <a:stretch/>
        </p:blipFill>
        <p:spPr>
          <a:xfrm>
            <a:off x="0" y="1052640"/>
            <a:ext cx="4067280" cy="3024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img01a"/>
          <p:cNvPicPr/>
          <p:nvPr/>
        </p:nvPicPr>
        <p:blipFill>
          <a:blip r:embed="rId2"/>
          <a:stretch/>
        </p:blipFill>
        <p:spPr>
          <a:xfrm>
            <a:off x="4859280" y="1052640"/>
            <a:ext cx="4284720" cy="3024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9"/>
          <p:cNvSpPr/>
          <p:nvPr/>
        </p:nvSpPr>
        <p:spPr>
          <a:xfrm>
            <a:off x="0" y="407664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ie Saratower staatliche Universität von ihm. N.G.Tschernyschewsk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0"/>
          <p:cNvSpPr/>
          <p:nvPr/>
        </p:nvSpPr>
        <p:spPr>
          <a:xfrm>
            <a:off x="4859280" y="407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ie Saratower staatliche medizinische Universitä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5280" y="301320"/>
            <a:ext cx="729612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fdef6"/>
                </a:solidFill>
                <a:latin typeface="Arial"/>
              </a:rPr>
              <a:t>Der Leninski Bezi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6" descr="2255471"/>
          <p:cNvPicPr/>
          <p:nvPr/>
        </p:nvPicPr>
        <p:blipFill>
          <a:blip r:embed="rId1"/>
          <a:stretch/>
        </p:blipFill>
        <p:spPr>
          <a:xfrm>
            <a:off x="4859280" y="2565360"/>
            <a:ext cx="4284720" cy="4292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petpav"/>
          <p:cNvPicPr/>
          <p:nvPr/>
        </p:nvPicPr>
        <p:blipFill>
          <a:blip r:embed="rId2"/>
          <a:stretch/>
        </p:blipFill>
        <p:spPr>
          <a:xfrm>
            <a:off x="0" y="2536920"/>
            <a:ext cx="4859280" cy="432108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12"/>
          <p:cNvSpPr/>
          <p:nvPr/>
        </p:nvSpPr>
        <p:spPr>
          <a:xfrm>
            <a:off x="0" y="155736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er Leninski Bezirk Saratows ist am 2. Oktober 1945 gebild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Sein Territorium – 11977 Hekta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ie Bevölkerungszahl-262,4 Tausend Stir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72436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Der werkseigene Bezi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Picture 4" descr="18722"/>
          <p:cNvPicPr/>
          <p:nvPr/>
        </p:nvPicPr>
        <p:blipFill>
          <a:blip r:embed="rId1"/>
          <a:stretch/>
        </p:blipFill>
        <p:spPr>
          <a:xfrm>
            <a:off x="0" y="2205000"/>
            <a:ext cx="4643280" cy="4653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album_21494_9034"/>
          <p:cNvPicPr/>
          <p:nvPr/>
        </p:nvPicPr>
        <p:blipFill>
          <a:blip r:embed="rId2"/>
          <a:stretch/>
        </p:blipFill>
        <p:spPr>
          <a:xfrm>
            <a:off x="4643280" y="2924280"/>
            <a:ext cx="4500720" cy="3933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" descr="29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Der Frunsenski Bezi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er Frunsenski Bezirk Saratows war in September 1936 gebild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dfbymgxnq"/>
          <p:cNvPicPr/>
          <p:nvPr/>
        </p:nvPicPr>
        <p:blipFill>
          <a:blip r:embed="rId2"/>
          <a:stretch/>
        </p:blipFill>
        <p:spPr>
          <a:xfrm>
            <a:off x="5003640" y="1628640"/>
            <a:ext cx="4140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51609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Der Oktober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ezi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Picture 4" descr="44855c92a975"/>
          <p:cNvPicPr/>
          <p:nvPr/>
        </p:nvPicPr>
        <p:blipFill>
          <a:blip r:embed="rId1"/>
          <a:stretch/>
        </p:blipFill>
        <p:spPr>
          <a:xfrm>
            <a:off x="4140360" y="2205000"/>
            <a:ext cx="5003640" cy="46530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6"/>
          <p:cNvSpPr/>
          <p:nvPr/>
        </p:nvSpPr>
        <p:spPr>
          <a:xfrm>
            <a:off x="4716360" y="764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Am 25. März 1917 war in der Kirower Bezirk gebild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7" descr="37"/>
          <p:cNvPicPr/>
          <p:nvPr/>
        </p:nvPicPr>
        <p:blipFill>
          <a:blip r:embed="rId2"/>
          <a:stretch/>
        </p:blipFill>
        <p:spPr>
          <a:xfrm>
            <a:off x="0" y="2421000"/>
            <a:ext cx="42116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def6"/>
                </a:solidFill>
                <a:latin typeface="Arial"/>
              </a:rPr>
              <a:t>Der Springbrunnen auf der Fläche Radischtschew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Picture 4" descr="150f5ab169d8"/>
          <p:cNvPicPr/>
          <p:nvPr/>
        </p:nvPicPr>
        <p:blipFill>
          <a:blip r:embed="rId1"/>
          <a:stretch/>
        </p:blipFill>
        <p:spPr>
          <a:xfrm>
            <a:off x="0" y="22050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6745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Der Garten Lipk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Picture 4" descr="0_14b77_b6020114_XL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3357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" descr="resize2"/>
          <p:cNvPicPr/>
          <p:nvPr/>
        </p:nvPicPr>
        <p:blipFill>
          <a:blip r:embed="rId2"/>
          <a:stretch/>
        </p:blipFill>
        <p:spPr>
          <a:xfrm>
            <a:off x="0" y="2565360"/>
            <a:ext cx="4356000" cy="4292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3" descr="img_lRjvkc"/>
          <p:cNvPicPr/>
          <p:nvPr/>
        </p:nvPicPr>
        <p:blipFill>
          <a:blip r:embed="rId3"/>
          <a:stretch/>
        </p:blipFill>
        <p:spPr>
          <a:xfrm>
            <a:off x="4859280" y="3716280"/>
            <a:ext cx="4284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9:43:27Z</dcterms:created>
  <dc:creator>Алексей</dc:creator>
  <dc:description/>
  <dc:language>en-US</dc:language>
  <cp:lastModifiedBy>F-A-S</cp:lastModifiedBy>
  <dcterms:modified xsi:type="dcterms:W3CDTF">2011-11-26T17:50:07Z</dcterms:modified>
  <cp:revision>10</cp:revision>
  <dc:subject/>
  <dc:title>Слайд 1</dc:title>
</cp:coreProperties>
</file>