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15D2-996A-4F0C-9979-D6080BE9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C53A-2EC9-487A-A4B4-76CB88B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8736-2756-44B8-815E-F450EE24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21D3-096E-4FE5-9052-BFAB0C64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36BB-0F40-4335-B2ED-1C3EA6D9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0AC-A17D-489C-BA1E-6FFADA4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D664-53BB-400B-B347-75C5BF3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B05-6825-4913-8EC5-3615CB1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CBA3-1386-4CA6-84B0-533C9E3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70C8-84E5-410A-B9B7-BB4CC9E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F91-DC82-4FF5-8D49-F2D64E9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B82F-394E-411E-A8A2-20F0680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D82-8751-45F9-ADD1-7571675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3E4-6C1F-4066-A75C-76BAF52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091C-51D4-4CB2-B994-10C5AA94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17E0-984D-41EF-8E24-964A3641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72A-1966-4C3A-A022-EEFA100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02FC-4588-4675-93BC-697B8A9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98A1-344E-4B4D-9C00-3E3C59F2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408-E7A6-4B88-99E5-6954FF29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8FCA-D4E0-49CA-BFB8-11D57D8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5BBD-CE44-4394-B42D-2CA9A21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1CF1-5B8F-47C6-9292-66B0D7F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A746-E4E5-4E78-A2D0-1E75B24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624-5F79-4D88-9E78-5B77CFEC1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B66E-4BA5-4B20-8FA1-6F80DF69C2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e Exkursion nach Saratow</a:t>
            </a:r>
            <a:br>
              <a:rPr sz="4400"/>
            </a:b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aljukina Tanja. Klasse 8”a”  Leiter: Fokina G.W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4" descr="01"/>
          <p:cNvPicPr/>
          <p:nvPr/>
        </p:nvPicPr>
        <p:blipFill>
          <a:blip r:embed="rId1"/>
          <a:stretch/>
        </p:blipFill>
        <p:spPr>
          <a:xfrm>
            <a:off x="1952640" y="220968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1669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fdef6"/>
                </a:solidFill>
                <a:latin typeface="Arial"/>
              </a:rPr>
              <a:t>Die Kirche stille meine Trauer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4643280" y="2349360"/>
            <a:ext cx="26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635280" y="76464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tille meine die Trauern — orthodox den Tempel in der Mitte von Sarat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es Temp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6" descr="Utolisaratov"/>
          <p:cNvPicPr/>
          <p:nvPr/>
        </p:nvPicPr>
        <p:blipFill>
          <a:blip r:embed="rId1"/>
          <a:stretch/>
        </p:blipFill>
        <p:spPr>
          <a:xfrm>
            <a:off x="1547640" y="2565360"/>
            <a:ext cx="5435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88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dfdef6"/>
                </a:solidFill>
                <a:latin typeface="Arial"/>
              </a:rPr>
              <a:t>Die Kirche Pokrowa Preswjatoj Bogorodizy, dass auf den Berge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Picture 4" descr="saratov-pokrova01b"/>
          <p:cNvPicPr/>
          <p:nvPr/>
        </p:nvPicPr>
        <p:blipFill>
          <a:blip r:embed="rId1"/>
          <a:stretch/>
        </p:blipFill>
        <p:spPr>
          <a:xfrm>
            <a:off x="2050920" y="2133720"/>
            <a:ext cx="622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b1531"/>
                </a:solidFill>
                <a:latin typeface="Arial"/>
              </a:rPr>
              <a:t>Wir sind stolz auf unsere </a:t>
            </a:r>
            <a:br>
              <a:rPr sz="4800"/>
            </a:br>
            <a:r>
              <a:rPr b="1" i="1" lang="en-US" sz="4800" spc="-1" strike="noStrike">
                <a:solidFill>
                  <a:srgbClr val="bb1531"/>
                </a:solidFill>
                <a:latin typeface="Arial"/>
              </a:rPr>
              <a:t>Stadt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Willkommen nach Sarato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5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2627280" y="1691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Der Wolgabezi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0" descr="17109212_59YE1CAK7P843CALVYNQFCAIFJUDSCA6TDNBKCALUEGVFCAUOMPSNCAMP2XY6CA69UAV1CA9C4TUXCASO18NACA0SI1WYCAOQBCP3CAP7C95UCAJ5LXUTCA50MMQ3CASFFX2BCATR82AUCA69Y"/>
          <p:cNvPicPr/>
          <p:nvPr/>
        </p:nvPicPr>
        <p:blipFill>
          <a:blip r:embed="rId1"/>
          <a:stretch/>
        </p:blipFill>
        <p:spPr>
          <a:xfrm>
            <a:off x="0" y="2349360"/>
            <a:ext cx="4289400" cy="4508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PIC_0045"/>
          <p:cNvPicPr/>
          <p:nvPr/>
        </p:nvPicPr>
        <p:blipFill>
          <a:blip r:embed="rId2"/>
          <a:stretch/>
        </p:blipFill>
        <p:spPr>
          <a:xfrm>
            <a:off x="4211640" y="2349360"/>
            <a:ext cx="4932360" cy="4508640"/>
          </a:xfrm>
          <a:prstGeom prst="rect">
            <a:avLst/>
          </a:prstGeom>
          <a:ln w="0">
            <a:noFill/>
          </a:ln>
        </p:spPr>
      </p:pic>
      <p:sp>
        <p:nvSpPr>
          <p:cNvPr id="519" name="WordArt 14"/>
          <p:cNvSpPr txBox="1"/>
          <p:nvPr/>
        </p:nvSpPr>
        <p:spPr>
          <a:xfrm>
            <a:off x="684360" y="549360"/>
            <a:ext cx="7056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 administrative Bezirk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1276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Kirower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5" descr="21"/>
          <p:cNvPicPr/>
          <p:nvPr/>
        </p:nvPicPr>
        <p:blipFill>
          <a:blip r:embed="rId1"/>
          <a:stretch/>
        </p:blipFill>
        <p:spPr>
          <a:xfrm>
            <a:off x="0" y="1052640"/>
            <a:ext cx="4067280" cy="3024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img01a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3024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9"/>
          <p:cNvSpPr/>
          <p:nvPr/>
        </p:nvSpPr>
        <p:spPr>
          <a:xfrm>
            <a:off x="0" y="4076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Saratower staatliche Universität von ihm. N.G.Tschernyschewsk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4859280" y="407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Saratower staatliche medizinische Universitä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72961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Der Leninski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6" descr="2255471"/>
          <p:cNvPicPr/>
          <p:nvPr/>
        </p:nvPicPr>
        <p:blipFill>
          <a:blip r:embed="rId1"/>
          <a:stretch/>
        </p:blipFill>
        <p:spPr>
          <a:xfrm>
            <a:off x="4859280" y="2565360"/>
            <a:ext cx="4284720" cy="4292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petpav"/>
          <p:cNvPicPr/>
          <p:nvPr/>
        </p:nvPicPr>
        <p:blipFill>
          <a:blip r:embed="rId2"/>
          <a:stretch/>
        </p:blipFill>
        <p:spPr>
          <a:xfrm>
            <a:off x="0" y="2536920"/>
            <a:ext cx="4859280" cy="43210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2"/>
          <p:cNvSpPr/>
          <p:nvPr/>
        </p:nvSpPr>
        <p:spPr>
          <a:xfrm>
            <a:off x="0" y="1557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er Leninski Bezirk Saratows ist am 2. Oktober 1945 gebild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ein Territorium – 11977 Hekta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Bevölkerungszahl-262,4 Tausend Stir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7243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werkseigene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4" descr="18722"/>
          <p:cNvPicPr/>
          <p:nvPr/>
        </p:nvPicPr>
        <p:blipFill>
          <a:blip r:embed="rId1"/>
          <a:stretch/>
        </p:blipFill>
        <p:spPr>
          <a:xfrm>
            <a:off x="0" y="2205000"/>
            <a:ext cx="4643280" cy="465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album_21494_9034"/>
          <p:cNvPicPr/>
          <p:nvPr/>
        </p:nvPicPr>
        <p:blipFill>
          <a:blip r:embed="rId2"/>
          <a:stretch/>
        </p:blipFill>
        <p:spPr>
          <a:xfrm>
            <a:off x="4643280" y="2924280"/>
            <a:ext cx="4500720" cy="3933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29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Frunsenski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Frunsenski Bezirk Saratows war in September 1936 gebild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dfbymgxnq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5160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Oktobe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4" descr="44855c92a975"/>
          <p:cNvPicPr/>
          <p:nvPr/>
        </p:nvPicPr>
        <p:blipFill>
          <a:blip r:embed="rId1"/>
          <a:stretch/>
        </p:blipFill>
        <p:spPr>
          <a:xfrm>
            <a:off x="4140360" y="2205000"/>
            <a:ext cx="5003640" cy="4653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6"/>
          <p:cNvSpPr/>
          <p:nvPr/>
        </p:nvSpPr>
        <p:spPr>
          <a:xfrm>
            <a:off x="4716360" y="76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Am 25. März 1917 war in der Kirower Bezirk gebild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7" descr="37"/>
          <p:cNvPicPr/>
          <p:nvPr/>
        </p:nvPicPr>
        <p:blipFill>
          <a:blip r:embed="rId2"/>
          <a:stretch/>
        </p:blipFill>
        <p:spPr>
          <a:xfrm>
            <a:off x="0" y="2421000"/>
            <a:ext cx="4211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Der Springbrunnen auf der Fläche Radischtsche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4" descr="150f5ab169d8"/>
          <p:cNvPicPr/>
          <p:nvPr/>
        </p:nvPicPr>
        <p:blipFill>
          <a:blip r:embed="rId1"/>
          <a:stretch/>
        </p:blipFill>
        <p:spPr>
          <a:xfrm>
            <a:off x="0" y="2205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745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Garten Lip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Picture 4" descr="0_14b77_b6020114_XL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357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resize2"/>
          <p:cNvPicPr/>
          <p:nvPr/>
        </p:nvPicPr>
        <p:blipFill>
          <a:blip r:embed="rId2"/>
          <a:stretch/>
        </p:blipFill>
        <p:spPr>
          <a:xfrm>
            <a:off x="0" y="2565360"/>
            <a:ext cx="4356000" cy="4292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3" descr="img_lRjvkc"/>
          <p:cNvPicPr/>
          <p:nvPr/>
        </p:nvPicPr>
        <p:blipFill>
          <a:blip r:embed="rId3"/>
          <a:stretch/>
        </p:blipFill>
        <p:spPr>
          <a:xfrm>
            <a:off x="4859280" y="3716280"/>
            <a:ext cx="4284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9:43:27Z</dcterms:created>
  <dc:creator>Алексей</dc:creator>
  <dc:description/>
  <dc:language>en-US</dc:language>
  <cp:lastModifiedBy>F-A-S</cp:lastModifiedBy>
  <dcterms:modified xsi:type="dcterms:W3CDTF">2011-11-26T17:50:07Z</dcterms:modified>
  <cp:revision>10</cp:revision>
  <dc:subject/>
  <dc:title>Слайд 1</dc:title>
</cp:coreProperties>
</file>