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.jpeg" ContentType="image/jpeg"/>
  <Override PartName="/ppt/media/image4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49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3423-2748-4E3A-9839-7A27E0703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6919-9E7C-4502-8EB8-1FEF6E08C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0A3E-8687-4273-A1A8-07C559BE5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251D-DE5F-4EB9-A163-9549CC1C3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D330-3E26-4EFD-946F-4B2F3D7C9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AD6A-24C8-4951-B969-5C7BD9B23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805D-555E-4C37-8618-53F8883FB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2808-D124-41C8-B9A6-FC5DE0928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19FE-05F2-4E27-AB36-0620DDB75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2DD1-5A2A-4E7D-B487-8B9699943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FC5E-965F-45B1-8FF0-FE95050E6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B7A7-C6D7-4EC7-A895-BCE3BC37B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A7C83-9714-4A85-A192-241D95BD44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image" Target="../media/image33.jpeg"/><Relationship Id="rId8" Type="http://schemas.openxmlformats.org/officeDocument/2006/relationships/image" Target="../media/image34.jpe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image" Target="../media/image25.jpe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348000" y="1413000"/>
            <a:ext cx="5796000" cy="328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Работа классных руководителей по формированию Портфолио младшего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школьника.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заимодействие с родителями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C:\Documents and Settings\Администратор\Рабочий стол\Новая папка\герб школы.jpg"/>
          <p:cNvPicPr/>
          <p:nvPr/>
        </p:nvPicPr>
        <p:blipFill>
          <a:blip r:embed="rId2"/>
          <a:stretch/>
        </p:blipFill>
        <p:spPr>
          <a:xfrm>
            <a:off x="0" y="0"/>
            <a:ext cx="3433680" cy="49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Копилка творческих рабо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3" descr="портфолио 119"/>
          <p:cNvPicPr/>
          <p:nvPr/>
        </p:nvPicPr>
        <p:blipFill>
          <a:blip r:embed="rId2"/>
          <a:stretch/>
        </p:blipFill>
        <p:spPr>
          <a:xfrm>
            <a:off x="6516720" y="1413000"/>
            <a:ext cx="1714320" cy="2286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портфолио 113"/>
          <p:cNvPicPr/>
          <p:nvPr/>
        </p:nvPicPr>
        <p:blipFill>
          <a:blip r:embed="rId3"/>
          <a:stretch/>
        </p:blipFill>
        <p:spPr>
          <a:xfrm>
            <a:off x="2484360" y="1413000"/>
            <a:ext cx="1714680" cy="2286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портфолио 103247"/>
          <p:cNvPicPr/>
          <p:nvPr/>
        </p:nvPicPr>
        <p:blipFill>
          <a:blip r:embed="rId4"/>
          <a:stretch/>
        </p:blipFill>
        <p:spPr>
          <a:xfrm>
            <a:off x="4500720" y="1413000"/>
            <a:ext cx="1714320" cy="2286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портфолио 072"/>
          <p:cNvPicPr/>
          <p:nvPr/>
        </p:nvPicPr>
        <p:blipFill>
          <a:blip r:embed="rId5"/>
          <a:stretch/>
        </p:blipFill>
        <p:spPr>
          <a:xfrm>
            <a:off x="539640" y="1413000"/>
            <a:ext cx="1714680" cy="2286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портфолио 114"/>
          <p:cNvPicPr/>
          <p:nvPr/>
        </p:nvPicPr>
        <p:blipFill>
          <a:blip r:embed="rId6"/>
          <a:stretch/>
        </p:blipFill>
        <p:spPr>
          <a:xfrm>
            <a:off x="250920" y="3860640"/>
            <a:ext cx="1944720" cy="25927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портфолио 105246"/>
          <p:cNvPicPr/>
          <p:nvPr/>
        </p:nvPicPr>
        <p:blipFill>
          <a:blip r:embed="rId7"/>
          <a:stretch/>
        </p:blipFill>
        <p:spPr>
          <a:xfrm>
            <a:off x="2700360" y="3860640"/>
            <a:ext cx="2017800" cy="2691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9" descr="портфолио 104"/>
          <p:cNvPicPr/>
          <p:nvPr/>
        </p:nvPicPr>
        <p:blipFill>
          <a:blip r:embed="rId8"/>
          <a:stretch/>
        </p:blipFill>
        <p:spPr>
          <a:xfrm>
            <a:off x="5076720" y="3860640"/>
            <a:ext cx="205272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Этапы работы над Портфоли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Обсуждение, выбор рубрик папки достижений – октябр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Сбор материала – в течение год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.   Выбор и анализ материала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распределение по разделам -1полугоди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4.   Оформление, представление, презентация отдельных раздел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в 1 классе основной акцент сделать на раздел «Моя семья»)  – феврал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5. «День семьи» - праздник-презентация работы за год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Принципы формирования Портфоли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9528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 Не нарушать принцип добровольности при формировании портфоли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C:\Documents and Settings\Администратор\Рабочий стол\Новая папка\портфолио 036.jpg"/>
          <p:cNvPicPr/>
          <p:nvPr/>
        </p:nvPicPr>
        <p:blipFill>
          <a:blip r:embed="rId2"/>
          <a:stretch/>
        </p:blipFill>
        <p:spPr>
          <a:xfrm rot="21006000">
            <a:off x="911160" y="3270240"/>
            <a:ext cx="1841400" cy="26557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C:\Documents and Settings\Администратор\Рабочий стол\Новая папка\портфолио 037.jpg"/>
          <p:cNvPicPr/>
          <p:nvPr/>
        </p:nvPicPr>
        <p:blipFill>
          <a:blip r:embed="rId3"/>
          <a:stretch/>
        </p:blipFill>
        <p:spPr>
          <a:xfrm>
            <a:off x="3711600" y="3284640"/>
            <a:ext cx="2019240" cy="28083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8" descr="портфолио 044"/>
          <p:cNvPicPr/>
          <p:nvPr/>
        </p:nvPicPr>
        <p:blipFill>
          <a:blip r:embed="rId4"/>
          <a:stretch/>
        </p:blipFill>
        <p:spPr>
          <a:xfrm rot="5952600">
            <a:off x="6109200" y="3558240"/>
            <a:ext cx="2673360" cy="20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Принципы формирования Портфолио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57120" y="12139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Сбор материалов самим ребёнком при помощи и поддержке взрослы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3" descr="C:\Documents and Settings\Администратор\Рабочий стол\Новая папка\портфолио 048.jpg"/>
          <p:cNvPicPr/>
          <p:nvPr/>
        </p:nvPicPr>
        <p:blipFill>
          <a:blip r:embed="rId2"/>
          <a:stretch/>
        </p:blipFill>
        <p:spPr>
          <a:xfrm>
            <a:off x="611280" y="2708280"/>
            <a:ext cx="2332080" cy="34322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C:\Documents and Settings\Администратор\Рабочий стол\Новая папка\портфолио 052.jpg"/>
          <p:cNvPicPr/>
          <p:nvPr/>
        </p:nvPicPr>
        <p:blipFill>
          <a:blip r:embed="rId3"/>
          <a:stretch/>
        </p:blipFill>
        <p:spPr>
          <a:xfrm>
            <a:off x="3448080" y="2708280"/>
            <a:ext cx="2327400" cy="34275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8" descr="портфолио 045"/>
          <p:cNvPicPr/>
          <p:nvPr/>
        </p:nvPicPr>
        <p:blipFill>
          <a:blip r:embed="rId4"/>
          <a:stretch/>
        </p:blipFill>
        <p:spPr>
          <a:xfrm>
            <a:off x="6156360" y="2852640"/>
            <a:ext cx="2808360" cy="21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Принципы формирования Портфоли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28760" y="12139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 Не отказывать в помощи ребенку при формировании портфоли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2" descr="C:\Documents and Settings\Администратор\Рабочий стол\Новая папка\портфолио 040.jpg"/>
          <p:cNvPicPr/>
          <p:nvPr/>
        </p:nvPicPr>
        <p:blipFill>
          <a:blip r:embed="rId2"/>
          <a:stretch/>
        </p:blipFill>
        <p:spPr>
          <a:xfrm>
            <a:off x="900000" y="2421000"/>
            <a:ext cx="2995560" cy="41036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C:\Documents and Settings\Администратор\Рабочий стол\Новая папка\портфолио 041.jpg"/>
          <p:cNvPicPr/>
          <p:nvPr/>
        </p:nvPicPr>
        <p:blipFill>
          <a:blip r:embed="rId3"/>
          <a:stretch/>
        </p:blipFill>
        <p:spPr>
          <a:xfrm>
            <a:off x="4357800" y="2428920"/>
            <a:ext cx="287820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259920"/>
            <a:ext cx="821844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Принципы формирования Портфоли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2" descr="C:\Documents and Settings\Администратор\Рабочий стол\Новая папка\портфолио 056.jpg"/>
          <p:cNvPicPr/>
          <p:nvPr/>
        </p:nvPicPr>
        <p:blipFill>
          <a:blip r:embed="rId2"/>
          <a:stretch/>
        </p:blipFill>
        <p:spPr>
          <a:xfrm>
            <a:off x="598320" y="3213000"/>
            <a:ext cx="2463840" cy="3240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3" descr="C:\Documents and Settings\Администратор\Рабочий стол\Новая папка\портфолио 062.jpg"/>
          <p:cNvPicPr/>
          <p:nvPr/>
        </p:nvPicPr>
        <p:blipFill>
          <a:blip r:embed="rId3"/>
          <a:stretch/>
        </p:blipFill>
        <p:spPr>
          <a:xfrm>
            <a:off x="3276720" y="4437000"/>
            <a:ext cx="2950920" cy="21211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" descr="C:\Documents and Settings\Администратор\Рабочий стол\Новая папка\портфолио 063.jpg"/>
          <p:cNvPicPr/>
          <p:nvPr/>
        </p:nvPicPr>
        <p:blipFill>
          <a:blip r:embed="rId4"/>
          <a:stretch/>
        </p:blipFill>
        <p:spPr>
          <a:xfrm>
            <a:off x="6300720" y="2852640"/>
            <a:ext cx="2664000" cy="188748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9"/>
          <p:cNvSpPr/>
          <p:nvPr/>
        </p:nvSpPr>
        <p:spPr>
          <a:xfrm>
            <a:off x="1274760" y="16905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0"/>
          <p:cNvSpPr/>
          <p:nvPr/>
        </p:nvSpPr>
        <p:spPr>
          <a:xfrm>
            <a:off x="826920" y="1341360"/>
            <a:ext cx="722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2"/>
          <p:cNvSpPr/>
          <p:nvPr/>
        </p:nvSpPr>
        <p:spPr>
          <a:xfrm>
            <a:off x="539640" y="1268280"/>
            <a:ext cx="8209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 Использование возможностей системы дополнительного и профессионального образования, общественных организаций и т.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Принципы  формирования Портфоли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3" descr="C:\Documents and Settings\Администратор\Рабочий стол\Новая папка\портфолио 058.jpg"/>
          <p:cNvPicPr/>
          <p:nvPr/>
        </p:nvPicPr>
        <p:blipFill>
          <a:blip r:embed="rId2"/>
          <a:stretch/>
        </p:blipFill>
        <p:spPr>
          <a:xfrm>
            <a:off x="4230720" y="2637000"/>
            <a:ext cx="2898720" cy="37843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портфолио 047"/>
          <p:cNvPicPr/>
          <p:nvPr/>
        </p:nvPicPr>
        <p:blipFill>
          <a:blip r:embed="rId3"/>
          <a:stretch/>
        </p:blipFill>
        <p:spPr>
          <a:xfrm>
            <a:off x="1042920" y="2637000"/>
            <a:ext cx="2862360" cy="381636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8"/>
          <p:cNvSpPr/>
          <p:nvPr/>
        </p:nvSpPr>
        <p:spPr>
          <a:xfrm>
            <a:off x="1835280" y="1700280"/>
            <a:ext cx="3744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9"/>
          <p:cNvSpPr/>
          <p:nvPr/>
        </p:nvSpPr>
        <p:spPr>
          <a:xfrm>
            <a:off x="395280" y="134424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. Исключить формальный подход к портфолио - "соревнование за количество"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Принципы формирования Портфоли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Собираем не только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документы "с печатями"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Акцент на содержании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а не на форм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2" descr="C:\Documents and Settings\Администратор\Рабочий стол\Новая папка\портфолио 050.jpg"/>
          <p:cNvPicPr/>
          <p:nvPr/>
        </p:nvPicPr>
        <p:blipFill>
          <a:blip r:embed="rId2"/>
          <a:stretch/>
        </p:blipFill>
        <p:spPr>
          <a:xfrm>
            <a:off x="5724360" y="1413000"/>
            <a:ext cx="286884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4360" y="549360"/>
            <a:ext cx="7920000" cy="71280"/>
          </a:xfrm>
          <a:prstGeom prst="rect">
            <a:avLst/>
          </a:prstGeom>
          <a:noFill/>
          <a:ln w="0">
            <a:noFill/>
          </a:ln>
        </p:spPr>
        <p:txBody>
          <a:bodyPr tIns="25560" bIns="255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овместная работа над созданием портфолио детей и их родителей способствует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►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проявлению своей индивидуальности и умению работать в команде; раскрытию творческого потенциала детей и взрослых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►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формированию адекватной самооценки у детей и собственной мировоззренческой позиции, основанной на проживании своего опыта, понимании и принятии уникальности опыта другого человека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►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созданию условий для взаимодействия родителей и детей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►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укреплению семейных отношений, ценностей и традиций, возвращению к историческим корням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Выводы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спешное продолжение этой работы зависит от грамотного поведения всех, кто принимает участие в формировании Портфолио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Дети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учатся замечать собственные успехи, а  следовательно саморазвиваются и самореализуются;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школьники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которым трудно учиться, могут преуспевать в других видах деятельности, а, значит, повысить самооценку и успешно социализироваться в классном коллективе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одители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раскрывая талант ребенка, постепенно и целенаправленно могут помочь своим детям стать специалистами в той или иной област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лассный руководитель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поддерживает ситуацию успеха, оказывает педагогическую помощь конкретным детя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аким образом, совместная деятельность всех участников образовательного процесса определяет зону ближайшего развития каждого ребёнк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ортфолио младшего школьника – это совместная деятельность классного руководителя, учеников , родителей и педагогов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3600" spc="-1" strike="noStrike" u="sng">
                <a:solidFill>
                  <a:srgbClr val="ff0000"/>
                </a:solidFill>
                <a:uFillTx/>
                <a:latin typeface="Calibri"/>
              </a:rPr>
              <a:t>Классные руководител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       </a:t>
            </a: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Ученики                      Педагог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                          </a:t>
            </a: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Родители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4" name="Прямая со стрелкой 6"/>
          <p:cNvCxnSpPr/>
          <p:nvPr/>
        </p:nvCxnSpPr>
        <p:spPr>
          <a:xfrm>
            <a:off x="4785120" y="4071600"/>
            <a:ext cx="500760" cy="50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5" name="Прямая со стрелкой 7"/>
          <p:cNvCxnSpPr/>
          <p:nvPr/>
        </p:nvCxnSpPr>
        <p:spPr>
          <a:xfrm flipH="1">
            <a:off x="4071600" y="4071960"/>
            <a:ext cx="2160" cy="1286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6" name="Прямая со стрелкой 11"/>
          <p:cNvCxnSpPr/>
          <p:nvPr/>
        </p:nvCxnSpPr>
        <p:spPr>
          <a:xfrm flipH="1">
            <a:off x="2856960" y="4071600"/>
            <a:ext cx="500760" cy="50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140360" y="1412640"/>
            <a:ext cx="4186080" cy="47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Презентацию подготовила </a:t>
            </a:r>
            <a:br>
              <a:rPr sz="2000"/>
            </a:b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учитель начальных классов</a:t>
            </a:r>
            <a:br>
              <a:rPr sz="2000"/>
            </a:b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МОУ-СОШ № 17</a:t>
            </a:r>
            <a:br>
              <a:rPr sz="2000"/>
            </a:b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Елисеева Анна Павловна</a:t>
            </a:r>
            <a:br>
              <a:rPr sz="2000"/>
            </a:br>
            <a:br>
              <a:rPr sz="28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2" descr="C:\Documents and Settings\Администратор\Рабочий стол\Новая папка\герб школы.jpg"/>
          <p:cNvPicPr/>
          <p:nvPr/>
        </p:nvPicPr>
        <p:blipFill>
          <a:blip r:embed="rId2"/>
          <a:stretch/>
        </p:blipFill>
        <p:spPr>
          <a:xfrm>
            <a:off x="1071720" y="1714680"/>
            <a:ext cx="3024000" cy="3857400"/>
          </a:xfrm>
          <a:prstGeom prst="rect">
            <a:avLst/>
          </a:prstGeom>
          <a:ln w="0">
            <a:noFill/>
          </a:ln>
        </p:spPr>
      </p:pic>
      <p:sp>
        <p:nvSpPr>
          <p:cNvPr id="126" name="TextBox 3"/>
          <p:cNvSpPr/>
          <p:nvPr/>
        </p:nvSpPr>
        <p:spPr>
          <a:xfrm>
            <a:off x="1476360" y="404640"/>
            <a:ext cx="6027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1692360" y="5950080"/>
            <a:ext cx="34765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</a:rPr>
              <a:t>www.klin-17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</a:rPr>
              <a:t>.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</a:rPr>
              <a:t>narod.ru</a:t>
            </a: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28400" y="-360"/>
            <a:ext cx="8715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Формы взаимодействия с родителями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78920" y="1844280"/>
            <a:ext cx="4753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Родительские собрания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Круглые столы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Беседы-практикумы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Индивидуальны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консультаци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и др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3" descr="C:\Documents and Settings\Администратор\Рабочий стол\Новая папка\P3180083.JPG"/>
          <p:cNvPicPr/>
          <p:nvPr/>
        </p:nvPicPr>
        <p:blipFill>
          <a:blip r:embed="rId2"/>
          <a:stretch/>
        </p:blipFill>
        <p:spPr>
          <a:xfrm>
            <a:off x="4643280" y="1500120"/>
            <a:ext cx="4214880" cy="35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Родительское собрани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ем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: Портфель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личных достижений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оего ребён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Цель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: Мотивация родителей на создание Портфолио совместно с деть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C:\Documents and Settings\Администратор\Рабочий стол\Новая папка\P3180086.JPG"/>
          <p:cNvPicPr/>
          <p:nvPr/>
        </p:nvPicPr>
        <p:blipFill>
          <a:blip r:embed="rId2"/>
          <a:stretch/>
        </p:blipFill>
        <p:spPr>
          <a:xfrm>
            <a:off x="539640" y="3573360"/>
            <a:ext cx="3600720" cy="27021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C:\Documents and Settings\Администратор\Рабочий стол\Новая папка\P3180081.JPG"/>
          <p:cNvPicPr/>
          <p:nvPr/>
        </p:nvPicPr>
        <p:blipFill>
          <a:blip r:embed="rId3"/>
          <a:stretch/>
        </p:blipFill>
        <p:spPr>
          <a:xfrm>
            <a:off x="4284720" y="3573360"/>
            <a:ext cx="3600360" cy="27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Задачи собра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42920" y="135684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здать атмосферу взаимного доверия и общности интересов взрослых и детей для развития у них навыков партнетских взаимоотношений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.  Дать родителям представление о новой форме накопительной системы оценки достижений учащихся – Портфолио младшего школьника, методике создания Портфолио, его роли и месте в формировании семейных ценностей и особенностях совместной работы родителей и детей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. Сформулировать совместные задачи, которые необходимо решить в ходе детско-взрослой работы над Портфоли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труктура Портфолио: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оя семья! Здравствуйте! Это я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3" descr="портфолио 065327325"/>
          <p:cNvPicPr/>
          <p:nvPr/>
        </p:nvPicPr>
        <p:blipFill>
          <a:blip r:embed="rId2"/>
          <a:stretch/>
        </p:blipFill>
        <p:spPr>
          <a:xfrm>
            <a:off x="2700360" y="1484280"/>
            <a:ext cx="1836720" cy="2448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портфолио 066"/>
          <p:cNvPicPr/>
          <p:nvPr/>
        </p:nvPicPr>
        <p:blipFill>
          <a:blip r:embed="rId3"/>
          <a:stretch/>
        </p:blipFill>
        <p:spPr>
          <a:xfrm>
            <a:off x="539640" y="1484280"/>
            <a:ext cx="1838520" cy="24494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портфолио 087"/>
          <p:cNvPicPr/>
          <p:nvPr/>
        </p:nvPicPr>
        <p:blipFill>
          <a:blip r:embed="rId4"/>
          <a:stretch/>
        </p:blipFill>
        <p:spPr>
          <a:xfrm>
            <a:off x="4788000" y="1484280"/>
            <a:ext cx="1836720" cy="24494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портфолио 126"/>
          <p:cNvPicPr/>
          <p:nvPr/>
        </p:nvPicPr>
        <p:blipFill>
          <a:blip r:embed="rId5"/>
          <a:stretch/>
        </p:blipFill>
        <p:spPr>
          <a:xfrm>
            <a:off x="7020000" y="1484280"/>
            <a:ext cx="1781280" cy="23036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портфолио 125"/>
          <p:cNvPicPr/>
          <p:nvPr/>
        </p:nvPicPr>
        <p:blipFill>
          <a:blip r:embed="rId6"/>
          <a:stretch/>
        </p:blipFill>
        <p:spPr>
          <a:xfrm>
            <a:off x="2771640" y="4149720"/>
            <a:ext cx="1714680" cy="2286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8" descr="портфолио 124"/>
          <p:cNvPicPr/>
          <p:nvPr/>
        </p:nvPicPr>
        <p:blipFill>
          <a:blip r:embed="rId7"/>
          <a:stretch/>
        </p:blipFill>
        <p:spPr>
          <a:xfrm>
            <a:off x="539640" y="4149720"/>
            <a:ext cx="1714680" cy="2286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9" descr="портфолио 117"/>
          <p:cNvPicPr/>
          <p:nvPr/>
        </p:nvPicPr>
        <p:blipFill>
          <a:blip r:embed="rId8"/>
          <a:stretch/>
        </p:blipFill>
        <p:spPr>
          <a:xfrm>
            <a:off x="6877080" y="3860640"/>
            <a:ext cx="2016000" cy="13687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" descr="портфолио 077"/>
          <p:cNvPicPr/>
          <p:nvPr/>
        </p:nvPicPr>
        <p:blipFill>
          <a:blip r:embed="rId9"/>
          <a:stretch/>
        </p:blipFill>
        <p:spPr>
          <a:xfrm>
            <a:off x="4859280" y="4149720"/>
            <a:ext cx="17146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Мои достиж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3" descr="портфолио 092"/>
          <p:cNvPicPr/>
          <p:nvPr/>
        </p:nvPicPr>
        <p:blipFill>
          <a:blip r:embed="rId2"/>
          <a:stretch/>
        </p:blipFill>
        <p:spPr>
          <a:xfrm>
            <a:off x="468360" y="1197000"/>
            <a:ext cx="2428920" cy="3240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портфолио 123"/>
          <p:cNvPicPr/>
          <p:nvPr/>
        </p:nvPicPr>
        <p:blipFill>
          <a:blip r:embed="rId3"/>
          <a:stretch/>
        </p:blipFill>
        <p:spPr>
          <a:xfrm>
            <a:off x="3203640" y="1268280"/>
            <a:ext cx="2376360" cy="31687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портфолио 082"/>
          <p:cNvPicPr/>
          <p:nvPr/>
        </p:nvPicPr>
        <p:blipFill>
          <a:blip r:embed="rId4"/>
          <a:stretch/>
        </p:blipFill>
        <p:spPr>
          <a:xfrm>
            <a:off x="4500720" y="3500280"/>
            <a:ext cx="2322360" cy="30956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портфолио 090"/>
          <p:cNvPicPr/>
          <p:nvPr/>
        </p:nvPicPr>
        <p:blipFill>
          <a:blip r:embed="rId5"/>
          <a:stretch/>
        </p:blipFill>
        <p:spPr>
          <a:xfrm>
            <a:off x="826920" y="4581360"/>
            <a:ext cx="3168720" cy="20037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портфолио 060"/>
          <p:cNvPicPr/>
          <p:nvPr/>
        </p:nvPicPr>
        <p:blipFill>
          <a:blip r:embed="rId6"/>
          <a:stretch/>
        </p:blipFill>
        <p:spPr>
          <a:xfrm>
            <a:off x="6659640" y="1197000"/>
            <a:ext cx="2268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Я - часть моего класса, я - часть моей школ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3" descr="портфолио 118"/>
          <p:cNvPicPr/>
          <p:nvPr/>
        </p:nvPicPr>
        <p:blipFill>
          <a:blip r:embed="rId2"/>
          <a:stretch/>
        </p:blipFill>
        <p:spPr>
          <a:xfrm>
            <a:off x="3203640" y="1341360"/>
            <a:ext cx="2303280" cy="28796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портфолио 110"/>
          <p:cNvPicPr/>
          <p:nvPr/>
        </p:nvPicPr>
        <p:blipFill>
          <a:blip r:embed="rId3"/>
          <a:stretch/>
        </p:blipFill>
        <p:spPr>
          <a:xfrm>
            <a:off x="6588000" y="1341360"/>
            <a:ext cx="2214720" cy="29527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портфолио 108"/>
          <p:cNvPicPr/>
          <p:nvPr/>
        </p:nvPicPr>
        <p:blipFill>
          <a:blip r:embed="rId4"/>
          <a:stretch/>
        </p:blipFill>
        <p:spPr>
          <a:xfrm>
            <a:off x="3492360" y="4292640"/>
            <a:ext cx="1751040" cy="23335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портфолио 106"/>
          <p:cNvPicPr/>
          <p:nvPr/>
        </p:nvPicPr>
        <p:blipFill>
          <a:blip r:embed="rId5"/>
          <a:stretch/>
        </p:blipFill>
        <p:spPr>
          <a:xfrm>
            <a:off x="324000" y="1341360"/>
            <a:ext cx="2201760" cy="29354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7" descr="портфолио 071"/>
          <p:cNvPicPr/>
          <p:nvPr/>
        </p:nvPicPr>
        <p:blipFill>
          <a:blip r:embed="rId6"/>
          <a:stretch/>
        </p:blipFill>
        <p:spPr>
          <a:xfrm>
            <a:off x="1042920" y="4365720"/>
            <a:ext cx="1714680" cy="2286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портфолио 097245"/>
          <p:cNvPicPr/>
          <p:nvPr/>
        </p:nvPicPr>
        <p:blipFill>
          <a:blip r:embed="rId7"/>
          <a:stretch/>
        </p:blipFill>
        <p:spPr>
          <a:xfrm>
            <a:off x="5580000" y="2565360"/>
            <a:ext cx="204156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Познай себ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3" descr="портфолио 069247"/>
          <p:cNvPicPr/>
          <p:nvPr/>
        </p:nvPicPr>
        <p:blipFill>
          <a:blip r:embed="rId2"/>
          <a:stretch/>
        </p:blipFill>
        <p:spPr>
          <a:xfrm>
            <a:off x="900000" y="2349360"/>
            <a:ext cx="2536920" cy="33832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портфолио 115"/>
          <p:cNvPicPr/>
          <p:nvPr/>
        </p:nvPicPr>
        <p:blipFill>
          <a:blip r:embed="rId3"/>
          <a:stretch/>
        </p:blipFill>
        <p:spPr>
          <a:xfrm>
            <a:off x="4211640" y="1700280"/>
            <a:ext cx="403380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2T07:57:08Z</dcterms:created>
  <dc:creator>XTreme</dc:creator>
  <dc:description/>
  <dc:language>en-US</dc:language>
  <cp:lastModifiedBy>Viva</cp:lastModifiedBy>
  <dcterms:modified xsi:type="dcterms:W3CDTF">2011-11-26T10:47:33Z</dcterms:modified>
  <cp:revision>111</cp:revision>
  <dc:subject/>
  <dc:title>«Организация взаимодействия классного руководителя и родителей по формированию портфолио младшего школьника»</dc:title>
</cp:coreProperties>
</file>