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CD6-7F68-4C8B-8E06-912FAA27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55F-71E2-4CD3-8E52-CD810AFB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E46-3A2D-4A1A-BA41-AA2A8541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CBA-E846-4F32-B804-83DA1278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9AE-928B-4763-8A1D-0A5D221E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5DA-0792-4413-B919-AD28F88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DA3-F90E-430C-8F1C-D457B60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AE8-EBE0-4081-8532-20166D4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1EF-E312-4B34-A3B4-56572F9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94B-3CD5-4B8A-B59B-49D5244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DCB-8B32-4078-8D87-1C8228F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E45-3FC9-4520-B0DB-6A1EC2E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018-1D01-43AE-896C-961F6199B4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2709"/>
                </a:solidFill>
                <a:latin typeface="Arial"/>
              </a:rPr>
              <a:t>Der Staatsaufbau Deutsch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к уроку немецкого язы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теме «Федеративная Республика Германии» в 9 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учебника: И.Л.Б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учитель немецкого языка МОУ «СОШ р. п. Духовницкое» Фокина Г.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140f"/>
                </a:solidFill>
                <a:latin typeface="Arial"/>
              </a:rPr>
              <a:t>Russland und Deutschland haben feste Verbindungen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4280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5344920" cy="40305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3" name="applause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f2709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учив эту тему, вы познакомитесь с государственным строем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Больше узнаете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 - </a:t>
            </a:r>
            <a:r>
              <a:rPr b="0" i="1" lang="ru-RU" sz="2800" spc="-1" strike="noStrike">
                <a:solidFill>
                  <a:srgbClr val="bf2709"/>
                </a:solidFill>
                <a:latin typeface="Arial"/>
              </a:rPr>
              <a:t>Федеративная Республика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Содержимое 3" descr="Berlin.jpg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0000a4"/>
          </a:solidFill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Die Bundesrepublik Deutschland ist ein Bundesstaat, gegliedert in sechzehn Lander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395280" y="1989000"/>
            <a:ext cx="3595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5040360" y="1676520"/>
            <a:ext cx="3409920" cy="442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3"/>
          <a:stretch/>
        </p:blipFill>
        <p:spPr>
          <a:xfrm>
            <a:off x="1495440" y="3979800"/>
            <a:ext cx="17985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140f"/>
                </a:solidFill>
                <a:latin typeface="Arial"/>
              </a:rPr>
              <a:t>Die grossten Bundeslander sind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Baden-Wurtemberg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tuttgart</a:t>
            </a: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Bayern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Mun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Niedersachsen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Hann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2709"/>
                </a:solidFill>
                <a:latin typeface="Arial"/>
              </a:rPr>
              <a:t>Jedes Land hat seine eigene Verfassung, seinen eigenen Verwaltungsappara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77960" cy="263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49704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42432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5"/>
          <p:cNvGrpSpPr/>
          <p:nvPr/>
        </p:nvGrpSpPr>
        <p:grpSpPr>
          <a:xfrm>
            <a:off x="755640" y="765000"/>
            <a:ext cx="8064000" cy="5332680"/>
            <a:chOff x="755640" y="765000"/>
            <a:chExt cx="8064000" cy="53326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665320" y="2019240"/>
              <a:ext cx="1067040" cy="2823120"/>
            </a:xfrm>
            <a:prstGeom prst="bentConnector3">
              <a:avLst>
                <a:gd name="adj1" fmla="val 106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787280" y="2897640"/>
              <a:ext cx="3240" cy="106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842920" y="2019600"/>
              <a:ext cx="1067040" cy="2823120"/>
            </a:xfrm>
            <a:prstGeom prst="bentConnector3">
              <a:avLst>
                <a:gd name="adj1" fmla="val 106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578040" y="76500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Die wichtigste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politischen Organ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7556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ta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5780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ra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4004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regierun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5"/>
          <p:cNvGrpSpPr/>
          <p:nvPr/>
        </p:nvGrpSpPr>
        <p:grpSpPr>
          <a:xfrm>
            <a:off x="826920" y="836640"/>
            <a:ext cx="7704720" cy="4967280"/>
            <a:chOff x="826920" y="836640"/>
            <a:chExt cx="7704720" cy="4967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218920" y="2282040"/>
              <a:ext cx="993960" cy="2075400"/>
            </a:xfrm>
            <a:prstGeom prst="bentConnector3">
              <a:avLst>
                <a:gd name="adj1" fmla="val 114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3144960" y="2282400"/>
              <a:ext cx="993960" cy="2074680"/>
            </a:xfrm>
            <a:prstGeom prst="bentConnector3">
              <a:avLst>
                <a:gd name="adj1" fmla="val 114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" name="_s2054"/>
            <p:cNvSpPr/>
            <p:nvPr/>
          </p:nvSpPr>
          <p:spPr>
            <a:xfrm>
              <a:off x="2900880" y="83664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bf2709"/>
                  </a:solidFill>
                  <a:latin typeface="Arial"/>
                </a:rPr>
                <a:t>Bundesregierung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2055"/>
            <p:cNvSpPr/>
            <p:nvPr/>
          </p:nvSpPr>
          <p:spPr>
            <a:xfrm>
              <a:off x="826920" y="381708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cc99"/>
                  </a:solidFill>
                  <a:latin typeface="Arial"/>
                </a:rPr>
                <a:t>Bundeskanzler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2056"/>
            <p:cNvSpPr/>
            <p:nvPr/>
          </p:nvSpPr>
          <p:spPr>
            <a:xfrm>
              <a:off x="4975560" y="381708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ffff"/>
                  </a:solidFill>
                  <a:latin typeface="Arial"/>
                </a:rPr>
                <a:t>Bundesminister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Picture 14" descr=""/>
            <p:cNvPicPr/>
            <p:nvPr/>
          </p:nvPicPr>
          <p:blipFill>
            <a:blip r:embed="rId1"/>
            <a:stretch/>
          </p:blipFill>
          <p:spPr>
            <a:xfrm>
              <a:off x="5864400" y="2416680"/>
              <a:ext cx="2654280" cy="193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Das hochste gesetzgebende Organ der Bundesrepublik ist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f2709"/>
                </a:solidFill>
                <a:latin typeface="Arial"/>
              </a:rPr>
              <a:t>der Bundestag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2709"/>
                </a:solidFill>
                <a:latin typeface="Arial"/>
              </a:rPr>
              <a:t>Er wurde am 2. Dezember 1990 in freier, gleicher,allgemein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2709"/>
                </a:solidFill>
                <a:latin typeface="Arial"/>
              </a:rPr>
              <a:t>geheimer und direkter Wahl zum ersten Mahl gesamtdeutsch gewahl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878040" y="3963960"/>
            <a:ext cx="3039840" cy="213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1c44"/>
                </a:solidFill>
                <a:latin typeface="Arial"/>
              </a:rPr>
              <a:t>Der Bundeskanzler-Angela Merke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undeskanzler bestimmt die Richtlinien der Polit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4648320" y="2073240"/>
            <a:ext cx="4194000" cy="362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5:37:24Z</dcterms:created>
  <dc:creator>Андрей</dc:creator>
  <dc:description/>
  <dc:language>en-US</dc:language>
  <cp:lastModifiedBy>F-A-S</cp:lastModifiedBy>
  <dcterms:modified xsi:type="dcterms:W3CDTF">2011-11-26T17:21:43Z</dcterms:modified>
  <cp:revision>19</cp:revision>
  <dc:subject/>
  <dc:title>Слайд 1</dc:title>
</cp:coreProperties>
</file>