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E59-99E0-478B-AAF2-83615294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39C-ADC1-4280-90D0-765F1621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7B6-20E5-4CC5-8063-90ED7962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A06-C2F0-45C5-9636-7BC1436F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03F-495E-4BF7-952A-80D4AB28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B3A-07A1-4D0E-B08F-92239C95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EAB-CDD7-4FC9-824C-A309B50B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BD9-ED8F-4C12-8C91-A55392E4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B1E-3404-49D9-9136-24C45BA4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EDF-5270-4731-AEA1-CD1AF94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097-29BB-4721-A898-F9DAC4AF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113-70AF-45BE-AAFE-DE556AC9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A507-C3E4-4C3A-94A8-463E779D56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2709"/>
                </a:solidFill>
                <a:latin typeface="Arial"/>
              </a:rPr>
              <a:t>Der Staatsaufbau Deutschlan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к уроку немецкого язы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теме «Федеративная Республика Германии» в 9 кла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учебника: И.Л.Б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а учитель немецкого языка МОУ «СОШ р. п. Духовницкое» Фокина Г.В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140f"/>
                </a:solidFill>
                <a:latin typeface="Arial"/>
              </a:rPr>
              <a:t>Russland und Deutschland haben feste Verbindungen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7093080" y="1989000"/>
            <a:ext cx="134280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5344920" cy="403056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3" name="applause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bf2709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зучив эту тему, вы познакомитесь с государственным строем Герма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Больше узнаете 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 - </a:t>
            </a:r>
            <a:r>
              <a:rPr b="0" i="1" lang="ru-RU" sz="2800" spc="-1" strike="noStrike">
                <a:solidFill>
                  <a:srgbClr val="bf2709"/>
                </a:solidFill>
                <a:latin typeface="Arial"/>
              </a:rPr>
              <a:t>Федеративная Республика Герма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Содержимое 3" descr="Berlin.jpg"/>
          <p:cNvPicPr/>
          <p:nvPr/>
        </p:nvPicPr>
        <p:blipFill>
          <a:blip r:embed="rId1"/>
          <a:stretch/>
        </p:blipFill>
        <p:spPr>
          <a:xfrm>
            <a:off x="4648320" y="2314440"/>
            <a:ext cx="4194000" cy="314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0000a4"/>
          </a:solidFill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Die Bundesrepublik Deutschland ist ein Bundesstaat, gegliedert in sechzehn Lander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395280" y="1989000"/>
            <a:ext cx="3595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5040360" y="1676520"/>
            <a:ext cx="3409920" cy="442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3"/>
          <a:stretch/>
        </p:blipFill>
        <p:spPr>
          <a:xfrm>
            <a:off x="1495440" y="3979800"/>
            <a:ext cx="1798560" cy="211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140f"/>
                </a:solidFill>
                <a:latin typeface="Arial"/>
              </a:rPr>
              <a:t>Die grossten Bundeslander sind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140f"/>
                </a:solidFill>
                <a:latin typeface="Arial"/>
              </a:rPr>
              <a:t>Baden-Wurtemberg mit der Hauptstadt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tuttgart</a:t>
            </a:r>
            <a:r>
              <a:rPr b="0" lang="en-US" sz="3200" spc="-1" strike="noStrike">
                <a:solidFill>
                  <a:srgbClr val="59140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140f"/>
                </a:solidFill>
                <a:latin typeface="Arial"/>
              </a:rPr>
              <a:t>Bayern mit der Hauptstadt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Mun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140f"/>
                </a:solidFill>
                <a:latin typeface="Arial"/>
              </a:rPr>
              <a:t>Niedersachsen mit der Hauptstadt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Hanno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2709"/>
                </a:solidFill>
                <a:latin typeface="Arial"/>
              </a:rPr>
              <a:t>Jedes Land hat seine eigene Verfassung, seinen eigenen Verwaltungsappara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477960" cy="263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3497040" cy="31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2771640" y="3357720"/>
            <a:ext cx="342432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5"/>
          <p:cNvGrpSpPr/>
          <p:nvPr/>
        </p:nvGrpSpPr>
        <p:grpSpPr>
          <a:xfrm>
            <a:off x="755640" y="765000"/>
            <a:ext cx="8064000" cy="5332680"/>
            <a:chOff x="755640" y="765000"/>
            <a:chExt cx="8064000" cy="533268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665320" y="2019240"/>
              <a:ext cx="1067040" cy="2823120"/>
            </a:xfrm>
            <a:prstGeom prst="bentConnector3">
              <a:avLst>
                <a:gd name="adj1" fmla="val 106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787280" y="2897640"/>
              <a:ext cx="3240" cy="106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842920" y="2019600"/>
              <a:ext cx="1067040" cy="2823120"/>
            </a:xfrm>
            <a:prstGeom prst="bentConnector3">
              <a:avLst>
                <a:gd name="adj1" fmla="val 106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578040" y="765000"/>
              <a:ext cx="2419200" cy="2133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Die wichtigste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politischen Organe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755640" y="3964680"/>
              <a:ext cx="2419200" cy="2133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Bundestag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578040" y="3964680"/>
              <a:ext cx="2419200" cy="2133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Bundesrat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400440" y="3964680"/>
              <a:ext cx="2419200" cy="21330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bf2709"/>
                  </a:solidFill>
                  <a:latin typeface="Arial"/>
                </a:rPr>
                <a:t>Bundesregierung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cover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5"/>
          <p:cNvGrpSpPr/>
          <p:nvPr/>
        </p:nvGrpSpPr>
        <p:grpSpPr>
          <a:xfrm>
            <a:off x="826920" y="836640"/>
            <a:ext cx="7704720" cy="4967280"/>
            <a:chOff x="826920" y="836640"/>
            <a:chExt cx="7704720" cy="4967280"/>
          </a:xfrm>
        </p:grpSpPr>
        <p:cxnSp>
          <p:nvCxnSpPr>
            <p:cNvPr id="66" name="_s2052"/>
            <p:cNvCxnSpPr>
              <a:stCxn id="67" idx="0"/>
              <a:endCxn id="68" idx="2"/>
            </p:cNvCxnSpPr>
            <p:nvPr/>
          </p:nvCxnSpPr>
          <p:spPr>
            <a:xfrm flipV="1" rot="16200000">
              <a:off x="5218920" y="2282040"/>
              <a:ext cx="993960" cy="2075400"/>
            </a:xfrm>
            <a:prstGeom prst="bentConnector3">
              <a:avLst>
                <a:gd name="adj1" fmla="val 114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2053"/>
            <p:cNvCxnSpPr>
              <a:stCxn id="70" idx="0"/>
              <a:endCxn id="68" idx="2"/>
            </p:cNvCxnSpPr>
            <p:nvPr/>
          </p:nvCxnSpPr>
          <p:spPr>
            <a:xfrm flipH="1" flipV="1" rot="5400000">
              <a:off x="3144960" y="2282400"/>
              <a:ext cx="993960" cy="2074680"/>
            </a:xfrm>
            <a:prstGeom prst="bentConnector3">
              <a:avLst>
                <a:gd name="adj1" fmla="val 114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" name="_s2054"/>
            <p:cNvSpPr/>
            <p:nvPr/>
          </p:nvSpPr>
          <p:spPr>
            <a:xfrm>
              <a:off x="2900880" y="836640"/>
              <a:ext cx="3556080" cy="19868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bf2709"/>
                  </a:solidFill>
                  <a:latin typeface="Arial"/>
                </a:rPr>
                <a:t>Bundesregierung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2055"/>
            <p:cNvSpPr/>
            <p:nvPr/>
          </p:nvSpPr>
          <p:spPr>
            <a:xfrm>
              <a:off x="826920" y="3817080"/>
              <a:ext cx="3556080" cy="19868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cc99"/>
                  </a:solidFill>
                  <a:latin typeface="Arial"/>
                </a:rPr>
                <a:t>Bundeskanzler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2056"/>
            <p:cNvSpPr/>
            <p:nvPr/>
          </p:nvSpPr>
          <p:spPr>
            <a:xfrm>
              <a:off x="4975560" y="3817080"/>
              <a:ext cx="3556080" cy="19868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ffffff"/>
                  </a:solidFill>
                  <a:latin typeface="Arial"/>
                </a:rPr>
                <a:t>Bundesminister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Picture 14" descr=""/>
            <p:cNvPicPr/>
            <p:nvPr/>
          </p:nvPicPr>
          <p:blipFill>
            <a:blip r:embed="rId1"/>
            <a:stretch/>
          </p:blipFill>
          <p:spPr>
            <a:xfrm>
              <a:off x="5864400" y="2416680"/>
              <a:ext cx="2654280" cy="193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13" descr=""/>
          <p:cNvPicPr/>
          <p:nvPr/>
        </p:nvPicPr>
        <p:blipFill>
          <a:blip r:embed="rId2"/>
          <a:stretch/>
        </p:blipFill>
        <p:spPr>
          <a:xfrm>
            <a:off x="0" y="1341360"/>
            <a:ext cx="291636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941c"/>
                </a:solidFill>
                <a:latin typeface="Arial"/>
              </a:rPr>
              <a:t>Das hochste gesetzgebende Organ der Bundesrepublik ist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f2709"/>
                </a:solidFill>
                <a:latin typeface="Arial"/>
              </a:rPr>
              <a:t>der Bundestag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2709"/>
                </a:solidFill>
                <a:latin typeface="Arial"/>
              </a:rPr>
              <a:t>Er wurde am 2. Dezember 1990 in freier, gleicher,allgemein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2709"/>
                </a:solidFill>
                <a:latin typeface="Arial"/>
              </a:rPr>
              <a:t>geheimer und direkter Wahl zum ersten Mahl gesamtdeutsch gewahlt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878040" y="3963960"/>
            <a:ext cx="3039840" cy="2135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1c44"/>
                </a:solidFill>
                <a:latin typeface="Arial"/>
              </a:rPr>
              <a:t>Der Bundeskanzler-Angela Merke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 Bundeskanzler bestimmt die Richtlinien der Polit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4648320" y="2073240"/>
            <a:ext cx="4194000" cy="362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456000" cy="223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5:37:24Z</dcterms:created>
  <dc:creator>Андрей</dc:creator>
  <dc:description/>
  <dc:language>en-US</dc:language>
  <cp:lastModifiedBy>F-A-S</cp:lastModifiedBy>
  <dcterms:modified xsi:type="dcterms:W3CDTF">2011-11-26T17:21:43Z</dcterms:modified>
  <cp:revision>19</cp:revision>
  <dc:subject/>
  <dc:title>Слайд 1</dc:title>
</cp:coreProperties>
</file>