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7.png" ContentType="image/png"/>
  <Override PartName="/ppt/media/image14.gif" ContentType="image/gif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90F-4B6F-43E6-A144-F4BB8615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3C7E-8B68-466E-809D-7E93AF7D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A9F3-1FCC-495A-BF0D-8B680260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F10C-A9BC-47CA-9744-0D445F0E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E0B-B8C0-4FC4-BB54-63A8628C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BB1-5B8F-4ABF-B254-29AEC52C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BF51-6FDF-4D22-890E-82E43CA2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D8F-53BB-40A4-BD50-84B4A035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5C9-0C3F-4CD4-BFDC-5D576DAD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DEF-B852-44A6-ADCB-8699D8AD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5744-C5FF-43F3-8F1F-BDF51EE5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751F-DAEF-4447-994F-E1422226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89B7-2608-4817-9426-97A36E3C32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8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7" descr="0_1979a_fec1449b_-6-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0" y="0"/>
            <a:ext cx="6948360" cy="26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утешестви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 природным зонам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си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03400" y="460080"/>
            <a:ext cx="706752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rcRect l="3240" t="16968" r="9644" b="8925"/>
          <a:stretch/>
        </p:blipFill>
        <p:spPr>
          <a:xfrm>
            <a:off x="0" y="0"/>
            <a:ext cx="4454640" cy="3714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645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3"/>
          <a:stretch/>
        </p:blipFill>
        <p:spPr>
          <a:xfrm>
            <a:off x="4427640" y="3645000"/>
            <a:ext cx="4716360" cy="3213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6516720" y="1628640"/>
            <a:ext cx="3095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4"/>
          <a:srcRect l="3583" t="1953" r="10711" b="9471"/>
          <a:stretch/>
        </p:blipFill>
        <p:spPr>
          <a:xfrm>
            <a:off x="0" y="3645000"/>
            <a:ext cx="44276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e831"/>
            </a:gs>
            <a:gs pos="100000">
              <a:srgbClr val="0da62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5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ЛОВЕК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AG00326_"/>
          <p:cNvPicPr/>
          <p:nvPr/>
        </p:nvPicPr>
        <p:blipFill>
          <a:blip r:embed="rId1"/>
          <a:stretch/>
        </p:blipFill>
        <p:spPr>
          <a:xfrm>
            <a:off x="0" y="260280"/>
            <a:ext cx="6372360" cy="37069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411280" y="4941720"/>
            <a:ext cx="3456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5869080" y="3213000"/>
            <a:ext cx="32749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Tigr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8a8c"/>
            </a:gs>
            <a:gs pos="50000">
              <a:srgbClr val="bbe0e3"/>
            </a:gs>
            <a:gs pos="100000">
              <a:srgbClr val="738a8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0" t="0" r="0" b="28046"/>
          <a:stretch/>
        </p:blipFill>
        <p:spPr>
          <a:xfrm>
            <a:off x="0" y="0"/>
            <a:ext cx="9144000" cy="6802560"/>
          </a:xfrm>
          <a:prstGeom prst="rect">
            <a:avLst/>
          </a:prstGeom>
          <a:ln w="0">
            <a:noFill/>
          </a:ln>
        </p:spPr>
      </p:pic>
      <p:sp>
        <p:nvSpPr>
          <p:cNvPr id="46" name="Line 4"/>
          <p:cNvSpPr/>
          <p:nvPr/>
        </p:nvSpPr>
        <p:spPr>
          <a:xfrm>
            <a:off x="3492360" y="189000"/>
            <a:ext cx="0" cy="65246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>
            <a:off x="250920" y="1916280"/>
            <a:ext cx="85690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250920" y="3429000"/>
            <a:ext cx="849780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>
            <a:off x="324000" y="4581360"/>
            <a:ext cx="835164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>
            <a:off x="250920" y="5734080"/>
            <a:ext cx="842472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rcRect l="0" t="4738" r="2746" b="248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1003" t="5900" r="100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cec"/>
            </a:gs>
            <a:gs pos="100000">
              <a:srgbClr val="bcbcb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7" descr="Pinus_sibirica"/>
          <p:cNvPicPr/>
          <p:nvPr/>
        </p:nvPicPr>
        <p:blipFill>
          <a:blip r:embed="rId1"/>
          <a:stretch/>
        </p:blipFill>
        <p:spPr>
          <a:xfrm>
            <a:off x="6659640" y="4365720"/>
            <a:ext cx="1589040" cy="144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9" descr="djuzgun"/>
          <p:cNvPicPr/>
          <p:nvPr/>
        </p:nvPicPr>
        <p:blipFill>
          <a:blip r:embed="rId2"/>
          <a:stretch/>
        </p:blipFill>
        <p:spPr>
          <a:xfrm>
            <a:off x="2268360" y="4365720"/>
            <a:ext cx="1944720" cy="144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7" descr="img_011"/>
          <p:cNvPicPr/>
          <p:nvPr/>
        </p:nvPicPr>
        <p:blipFill>
          <a:blip r:embed="rId3"/>
          <a:stretch/>
        </p:blipFill>
        <p:spPr>
          <a:xfrm>
            <a:off x="7415280" y="5559480"/>
            <a:ext cx="1728720" cy="1298520"/>
          </a:xfrm>
          <a:prstGeom prst="rect">
            <a:avLst/>
          </a:prstGeom>
          <a:ln w="0">
            <a:noFill/>
          </a:ln>
        </p:spPr>
      </p:pic>
      <p:sp>
        <p:nvSpPr>
          <p:cNvPr id="57" name="Line 4"/>
          <p:cNvSpPr/>
          <p:nvPr/>
        </p:nvSpPr>
        <p:spPr>
          <a:xfrm>
            <a:off x="2916360" y="0"/>
            <a:ext cx="0" cy="685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6012000" y="0"/>
            <a:ext cx="0" cy="685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0" y="328464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468360" y="333360"/>
            <a:ext cx="16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р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6804000" y="357336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Черномор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побереж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3635280" y="335772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Пусты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39640" y="335772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Сте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3348000" y="189000"/>
            <a:ext cx="1871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4d1f"/>
                </a:solidFill>
                <a:latin typeface="Arial"/>
              </a:rPr>
              <a:t>Тун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6804000" y="26028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Лесная з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1" descr="karpalo"/>
          <p:cNvPicPr/>
          <p:nvPr/>
        </p:nvPicPr>
        <p:blipFill>
          <a:blip r:embed="rId4"/>
          <a:stretch/>
        </p:blipFill>
        <p:spPr>
          <a:xfrm>
            <a:off x="4500720" y="4365720"/>
            <a:ext cx="1726920" cy="127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1" descr="1191382366_11"/>
          <p:cNvPicPr/>
          <p:nvPr/>
        </p:nvPicPr>
        <p:blipFill>
          <a:blip r:embed="rId5"/>
          <a:srcRect l="0" t="0" r="21778" b="0"/>
          <a:stretch/>
        </p:blipFill>
        <p:spPr>
          <a:xfrm>
            <a:off x="179280" y="4437000"/>
            <a:ext cx="1835280" cy="1290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5" descr="pic031mog"/>
          <p:cNvPicPr/>
          <p:nvPr/>
        </p:nvPicPr>
        <p:blipFill>
          <a:blip r:embed="rId6"/>
          <a:stretch/>
        </p:blipFill>
        <p:spPr>
          <a:xfrm>
            <a:off x="5435640" y="5470560"/>
            <a:ext cx="1871640" cy="138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3" descr="Agropyron_cristatum"/>
          <p:cNvPicPr/>
          <p:nvPr/>
        </p:nvPicPr>
        <p:blipFill>
          <a:blip r:embed="rId7"/>
          <a:stretch/>
        </p:blipFill>
        <p:spPr>
          <a:xfrm>
            <a:off x="0" y="5470560"/>
            <a:ext cx="1871640" cy="1387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0" descr="populus-tremula"/>
          <p:cNvPicPr/>
          <p:nvPr/>
        </p:nvPicPr>
        <p:blipFill>
          <a:blip r:embed="rId8"/>
          <a:stretch/>
        </p:blipFill>
        <p:spPr>
          <a:xfrm>
            <a:off x="3924360" y="5516640"/>
            <a:ext cx="1657440" cy="1341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0" descr="9cfa227e11dfa387975a375851cf4e29"/>
          <p:cNvPicPr/>
          <p:nvPr/>
        </p:nvPicPr>
        <p:blipFill>
          <a:blip r:embed="rId9"/>
          <a:stretch/>
        </p:blipFill>
        <p:spPr>
          <a:xfrm>
            <a:off x="2050920" y="5470560"/>
            <a:ext cx="18003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f185"/>
            </a:gs>
            <a:gs pos="50000">
              <a:srgbClr val="12e831"/>
            </a:gs>
            <a:gs pos="100000">
              <a:srgbClr val="73f18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AG00326_"/>
          <p:cNvPicPr/>
          <p:nvPr/>
        </p:nvPicPr>
        <p:blipFill>
          <a:blip r:embed="rId1"/>
          <a:stretch/>
        </p:blipFill>
        <p:spPr>
          <a:xfrm>
            <a:off x="1476360" y="2133720"/>
            <a:ext cx="5832360" cy="38973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1692360" y="404640"/>
            <a:ext cx="4680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ческое равновес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b17"/>
            </a:gs>
            <a:gs pos="50000">
              <a:srgbClr val="12e831"/>
            </a:gs>
            <a:gs pos="100000">
              <a:srgbClr val="086b1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-9425" t="29304" r="4630" b="5009"/>
          <a:stretch/>
        </p:blipFill>
        <p:spPr>
          <a:xfrm>
            <a:off x="3635280" y="4005360"/>
            <a:ext cx="792360" cy="647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rcRect l="0" t="14487" r="7616" b="0"/>
          <a:stretch/>
        </p:blipFill>
        <p:spPr>
          <a:xfrm>
            <a:off x="4932360" y="4005360"/>
            <a:ext cx="719280" cy="70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3"/>
          <a:srcRect l="0" t="22076" r="8438" b="11518"/>
          <a:stretch/>
        </p:blipFill>
        <p:spPr>
          <a:xfrm>
            <a:off x="2987640" y="4653000"/>
            <a:ext cx="792360" cy="681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4"/>
          <a:srcRect l="0" t="23455" r="16712" b="-1530"/>
          <a:stretch/>
        </p:blipFill>
        <p:spPr>
          <a:xfrm>
            <a:off x="4859280" y="544500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6"/>
          <p:cNvSpPr/>
          <p:nvPr/>
        </p:nvSpPr>
        <p:spPr>
          <a:xfrm>
            <a:off x="2050920" y="260280"/>
            <a:ext cx="5113440" cy="604836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3059280" y="3933720"/>
            <a:ext cx="30254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3635280" y="2492280"/>
            <a:ext cx="1871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5">
            <a:lum bright="14000"/>
          </a:blip>
          <a:srcRect l="4176" t="19724" r="16705" b="11341"/>
          <a:stretch/>
        </p:blipFill>
        <p:spPr>
          <a:xfrm>
            <a:off x="3924360" y="476280"/>
            <a:ext cx="1368360" cy="2016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6"/>
          <a:srcRect l="35425" t="63031" r="35027" b="-2323"/>
          <a:stretch/>
        </p:blipFill>
        <p:spPr>
          <a:xfrm>
            <a:off x="4859280" y="314172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7"/>
          <a:srcRect l="35425" t="63031" r="35027" b="-2323"/>
          <a:stretch/>
        </p:blipFill>
        <p:spPr>
          <a:xfrm>
            <a:off x="3276720" y="3213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8"/>
          <a:srcRect l="35425" t="63031" r="35027" b="-2323"/>
          <a:stretch/>
        </p:blipFill>
        <p:spPr>
          <a:xfrm>
            <a:off x="4067280" y="256536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9"/>
          <a:srcRect l="0" t="23455" r="16712" b="-1530"/>
          <a:stretch/>
        </p:blipFill>
        <p:spPr>
          <a:xfrm>
            <a:off x="4211640" y="4653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"/>
          <p:cNvPicPr/>
          <p:nvPr/>
        </p:nvPicPr>
        <p:blipFill>
          <a:blip r:embed="rId10"/>
          <a:srcRect l="0" t="23455" r="16712" b="-1530"/>
          <a:stretch/>
        </p:blipFill>
        <p:spPr>
          <a:xfrm>
            <a:off x="3564000" y="5445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"/>
          <p:cNvPicPr/>
          <p:nvPr/>
        </p:nvPicPr>
        <p:blipFill>
          <a:blip r:embed="rId11"/>
          <a:srcRect l="0" t="23455" r="16712" b="-1530"/>
          <a:stretch/>
        </p:blipFill>
        <p:spPr>
          <a:xfrm>
            <a:off x="2484360" y="5445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"/>
          <p:cNvPicPr/>
          <p:nvPr/>
        </p:nvPicPr>
        <p:blipFill>
          <a:blip r:embed="rId12"/>
          <a:srcRect l="0" t="23455" r="16712" b="-1530"/>
          <a:stretch/>
        </p:blipFill>
        <p:spPr>
          <a:xfrm>
            <a:off x="5580000" y="472428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"/>
          <p:cNvPicPr/>
          <p:nvPr/>
        </p:nvPicPr>
        <p:blipFill>
          <a:blip r:embed="rId13"/>
          <a:srcRect l="0" t="23455" r="16712" b="-1530"/>
          <a:stretch/>
        </p:blipFill>
        <p:spPr>
          <a:xfrm>
            <a:off x="6012000" y="5445000"/>
            <a:ext cx="7207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b17"/>
            </a:gs>
            <a:gs pos="50000">
              <a:srgbClr val="12e831"/>
            </a:gs>
            <a:gs pos="100000">
              <a:srgbClr val="086b1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-9425" t="29304" r="4630" b="5009"/>
          <a:stretch/>
        </p:blipFill>
        <p:spPr>
          <a:xfrm>
            <a:off x="3564000" y="3933720"/>
            <a:ext cx="792000" cy="64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rcRect l="0" t="14487" r="7616" b="0"/>
          <a:stretch/>
        </p:blipFill>
        <p:spPr>
          <a:xfrm>
            <a:off x="4932360" y="3860640"/>
            <a:ext cx="865080" cy="84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rcRect l="0" t="22076" r="8438" b="11518"/>
          <a:stretch/>
        </p:blipFill>
        <p:spPr>
          <a:xfrm>
            <a:off x="2771640" y="4221000"/>
            <a:ext cx="792360" cy="649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4"/>
          <a:srcRect l="0" t="23455" r="16712" b="-1530"/>
          <a:stretch/>
        </p:blipFill>
        <p:spPr>
          <a:xfrm>
            <a:off x="5003640" y="530064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6"/>
          <p:cNvSpPr/>
          <p:nvPr/>
        </p:nvSpPr>
        <p:spPr>
          <a:xfrm>
            <a:off x="2050920" y="260280"/>
            <a:ext cx="4897440" cy="56898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2916360" y="3933720"/>
            <a:ext cx="316836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3564000" y="2492280"/>
            <a:ext cx="18716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5">
            <a:lum bright="14000"/>
          </a:blip>
          <a:srcRect l="4176" t="19724" r="16705" b="11341"/>
          <a:stretch/>
        </p:blipFill>
        <p:spPr>
          <a:xfrm>
            <a:off x="3780000" y="476280"/>
            <a:ext cx="1368360" cy="201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6"/>
          <a:srcRect l="35425" t="63031" r="35027" b="-2323"/>
          <a:stretch/>
        </p:blipFill>
        <p:spPr>
          <a:xfrm>
            <a:off x="5076720" y="3213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7"/>
          <a:srcRect l="35425" t="63031" r="35027" b="-2323"/>
          <a:stretch/>
        </p:blipFill>
        <p:spPr>
          <a:xfrm>
            <a:off x="3203640" y="3213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8"/>
          <a:srcRect l="35425" t="63031" r="35027" b="-2323"/>
          <a:stretch/>
        </p:blipFill>
        <p:spPr>
          <a:xfrm>
            <a:off x="3419640" y="256536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9"/>
          <a:srcRect l="0" t="23455" r="16712" b="-1530"/>
          <a:stretch/>
        </p:blipFill>
        <p:spPr>
          <a:xfrm>
            <a:off x="4284720" y="4653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10"/>
          <a:srcRect l="0" t="23455" r="16712" b="-1530"/>
          <a:stretch/>
        </p:blipFill>
        <p:spPr>
          <a:xfrm>
            <a:off x="3492360" y="522936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11"/>
          <a:srcRect l="0" t="23455" r="16712" b="-1530"/>
          <a:stretch/>
        </p:blipFill>
        <p:spPr>
          <a:xfrm>
            <a:off x="2411280" y="515772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12"/>
          <a:srcRect l="0" t="23455" r="16712" b="-1530"/>
          <a:stretch/>
        </p:blipFill>
        <p:spPr>
          <a:xfrm>
            <a:off x="5580000" y="458136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13"/>
          <a:srcRect l="35425" t="63031" r="35027" b="-2323"/>
          <a:stretch/>
        </p:blipFill>
        <p:spPr>
          <a:xfrm>
            <a:off x="4140360" y="256536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"/>
          <p:cNvPicPr/>
          <p:nvPr/>
        </p:nvPicPr>
        <p:blipFill>
          <a:blip r:embed="rId14"/>
          <a:srcRect l="35425" t="63031" r="35027" b="-2323"/>
          <a:stretch/>
        </p:blipFill>
        <p:spPr>
          <a:xfrm>
            <a:off x="4859280" y="256536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"/>
          <p:cNvPicPr/>
          <p:nvPr/>
        </p:nvPicPr>
        <p:blipFill>
          <a:blip r:embed="rId15"/>
          <a:srcRect l="35425" t="63031" r="35027" b="-2323"/>
          <a:stretch/>
        </p:blipFill>
        <p:spPr>
          <a:xfrm>
            <a:off x="3851280" y="3213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"/>
          <p:cNvPicPr/>
          <p:nvPr/>
        </p:nvPicPr>
        <p:blipFill>
          <a:blip r:embed="rId16"/>
          <a:srcRect l="35425" t="63031" r="35027" b="-2323"/>
          <a:stretch/>
        </p:blipFill>
        <p:spPr>
          <a:xfrm>
            <a:off x="4427640" y="3213000"/>
            <a:ext cx="7207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b17"/>
            </a:gs>
            <a:gs pos="50000">
              <a:srgbClr val="12e831"/>
            </a:gs>
            <a:gs pos="100000">
              <a:srgbClr val="086b1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rcRect l="-9425" t="29304" r="4630" b="5009"/>
          <a:stretch/>
        </p:blipFill>
        <p:spPr>
          <a:xfrm>
            <a:off x="3564000" y="3933720"/>
            <a:ext cx="792000" cy="64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rcRect l="0" t="14487" r="7616" b="0"/>
          <a:stretch/>
        </p:blipFill>
        <p:spPr>
          <a:xfrm>
            <a:off x="4932360" y="3933720"/>
            <a:ext cx="719280" cy="701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3"/>
          <a:srcRect l="0" t="22076" r="8438" b="11518"/>
          <a:stretch/>
        </p:blipFill>
        <p:spPr>
          <a:xfrm>
            <a:off x="2771640" y="4221000"/>
            <a:ext cx="792360" cy="649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4"/>
          <a:srcRect l="0" t="23455" r="16712" b="-1530"/>
          <a:stretch/>
        </p:blipFill>
        <p:spPr>
          <a:xfrm>
            <a:off x="5003640" y="530064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2050920" y="260280"/>
            <a:ext cx="4897440" cy="56898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2916360" y="3933720"/>
            <a:ext cx="316836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3564000" y="2492280"/>
            <a:ext cx="1871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5">
            <a:lum bright="14000"/>
          </a:blip>
          <a:srcRect l="4176" t="19724" r="16705" b="11341"/>
          <a:stretch/>
        </p:blipFill>
        <p:spPr>
          <a:xfrm>
            <a:off x="3851280" y="476280"/>
            <a:ext cx="1368360" cy="201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6"/>
          <a:srcRect l="35425" t="63031" r="35027" b="-2323"/>
          <a:stretch/>
        </p:blipFill>
        <p:spPr>
          <a:xfrm>
            <a:off x="4859280" y="314172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"/>
          <p:cNvPicPr/>
          <p:nvPr/>
        </p:nvPicPr>
        <p:blipFill>
          <a:blip r:embed="rId7"/>
          <a:srcRect l="35425" t="63031" r="35027" b="-2323"/>
          <a:stretch/>
        </p:blipFill>
        <p:spPr>
          <a:xfrm>
            <a:off x="3276720" y="3213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8"/>
          <a:srcRect l="35425" t="63031" r="35027" b="-2323"/>
          <a:stretch/>
        </p:blipFill>
        <p:spPr>
          <a:xfrm>
            <a:off x="4067280" y="256536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"/>
          <p:cNvPicPr/>
          <p:nvPr/>
        </p:nvPicPr>
        <p:blipFill>
          <a:blip r:embed="rId9"/>
          <a:srcRect l="0" t="23455" r="16712" b="-1530"/>
          <a:stretch/>
        </p:blipFill>
        <p:spPr>
          <a:xfrm>
            <a:off x="4284720" y="4653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10"/>
          <a:srcRect l="0" t="23455" r="16712" b="-1530"/>
          <a:stretch/>
        </p:blipFill>
        <p:spPr>
          <a:xfrm>
            <a:off x="3492360" y="522936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11"/>
          <a:srcRect l="0" t="23455" r="16712" b="-1530"/>
          <a:stretch/>
        </p:blipFill>
        <p:spPr>
          <a:xfrm>
            <a:off x="2411280" y="515772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12"/>
          <a:srcRect l="0" t="23455" r="16712" b="-1530"/>
          <a:stretch/>
        </p:blipFill>
        <p:spPr>
          <a:xfrm>
            <a:off x="5580000" y="458136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13"/>
          <a:srcRect l="5726" t="4175" r="5726" b="11850"/>
          <a:stretch/>
        </p:blipFill>
        <p:spPr>
          <a:xfrm>
            <a:off x="6948360" y="4005360"/>
            <a:ext cx="1824120" cy="201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14">
            <a:lum bright="14000"/>
          </a:blip>
          <a:srcRect l="4176" t="19724" r="16705" b="11341"/>
          <a:stretch/>
        </p:blipFill>
        <p:spPr>
          <a:xfrm>
            <a:off x="2411280" y="476280"/>
            <a:ext cx="1368720" cy="201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"/>
          <p:cNvPicPr/>
          <p:nvPr/>
        </p:nvPicPr>
        <p:blipFill>
          <a:blip r:embed="rId15">
            <a:lum bright="14000"/>
          </a:blip>
          <a:srcRect l="4176" t="19724" r="16705" b="11341"/>
          <a:stretch/>
        </p:blipFill>
        <p:spPr>
          <a:xfrm>
            <a:off x="5292720" y="476280"/>
            <a:ext cx="1368360" cy="201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"/>
          <p:cNvPicPr/>
          <p:nvPr/>
        </p:nvPicPr>
        <p:blipFill>
          <a:blip r:embed="rId16"/>
          <a:srcRect l="5726" t="4175" r="5726" b="11850"/>
          <a:stretch/>
        </p:blipFill>
        <p:spPr>
          <a:xfrm>
            <a:off x="5219640" y="4005360"/>
            <a:ext cx="1889280" cy="201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"/>
          <p:cNvPicPr/>
          <p:nvPr/>
        </p:nvPicPr>
        <p:blipFill>
          <a:blip r:embed="rId17"/>
          <a:srcRect l="5726" t="4175" r="5726" b="11850"/>
          <a:stretch/>
        </p:blipFill>
        <p:spPr>
          <a:xfrm>
            <a:off x="3635280" y="4005360"/>
            <a:ext cx="1824120" cy="201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"/>
          <p:cNvPicPr/>
          <p:nvPr/>
        </p:nvPicPr>
        <p:blipFill>
          <a:blip r:embed="rId18"/>
          <a:srcRect l="5726" t="4175" r="5726" b="11850"/>
          <a:stretch/>
        </p:blipFill>
        <p:spPr>
          <a:xfrm>
            <a:off x="1835280" y="4005360"/>
            <a:ext cx="1823760" cy="201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"/>
          <p:cNvPicPr/>
          <p:nvPr/>
        </p:nvPicPr>
        <p:blipFill>
          <a:blip r:embed="rId19"/>
          <a:srcRect l="5726" t="4175" r="5726" b="11850"/>
          <a:stretch/>
        </p:blipFill>
        <p:spPr>
          <a:xfrm>
            <a:off x="250920" y="4005360"/>
            <a:ext cx="18241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500"/>
                            </p:stCondLst>
                            <p:childTnLst>
                              <p:par>
                                <p:cTn id="1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5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8:13:52Z</dcterms:created>
  <dc:creator>Raybook</dc:creator>
  <dc:description/>
  <dc:language>en-US</dc:language>
  <cp:lastModifiedBy>stud-20</cp:lastModifiedBy>
  <dcterms:modified xsi:type="dcterms:W3CDTF">2011-04-12T13:31:55Z</dcterms:modified>
  <cp:revision>26</cp:revision>
  <dc:subject/>
  <dc:title>Слайд 1</dc:title>
</cp:coreProperties>
</file>