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7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EAC-1EA3-4220-B111-DFA47EBB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818-713F-46DE-A9C5-8B82B36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5DC-725B-4934-A90F-46AE362B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364-90F9-4C65-B1BB-3BF4FA2E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F15-CAFD-49CE-BF12-44C0150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B98-58F7-46C0-909F-5015BB6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E0C-8D04-4CEB-A01D-9A1A7E5D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C30-4F2A-4B4D-B742-DCEDEA20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489-1B42-4F67-B27C-586628FD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13D-CD2F-4C9D-857E-5219C9A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814-8E2C-4593-96FD-DB527ACA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D7E-ABD9-4CD2-8751-D2B5D92F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A6C6-59BA-407A-A00E-0BFC8118B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7" descr="0_1979a_fec1449b_-6-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0" y="0"/>
            <a:ext cx="694836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природным зонам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3400" y="460080"/>
            <a:ext cx="706752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3240" t="16968" r="9644" b="8925"/>
          <a:stretch/>
        </p:blipFill>
        <p:spPr>
          <a:xfrm>
            <a:off x="0" y="0"/>
            <a:ext cx="44546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4716360" cy="321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516720" y="1628640"/>
            <a:ext cx="309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4"/>
          <a:srcRect l="3583" t="1953" r="10711" b="9471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e831"/>
            </a:gs>
            <a:gs pos="100000">
              <a:srgbClr val="0da6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ЛОВЕК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AG00326_"/>
          <p:cNvPicPr/>
          <p:nvPr/>
        </p:nvPicPr>
        <p:blipFill>
          <a:blip r:embed="rId1"/>
          <a:stretch/>
        </p:blipFill>
        <p:spPr>
          <a:xfrm>
            <a:off x="0" y="260280"/>
            <a:ext cx="6372360" cy="3706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11280" y="4941720"/>
            <a:ext cx="3456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5869080" y="3213000"/>
            <a:ext cx="32749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Tig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8a8c"/>
            </a:gs>
            <a:gs pos="50000">
              <a:srgbClr val="bbe0e3"/>
            </a:gs>
            <a:gs pos="100000">
              <a:srgbClr val="738a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0" t="0" r="0" b="28046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>
            <a:off x="3492360" y="189000"/>
            <a:ext cx="0" cy="6524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250920" y="1916280"/>
            <a:ext cx="85690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50920" y="3429000"/>
            <a:ext cx="84978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24000" y="4581360"/>
            <a:ext cx="8351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250920" y="5734080"/>
            <a:ext cx="84247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0" t="4738" r="2746" b="24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003" t="5900" r="1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cec"/>
            </a:gs>
            <a:gs pos="100000">
              <a:srgbClr val="bcbcb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7" descr="Pinus_sibirica"/>
          <p:cNvPicPr/>
          <p:nvPr/>
        </p:nvPicPr>
        <p:blipFill>
          <a:blip r:embed="rId1"/>
          <a:stretch/>
        </p:blipFill>
        <p:spPr>
          <a:xfrm>
            <a:off x="6659640" y="4365720"/>
            <a:ext cx="1589040" cy="14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djuzgun"/>
          <p:cNvPicPr/>
          <p:nvPr/>
        </p:nvPicPr>
        <p:blipFill>
          <a:blip r:embed="rId2"/>
          <a:stretch/>
        </p:blipFill>
        <p:spPr>
          <a:xfrm>
            <a:off x="2268360" y="436572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img_011"/>
          <p:cNvPicPr/>
          <p:nvPr/>
        </p:nvPicPr>
        <p:blipFill>
          <a:blip r:embed="rId3"/>
          <a:stretch/>
        </p:blipFill>
        <p:spPr>
          <a:xfrm>
            <a:off x="7415280" y="5559480"/>
            <a:ext cx="1728720" cy="1298520"/>
          </a:xfrm>
          <a:prstGeom prst="rect">
            <a:avLst/>
          </a:prstGeom>
          <a:ln w="0">
            <a:noFill/>
          </a:ln>
        </p:spPr>
      </p:pic>
      <p:sp>
        <p:nvSpPr>
          <p:cNvPr id="57" name="Line 4"/>
          <p:cNvSpPr/>
          <p:nvPr/>
        </p:nvSpPr>
        <p:spPr>
          <a:xfrm>
            <a:off x="2916360" y="0"/>
            <a:ext cx="0" cy="685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0" y="328464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60" y="333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804000" y="3573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Черномор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береж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3635280" y="335772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усты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39640" y="335772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те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348000" y="18900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d1f"/>
                </a:solidFill>
                <a:latin typeface="Arial"/>
              </a:rPr>
              <a:t>Ту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804000" y="26028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Лесная 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1" descr="karpalo"/>
          <p:cNvPicPr/>
          <p:nvPr/>
        </p:nvPicPr>
        <p:blipFill>
          <a:blip r:embed="rId4"/>
          <a:stretch/>
        </p:blipFill>
        <p:spPr>
          <a:xfrm>
            <a:off x="4500720" y="4365720"/>
            <a:ext cx="1726920" cy="127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1" descr="1191382366_11"/>
          <p:cNvPicPr/>
          <p:nvPr/>
        </p:nvPicPr>
        <p:blipFill>
          <a:blip r:embed="rId5"/>
          <a:srcRect l="0" t="0" r="21778" b="0"/>
          <a:stretch/>
        </p:blipFill>
        <p:spPr>
          <a:xfrm>
            <a:off x="179280" y="4437000"/>
            <a:ext cx="1835280" cy="129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5" descr="pic031mog"/>
          <p:cNvPicPr/>
          <p:nvPr/>
        </p:nvPicPr>
        <p:blipFill>
          <a:blip r:embed="rId6"/>
          <a:stretch/>
        </p:blipFill>
        <p:spPr>
          <a:xfrm>
            <a:off x="5435640" y="5470560"/>
            <a:ext cx="1871640" cy="13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3" descr="Agropyron_cristatum"/>
          <p:cNvPicPr/>
          <p:nvPr/>
        </p:nvPicPr>
        <p:blipFill>
          <a:blip r:embed="rId7"/>
          <a:stretch/>
        </p:blipFill>
        <p:spPr>
          <a:xfrm>
            <a:off x="0" y="5470560"/>
            <a:ext cx="1871640" cy="138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0" descr="populus-tremula"/>
          <p:cNvPicPr/>
          <p:nvPr/>
        </p:nvPicPr>
        <p:blipFill>
          <a:blip r:embed="rId8"/>
          <a:stretch/>
        </p:blipFill>
        <p:spPr>
          <a:xfrm>
            <a:off x="3924360" y="5516640"/>
            <a:ext cx="1657440" cy="134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0" descr="9cfa227e11dfa387975a375851cf4e29"/>
          <p:cNvPicPr/>
          <p:nvPr/>
        </p:nvPicPr>
        <p:blipFill>
          <a:blip r:embed="rId9"/>
          <a:stretch/>
        </p:blipFill>
        <p:spPr>
          <a:xfrm>
            <a:off x="2050920" y="5470560"/>
            <a:ext cx="18003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f185"/>
            </a:gs>
            <a:gs pos="50000">
              <a:srgbClr val="12e831"/>
            </a:gs>
            <a:gs pos="100000">
              <a:srgbClr val="73f18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G00326_"/>
          <p:cNvPicPr/>
          <p:nvPr/>
        </p:nvPicPr>
        <p:blipFill>
          <a:blip r:embed="rId1"/>
          <a:stretch/>
        </p:blipFill>
        <p:spPr>
          <a:xfrm>
            <a:off x="1476360" y="2133720"/>
            <a:ext cx="5832360" cy="3897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692360" y="404640"/>
            <a:ext cx="4680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b17"/>
            </a:gs>
            <a:gs pos="50000">
              <a:srgbClr val="12e831"/>
            </a:gs>
            <a:gs pos="100000">
              <a:srgbClr val="086b1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-9425" t="29304" r="4630" b="5009"/>
          <a:stretch/>
        </p:blipFill>
        <p:spPr>
          <a:xfrm>
            <a:off x="3635280" y="400536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0" t="14487" r="7616" b="0"/>
          <a:stretch/>
        </p:blipFill>
        <p:spPr>
          <a:xfrm>
            <a:off x="4932360" y="4005360"/>
            <a:ext cx="719280" cy="70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rcRect l="0" t="22076" r="8438" b="11518"/>
          <a:stretch/>
        </p:blipFill>
        <p:spPr>
          <a:xfrm>
            <a:off x="2987640" y="4653000"/>
            <a:ext cx="792360" cy="68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rcRect l="0" t="23455" r="16712" b="-1530"/>
          <a:stretch/>
        </p:blipFill>
        <p:spPr>
          <a:xfrm>
            <a:off x="4859280" y="54450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2050920" y="260280"/>
            <a:ext cx="5113440" cy="6048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059280" y="3933720"/>
            <a:ext cx="30254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3635280" y="2492280"/>
            <a:ext cx="187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5">
            <a:lum bright="14000"/>
          </a:blip>
          <a:srcRect l="4176" t="19724" r="16705" b="11341"/>
          <a:stretch/>
        </p:blipFill>
        <p:spPr>
          <a:xfrm>
            <a:off x="392436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6"/>
          <a:srcRect l="35425" t="63031" r="35027" b="-2323"/>
          <a:stretch/>
        </p:blipFill>
        <p:spPr>
          <a:xfrm>
            <a:off x="4859280" y="3141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7"/>
          <a:srcRect l="35425" t="63031" r="35027" b="-2323"/>
          <a:stretch/>
        </p:blipFill>
        <p:spPr>
          <a:xfrm>
            <a:off x="327672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8"/>
          <a:srcRect l="35425" t="63031" r="35027" b="-2323"/>
          <a:stretch/>
        </p:blipFill>
        <p:spPr>
          <a:xfrm>
            <a:off x="406728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9"/>
          <a:srcRect l="0" t="23455" r="16712" b="-1530"/>
          <a:stretch/>
        </p:blipFill>
        <p:spPr>
          <a:xfrm>
            <a:off x="4211640" y="465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0"/>
          <a:srcRect l="0" t="23455" r="16712" b="-1530"/>
          <a:stretch/>
        </p:blipFill>
        <p:spPr>
          <a:xfrm>
            <a:off x="3564000" y="5445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11"/>
          <a:srcRect l="0" t="23455" r="16712" b="-1530"/>
          <a:stretch/>
        </p:blipFill>
        <p:spPr>
          <a:xfrm>
            <a:off x="2484360" y="5445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12"/>
          <a:srcRect l="0" t="23455" r="16712" b="-1530"/>
          <a:stretch/>
        </p:blipFill>
        <p:spPr>
          <a:xfrm>
            <a:off x="5580000" y="472428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"/>
          <p:cNvPicPr/>
          <p:nvPr/>
        </p:nvPicPr>
        <p:blipFill>
          <a:blip r:embed="rId13"/>
          <a:srcRect l="0" t="23455" r="16712" b="-1530"/>
          <a:stretch/>
        </p:blipFill>
        <p:spPr>
          <a:xfrm>
            <a:off x="6012000" y="544500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b17"/>
            </a:gs>
            <a:gs pos="50000">
              <a:srgbClr val="12e831"/>
            </a:gs>
            <a:gs pos="100000">
              <a:srgbClr val="086b1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-9425" t="29304" r="4630" b="5009"/>
          <a:stretch/>
        </p:blipFill>
        <p:spPr>
          <a:xfrm>
            <a:off x="3564000" y="393372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rcRect l="0" t="14487" r="7616" b="0"/>
          <a:stretch/>
        </p:blipFill>
        <p:spPr>
          <a:xfrm>
            <a:off x="4932360" y="3860640"/>
            <a:ext cx="865080" cy="84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rcRect l="0" t="22076" r="8438" b="11518"/>
          <a:stretch/>
        </p:blipFill>
        <p:spPr>
          <a:xfrm>
            <a:off x="2771640" y="4221000"/>
            <a:ext cx="792360" cy="64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rcRect l="0" t="23455" r="16712" b="-1530"/>
          <a:stretch/>
        </p:blipFill>
        <p:spPr>
          <a:xfrm>
            <a:off x="5003640" y="530064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2050920" y="260280"/>
            <a:ext cx="4897440" cy="5689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2916360" y="3933720"/>
            <a:ext cx="31683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564000" y="2492280"/>
            <a:ext cx="187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5">
            <a:lum bright="14000"/>
          </a:blip>
          <a:srcRect l="4176" t="19724" r="16705" b="11341"/>
          <a:stretch/>
        </p:blipFill>
        <p:spPr>
          <a:xfrm>
            <a:off x="378000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6"/>
          <a:srcRect l="35425" t="63031" r="35027" b="-2323"/>
          <a:stretch/>
        </p:blipFill>
        <p:spPr>
          <a:xfrm>
            <a:off x="507672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7"/>
          <a:srcRect l="35425" t="63031" r="35027" b="-2323"/>
          <a:stretch/>
        </p:blipFill>
        <p:spPr>
          <a:xfrm>
            <a:off x="320364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8"/>
          <a:srcRect l="35425" t="63031" r="35027" b="-2323"/>
          <a:stretch/>
        </p:blipFill>
        <p:spPr>
          <a:xfrm>
            <a:off x="341964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9"/>
          <a:srcRect l="0" t="23455" r="16712" b="-1530"/>
          <a:stretch/>
        </p:blipFill>
        <p:spPr>
          <a:xfrm>
            <a:off x="4284720" y="465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0"/>
          <a:srcRect l="0" t="23455" r="16712" b="-1530"/>
          <a:stretch/>
        </p:blipFill>
        <p:spPr>
          <a:xfrm>
            <a:off x="3492360" y="5229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1"/>
          <a:srcRect l="0" t="23455" r="16712" b="-1530"/>
          <a:stretch/>
        </p:blipFill>
        <p:spPr>
          <a:xfrm>
            <a:off x="2411280" y="5157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2"/>
          <a:srcRect l="0" t="23455" r="16712" b="-1530"/>
          <a:stretch/>
        </p:blipFill>
        <p:spPr>
          <a:xfrm>
            <a:off x="5580000" y="4581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35425" t="63031" r="35027" b="-2323"/>
          <a:stretch/>
        </p:blipFill>
        <p:spPr>
          <a:xfrm>
            <a:off x="414036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14"/>
          <a:srcRect l="35425" t="63031" r="35027" b="-2323"/>
          <a:stretch/>
        </p:blipFill>
        <p:spPr>
          <a:xfrm>
            <a:off x="485928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15"/>
          <a:srcRect l="35425" t="63031" r="35027" b="-2323"/>
          <a:stretch/>
        </p:blipFill>
        <p:spPr>
          <a:xfrm>
            <a:off x="385128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16"/>
          <a:srcRect l="35425" t="63031" r="35027" b="-2323"/>
          <a:stretch/>
        </p:blipFill>
        <p:spPr>
          <a:xfrm>
            <a:off x="4427640" y="321300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b17"/>
            </a:gs>
            <a:gs pos="50000">
              <a:srgbClr val="12e831"/>
            </a:gs>
            <a:gs pos="100000">
              <a:srgbClr val="086b1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-9425" t="29304" r="4630" b="5009"/>
          <a:stretch/>
        </p:blipFill>
        <p:spPr>
          <a:xfrm>
            <a:off x="3564000" y="393372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rcRect l="0" t="14487" r="7616" b="0"/>
          <a:stretch/>
        </p:blipFill>
        <p:spPr>
          <a:xfrm>
            <a:off x="4932360" y="3933720"/>
            <a:ext cx="719280" cy="70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rcRect l="0" t="22076" r="8438" b="11518"/>
          <a:stretch/>
        </p:blipFill>
        <p:spPr>
          <a:xfrm>
            <a:off x="2771640" y="4221000"/>
            <a:ext cx="792360" cy="6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rcRect l="0" t="23455" r="16712" b="-1530"/>
          <a:stretch/>
        </p:blipFill>
        <p:spPr>
          <a:xfrm>
            <a:off x="5003640" y="530064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050920" y="260280"/>
            <a:ext cx="4897440" cy="5689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2916360" y="3933720"/>
            <a:ext cx="31683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564000" y="2492280"/>
            <a:ext cx="1871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5">
            <a:lum bright="14000"/>
          </a:blip>
          <a:srcRect l="4176" t="19724" r="16705" b="11341"/>
          <a:stretch/>
        </p:blipFill>
        <p:spPr>
          <a:xfrm>
            <a:off x="385128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rcRect l="35425" t="63031" r="35027" b="-2323"/>
          <a:stretch/>
        </p:blipFill>
        <p:spPr>
          <a:xfrm>
            <a:off x="4859280" y="3141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rcRect l="35425" t="63031" r="35027" b="-2323"/>
          <a:stretch/>
        </p:blipFill>
        <p:spPr>
          <a:xfrm>
            <a:off x="327672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8"/>
          <a:srcRect l="35425" t="63031" r="35027" b="-2323"/>
          <a:stretch/>
        </p:blipFill>
        <p:spPr>
          <a:xfrm>
            <a:off x="406728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9"/>
          <a:srcRect l="0" t="23455" r="16712" b="-1530"/>
          <a:stretch/>
        </p:blipFill>
        <p:spPr>
          <a:xfrm>
            <a:off x="4284720" y="465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10"/>
          <a:srcRect l="0" t="23455" r="16712" b="-1530"/>
          <a:stretch/>
        </p:blipFill>
        <p:spPr>
          <a:xfrm>
            <a:off x="3492360" y="5229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1"/>
          <a:srcRect l="0" t="23455" r="16712" b="-1530"/>
          <a:stretch/>
        </p:blipFill>
        <p:spPr>
          <a:xfrm>
            <a:off x="2411280" y="5157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2"/>
          <a:srcRect l="0" t="23455" r="16712" b="-1530"/>
          <a:stretch/>
        </p:blipFill>
        <p:spPr>
          <a:xfrm>
            <a:off x="5580000" y="4581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3"/>
          <a:srcRect l="5726" t="4175" r="5726" b="11850"/>
          <a:stretch/>
        </p:blipFill>
        <p:spPr>
          <a:xfrm>
            <a:off x="6948360" y="4005360"/>
            <a:ext cx="18241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4">
            <a:lum bright="14000"/>
          </a:blip>
          <a:srcRect l="4176" t="19724" r="16705" b="11341"/>
          <a:stretch/>
        </p:blipFill>
        <p:spPr>
          <a:xfrm>
            <a:off x="2411280" y="476280"/>
            <a:ext cx="1368720" cy="201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5">
            <a:lum bright="14000"/>
          </a:blip>
          <a:srcRect l="4176" t="19724" r="16705" b="11341"/>
          <a:stretch/>
        </p:blipFill>
        <p:spPr>
          <a:xfrm>
            <a:off x="529272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6"/>
          <a:srcRect l="5726" t="4175" r="5726" b="11850"/>
          <a:stretch/>
        </p:blipFill>
        <p:spPr>
          <a:xfrm>
            <a:off x="5219640" y="4005360"/>
            <a:ext cx="188928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7"/>
          <a:srcRect l="5726" t="4175" r="5726" b="11850"/>
          <a:stretch/>
        </p:blipFill>
        <p:spPr>
          <a:xfrm>
            <a:off x="3635280" y="4005360"/>
            <a:ext cx="1824120" cy="20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18"/>
          <a:srcRect l="5726" t="4175" r="5726" b="11850"/>
          <a:stretch/>
        </p:blipFill>
        <p:spPr>
          <a:xfrm>
            <a:off x="1835280" y="4005360"/>
            <a:ext cx="1823760" cy="20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9"/>
          <a:srcRect l="5726" t="4175" r="5726" b="11850"/>
          <a:stretch/>
        </p:blipFill>
        <p:spPr>
          <a:xfrm>
            <a:off x="250920" y="4005360"/>
            <a:ext cx="1824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13:52Z</dcterms:created>
  <dc:creator>Raybook</dc:creator>
  <dc:description/>
  <dc:language>en-US</dc:language>
  <cp:lastModifiedBy>stud-20</cp:lastModifiedBy>
  <dcterms:modified xsi:type="dcterms:W3CDTF">2011-04-12T13:31:55Z</dcterms:modified>
  <cp:revision>26</cp:revision>
  <dc:subject/>
  <dc:title>Слайд 1</dc:title>
</cp:coreProperties>
</file>