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0AC-9FEA-423D-AAEC-632524C0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12A-C6A7-42FD-990F-085C175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E49-76E3-45AB-9E44-524442D4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BFA-8D01-4849-B678-C9F6ACEE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D85-24B4-4C7C-8258-D9D0DD0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635-4D45-490D-B1F7-86550A6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EE1-813A-491A-A740-49A52F8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F3C-0265-4E76-86E2-30E216E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482-1994-4974-991F-46D89967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4AB-F39E-4E01-8848-CE7BB1BD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7F8-DDEC-4818-8510-8309383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96B-0938-43BB-9285-D5CC30AD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C5A0-0DCD-4B2D-AE67-1E182614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48b5b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11" t="3077" r="6718" b="9104"/>
          <a:stretch/>
        </p:blipFill>
        <p:spPr>
          <a:xfrm>
            <a:off x="3276720" y="2133720"/>
            <a:ext cx="2663640" cy="208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48360" y="2060640"/>
            <a:ext cx="1008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333360"/>
            <a:ext cx="100800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35772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907920"/>
            <a:ext cx="1008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5157720"/>
            <a:ext cx="1008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4653000"/>
            <a:ext cx="1008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944e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contrast="-6000"/>
          </a:blip>
          <a:srcRect l="5900" t="4953" r="5356" b="6983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e8fee8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1979280" y="126828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00000" y="1484280"/>
            <a:ext cx="9349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1700280"/>
            <a:ext cx="21564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484280"/>
            <a:ext cx="1295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645000"/>
            <a:ext cx="28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РАСТИТЕЛЬНО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91628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ХИЩ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78136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НАСЕКОМО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79736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8e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9d3e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623" t="6652" r="5892" b="6064"/>
          <a:stretch/>
        </p:blipFill>
        <p:spPr>
          <a:xfrm>
            <a:off x="3059280" y="981000"/>
            <a:ext cx="2592360" cy="194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11600" y="419040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2520" y="491112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 rot="10800000">
            <a:off x="5866200" y="42919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573360"/>
            <a:ext cx="1873080" cy="287280"/>
          </a:xfrm>
          <a:prstGeom prst="rightArrow">
            <a:avLst>
              <a:gd name="adj1" fmla="val 50000"/>
              <a:gd name="adj2" fmla="val 1630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645000"/>
            <a:ext cx="1871640" cy="288720"/>
          </a:xfrm>
          <a:prstGeom prst="rightArrow">
            <a:avLst>
              <a:gd name="adj1" fmla="val 50000"/>
              <a:gd name="adj2" fmla="val 1620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ff66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1008000" cy="55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907920"/>
            <a:ext cx="360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640" y="2781360"/>
            <a:ext cx="3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640" y="4797360"/>
            <a:ext cx="3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28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63640" y="62028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763640" y="2133360"/>
            <a:ext cx="1150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789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084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9259" t="16722" r="10538" b="30769"/>
          <a:stretch/>
        </p:blipFill>
        <p:spPr>
          <a:xfrm>
            <a:off x="3205080" y="2922480"/>
            <a:ext cx="86364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2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56000" y="2637000"/>
            <a:ext cx="1079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57336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9360"/>
            <a:ext cx="93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27640" y="12679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458136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284720" y="5229360"/>
            <a:ext cx="107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6089" t="26823" r="21956" b="15101"/>
          <a:stretch/>
        </p:blipFill>
        <p:spPr>
          <a:xfrm>
            <a:off x="7751880" y="4221000"/>
            <a:ext cx="996840" cy="1079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85" t="29938" r="18605" b="18596"/>
          <a:stretch/>
        </p:blipFill>
        <p:spPr>
          <a:xfrm>
            <a:off x="7667640" y="5765760"/>
            <a:ext cx="1081080" cy="83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5989" t="34479" r="21476" b="19817"/>
          <a:stretch/>
        </p:blipFill>
        <p:spPr>
          <a:xfrm>
            <a:off x="7812000" y="314172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rcRect l="6853" t="31917" r="25760" b="21190"/>
          <a:stretch/>
        </p:blipFill>
        <p:spPr>
          <a:xfrm>
            <a:off x="4716360" y="6021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rcRect l="6567" t="27253" r="20464" b="14632"/>
          <a:stretch/>
        </p:blipFill>
        <p:spPr>
          <a:xfrm>
            <a:off x="7613640" y="189000"/>
            <a:ext cx="99072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rcRect l="9002" t="28414" r="27280" b="15145"/>
          <a:stretch/>
        </p:blipFill>
        <p:spPr>
          <a:xfrm>
            <a:off x="3348000" y="5877000"/>
            <a:ext cx="693720" cy="790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rcRect l="7373" t="31922" r="25973" b="14803"/>
          <a:stretch/>
        </p:blipFill>
        <p:spPr>
          <a:xfrm>
            <a:off x="7697880" y="1557360"/>
            <a:ext cx="90648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rcRect l="14172" t="0" r="28668" b="30584"/>
          <a:stretch/>
        </p:blipFill>
        <p:spPr>
          <a:xfrm>
            <a:off x="1763640" y="6165720"/>
            <a:ext cx="57636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rcRect l="4821" t="27986" r="17636" b="19107"/>
          <a:stretch/>
        </p:blipFill>
        <p:spPr>
          <a:xfrm>
            <a:off x="5940360" y="5950080"/>
            <a:ext cx="1152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4155" t="19707" r="16496" b="11308"/>
          <a:stretch/>
        </p:blipFill>
        <p:spPr>
          <a:xfrm>
            <a:off x="3203640" y="333360"/>
            <a:ext cx="175896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1628" t="11455" r="1163" b="19759"/>
          <a:stretch/>
        </p:blipFill>
        <p:spPr>
          <a:xfrm>
            <a:off x="2340000" y="458136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0" t="30024" r="17753" b="0"/>
          <a:stretch/>
        </p:blipFill>
        <p:spPr>
          <a:xfrm>
            <a:off x="4859280" y="4653000"/>
            <a:ext cx="1081080" cy="839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32000" y="357336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364500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4326" t="22071" r="28333" b="16496"/>
          <a:stretch/>
        </p:blipFill>
        <p:spPr>
          <a:xfrm>
            <a:off x="7569360" y="333360"/>
            <a:ext cx="906480" cy="165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50920" y="692280"/>
            <a:ext cx="4826160" cy="5041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393372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492280"/>
            <a:ext cx="1728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1628" t="11455" r="1163" b="19759"/>
          <a:stretch/>
        </p:blipFill>
        <p:spPr>
          <a:xfrm>
            <a:off x="250920" y="393372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11628" t="11455" r="1163" b="19759"/>
          <a:stretch/>
        </p:blipFill>
        <p:spPr>
          <a:xfrm>
            <a:off x="971640" y="5084640"/>
            <a:ext cx="1079280" cy="86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5425" t="30024" r="23315" b="0"/>
          <a:stretch/>
        </p:blipFill>
        <p:spPr>
          <a:xfrm>
            <a:off x="6516720" y="3933720"/>
            <a:ext cx="814320" cy="7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5425" t="30024" r="23315" b="0"/>
          <a:stretch/>
        </p:blipFill>
        <p:spPr>
          <a:xfrm>
            <a:off x="6877080" y="486900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rcRect l="5425" t="30024" r="23315" b="0"/>
          <a:stretch/>
        </p:blipFill>
        <p:spPr>
          <a:xfrm>
            <a:off x="7885080" y="551664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5425" t="30024" r="23315" b="0"/>
          <a:stretch/>
        </p:blipFill>
        <p:spPr>
          <a:xfrm>
            <a:off x="7885080" y="4221000"/>
            <a:ext cx="814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6:23:34Z</dcterms:created>
  <dc:creator>Raybook</dc:creator>
  <dc:description/>
  <dc:language>en-US</dc:language>
  <cp:lastModifiedBy>Raybook</cp:lastModifiedBy>
  <dcterms:modified xsi:type="dcterms:W3CDTF">2009-08-11T09:09:44Z</dcterms:modified>
  <cp:revision>6</cp:revision>
  <dc:subject/>
  <dc:title>Слайд 1</dc:title>
</cp:coreProperties>
</file>