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B996-DDCE-4678-9ED3-A38E7C1CC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7F2C-091B-480C-8FF9-EF864B96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1B22-AE8B-464C-A159-07ABFB7DB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EF96-8C97-49F0-9D8A-FB4B0AF8F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C363-62EC-493D-A326-43C2A349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E4BA-11E0-4F84-AE63-33F3DE30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852B-ED04-4117-9D9A-A9A5EA34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CB2C-4419-485F-83AD-DE238EE9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EB84-1CD0-4B7C-9AC9-086BD82E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5F5D-2066-4E5E-8477-B2D08341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BA45-8BB1-4BFD-966F-669DB030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8548-F9A0-4FCB-A1ED-8B918FD9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9287-8918-4960-8C43-2933A6C24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48b5b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7611" t="3077" r="6718" b="9104"/>
          <a:stretch/>
        </p:blipFill>
        <p:spPr>
          <a:xfrm>
            <a:off x="3276720" y="2133720"/>
            <a:ext cx="2663640" cy="2087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948360" y="2060640"/>
            <a:ext cx="1008360" cy="10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88000" y="333360"/>
            <a:ext cx="1008000" cy="1150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357720"/>
            <a:ext cx="100836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00"/>
                </a:solidFill>
                <a:latin typeface="Arial"/>
              </a:rPr>
              <a:t>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907920"/>
            <a:ext cx="100800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64000" y="5157720"/>
            <a:ext cx="100800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300720" y="4653000"/>
            <a:ext cx="1008000" cy="10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944e"/>
            </a:gs>
            <a:gs pos="100000">
              <a:srgbClr val="00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lum contrast="-6000"/>
          </a:blip>
          <a:srcRect l="5900" t="4953" r="5356" b="6983"/>
          <a:stretch/>
        </p:blipFill>
        <p:spPr>
          <a:xfrm>
            <a:off x="0" y="0"/>
            <a:ext cx="939636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e8fee8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 flipH="1">
            <a:off x="1979280" y="1268280"/>
            <a:ext cx="1152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00000" y="1484280"/>
            <a:ext cx="93492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27640" y="1700280"/>
            <a:ext cx="215640" cy="26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08720" y="1484280"/>
            <a:ext cx="129528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3645000"/>
            <a:ext cx="280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РАСТИТЕЛЬНОЯД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916280"/>
            <a:ext cx="280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ХИЩ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2781360"/>
            <a:ext cx="280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НАСЕКОМОЯД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64000" y="4797360"/>
            <a:ext cx="280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ВСЕЯД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32000" y="404640"/>
            <a:ext cx="280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8e"/>
                </a:solidFill>
                <a:latin typeface="Arial"/>
              </a:rPr>
              <a:t>ЖИВО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9d3e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7623" t="6652" r="5892" b="6064"/>
          <a:stretch/>
        </p:blipFill>
        <p:spPr>
          <a:xfrm>
            <a:off x="3059280" y="981000"/>
            <a:ext cx="2592360" cy="1943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11600" y="4190400"/>
            <a:ext cx="25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жья кор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82520" y="4911120"/>
            <a:ext cx="17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т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 rot="10800000">
            <a:off x="5866200" y="429192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19280" y="3573360"/>
            <a:ext cx="1873080" cy="287280"/>
          </a:xfrm>
          <a:prstGeom prst="rightArrow">
            <a:avLst>
              <a:gd name="adj1" fmla="val 50000"/>
              <a:gd name="adj2" fmla="val 16300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3645000"/>
            <a:ext cx="1871640" cy="288720"/>
          </a:xfrm>
          <a:prstGeom prst="rightArrow">
            <a:avLst>
              <a:gd name="adj1" fmla="val 50000"/>
              <a:gd name="adj2" fmla="val 16206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66ff66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68360" y="620640"/>
            <a:ext cx="1008000" cy="554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55640" y="907920"/>
            <a:ext cx="3603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55640" y="2781360"/>
            <a:ext cx="360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55640" y="4797360"/>
            <a:ext cx="360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19280" y="3284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763640" y="620280"/>
            <a:ext cx="1079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763640" y="2133360"/>
            <a:ext cx="11509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35280" y="378936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08000" y="508464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9259" t="16722" r="10538" b="30769"/>
          <a:stretch/>
        </p:blipFill>
        <p:spPr>
          <a:xfrm>
            <a:off x="3205080" y="2922480"/>
            <a:ext cx="863640" cy="720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284720" y="3357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356000" y="2637000"/>
            <a:ext cx="1079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56000" y="3573360"/>
            <a:ext cx="107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549360"/>
            <a:ext cx="936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427640" y="12679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56000" y="4581360"/>
            <a:ext cx="1008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284720" y="5229360"/>
            <a:ext cx="107928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rcRect l="6089" t="26823" r="21956" b="15101"/>
          <a:stretch/>
        </p:blipFill>
        <p:spPr>
          <a:xfrm>
            <a:off x="7751880" y="4221000"/>
            <a:ext cx="996840" cy="1079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rcRect l="5785" t="29938" r="18605" b="18596"/>
          <a:stretch/>
        </p:blipFill>
        <p:spPr>
          <a:xfrm>
            <a:off x="7667640" y="5765760"/>
            <a:ext cx="1081080" cy="831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rcRect l="5989" t="34479" r="21476" b="19817"/>
          <a:stretch/>
        </p:blipFill>
        <p:spPr>
          <a:xfrm>
            <a:off x="7812000" y="3141720"/>
            <a:ext cx="863640" cy="574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rcRect l="6853" t="31917" r="25760" b="21190"/>
          <a:stretch/>
        </p:blipFill>
        <p:spPr>
          <a:xfrm>
            <a:off x="4716360" y="6021360"/>
            <a:ext cx="719280" cy="576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rcRect l="6567" t="27253" r="20464" b="14632"/>
          <a:stretch/>
        </p:blipFill>
        <p:spPr>
          <a:xfrm>
            <a:off x="7613640" y="189000"/>
            <a:ext cx="990720" cy="1079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rcRect l="9002" t="28414" r="27280" b="15145"/>
          <a:stretch/>
        </p:blipFill>
        <p:spPr>
          <a:xfrm>
            <a:off x="3348000" y="5877000"/>
            <a:ext cx="693720" cy="790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rcRect l="7373" t="31922" r="25973" b="14803"/>
          <a:stretch/>
        </p:blipFill>
        <p:spPr>
          <a:xfrm>
            <a:off x="7697880" y="1557360"/>
            <a:ext cx="906480" cy="100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9"/>
          <a:srcRect l="14172" t="0" r="28668" b="30584"/>
          <a:stretch/>
        </p:blipFill>
        <p:spPr>
          <a:xfrm>
            <a:off x="1763640" y="6165720"/>
            <a:ext cx="576360" cy="360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0"/>
          <a:srcRect l="4821" t="27986" r="17636" b="19107"/>
          <a:stretch/>
        </p:blipFill>
        <p:spPr>
          <a:xfrm>
            <a:off x="5940360" y="5950080"/>
            <a:ext cx="1152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4155" t="19707" r="16496" b="11308"/>
          <a:stretch/>
        </p:blipFill>
        <p:spPr>
          <a:xfrm>
            <a:off x="3203640" y="333360"/>
            <a:ext cx="1758960" cy="2374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rcRect l="11628" t="11455" r="1163" b="19759"/>
          <a:stretch/>
        </p:blipFill>
        <p:spPr>
          <a:xfrm>
            <a:off x="2340000" y="4581360"/>
            <a:ext cx="1079640" cy="865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rcRect l="0" t="30024" r="17753" b="0"/>
          <a:stretch/>
        </p:blipFill>
        <p:spPr>
          <a:xfrm>
            <a:off x="4859280" y="4653000"/>
            <a:ext cx="1081080" cy="839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332000" y="3573360"/>
            <a:ext cx="1728720" cy="360360"/>
          </a:xfrm>
          <a:prstGeom prst="rightArrow">
            <a:avLst>
              <a:gd name="adj1" fmla="val 50000"/>
              <a:gd name="adj2" fmla="val 11993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32360" y="3645000"/>
            <a:ext cx="1728720" cy="360360"/>
          </a:xfrm>
          <a:prstGeom prst="rightArrow">
            <a:avLst>
              <a:gd name="adj1" fmla="val 50000"/>
              <a:gd name="adj2" fmla="val 11993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14326" t="22071" r="28333" b="16496"/>
          <a:stretch/>
        </p:blipFill>
        <p:spPr>
          <a:xfrm>
            <a:off x="7569360" y="333360"/>
            <a:ext cx="906480" cy="1655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050920" y="692280"/>
            <a:ext cx="4826160" cy="50418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16360" y="3933720"/>
            <a:ext cx="309564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2492280"/>
            <a:ext cx="172872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rcRect l="11628" t="11455" r="1163" b="19759"/>
          <a:stretch/>
        </p:blipFill>
        <p:spPr>
          <a:xfrm>
            <a:off x="250920" y="3933720"/>
            <a:ext cx="1079280" cy="865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rcRect l="11628" t="11455" r="1163" b="19759"/>
          <a:stretch/>
        </p:blipFill>
        <p:spPr>
          <a:xfrm>
            <a:off x="971640" y="5084640"/>
            <a:ext cx="1079280" cy="865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rcRect l="5425" t="30024" r="23315" b="0"/>
          <a:stretch/>
        </p:blipFill>
        <p:spPr>
          <a:xfrm>
            <a:off x="6516720" y="3933720"/>
            <a:ext cx="814320" cy="719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rcRect l="5425" t="30024" r="23315" b="0"/>
          <a:stretch/>
        </p:blipFill>
        <p:spPr>
          <a:xfrm>
            <a:off x="6877080" y="4869000"/>
            <a:ext cx="814320" cy="718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rcRect l="5425" t="30024" r="23315" b="0"/>
          <a:stretch/>
        </p:blipFill>
        <p:spPr>
          <a:xfrm>
            <a:off x="7885080" y="5516640"/>
            <a:ext cx="814320" cy="718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rcRect l="5425" t="30024" r="23315" b="0"/>
          <a:stretch/>
        </p:blipFill>
        <p:spPr>
          <a:xfrm>
            <a:off x="7885080" y="4221000"/>
            <a:ext cx="8143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06:23:34Z</dcterms:created>
  <dc:creator>Raybook</dc:creator>
  <dc:description/>
  <dc:language>en-US</dc:language>
  <cp:lastModifiedBy>Raybook</cp:lastModifiedBy>
  <dcterms:modified xsi:type="dcterms:W3CDTF">2009-08-11T09:09:44Z</dcterms:modified>
  <cp:revision>6</cp:revision>
  <dc:subject/>
  <dc:title>Слайд 1</dc:title>
</cp:coreProperties>
</file>