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783-3135-482A-9CE5-FB26D9BC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C21-A17D-4B98-BF2B-B1CB8FE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C82-F98B-4EB2-93CA-C44C90F3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603-EEB4-4ED5-8216-2EAF6B2D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9D01-2DC9-44CB-BB1B-AB18CEB8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EB4F-AB61-48C5-881F-D83DA820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17E8-284E-4B6D-86B9-3321403B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7980-5932-42C3-B49A-B54C9515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C1E1-80D7-47DA-A85D-BFC0CBF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8675-7634-4B45-9A07-63BD3ACE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CB70-A944-4B62-9D89-74FF06E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876-FE23-413B-9AD5-06B7A218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29A-3EBC-4AE7-B642-FED6AFE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AFA-D37B-449C-A4AF-B3F02A4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FC4F-C85A-4536-ABD9-F8709C7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4BC9-E5BA-40C0-8DAA-41FC674C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A424-FA06-4A8D-B8C1-B87E3F03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47D-33FF-45EE-924B-2A9365F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57A-224B-464B-A9BD-24192E4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6B8-5FEE-4556-BCEB-D2EE237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CB2-232D-40A3-AA75-4A6DFF5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5FE-242C-4741-B511-4FDD1381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87C-D6F5-434D-AA5B-8AFCBF3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D82-DE19-4262-B5F2-EB336FE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D6E5-8B69-461D-9382-5BFB68A6D2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7D93-81B3-474E-A627-3AC67A9623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0" y="0"/>
            <a:ext cx="2071800" cy="68580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6643800" y="0"/>
            <a:ext cx="2357280" cy="68580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–логопед МОУ СОШ № 2 города КАРАСУК А Н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285840" y="1000080"/>
            <a:ext cx="8501040" cy="2643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54526"/>
                </a:solidFill>
                <a:latin typeface="Monotype Corsiva"/>
              </a:rPr>
              <a:t>Речевые пробл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54526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454526"/>
                </a:solidFill>
                <a:latin typeface="Monotype Corsiva"/>
              </a:rPr>
              <a:t>Причины и следств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67160" y="3760920"/>
            <a:ext cx="3797280" cy="3103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071800" y="214200"/>
            <a:ext cx="4500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Проблемная 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c5ffe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Чтение вслу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мул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 проводится в контакте с ребён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емьи привыкают к ролевому моделирован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ающий узнаёт интересы ребё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ающий чувствует значимость того, кто ему чи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ается качеств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тимул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рачивание страниц способствует развитию двигательной координации, навыка сложных движ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картинок улучшает зрительные навы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ние обостряет навыки ауд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«Чтение  -  такой вид спорта», - программа Публичной библиотеки Сент-Луиса (США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728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728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728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728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728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728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728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728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728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728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2728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6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В структуре досуга телесмотрение </a:t>
            </a:r>
            <a:br>
              <a:rPr sz="4200"/>
            </a:b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находится у подростков на первом месте, </a:t>
            </a:r>
            <a:br>
              <a:rPr sz="4200"/>
            </a:b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тогда как чтение – </a:t>
            </a:r>
            <a:br>
              <a:rPr sz="4200"/>
            </a:br>
            <a:r>
              <a:rPr b="0" lang="ru-RU" sz="4200" spc="-1" strike="noStrike">
                <a:solidFill>
                  <a:srgbClr val="9933ff"/>
                </a:solidFill>
                <a:latin typeface="Arial Black"/>
              </a:rPr>
              <a:t>на четвёртом.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3280" y="5300640"/>
            <a:ext cx="40435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российск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Из изысканий учёных университета Флоренци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209080" cy="5661000"/>
          </a:xfrm>
          <a:prstGeom prst="rect">
            <a:avLst/>
          </a:prstGeom>
          <a:solidFill>
            <a:srgbClr val="cbfa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тельное облучение светом и электромагнитными волнами приводит к снижению выработки гормона мелатонина, который, помимо участия в регулировании сна, способен влиять на сроки полового созр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ониженном содержании раннее половое созревание у девушек – 10 лет, у юношей – 11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таких отклонений –ТВ, видеоигры и излишнее облучение искусственным с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868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иф № 1</a:t>
            </a:r>
            <a:br>
              <a:rPr sz="3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реди учащихся нарастают нервно-психические заболевания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            (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статистика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357440"/>
          </a:xfrm>
          <a:prstGeom prst="rect">
            <a:avLst/>
          </a:prstGeom>
          <a:solidFill>
            <a:srgbClr val="fed0e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болевания, а особенности протекания пубертатного пери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всплеск гормонов в раннем пубертатном периоде –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й   - 14-1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ы специальные программы медико-психологической поддержки для подростков со сложным течением пубертатного пери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68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68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6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498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998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498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85988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иф № 2</a:t>
            </a:r>
            <a:br>
              <a:rPr sz="3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14-16 лет у девочек в голове только мальчики, снижение интереса к учёб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15-20 % девочек в этот период наступает железодефицитная анемия, как следствие полового созр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843280" y="3068640"/>
            <a:ext cx="3168720" cy="1214280"/>
          </a:xfrm>
          <a:custGeom>
            <a:avLst/>
            <a:gdLst>
              <a:gd name="textAreaLeft" fmla="*/ 0 w 3168720"/>
              <a:gd name="textAreaRight" fmla="*/ 3169080 w 31687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ed0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916360" y="4365720"/>
            <a:ext cx="3024000" cy="914400"/>
          </a:xfrm>
          <a:prstGeom prst="downArrowCallout">
            <a:avLst>
              <a:gd name="adj1" fmla="val 82685"/>
              <a:gd name="adj2" fmla="val 82677"/>
              <a:gd name="adj3" fmla="val 16667"/>
              <a:gd name="adj4" fmla="val 66667"/>
            </a:avLst>
          </a:prstGeom>
          <a:solidFill>
            <a:srgbClr val="c5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рессивные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987640" y="5373720"/>
            <a:ext cx="2952720" cy="148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кое ухуд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ния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 чём здесь подростковые проблемы, если мы говорим о воспитании речи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только подростки, в силу не сформированности диалоговой формы речи не способны выразить вербально своё состояние, но и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взрослые не умею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ушать и слыш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слышать и слушать, своевременное  доступное объяснение происходящих с детьми изменений  способно в корне изменить ситу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ed0e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пасности подросткового периода для детей, имеющих те или иные, пусть незначительные недостатки речи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внимания уделяется внешности, речи, оценке своих достоинств и недостатков со стороны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более ранимым, впечатлительным, возникает страх перед речевыми ситуациями – они особенно значимы для подро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ют неврозы, которые со временем могут перерасти в логофоб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98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Franklin Gothic Medium"/>
              </a:rPr>
              <a:t>Логофобия  - страх реч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solidFill>
            <a:srgbClr val="cff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невротическому развитию личности, школьной и социальной дезадап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ывается чувство собственной неполноценности, уязв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на человека смотрит множество глаз, то страх перед выступлением  провоцирует напряжение всей мышечной системы, в том числе артикуляционной мускул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чень неуверенные в себе подростки испытывают значительную тревогу в межличностных отнош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учший способ  - замещение тревожных реакций релаксацией, расслаблением мышц по собственному жел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32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72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7320"/>
                            </p:stCondLst>
                            <p:childTnLst>
                              <p:par>
                                <p:cTn id="4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1920"/>
                            </p:stCondLst>
                            <p:childTnLst>
                              <p:par>
                                <p:cTn id="4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1220"/>
                            </p:stCondLst>
                            <p:childTnLst>
                              <p:par>
                                <p:cTn id="4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2020"/>
                            </p:stCondLst>
                            <p:childTnLst>
                              <p:par>
                                <p:cTn id="4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6620"/>
                            </p:stCondLst>
                            <p:childTnLst>
                              <p:par>
                                <p:cTn id="4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5920"/>
                            </p:stCondLst>
                            <p:childTnLst>
                              <p:par>
                                <p:cTn id="4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Не на меня смотрят, а я смотрю…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мните ребёнку: общение не происходит в одиночку, это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друг с друг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ти диалог, устанавливать полную обратную связь с собеседни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сему этому подрост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 учи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судите с ним приведённые ниже 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998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98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Речевые правил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3fe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 медленно и спокойно, выговаривай слог за слогом, слово за словом, предложение за предло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уясн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ы будешь гово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 не слишком громко и не слишком ти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говоре стой или сиди прямо и спокойн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 в глаза собесед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разговора старайся правильно распределять дых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решительно и определённо произноси гла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ох направляй на гласный зв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необходимости говори ниже обыкновенного 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связывай все слова в предложении, как будто всё предложение – одно многосложно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юбой обстановке речь должна быть чёткой, спокойной, внятной, обдуман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9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4300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ff"/>
                </a:solidFill>
                <a:latin typeface="Bodoni MT Black"/>
              </a:rPr>
              <a:t>Воспитание правильной речи – краеугольный камень образования в целом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377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ff"/>
                </a:solidFill>
                <a:latin typeface="Arial"/>
              </a:rPr>
              <a:t>Воспитывать – значит определять судьбу нац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.В. Масл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ктор педагогических нау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зидент историко-патриотического обще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Наследники Александра Невског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Интерактивный телемир   сужает межличностное общение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636640"/>
            <a:ext cx="77724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Школа-дом-компьютер-шко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Ни хоккея, ни футбо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Сто друзей по Интерне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А единственного – не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Кто ж тогда в тяжёлый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 Black"/>
              </a:rPr>
              <a:t>Выручать примчится н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98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8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16000" y="0"/>
            <a:ext cx="395604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з материалов Мегапроэкта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«Школа без стресса»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87640" y="2781000"/>
            <a:ext cx="5843520" cy="3709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ая большая проблема сегодня – недо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иалогов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формы 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4475160" cy="320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каждым годом среди учащихся, поступающих в начальные классы, увеличивается число детей с различными отклонениями в речевом развитии, что препятствует формированию их полноценной учебной деятельности в контексте развивающ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87240" y="884160"/>
            <a:ext cx="821376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сихологические особенности детей с ОНР, 1 класс, начало год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стойчивое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наблюдательность по отношению к языковым явл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развитие способности к переклю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развитие словесно-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способность к запоминанию преимущественно словес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ое развитие самоконтроля, преимущественно в области языковы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чная сформированность  произвольности в общении 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6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7000"/>
                            </p:stCondLst>
                            <p:childTnLst>
                              <p:par>
                                <p:cTn id="7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едств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чная сформированность психологических предпосылок к овладению полноценными навыками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ности формирования учебных умений (планирование предстоящей работы; определение путей и средств достижения учебной цели; контролирование деятельности; умение работать в определённом темп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Всё это–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роявление недостатков устной формы речи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недостаточной 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формированности  предпосылок к продуктивному овладению программой обучения родному языку и математике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03280" y="3068280"/>
            <a:ext cx="7740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итоге –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трудности усвоения программы начального обучения в целом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вследствие недостаточной сформированности речевой функции и психологических предпосылок к овладению  полноценной учебной дея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9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4168800" cy="4530600"/>
          </a:xfrm>
          <a:prstGeom prst="rect">
            <a:avLst/>
          </a:prstGeom>
          <a:solidFill>
            <a:srgbClr val="cbfa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достаточная подготовленность к школе выльется в неуспеваемость и не только по русскому я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solidFill>
            <a:srgbClr val="c5ff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ряжённость, дискомфорт, депрессивные состояния или дивиантно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932360" y="333360"/>
            <a:ext cx="3778200" cy="1150920"/>
          </a:xfrm>
          <a:prstGeom prst="downArrowCallout">
            <a:avLst>
              <a:gd name="adj1" fmla="val 82077"/>
              <a:gd name="adj2" fmla="val 82069"/>
              <a:gd name="adj3" fmla="val 16667"/>
              <a:gd name="adj4" fmla="val 6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5796000" y="476280"/>
            <a:ext cx="252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  -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16000" y="333360"/>
            <a:ext cx="3169080" cy="8161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WordArt 9"/>
          <p:cNvSpPr txBox="1"/>
          <p:nvPr/>
        </p:nvSpPr>
        <p:spPr>
          <a:xfrm>
            <a:off x="1332000" y="47628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3feff"/>
                </a:solidFill>
                <a:latin typeface="Arial"/>
              </a:rPr>
              <a:t>вывод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3fe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6"/>
          <p:cNvGrpSpPr/>
          <p:nvPr/>
        </p:nvGrpSpPr>
        <p:grpSpPr>
          <a:xfrm>
            <a:off x="539640" y="1228680"/>
            <a:ext cx="8091360" cy="1136520"/>
            <a:chOff x="539640" y="1228680"/>
            <a:chExt cx="8091360" cy="113652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46760" y="420840"/>
              <a:ext cx="229320" cy="275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86400" y="1681920"/>
              <a:ext cx="144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3094920" y="419760"/>
              <a:ext cx="229320" cy="2753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022920" y="1228680"/>
              <a:ext cx="3124800" cy="453960"/>
            </a:xfrm>
            <a:prstGeom prst="roundRect">
              <a:avLst>
                <a:gd name="adj" fmla="val 16667"/>
              </a:avLst>
            </a:prstGeom>
            <a:solidFill>
              <a:srgbClr val="ffcd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е готовность  к школ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539640" y="1911240"/>
              <a:ext cx="2587320" cy="45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ы с обучением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91840" y="1911240"/>
              <a:ext cx="2587320" cy="45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ы со здоровь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043680" y="1911240"/>
              <a:ext cx="2587320" cy="453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облемы с поведение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14"/>
          <p:cNvSpPr/>
          <p:nvPr/>
        </p:nvSpPr>
        <p:spPr>
          <a:xfrm>
            <a:off x="1835280" y="2421000"/>
            <a:ext cx="1873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572000" y="242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5867280" y="2421000"/>
            <a:ext cx="1657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7"/>
          <p:cNvSpPr/>
          <p:nvPr/>
        </p:nvSpPr>
        <p:spPr>
          <a:xfrm>
            <a:off x="2916360" y="4005360"/>
            <a:ext cx="4751280" cy="2016000"/>
          </a:xfrm>
          <a:prstGeom prst="roundRect">
            <a:avLst>
              <a:gd name="adj" fmla="val 16667"/>
            </a:avLst>
          </a:prstGeom>
          <a:solidFill>
            <a:srgbClr val="ffc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хая успеваем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ы с социализ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формированная 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ринципы воспитательно-образовательной системы.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(личностно-ориентированной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адап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гум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непреры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системат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креативности (творче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lbertus Extra Bold"/>
              </a:rPr>
              <a:t>Из </a:t>
            </a:r>
            <a:br>
              <a:rPr sz="2800"/>
            </a:br>
            <a:r>
              <a:rPr b="1" i="1" lang="ru-RU" sz="2800" spc="-1" strike="noStrike">
                <a:solidFill>
                  <a:srgbClr val="9933ff"/>
                </a:solidFill>
                <a:latin typeface="Albertus Extra Bold"/>
              </a:rPr>
              <a:t>«Толкового словаря живого </a:t>
            </a:r>
            <a:br>
              <a:rPr sz="2800"/>
            </a:br>
            <a:r>
              <a:rPr b="1" i="1" lang="ru-RU" sz="2800" spc="-1" strike="noStrike">
                <a:solidFill>
                  <a:srgbClr val="9933ff"/>
                </a:solidFill>
                <a:latin typeface="Albertus Extra Bold"/>
              </a:rPr>
              <a:t>великорусского языка» В.И.Даля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ывать, воспитать кого–то, заботиться о вещественных и нравственных  потребностях малолетнего, до возраста его; в низшем значении вскармливать, взращивать (о растении), кормить и одевать до возраста; в высшем значении научать, наставлять, обучать всему, что для жизни нужно. Быть воспитываемому. Воспитанный человек – выросший в обычных правилах светского приличия (противоположный – невежа), образованный, обогащенный сведениями (противоположный невеж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лище, воспитальница – заведение для воспитания детей и животных; питомник, училище, школ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«Человечество живо одною  круговою порукой добра»…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346040" y="1060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Diagram 5"/>
          <p:cNvGrpSpPr/>
          <p:nvPr/>
        </p:nvGrpSpPr>
        <p:grpSpPr>
          <a:xfrm>
            <a:off x="1629000" y="1026000"/>
            <a:ext cx="6370560" cy="6371280"/>
            <a:chOff x="1629000" y="1026000"/>
            <a:chExt cx="6370560" cy="6371280"/>
          </a:xfrm>
        </p:grpSpPr>
        <p:sp>
          <p:nvSpPr>
            <p:cNvPr id="178" name="_s2052"/>
            <p:cNvSpPr/>
            <p:nvPr/>
          </p:nvSpPr>
          <p:spPr>
            <a:xfrm>
              <a:off x="2482560" y="1879560"/>
              <a:ext cx="4663440" cy="4664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3"/>
            <p:cNvSpPr/>
            <p:nvPr/>
          </p:nvSpPr>
          <p:spPr>
            <a:xfrm rot="3600000">
              <a:off x="2481840" y="187956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54"/>
            <p:cNvSpPr/>
            <p:nvPr/>
          </p:nvSpPr>
          <p:spPr>
            <a:xfrm rot="7200000">
              <a:off x="2481840" y="187956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055"/>
            <p:cNvSpPr/>
            <p:nvPr/>
          </p:nvSpPr>
          <p:spPr>
            <a:xfrm rot="10800000">
              <a:off x="2482560" y="1879560"/>
              <a:ext cx="4663440" cy="46641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2056"/>
            <p:cNvSpPr/>
            <p:nvPr/>
          </p:nvSpPr>
          <p:spPr>
            <a:xfrm rot="14400000">
              <a:off x="2482200" y="187992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57"/>
            <p:cNvSpPr/>
            <p:nvPr/>
          </p:nvSpPr>
          <p:spPr>
            <a:xfrm rot="18000000">
              <a:off x="2482200" y="1879920"/>
              <a:ext cx="4664160" cy="4663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58"/>
            <p:cNvSpPr/>
            <p:nvPr/>
          </p:nvSpPr>
          <p:spPr>
            <a:xfrm>
              <a:off x="5431680" y="19083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спом-ые структуры коррекционной  направле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9"/>
            <p:cNvSpPr/>
            <p:nvPr/>
          </p:nvSpPr>
          <p:spPr>
            <a:xfrm>
              <a:off x="2225520" y="375984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ем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60"/>
            <p:cNvSpPr/>
            <p:nvPr/>
          </p:nvSpPr>
          <p:spPr>
            <a:xfrm>
              <a:off x="3294360" y="19083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ци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61"/>
            <p:cNvSpPr/>
            <p:nvPr/>
          </p:nvSpPr>
          <p:spPr>
            <a:xfrm>
              <a:off x="6500520" y="375984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шко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62"/>
            <p:cNvSpPr/>
            <p:nvPr/>
          </p:nvSpPr>
          <p:spPr>
            <a:xfrm>
              <a:off x="5431680" y="56109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ш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исте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63"/>
            <p:cNvSpPr/>
            <p:nvPr/>
          </p:nvSpPr>
          <p:spPr>
            <a:xfrm>
              <a:off x="3294360" y="5610960"/>
              <a:ext cx="903600" cy="9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6" descr=""/>
          <p:cNvPicPr/>
          <p:nvPr/>
        </p:nvPicPr>
        <p:blipFill>
          <a:blip r:embed="rId1"/>
          <a:stretch/>
        </p:blipFill>
        <p:spPr>
          <a:xfrm>
            <a:off x="3494160" y="2852640"/>
            <a:ext cx="258264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132000" y="3499920"/>
            <a:ext cx="432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Diagram 23"/>
          <p:cNvGrpSpPr/>
          <p:nvPr/>
        </p:nvGrpSpPr>
        <p:grpSpPr>
          <a:xfrm>
            <a:off x="1665720" y="714240"/>
            <a:ext cx="5212080" cy="4999680"/>
            <a:chOff x="1665720" y="714240"/>
            <a:chExt cx="5212080" cy="4999680"/>
          </a:xfrm>
        </p:grpSpPr>
        <p:sp>
          <p:nvSpPr>
            <p:cNvPr id="194" name="_s3076"/>
            <p:cNvSpPr/>
            <p:nvPr/>
          </p:nvSpPr>
          <p:spPr>
            <a:xfrm flipV="1">
              <a:off x="3750480" y="1200240"/>
              <a:ext cx="1042560" cy="902880"/>
            </a:xfrm>
            <a:custGeom>
              <a:avLst/>
              <a:gdLst>
                <a:gd name="textAreaLeft" fmla="*/ 374040 w 1042560"/>
                <a:gd name="textAreaRight" fmla="*/ 668520 w 1042560"/>
                <a:gd name="textAreaTop" fmla="*/ 324000 h 902880"/>
                <a:gd name="textAreaBottom" fmla="*/ 57888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077"/>
            <p:cNvSpPr/>
            <p:nvPr/>
          </p:nvSpPr>
          <p:spPr>
            <a:xfrm flipV="1">
              <a:off x="3229200" y="2103480"/>
              <a:ext cx="2085120" cy="902160"/>
            </a:xfrm>
            <a:custGeom>
              <a:avLst/>
              <a:gdLst>
                <a:gd name="textAreaLeft" fmla="*/ 458280 w 2085120"/>
                <a:gd name="textAreaRight" fmla="*/ 1626840 w 2085120"/>
                <a:gd name="textAreaTop" fmla="*/ 198360 h 902160"/>
                <a:gd name="textAreaBottom" fmla="*/ 70380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урсы для будущих родителе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078"/>
            <p:cNvSpPr/>
            <p:nvPr/>
          </p:nvSpPr>
          <p:spPr>
            <a:xfrm flipV="1">
              <a:off x="2708640" y="3005640"/>
              <a:ext cx="3126600" cy="902880"/>
            </a:xfrm>
            <a:custGeom>
              <a:avLst/>
              <a:gdLst>
                <a:gd name="textAreaLeft" fmla="*/ 542520 w 3126600"/>
                <a:gd name="textAreaRight" fmla="*/ 2584080 w 3126600"/>
                <a:gd name="textAreaTop" fmla="*/ 156600 h 902880"/>
                <a:gd name="textAreaBottom" fmla="*/ 74628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ая программа в период окончания школьного обучен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079"/>
            <p:cNvSpPr/>
            <p:nvPr/>
          </p:nvSpPr>
          <p:spPr>
            <a:xfrm flipV="1">
              <a:off x="2187360" y="3908880"/>
              <a:ext cx="4169160" cy="902880"/>
            </a:xfrm>
            <a:custGeom>
              <a:avLst/>
              <a:gdLst>
                <a:gd name="textAreaLeft" fmla="*/ 627120 w 4169160"/>
                <a:gd name="textAreaRight" fmla="*/ 3542040 w 4169160"/>
                <a:gd name="textAreaTop" fmla="*/ 135720 h 902880"/>
                <a:gd name="textAreaBottom" fmla="*/ 767160 h 90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грессивная политика печатного органа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080"/>
            <p:cNvSpPr/>
            <p:nvPr/>
          </p:nvSpPr>
          <p:spPr>
            <a:xfrm flipV="1">
              <a:off x="1665720" y="4811760"/>
              <a:ext cx="5212080" cy="902160"/>
            </a:xfrm>
            <a:custGeom>
              <a:avLst/>
              <a:gdLst>
                <a:gd name="textAreaLeft" fmla="*/ 711720 w 5212080"/>
                <a:gd name="textAreaRight" fmla="*/ 4500360 w 5212080"/>
                <a:gd name="textAreaTop" fmla="*/ 123120 h 902160"/>
                <a:gd name="textAreaBottom" fmla="*/ 7790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cc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чественная перестройка  работы  социальных служ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5"/>
            <p:cNvSpPr/>
            <p:nvPr/>
          </p:nvSpPr>
          <p:spPr>
            <a:xfrm>
              <a:off x="3700440" y="1514160"/>
              <a:ext cx="1214640" cy="609480"/>
            </a:xfrm>
            <a:custGeom>
              <a:avLst/>
              <a:gdLst>
                <a:gd name="textAreaLeft" fmla="*/ 303480 w 1214640"/>
                <a:gd name="textAreaRight" fmla="*/ 911160 w 1214640"/>
                <a:gd name="textAreaTop" fmla="*/ 0 h 609480"/>
                <a:gd name="textAreaBottom" fmla="*/ 533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4"/>
            <p:cNvSpPr/>
            <p:nvPr/>
          </p:nvSpPr>
          <p:spPr>
            <a:xfrm>
              <a:off x="3700440" y="714240"/>
              <a:ext cx="1143000" cy="571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елаем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то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е из того, что нам необходимо, может подождать, но не ребё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йчас то время, когда формируется тело и развивается ду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му нельзя сказать:  «Жди до завтр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зовут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Мистр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044720" y="90360"/>
            <a:ext cx="741348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54160" y="692280"/>
            <a:ext cx="8635680" cy="5703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Неизмеримо велика роль народного наследия</a:t>
            </a:r>
            <a:br>
              <a:rPr sz="2800"/>
            </a:b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 в развитии речи и воспитании ребёнка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за прелесть эти сказ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lbertus Extra Bold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lbertus Extra Bold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испове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lbertus Extra Bold"/>
              </a:rPr>
              <a:t>наро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Н.Г.Чернышевски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Учёная литература спасает людей от невеж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а изящная – от грубости и пошлост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Привейте человеку вкус к чтению  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предоставьте ему возможность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читать, и  Вы неизбежно сделаете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00cc"/>
                </a:solidFill>
                <a:latin typeface="Arial Black"/>
              </a:rPr>
              <a:t>его счастливым…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4581360"/>
            <a:ext cx="59151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жон Хер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32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Arial"/>
              </a:rPr>
              <a:t>Физиологами установлено,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ч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у </a:t>
            </a:r>
            <a:r>
              <a:rPr b="1" lang="ru-RU" sz="4400" spc="-1" strike="noStrike">
                <a:solidFill>
                  <a:srgbClr val="cc00cc"/>
                </a:solidFill>
                <a:latin typeface="Arial"/>
              </a:rPr>
              <a:t>не читающих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люд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сниж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скорость биотоков  моз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ed0e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Чтение вслух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нтеллектуальное развит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запас с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время, в течение которого удерживается внимание ребё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ет его восприятие ( умение понимат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уверенность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Эмоциональное развит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уважение к себ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атывает мотивацию поступ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ует воображ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ёт возможность отдох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728"/>
                            </p:stCondLst>
                            <p:childTnLst>
                              <p:par>
                                <p:cTn id="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28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728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728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728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728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728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728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728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728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0:28:26Z</dcterms:created>
  <dc:creator>arbyte</dc:creator>
  <dc:description/>
  <dc:language>en-US</dc:language>
  <cp:lastModifiedBy>Uzer</cp:lastModifiedBy>
  <dcterms:modified xsi:type="dcterms:W3CDTF">2011-11-26T08:17:30Z</dcterms:modified>
  <cp:revision>15</cp:revision>
  <dc:subject/>
  <dc:title>Воспитание правильной речи – краеугольный камень образования в целом</dc:title>
</cp:coreProperties>
</file>