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4"/>
      <c:rotY val="14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xMode val="edge"/>
          <c:yMode val="edge"/>
          <c:x val="0"/>
          <c:y val="0.0198155107618722"/>
          <c:w val="0.803443968593862"/>
          <c:h val="0.939870174239836"/>
        </c:manualLayout>
      </c:layout>
      <c:line3D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тревожность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ентябрь</c:v>
                </c:pt>
                <c:pt idx="1">
                  <c:v>декабрь</c:v>
                </c:pt>
                <c:pt idx="2">
                  <c:v>март</c:v>
                </c:pt>
                <c:pt idx="3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9</c:v>
                </c:pt>
                <c:pt idx="1">
                  <c:v>5.4</c:v>
                </c:pt>
                <c:pt idx="2">
                  <c:v>3.8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фортность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ентябрь</c:v>
                </c:pt>
                <c:pt idx="1">
                  <c:v>декабрь</c:v>
                </c:pt>
                <c:pt idx="2">
                  <c:v>март</c:v>
                </c:pt>
                <c:pt idx="3">
                  <c:v/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4.7</c:v>
                </c:pt>
                <c:pt idx="1">
                  <c:v>6.2</c:v>
                </c:pt>
                <c:pt idx="2">
                  <c:v>8.6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мотивированность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ентябрь</c:v>
                </c:pt>
                <c:pt idx="1">
                  <c:v>декабрь</c:v>
                </c:pt>
                <c:pt idx="2">
                  <c:v>март</c:v>
                </c:pt>
                <c:pt idx="3">
                  <c:v/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8.2</c:v>
                </c:pt>
                <c:pt idx="1">
                  <c:v>6.9</c:v>
                </c:pt>
                <c:pt idx="2">
                  <c:v>7.7</c:v>
                </c:pt>
              </c:numCache>
            </c:numRef>
          </c:val>
          <c:smooth val="0"/>
        </c:ser>
        <c:axId val="96167760"/>
        <c:axId val="85093600"/>
        <c:axId val="33014598"/>
      </c:line3DChart>
      <c:catAx>
        <c:axId val="961677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93600"/>
        <c:crosses val="autoZero"/>
        <c:auto val="1"/>
        <c:lblAlgn val="ctr"/>
        <c:lblOffset val="100"/>
        <c:noMultiLvlLbl val="0"/>
      </c:catAx>
      <c:valAx>
        <c:axId val="85093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67760"/>
        <c:crosses val="autoZero"/>
        <c:crossBetween val="midCat"/>
      </c:valAx>
      <c:catAx>
        <c:axId val="330145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93600"/>
        <c:crosses val="autoZero"/>
        <c:auto val="1"/>
        <c:lblAlgn val="ctr"/>
        <c:lblOffset val="100"/>
        <c:noMultiLvlLbl val="0"/>
      </c:catAx>
    </c:plotArea>
    <c:legend>
      <c:legendPos val="r"/>
      <c:layout>
        <c:manualLayout>
          <c:xMode val="edge"/>
          <c:yMode val="edge"/>
          <c:x val="0.698474304068523"/>
          <c:y val="0.34779637854458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i="1" sz="12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DA60-6CA1-4F56-A510-74CB4965A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82BA-CAE6-4A33-B335-8B76571E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6272-C90B-4D0B-91C5-1C9179EF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800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2118-3808-442D-96DC-02B70E0D1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FBB75-5D6C-4A69-956D-615C3E247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3D579-E8B9-4855-9C61-5C56DDD5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F467D-AC29-4166-9D1A-589EC445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AF55B-3022-40E8-9FED-FCA8DCB0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0D2FE-F9F8-4CE3-B31D-04C70165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680"/>
            <a:ext cx="796572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DD531-1F4B-4A7C-8E4A-ACA96704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F85ED-B199-41FF-810F-C34AA7DE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2B33-3A72-4385-A31E-DD12965B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E2BAC-AF8F-4D42-91C0-462AE503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748BD-E9B1-495E-9860-2C185B8A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EE143-4E40-4ED7-B5E0-11D37638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ED40C-57B1-4E0F-BA7D-1928349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800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1CE33-7C62-4518-AF91-0354262E5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DE2A-4631-4D74-8564-2D049E4410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876-14FE-47EA-B82B-6A9A1582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677E-3F97-47AD-B91F-AE07F588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FED9-4E62-4991-B612-3553372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4D4E-13F5-4FD5-8341-55C453B8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B02F-DA9A-47B0-8A46-CA1DA952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71320" y="274680"/>
            <a:ext cx="796572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41CF-BE5A-4987-8F43-C88AFBE1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A039-B00B-4807-A359-80F3EBF2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3E15-B309-4C7A-A1B9-97CA5F1D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9451-78E6-459B-9769-79714D12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4215-70E6-4CB6-8726-2098CBA4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0520-617E-4D98-8134-1003CDB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132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8000" y="3947760"/>
            <a:ext cx="25646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481F-3204-4A04-9E2E-705B0F3E5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DC33-3C8D-448F-B20C-F74362BC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BF74-05F1-49CB-94D0-CB1733D6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680"/>
            <a:ext cx="7965720" cy="61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9408-DFF2-40E8-839C-886C2C51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147B-8C6E-4AA3-B1A1-92C0E7B6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000" y="394776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9A93-D469-48A7-BC1A-0721C520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3886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47760"/>
            <a:ext cx="79657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5D43-5A6D-4AA2-897B-917EA0B6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374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098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098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F800B-CE8A-4F45-8689-A05A54E75A4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46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9.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3607D9-B677-4F2D-ABFA-BA3DC15BA7FE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6840" y="188640"/>
            <a:ext cx="8194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19468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5880" indent="-3358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65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79657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9.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0988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246082-D483-41CA-9B8B-DB9422866973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chart" Target="../charts/chart1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338040"/>
            <a:ext cx="775332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«Сенсорная свобода и психомоторное раскрепощение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 образовательном процессе»</a:t>
            </a:r>
            <a:br>
              <a:rPr sz="36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3239640"/>
            <a:ext cx="82105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Обобщение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учителя начальных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ГОУ СОШ № 143 СЗОУ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ДО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Филимоновой Любови Юрь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2011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798192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80"/>
                </a:solidFill>
                <a:uFillTx/>
                <a:latin typeface="Arial"/>
              </a:rPr>
              <a:t>Что дает технология В.Ф.Базар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7720" y="1260000"/>
            <a:ext cx="79819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1. Гарантированный результат улучшения здоровья учащихс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2. Повышение уровня успеваемости и эффективности учебного процесс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3. Психологический комфорт в образовательном пространств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4. Открытый  творческий потенциал учител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80"/>
                </a:solidFill>
                <a:latin typeface="Calibri"/>
              </a:rPr>
              <a:t>5. Повышение рейтинга в конкурентноспособности образовательного учрежд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-97200"/>
            <a:ext cx="8229600" cy="201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i="1" lang="en-US" sz="2800" spc="-1" strike="noStrike" u="sng">
                <a:solidFill>
                  <a:srgbClr val="4700b8"/>
                </a:solidFill>
                <a:uFillTx/>
                <a:latin typeface="Arial"/>
              </a:rPr>
              <a:t>Цель</a:t>
            </a:r>
            <a:r>
              <a:rPr b="1" i="1" lang="en-US" sz="2800" spc="-1" strike="noStrike">
                <a:solidFill>
                  <a:srgbClr val="4700b8"/>
                </a:solidFill>
                <a:latin typeface="Arial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обучать, </a:t>
            </a:r>
            <a:br>
              <a:rPr sz="2800"/>
            </a:b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сохраняя и укрепляя</a:t>
            </a:r>
            <a:br>
              <a:rPr sz="2800"/>
            </a:b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здоровье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обучающихся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927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4700b8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2760" indent="-264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Разрешить проблему перегрузки и переутомления учеников на ур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2760" indent="-264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Укреплять и развивать у обучающихся внимание, память, волю, творческое во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2760" indent="-2642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Формировать умения детей в овладении самостоятельности мышления, свободы сужд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 u="sng">
                <a:solidFill>
                  <a:srgbClr val="4700b8"/>
                </a:solidFill>
                <a:uFillTx/>
                <a:latin typeface="Arial"/>
              </a:rPr>
              <a:t>Используемые элементы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68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Проведение урока в режиме смены динамических п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Проведение урока в режиме движения наглядного материала, постоянного зрительного по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Использование схем зрительных траекторий, цветовых пя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Использование перьевых ру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4700b8"/>
                </a:solidFill>
                <a:uFillTx/>
                <a:latin typeface="Arial"/>
              </a:rPr>
              <a:t>Результ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680" y="900000"/>
            <a:ext cx="80010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ченики отличаются свободой сужд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 учащихся проявляется высокий интерес к изучаемым предмет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величивается объем выполненной работы на уро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Снижается показатель заболеваемости у детей в течение  учебного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Улучшается психологический климат в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Исчезает проблема учебной дисципл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8520" indent="-293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9852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592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800080"/>
                </a:solidFill>
                <a:latin typeface="Calibri"/>
              </a:rPr>
              <a:t>Широкий простор для педагогического твор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814320"/>
            <a:ext cx="799488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80"/>
                </a:solidFill>
                <a:uFillTx/>
                <a:latin typeface="Arial"/>
              </a:rPr>
              <a:t>Работа в режиме смены динамических по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49200" y="1968480"/>
          <a:ext cx="7983720" cy="2709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9200" y="1968480"/>
                    <a:ext cx="798372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71320" y="1260000"/>
            <a:ext cx="79945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14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о время урока серьезную угрозу для здоровья детей представляет гиподинамия. Дети находятся в неестественной физической позе. Через 15 минут пребывания в таком состоянии ребенок испытывает такие же перегрузки, как космонавт при старте космического кораб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14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Уроки в режиме смены динамических поз проводятся с целью коррекции осан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146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Дети переходят из статической закрепощенной позы «сидя» в активную свободную позу «стоя» и наоборо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79866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80"/>
                </a:solidFill>
                <a:uFillTx/>
                <a:latin typeface="Arial"/>
              </a:rPr>
              <a:t>Экологическое панно</a:t>
            </a:r>
            <a:br>
              <a:rPr sz="2600"/>
            </a:br>
            <a:r>
              <a:rPr b="1" i="1" lang="ru-RU" sz="2600" spc="-1" strike="noStrike" u="sng">
                <a:solidFill>
                  <a:srgbClr val="000080"/>
                </a:solidFill>
                <a:uFillTx/>
                <a:latin typeface="Arial"/>
              </a:rPr>
              <a:t> и зрительно-сигнальные карточ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1440000"/>
            <a:ext cx="79866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Экологическое панно необходимо для овладения образным и логическим мышлением, развития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Зрительно-сигнальные карточки помогают развитию опорно-зрительной фикс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Каждый вид работы базируется на зрительно-поисковых движениях, в которых задействованы глаза, голова, тулов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7986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000080"/>
                </a:solidFill>
                <a:uFillTx/>
                <a:latin typeface="Arial"/>
              </a:rPr>
              <a:t>Письмо </a:t>
            </a:r>
            <a:br>
              <a:rPr sz="4400"/>
            </a:br>
            <a:r>
              <a:rPr b="1" i="1" lang="ru-RU" sz="4400" spc="-1" strike="noStrike" u="sng">
                <a:solidFill>
                  <a:srgbClr val="000080"/>
                </a:solidFill>
                <a:uFillTx/>
                <a:latin typeface="Arial"/>
              </a:rPr>
              <a:t>перьевыми руч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7986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При письме шариковыми ручками (через 15 минут) у ребенка появляются все признаки стенокардии, потому что нарушается естественный синусоидальный ритм его организ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А при письме по принципу «нажал — отпустил» такого не происходи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Также происходит развитие психомоторной системы «глаз — рука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Calibri"/>
              </a:rPr>
              <a:t>Здесь же работаем и по «пальцевым» пропися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79866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Зрительно-пространственная активность 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в режиме школьного урока 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достигается путем использования сенсорных крестов</a:t>
            </a:r>
            <a:br>
              <a:rPr sz="2800"/>
            </a:b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 и схем зрительных траекто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71320" y="2700000"/>
            <a:ext cx="7986600" cy="3414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9720" y="2700360"/>
            <a:ext cx="8629920" cy="37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798336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Результат применения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 элементов технологии Базарного </a:t>
            </a:r>
            <a:br>
              <a:rPr sz="3200"/>
            </a:b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в 1 «А» клас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1680" y="1600200"/>
            <a:ext cx="7983360" cy="451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755640" y="2093760"/>
          <a:ext cx="8069400" cy="4214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53:19Z</dcterms:created>
  <dc:creator/>
  <dc:description/>
  <dc:language>en-US</dc:language>
  <cp:lastModifiedBy>Admin</cp:lastModifiedBy>
  <dcterms:modified xsi:type="dcterms:W3CDTF">2011-11-26T09:27:14Z</dcterms:modified>
  <cp:revision>2</cp:revision>
  <dc:subject/>
  <dc:title> «Сенсорная свобода и психомоторное раскрепощение  в образовательном процессе»             </dc:title>
</cp:coreProperties>
</file>