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4"/>
      <c:rotY val="14"/>
      <c:rAngAx val="1"/>
      <c:perspective val="4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xMode val="edge"/>
          <c:yMode val="edge"/>
          <c:x val="0"/>
          <c:y val="0.0198155107618722"/>
          <c:w val="0.803443968593862"/>
          <c:h val="0.939870174239836"/>
        </c:manualLayout>
      </c:layout>
      <c:line3D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тревожность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ентябрь</c:v>
                </c:pt>
                <c:pt idx="1">
                  <c:v>декабрь</c:v>
                </c:pt>
                <c:pt idx="2">
                  <c:v>март</c:v>
                </c:pt>
                <c:pt idx="3">
                  <c:v/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.9</c:v>
                </c:pt>
                <c:pt idx="1">
                  <c:v>5.4</c:v>
                </c:pt>
                <c:pt idx="2">
                  <c:v>3.8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комфортность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ентябрь</c:v>
                </c:pt>
                <c:pt idx="1">
                  <c:v>декабрь</c:v>
                </c:pt>
                <c:pt idx="2">
                  <c:v>март</c:v>
                </c:pt>
                <c:pt idx="3">
                  <c:v/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4.7</c:v>
                </c:pt>
                <c:pt idx="1">
                  <c:v>6.2</c:v>
                </c:pt>
                <c:pt idx="2">
                  <c:v>8.6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мотивированность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ентябрь</c:v>
                </c:pt>
                <c:pt idx="1">
                  <c:v>декабрь</c:v>
                </c:pt>
                <c:pt idx="2">
                  <c:v>март</c:v>
                </c:pt>
                <c:pt idx="3">
                  <c:v/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8.2</c:v>
                </c:pt>
                <c:pt idx="1">
                  <c:v>6.9</c:v>
                </c:pt>
                <c:pt idx="2">
                  <c:v>7.7</c:v>
                </c:pt>
              </c:numCache>
            </c:numRef>
          </c:val>
          <c:smooth val="0"/>
        </c:ser>
        <c:axId val="67453390"/>
        <c:axId val="36084471"/>
        <c:axId val="2150307"/>
      </c:line3DChart>
      <c:catAx>
        <c:axId val="6745339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84471"/>
        <c:crosses val="autoZero"/>
        <c:auto val="1"/>
        <c:lblAlgn val="ctr"/>
        <c:lblOffset val="100"/>
        <c:noMultiLvlLbl val="0"/>
      </c:catAx>
      <c:valAx>
        <c:axId val="36084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53390"/>
        <c:crosses val="autoZero"/>
        <c:crossBetween val="midCat"/>
      </c:valAx>
      <c:catAx>
        <c:axId val="215030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84471"/>
        <c:crosses val="autoZero"/>
        <c:auto val="1"/>
        <c:lblAlgn val="ctr"/>
        <c:lblOffset val="100"/>
        <c:noMultiLvlLbl val="0"/>
      </c:catAx>
    </c:plotArea>
    <c:legend>
      <c:legendPos val="r"/>
      <c:layout>
        <c:manualLayout>
          <c:xMode val="edge"/>
          <c:yMode val="edge"/>
          <c:x val="0.698474304068523"/>
          <c:y val="0.34779637854458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i="1" sz="12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C134-61EE-4B7E-AA16-DEE2C9CB67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4776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E7641-A02B-4969-B032-39FA1E93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00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2CBB6-416C-46AA-B5D2-3AD32BF4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800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05C24-8FF1-41B9-BB96-391D4DBEE8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4EFE9-FD18-42C8-BCF0-EB4DBE3A91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79657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AE69D-1761-4CD1-99FC-1EC37E59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79657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27E36-53EA-4D4B-881E-6785CD3B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4D933-8DB8-4982-8399-95327482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1684D-FA1F-4523-8FA2-DBF2B1EA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680"/>
            <a:ext cx="7965720" cy="61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D834C-A101-4A9E-B843-4FBF9AD0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EC176-09BF-4D50-8188-C805A9E4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79657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8F3F-8C69-4D9B-88D5-BB7E9FFD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300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8C94A-213F-465B-9D98-D217B908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281F0-0E77-4574-B7FE-C1B48221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4776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A0F6F-6EE4-4DBF-9F67-5B4BE4F1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300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44164-F53B-45E5-A9D6-62804671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800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76FB3-9097-4335-ACD3-B196A25FC3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EA86-A07E-4534-9BCA-1D320E259B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79657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D77D-2F52-4E5B-AF27-C17EC078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79657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FB34-D907-485E-9D4A-3C883486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CE65-73A2-4867-8C0F-93320ABF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BF2C-76F4-4652-B2E4-D900A59B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79657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61F48-AAEA-43CA-956C-B05909E9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71320" y="274680"/>
            <a:ext cx="7965720" cy="61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B739-A143-4F5F-AFE2-8300FA79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0CFC-F2E9-4CDA-A3A7-D6E1890C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300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CA61-C6FB-45AD-8FE1-079F6936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892B-61DA-48E3-A9E4-5850E106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320" y="394776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7704-7801-4678-A3A7-6EED49D5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300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E9B2-8C9B-4C1A-A3AB-3A9983E4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448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7132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448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5800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82B3-EE04-4B59-AAEB-FCACC7E234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0C32-2206-4247-BC47-D8B76E5F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03C87-F36F-4B88-8B2D-F2F807A8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680"/>
            <a:ext cx="7965720" cy="61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DF7A-B204-419D-BFED-63A4D696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FFDF-0011-4C0A-ADDB-D2FE612E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00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EE7E-F61D-449A-A003-340DA9AD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B29CB-7366-4447-8079-3449A34D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374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0988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0988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14969-E7B2-496D-9246-444E1BBF67E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468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0988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Lucida Sans Unicode"/>
              </a:rPr>
              <a:t>9.3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0988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98BFAF-2313-43AD-AF76-CEAAC02CDC6F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94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468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79657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0988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Lucida Sans Unicode"/>
              </a:rPr>
              <a:t>9.3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0988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C1BC1E5-D180-4460-9C8C-5D919400D5CC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chart" Target="../charts/chart1.xm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338040"/>
            <a:ext cx="7753320" cy="30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«Сенсорная свобода и психомоторное раскрепощение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в образовательном процессе»</a:t>
            </a:r>
            <a:br>
              <a:rPr sz="36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3239640"/>
            <a:ext cx="82105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Обобщение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учителя начальных класс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ГОУ СОШ № 143 СЗОУ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ДО г.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Филимоновой Любови Юрье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2011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798192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80"/>
                </a:solidFill>
                <a:uFillTx/>
                <a:latin typeface="Arial"/>
              </a:rPr>
              <a:t>Что дает технология В.Ф.Базарн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7720" y="1260000"/>
            <a:ext cx="79819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80"/>
                </a:solidFill>
                <a:latin typeface="Calibri"/>
              </a:rPr>
              <a:t>1. Гарантированный результат улучшения здоровья учащихс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80"/>
                </a:solidFill>
                <a:latin typeface="Calibri"/>
              </a:rPr>
              <a:t>2. Повышение уровня успеваемости и эффективности учебного процесс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80"/>
                </a:solidFill>
                <a:latin typeface="Calibri"/>
              </a:rPr>
              <a:t>3. Психологический комфорт в образовательном пространств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80"/>
                </a:solidFill>
                <a:latin typeface="Calibri"/>
              </a:rPr>
              <a:t>4. Открытый  творческий потенциал учител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80"/>
                </a:solidFill>
                <a:latin typeface="Calibri"/>
              </a:rPr>
              <a:t>5. Повышение рейтинга в конкурентноспособности образовательного учрежд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0360" y="-97200"/>
            <a:ext cx="82296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i="1" lang="en-US" sz="2800" spc="-1" strike="noStrike" u="sng">
                <a:solidFill>
                  <a:srgbClr val="4700b8"/>
                </a:solidFill>
                <a:uFillTx/>
                <a:latin typeface="Arial"/>
              </a:rPr>
              <a:t>Цель</a:t>
            </a:r>
            <a:r>
              <a:rPr b="1" i="1" lang="en-US" sz="2800" spc="-1" strike="noStrike">
                <a:solidFill>
                  <a:srgbClr val="4700b8"/>
                </a:solidFill>
                <a:latin typeface="Arial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обучать, </a:t>
            </a:r>
            <a:br>
              <a:rPr sz="2800"/>
            </a:b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сохраняя и укрепляя</a:t>
            </a:r>
            <a:br>
              <a:rPr sz="2800"/>
            </a:b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здоровье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обучающихся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9276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4700b8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2760" indent="-2642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Разрешить проблему перегрузки и переутомления учеников на уро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2760" indent="-2642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Укреплять и развивать у обучающихся внимание, память, волю, творческое вообра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2760" indent="-2642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Формировать умения детей в овладении самостоятельности мышления, свободы сужд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 u="sng">
                <a:solidFill>
                  <a:srgbClr val="4700b8"/>
                </a:solidFill>
                <a:uFillTx/>
                <a:latin typeface="Arial"/>
              </a:rPr>
              <a:t>Используемые элементы технолог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68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alibri"/>
              </a:rPr>
              <a:t>Проведение урока в режиме смены динамических п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alibri"/>
              </a:rPr>
              <a:t>Проведение урока в режиме движения наглядного материала, постоянного зрительного по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alibri"/>
              </a:rPr>
              <a:t>Использование схем зрительных траекторий, цветовых пят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alibri"/>
              </a:rPr>
              <a:t>Использование перьевых ру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4700b8"/>
                </a:solidFill>
                <a:uFillTx/>
                <a:latin typeface="Arial"/>
              </a:rPr>
              <a:t>Результ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680" y="900000"/>
            <a:ext cx="800100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800080"/>
                </a:solidFill>
                <a:latin typeface="Calibri"/>
              </a:rPr>
              <a:t>Ученики отличаются свободой сужд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800080"/>
                </a:solidFill>
                <a:latin typeface="Calibri"/>
              </a:rPr>
              <a:t>У учащихся проявляется высокий интерес к изучаемым предмет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800080"/>
                </a:solidFill>
                <a:latin typeface="Calibri"/>
              </a:rPr>
              <a:t>Увеличивается объем выполненной работы на урок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800080"/>
                </a:solidFill>
                <a:latin typeface="Calibri"/>
              </a:rPr>
              <a:t>Снижается показатель заболеваемости у детей в течение  учебного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800080"/>
                </a:solidFill>
                <a:latin typeface="Calibri"/>
              </a:rPr>
              <a:t>Улучшается психологический климат в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800080"/>
                </a:solidFill>
                <a:latin typeface="Calibri"/>
              </a:rPr>
              <a:t>Исчезает проблема учебной дисципл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800080"/>
                </a:solidFill>
                <a:latin typeface="Calibri"/>
              </a:rPr>
              <a:t>Широкий простор для педагогического творче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814320"/>
            <a:ext cx="799488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80"/>
                </a:solidFill>
                <a:uFillTx/>
                <a:latin typeface="Arial"/>
              </a:rPr>
              <a:t>Работа в режиме смены динамических по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49200" y="1968480"/>
          <a:ext cx="7983720" cy="2709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49200" y="1968480"/>
                    <a:ext cx="798372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71320" y="1260000"/>
            <a:ext cx="79945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146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Во время урока серьезную угрозу для здоровья детей представляет гиподинамия. Дети находятся в неестественной физической позе. Через 15 минут пребывания в таком состоянии ребенок испытывает такие же перегрузки, как космонавт при старте космического кораб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146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Уроки в режиме смены динамических поз проводятся с целью коррекции осан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146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Дети переходят из статической закрепощенной позы «сидя» в активную свободную позу «стоя» и наоборо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79866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80"/>
                </a:solidFill>
                <a:uFillTx/>
                <a:latin typeface="Arial"/>
              </a:rPr>
              <a:t>Экологическое панно</a:t>
            </a:r>
            <a:br>
              <a:rPr sz="2600"/>
            </a:br>
            <a:r>
              <a:rPr b="1" i="1" lang="ru-RU" sz="2600" spc="-1" strike="noStrike" u="sng">
                <a:solidFill>
                  <a:srgbClr val="000080"/>
                </a:solidFill>
                <a:uFillTx/>
                <a:latin typeface="Arial"/>
              </a:rPr>
              <a:t> и зрительно-сигнальные карточ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320" y="1440000"/>
            <a:ext cx="798660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Экологическое панно необходимо для овладения образным и логическим мышлением, развития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Зрительно-сигнальные карточки помогают развитию опорно-зрительной фикс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Каждый вид работы базируется на зрительно-поисковых движениях, в которых задействованы глаза, голова, туловищ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866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000080"/>
                </a:solidFill>
                <a:uFillTx/>
                <a:latin typeface="Arial"/>
              </a:rPr>
              <a:t>Письмо </a:t>
            </a:r>
            <a:br>
              <a:rPr sz="4400"/>
            </a:br>
            <a:r>
              <a:rPr b="1" i="1" lang="ru-RU" sz="4400" spc="-1" strike="noStrike" u="sng">
                <a:solidFill>
                  <a:srgbClr val="000080"/>
                </a:solidFill>
                <a:uFillTx/>
                <a:latin typeface="Arial"/>
              </a:rPr>
              <a:t>перьевыми ручк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1320" y="1599840"/>
            <a:ext cx="7986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80"/>
                </a:solidFill>
                <a:latin typeface="Calibri"/>
              </a:rPr>
              <a:t>При письме шариковыми ручками (через 15 минут) у ребенка появляются все признаки стенокардии, потому что нарушается естественный синусоидальный ритм его организм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80"/>
                </a:solidFill>
                <a:latin typeface="Calibri"/>
              </a:rPr>
              <a:t>А при письме по принципу «нажал — отпустил» такого не происходи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80"/>
                </a:solidFill>
                <a:latin typeface="Calibri"/>
              </a:rPr>
              <a:t>Также происходит развитие психомоторной системы «глаз — рука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80"/>
                </a:solidFill>
                <a:latin typeface="Calibri"/>
              </a:rPr>
              <a:t>Здесь же работаем и по «пальцевым» пропися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79866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Arial"/>
              </a:rPr>
              <a:t>Зрительно-пространственная активность </a:t>
            </a:r>
            <a:br>
              <a:rPr sz="2800"/>
            </a:br>
            <a:r>
              <a:rPr b="1" i="1" lang="ru-RU" sz="2800" spc="-1" strike="noStrike">
                <a:solidFill>
                  <a:srgbClr val="000080"/>
                </a:solidFill>
                <a:latin typeface="Arial"/>
              </a:rPr>
              <a:t>в режиме школьного урока </a:t>
            </a:r>
            <a:br>
              <a:rPr sz="2800"/>
            </a:br>
            <a:r>
              <a:rPr b="1" i="1" lang="ru-RU" sz="2800" spc="-1" strike="noStrike">
                <a:solidFill>
                  <a:srgbClr val="000080"/>
                </a:solidFill>
                <a:latin typeface="Arial"/>
              </a:rPr>
              <a:t>достигается путем использования сенсорных крестов</a:t>
            </a:r>
            <a:br>
              <a:rPr sz="2800"/>
            </a:br>
            <a:r>
              <a:rPr b="1" i="1" lang="ru-RU" sz="2800" spc="-1" strike="noStrike">
                <a:solidFill>
                  <a:srgbClr val="000080"/>
                </a:solidFill>
                <a:latin typeface="Arial"/>
              </a:rPr>
              <a:t> и схем зрительных траекто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1320" y="2700000"/>
            <a:ext cx="7986600" cy="3414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69720" y="2700360"/>
            <a:ext cx="8629920" cy="37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798336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80"/>
                </a:solidFill>
                <a:latin typeface="Arial"/>
              </a:rPr>
              <a:t>Результат применения</a:t>
            </a:r>
            <a:br>
              <a:rPr sz="3200"/>
            </a:br>
            <a:r>
              <a:rPr b="1" i="1" lang="ru-RU" sz="3200" spc="-1" strike="noStrike">
                <a:solidFill>
                  <a:srgbClr val="000080"/>
                </a:solidFill>
                <a:latin typeface="Arial"/>
              </a:rPr>
              <a:t> элементов технологии Базарного </a:t>
            </a:r>
            <a:br>
              <a:rPr sz="3200"/>
            </a:br>
            <a:r>
              <a:rPr b="1" i="1" lang="ru-RU" sz="3200" spc="-1" strike="noStrike">
                <a:solidFill>
                  <a:srgbClr val="000080"/>
                </a:solidFill>
                <a:latin typeface="Arial"/>
              </a:rPr>
              <a:t>в 1 «А» класс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71680" y="1600200"/>
            <a:ext cx="7983360" cy="451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755640" y="2093760"/>
          <a:ext cx="8069400" cy="4214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7:53:19Z</dcterms:created>
  <dc:creator/>
  <dc:description/>
  <dc:language>en-US</dc:language>
  <cp:lastModifiedBy>Admin</cp:lastModifiedBy>
  <dcterms:modified xsi:type="dcterms:W3CDTF">2011-11-26T09:27:14Z</dcterms:modified>
  <cp:revision>2</cp:revision>
  <dc:subject/>
  <dc:title> «Сенсорная свобода и психомоторное раскрепощение  в образовательном процессе»             </dc:title>
</cp:coreProperties>
</file>