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B724-7C47-4DB5-84B5-B6BC8A6797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356F-C9A0-4B0F-A9B1-0CBA2EB988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C51C-A0C5-4EF3-A06C-8D01806861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B16-9304-4DEB-875B-CE18EB84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914-DD1A-440B-8D0E-196E8269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28C-D2F9-4B79-B7CF-8BA9D188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F9D-DCB9-49CB-A9ED-90C72775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6668-0F82-4B93-AEE6-27B4037E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C46F-D8BA-4AB8-893D-39224BEA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B93B-088D-4F9F-8A5E-350B92C9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42B8-0739-4EDB-BB1B-F2901F60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3A9-D0F5-485B-828C-CC44221D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33FE-5DB4-4096-BD2A-BCC81BAD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F200-8AF9-4B73-9C06-3C7401CA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9B7-A5DC-40B0-A2FF-3B41AFE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C25B-99FD-41A5-B385-C60B9D7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FC3-E01C-440C-835E-E914E32A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18B4-8E83-4E14-AB41-D08BC933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112-74F0-47D3-B2B2-6376AF6B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9A5B-2432-4ECA-8868-403D49D5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10C7-0B10-4340-9BE1-70EF5C9F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8F2B-5DEC-4ADB-BEB1-2112A0C9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DE6D-1293-4142-8C29-367BECF7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83DD-3182-4D08-BA38-5E27DDA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9A5C-545B-4039-AA77-FB69901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3E1-4E87-46C7-8DA9-1B6B96D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3F81-B5BF-46B6-A355-F3D38CC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9A25-B568-4C47-93BE-AC68108E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7291-A40F-4943-86B4-9935DE67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C4C2-B542-426E-A91A-24589210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144B-C69A-4C2A-ADB3-4AE62324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4B61-C5E9-4BF9-A374-FF261B4E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4755-36A5-46D9-8A22-70DA588B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A277-DD3A-4F11-B610-36BEDA3A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EFFD-FB38-4174-8730-495ED97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B7AEA-4444-48E9-90FB-638E6388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588-91AB-473F-B251-2566489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9A2D-A97F-4D10-9AD4-B5E73C83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94F6-3771-4791-94B5-F965DB8C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88C0-A661-4777-B597-8D41930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CE36-BF70-464E-96FB-FB11D38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A7AC4-9076-4998-A297-2418FBB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4BB6-14C7-497C-9EE6-75373AB5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6A551-3F57-4584-8C04-D07611D9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FA2D-DB4A-4E15-8C5E-1EE1FEBA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75733-3168-4740-844A-4EFD3338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0308-774B-44A9-A501-49DA4A8A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35C-E793-46B0-9937-7C6D9EDF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80679-5264-4928-8D27-7271B57D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9BFA-6AC9-4284-88C0-7E633609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E28F-4545-42E5-9C13-FAD3AD62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EC5C9-1A73-4F95-98DB-BC172618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8FBF-E839-43FA-ACD6-F679280E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3369-E82C-4FDD-97CC-77485A7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E85A-F147-4F7D-9F7C-FBA2F8AC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3434-B80D-4D5E-8A76-57C329BD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3B80-E169-455C-BCAF-5824EA9E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93838-2D4A-4615-8DC7-4C95221C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8E6-C975-490B-8AE2-EA4EF962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7BBE-82EC-41E7-B54B-F4E024ED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9F76E-CD85-45CE-A67A-DE2FEA15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4D51-185A-4CFC-B495-A932DF2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0E52A-17F9-4B50-8165-5CABB7A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BC05-5C2A-4377-A854-399AFD0E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481C-AFA1-42ED-9DE5-109CC76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258A8-8BBC-436E-B37B-EAABCAA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4CB08-DC07-42DC-B8C2-73FEFB7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A4F5-EBC2-49F2-94E2-D30CE02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BFAD9-4133-42FB-A6A6-30C126F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8ED-27EF-41A6-9293-B04BACE9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C3CE-636F-4A76-8BB4-D3E65EC5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2516-2470-4ACB-A4E1-81D5D375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288D-0B7E-41D5-ACF7-71E33468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AEB-4301-4DDC-A8BA-BCF5114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CAC-477F-4736-A432-F0787DF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BF0A-072F-40D3-92E8-34C2E8C2C24C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28D1-3DB4-46B7-BB61-736247E7687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A145-7F72-414C-8E6D-39EDD79427DF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1E7-D382-49B9-80E4-7B4D0AE9B7F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B9E5-A6D0-41E2-812F-19A583427609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1472-C9F7-4DE2-B4D1-437F6C27E93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75A-ABED-4C52-A654-F26698F14313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410-4FD2-4398-A977-D518EE64509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B171-8929-459C-B544-844E18BF9400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BB2-7192-47A7-A441-B63C4705009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FF2F-DCA8-41DB-A9C3-1762E8CA412C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E15-F164-4733-A7C7-2459606BC9C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Александр\Pictures\1299195530_molnia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-231840" y="-79200"/>
            <a:ext cx="8077320" cy="2377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16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ШАРОВАЯ МОЛ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Как ведет себя шаровая молния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екторию шаровой молнии очень сложно предсказать, но есть определенные закономер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аровая молния обычно движется горизонтально, параллельно линии зем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аровая молния часто проникает в помещ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лния обходит проводящие ток объекты, люд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грозы земля и объекты на ней заряжаются положительно, т.к. молния «облетает» объекты и траекторию движения копирует линию зем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ровая молния имеет положительный заряд. Молнию тянет к отрицательно заряженным телам, и вероятнее всего столкнувшись с ними она взорв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ь молнии мала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10 м/с. Шаровая молния существует от 10с до 1м, в зависимости от её разме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4044-37D8-495B-84C8-ED965CECB2CE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ак угасает молния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4" name="Объект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7569000" cy="4627440"/>
          </a:xfrm>
          <a:prstGeom prst="rect">
            <a:avLst/>
          </a:prstGeom>
          <a:ln w="0">
            <a:noFill/>
          </a:ln>
        </p:spPr>
      </p:pic>
      <p:sp>
        <p:nvSpPr>
          <p:cNvPr id="325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8009-A0BA-4D95-8625-EB6531AC3D6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8900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звестен факт, что в один момент на земле существует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~550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шаровых молний, но вероятность увидеть шаровую молнию за всю жизнь равна 0.1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907E-7A05-4CF7-BC29-6979C6C5299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560" y="242064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Franklin Gothic Book"/>
                <a:ea typeface="Aharoni"/>
              </a:rPr>
              <a:t>КОНЕЦ</a:t>
            </a:r>
            <a:endParaRPr b="0" lang="en-US" sz="9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390-7422-4F34-8F1B-268F5643B24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Объект 9" descr=""/>
          <p:cNvPicPr/>
          <p:nvPr/>
        </p:nvPicPr>
        <p:blipFill>
          <a:blip r:embed="rId1"/>
          <a:stretch/>
        </p:blipFill>
        <p:spPr>
          <a:xfrm>
            <a:off x="-30240" y="115920"/>
            <a:ext cx="9406080" cy="6626160"/>
          </a:xfrm>
          <a:prstGeom prst="rect">
            <a:avLst/>
          </a:prstGeom>
          <a:ln w="0">
            <a:noFill/>
          </a:ln>
        </p:spPr>
      </p:pic>
      <p:sp>
        <p:nvSpPr>
          <p:cNvPr id="265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444A-B972-42E5-9E72-CB0411EEAED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бъект 6"/>
          <p:cNvSpPr/>
          <p:nvPr/>
        </p:nvSpPr>
        <p:spPr>
          <a:xfrm>
            <a:off x="457200" y="1585800"/>
            <a:ext cx="7467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При образовании шаровой молнии, этот канал прерывается не доходя до земли. Заряд останавливается на месте конца этого канал, в следствии чего образуется шаровая мол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В грозовой заряженной туче, от нее к земле прокладывает тонкий канал, по которому заряд опускается к земле, потом от земли к туче заряд возвращается по этому канала, в этот момент мы и видим вспыш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Прямоугольник с двумя скругленными противолежащими углами 5"/>
          <p:cNvGrpSpPr/>
          <p:nvPr/>
        </p:nvGrpSpPr>
        <p:grpSpPr>
          <a:xfrm>
            <a:off x="85680" y="1494000"/>
            <a:ext cx="8899560" cy="5267160"/>
            <a:chOff x="85680" y="1494000"/>
            <a:chExt cx="8899560" cy="5267160"/>
          </a:xfrm>
        </p:grpSpPr>
        <p:pic>
          <p:nvPicPr>
            <p:cNvPr id="269" name="Прямоугольник с двумя скругленными противолежащими углами 5" descr=""/>
            <p:cNvPicPr/>
            <p:nvPr/>
          </p:nvPicPr>
          <p:blipFill>
            <a:blip r:embed="rId1"/>
            <a:stretch/>
          </p:blipFill>
          <p:spPr>
            <a:xfrm>
              <a:off x="85680" y="1494000"/>
              <a:ext cx="88995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26960" y="1832040"/>
              <a:ext cx="8217000" cy="45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ование молни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Облако 3"/>
          <p:cNvSpPr/>
          <p:nvPr/>
        </p:nvSpPr>
        <p:spPr>
          <a:xfrm>
            <a:off x="826920" y="1844640"/>
            <a:ext cx="2665440" cy="1079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755640" y="6237360"/>
            <a:ext cx="2664000" cy="144360"/>
          </a:xfrm>
          <a:prstGeom prst="rect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Прямая со стрелкой 13"/>
          <p:cNvCxnSpPr/>
          <p:nvPr/>
        </p:nvCxnSpPr>
        <p:spPr>
          <a:xfrm>
            <a:off x="1258560" y="2383920"/>
            <a:ext cx="1080" cy="38538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75" name="Прямая со стрелкой 15"/>
          <p:cNvCxnSpPr/>
          <p:nvPr/>
        </p:nvCxnSpPr>
        <p:spPr>
          <a:xfrm flipV="1">
            <a:off x="1476000" y="2383560"/>
            <a:ext cx="1080" cy="385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6" name="Молния 17"/>
          <p:cNvSpPr/>
          <p:nvPr/>
        </p:nvSpPr>
        <p:spPr>
          <a:xfrm rot="1585800">
            <a:off x="421920" y="1878120"/>
            <a:ext cx="1900080" cy="42400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8"/>
          <p:cNvSpPr/>
          <p:nvPr/>
        </p:nvSpPr>
        <p:spPr>
          <a:xfrm>
            <a:off x="4801680" y="253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9"/>
          <p:cNvSpPr/>
          <p:nvPr/>
        </p:nvSpPr>
        <p:spPr>
          <a:xfrm>
            <a:off x="495720" y="2536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Облако 20"/>
          <p:cNvSpPr/>
          <p:nvPr/>
        </p:nvSpPr>
        <p:spPr>
          <a:xfrm>
            <a:off x="5508720" y="1844640"/>
            <a:ext cx="2663640" cy="1079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2"/>
          <p:cNvSpPr/>
          <p:nvPr/>
        </p:nvSpPr>
        <p:spPr>
          <a:xfrm>
            <a:off x="5508720" y="6237360"/>
            <a:ext cx="2663640" cy="144360"/>
          </a:xfrm>
          <a:prstGeom prst="rect">
            <a:avLst/>
          </a:prstGeom>
          <a:solidFill>
            <a:srgbClr val="00b05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Прямая со стрелкой 23"/>
          <p:cNvCxnSpPr/>
          <p:nvPr/>
        </p:nvCxnSpPr>
        <p:spPr>
          <a:xfrm>
            <a:off x="6156000" y="2466720"/>
            <a:ext cx="1080" cy="233100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82" name="Овал 25"/>
          <p:cNvSpPr/>
          <p:nvPr/>
        </p:nvSpPr>
        <p:spPr>
          <a:xfrm>
            <a:off x="5651640" y="4311720"/>
            <a:ext cx="1008000" cy="917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329D-91E2-403E-807F-B38164766F2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Что такое шаровая молния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Шаровая молния — редкое природное явление, единой физической теории возникновения и протекания которого к настоящему времени не представлено. Существуют около 200 теорий, объясняющих явление, но ни одна из них не получила абсолютного признания в академической сред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Широко распространено мнение, что шаровая молния — явление электрического происхождения, естественной природы, то есть представляющая собой особого вида молнию, существующую продолжительное время и имеющую форму шара, способного перемещаться по непредсказуемой, иногда очень удивительной для очевидцев траектор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89CA-EB34-4731-B9B4-34849AA8D10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559F-AD3E-45F9-84CE-2F4C35529A3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" descr="C:\Users\Александр\Documents\images.jpeg"/>
          <p:cNvPicPr/>
          <p:nvPr/>
        </p:nvPicPr>
        <p:blipFill>
          <a:blip r:embed="rId1"/>
          <a:stretch/>
        </p:blipFill>
        <p:spPr>
          <a:xfrm>
            <a:off x="611280" y="1481040"/>
            <a:ext cx="1990800" cy="2295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Александр\Documents\65314840_2.jpg"/>
          <p:cNvPicPr/>
          <p:nvPr/>
        </p:nvPicPr>
        <p:blipFill>
          <a:blip r:embed="rId2"/>
          <a:srcRect l="0" t="0" r="0" b="7457"/>
          <a:stretch/>
        </p:blipFill>
        <p:spPr>
          <a:xfrm>
            <a:off x="2843280" y="595440"/>
            <a:ext cx="6114960" cy="4065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C:\Users\Александр\Documents\Ball_lightning.png"/>
          <p:cNvPicPr/>
          <p:nvPr/>
        </p:nvPicPr>
        <p:blipFill>
          <a:blip r:embed="rId3"/>
          <a:stretch/>
        </p:blipFill>
        <p:spPr>
          <a:xfrm>
            <a:off x="2195640" y="3346560"/>
            <a:ext cx="4162320" cy="3247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C:\Users\Александр\Documents\fireball.jpg"/>
          <p:cNvPicPr/>
          <p:nvPr/>
        </p:nvPicPr>
        <p:blipFill>
          <a:blip r:embed="rId4"/>
          <a:stretch/>
        </p:blipFill>
        <p:spPr>
          <a:xfrm>
            <a:off x="5364000" y="3500280"/>
            <a:ext cx="35308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Шаровая молния в лабораторных условиях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2A4E-324F-41F2-9667-959A894AD01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Прямоугольник 4"/>
          <p:cNvGrpSpPr/>
          <p:nvPr/>
        </p:nvGrpSpPr>
        <p:grpSpPr>
          <a:xfrm>
            <a:off x="6802560" y="1914480"/>
            <a:ext cx="1731960" cy="4254480"/>
            <a:chOff x="6802560" y="1914480"/>
            <a:chExt cx="1731960" cy="4254480"/>
          </a:xfrm>
        </p:grpSpPr>
        <p:pic>
          <p:nvPicPr>
            <p:cNvPr id="29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6802560" y="1914480"/>
              <a:ext cx="173196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875640" y="1989000"/>
              <a:ext cx="1584000" cy="41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Прямоугольник 7"/>
          <p:cNvSpPr/>
          <p:nvPr/>
        </p:nvSpPr>
        <p:spPr>
          <a:xfrm>
            <a:off x="7236000" y="5715000"/>
            <a:ext cx="865080" cy="2872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971640" y="4869000"/>
            <a:ext cx="2376360" cy="936360"/>
          </a:xfrm>
          <a:prstGeom prst="rect">
            <a:avLst/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10"/>
          <p:cNvSpPr/>
          <p:nvPr/>
        </p:nvSpPr>
        <p:spPr>
          <a:xfrm>
            <a:off x="971640" y="4149720"/>
            <a:ext cx="2376360" cy="165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7"/>
          <p:cNvSpPr/>
          <p:nvPr/>
        </p:nvSpPr>
        <p:spPr>
          <a:xfrm>
            <a:off x="4067280" y="2492280"/>
            <a:ext cx="0" cy="0"/>
          </a:xfrm>
          <a:prstGeom prst="line">
            <a:avLst/>
          </a:prstGeom>
          <a:ln w="7632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люс 34"/>
          <p:cNvSpPr/>
          <p:nvPr/>
        </p:nvSpPr>
        <p:spPr>
          <a:xfrm>
            <a:off x="7020000" y="1914480"/>
            <a:ext cx="1297080" cy="1297080"/>
          </a:xfrm>
          <a:custGeom>
            <a:avLst/>
            <a:gdLst/>
            <a:ahLst/>
            <a:rect l="l" t="t" r="r" b="b"/>
            <a:pathLst>
              <a:path w="1296144" h="1296144">
                <a:moveTo>
                  <a:pt x="171804" y="495645"/>
                </a:moveTo>
                <a:lnTo>
                  <a:pt x="495645" y="495645"/>
                </a:lnTo>
                <a:lnTo>
                  <a:pt x="495645" y="171804"/>
                </a:lnTo>
                <a:lnTo>
                  <a:pt x="800499" y="171804"/>
                </a:lnTo>
                <a:lnTo>
                  <a:pt x="800499" y="495645"/>
                </a:lnTo>
                <a:lnTo>
                  <a:pt x="1124340" y="495645"/>
                </a:lnTo>
                <a:lnTo>
                  <a:pt x="1124340" y="800499"/>
                </a:lnTo>
                <a:lnTo>
                  <a:pt x="800499" y="800499"/>
                </a:lnTo>
                <a:lnTo>
                  <a:pt x="800499" y="1124340"/>
                </a:lnTo>
                <a:lnTo>
                  <a:pt x="495645" y="1124340"/>
                </a:lnTo>
                <a:lnTo>
                  <a:pt x="495645" y="800499"/>
                </a:lnTo>
                <a:lnTo>
                  <a:pt x="171804" y="800499"/>
                </a:lnTo>
                <a:lnTo>
                  <a:pt x="171804" y="49564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рямоугольник 37"/>
          <p:cNvSpPr/>
          <p:nvPr/>
        </p:nvSpPr>
        <p:spPr>
          <a:xfrm>
            <a:off x="3929040" y="2562120"/>
            <a:ext cx="2952720" cy="730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38"/>
          <p:cNvSpPr/>
          <p:nvPr/>
        </p:nvSpPr>
        <p:spPr>
          <a:xfrm rot="1561800">
            <a:off x="3435120" y="2447640"/>
            <a:ext cx="503280" cy="730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Скругленный прямоугольник 39"/>
          <p:cNvSpPr/>
          <p:nvPr/>
        </p:nvSpPr>
        <p:spPr>
          <a:xfrm rot="178800">
            <a:off x="3904920" y="2585880"/>
            <a:ext cx="71280" cy="46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40"/>
          <p:cNvSpPr/>
          <p:nvPr/>
        </p:nvSpPr>
        <p:spPr>
          <a:xfrm>
            <a:off x="1741320" y="2584440"/>
            <a:ext cx="1727280" cy="71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41"/>
          <p:cNvSpPr/>
          <p:nvPr/>
        </p:nvSpPr>
        <p:spPr>
          <a:xfrm>
            <a:off x="1741320" y="2584440"/>
            <a:ext cx="82800" cy="23922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43"/>
          <p:cNvSpPr/>
          <p:nvPr/>
        </p:nvSpPr>
        <p:spPr>
          <a:xfrm>
            <a:off x="611280" y="6021360"/>
            <a:ext cx="6264360" cy="71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44"/>
          <p:cNvSpPr/>
          <p:nvPr/>
        </p:nvSpPr>
        <p:spPr>
          <a:xfrm>
            <a:off x="611280" y="3429000"/>
            <a:ext cx="73080" cy="2664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45"/>
          <p:cNvSpPr/>
          <p:nvPr/>
        </p:nvSpPr>
        <p:spPr>
          <a:xfrm>
            <a:off x="611280" y="3429000"/>
            <a:ext cx="647640" cy="71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46"/>
          <p:cNvSpPr/>
          <p:nvPr/>
        </p:nvSpPr>
        <p:spPr>
          <a:xfrm>
            <a:off x="1187280" y="3429000"/>
            <a:ext cx="71640" cy="21607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Овал 47"/>
          <p:cNvSpPr/>
          <p:nvPr/>
        </p:nvSpPr>
        <p:spPr>
          <a:xfrm>
            <a:off x="1979640" y="2924280"/>
            <a:ext cx="1019160" cy="10094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lt;=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анный опы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ет нечто подобное шаровой молнии на короткий сро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Номер слайда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C7C-F9A1-4B46-AB93-E20F6EF4966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7" descr=""/>
          <p:cNvPicPr/>
          <p:nvPr/>
        </p:nvPicPr>
        <p:blipFill>
          <a:blip r:embed="rId1"/>
          <a:stretch/>
        </p:blipFill>
        <p:spPr>
          <a:xfrm>
            <a:off x="1427040" y="237960"/>
            <a:ext cx="1511280" cy="117777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845160" cy="511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haroni"/>
              </a:rPr>
              <a:t>Шаровая молния способна проникать в отверстия намного меньшее по диаметру чем сама шаровая молния.  Таким образом, молния диаметром 50 см может проникнуть в щель диаметром всего несколько миллиметров. Она отлично деформируется и восстанавливает сво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DC01-D4A7-4800-9530-B5A4A41C0F8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вет шаровой молн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8" name="Объект 6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7569000" cy="4627440"/>
          </a:xfrm>
          <a:prstGeom prst="rect">
            <a:avLst/>
          </a:prstGeom>
          <a:ln w="0">
            <a:noFill/>
          </a:ln>
        </p:spPr>
      </p:pic>
      <p:sp>
        <p:nvSpPr>
          <p:cNvPr id="319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541C-8CAD-405B-8122-2438EABDB9A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7:07:19Z</dcterms:created>
  <dc:creator>Александр</dc:creator>
  <dc:description/>
  <dc:language>en-US</dc:language>
  <cp:lastModifiedBy>Александр</cp:lastModifiedBy>
  <dcterms:modified xsi:type="dcterms:W3CDTF">2011-11-14T19:29:43Z</dcterms:modified>
  <cp:revision>16</cp:revision>
  <dc:subject/>
  <dc:title>Доклад подготовил ученик 11 «А» класса Шашков А.</dc:title>
</cp:coreProperties>
</file>