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2BEF-14F0-42EA-84AA-C5EC88D24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29D5-681C-4DD6-B277-E41B62DBFD5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E810-2D3D-4C81-A0BE-D36C324B5EF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D9A-A2E1-455E-A4AB-448CBB59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FEA-D94E-4343-9C6D-9B438151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88D-C056-42FF-9334-99C2B521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0FF-AAE7-42B9-85B0-964F0010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4D92-5E47-4D70-A6A9-3E713399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FC8A-89DA-431A-A584-D936DB71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C519-C8FA-4CCE-8F5D-11182104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AA65-1674-473E-8CA0-633EDBA6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D68E-ED48-4112-B485-E0726F92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F9CA-0385-4768-B0AC-61F4AED0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C824-2E7F-47F1-AE3A-5A66BCB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FA0-C484-4E0D-9C5E-9D9E09C8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75FD-E827-414B-8B28-67E906A7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5FA6-A5CA-450E-9BE9-A47DC00F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C91C-525C-4310-81D6-84402CD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9A70-BB85-4782-B093-E59943C2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C8F0-500D-4829-B2B1-34C4B0A6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5CF0-0657-4B77-A6D3-5CABBAD0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344F-6AEE-4C6E-8DC6-0611C9F2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6531-02D5-4488-8762-E56E8017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371D-231E-40FF-8BE7-C92AACF1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7D36-954E-4448-A8F5-25C7A633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F62-7D53-43BD-8D22-81D0CFE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B263-832C-4456-B905-829A8ABE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4217-3524-4836-8DBC-4F64A904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1C5A-111A-43CB-8A1B-168CD7F7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1C3E-B5D4-4323-A9B9-41AB9360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4B27-208A-4D8E-9AB8-166D34C4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E9D8F-E02F-4F78-A1E7-1B9CB8FC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D56A-55CF-4B42-B7FD-394B1031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EDC0-95B2-4B9C-B396-0BAC5496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E66B9-9509-4232-A597-A3A47467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659B7-11A1-47CB-A462-9CD5C79A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703-5BC2-445A-8899-15B73924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214D-7EE1-47BB-B373-307BF709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E93ED-87AE-47FE-8FC5-405AA6E0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C1B96-3DD4-417F-AA63-46FADF11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6A9F-E972-493A-AEEA-2A6B6ACF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3F0A1-E81B-4DAF-A439-F516ACBE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66B1-01E2-476C-A9AA-58E58805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A696C-F44E-4DBF-8978-CAE6F713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7227C-F9E8-447C-92C8-14A5A923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10ED3-45E4-4A77-806D-C49C98B5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F335-CD4C-456A-970B-6DC7768D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CFE-9D3A-4688-BEAD-391B050A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641C3-B6B7-4607-8D5D-AED10925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6CF04-0262-4C33-9A00-05B9B17A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23775-7B0D-4688-9C7D-F9FE499F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95C4C-F8C6-43A0-9ABA-F166A92D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8A44-A847-4EB7-82E0-775153C4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D3F14-CBB6-49B9-AC5C-687E0DE3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001DE-F3E0-4318-B440-0DCB3306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9803E-3A1C-44E2-9A32-6BBA984E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97C33-7218-4C5E-A066-322DB1E2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EADB0-F8A8-4371-B47A-F7BACC52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7D0-03D8-426B-8295-7B2648EB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C972A-17B5-4190-87AA-E75C1623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D78FD-1CA8-4213-A164-F589FBC7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824E3-D422-47A1-959A-661E392B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85B91-A27A-4B56-84B0-D25796CA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2A73D-BC5C-4874-A1D7-CC3330E4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A4A6A-46CF-423F-AB2E-118CB55D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1E155-5CD4-4ADA-A3AC-41DE6E2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5119F-1225-40D4-BF3F-35994F3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D5D69-ACFD-465B-B23B-A0C178F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9D3B1-EAE4-49ED-8E2D-AE1D1A21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370-3D73-4FA1-83CA-DD87F889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07476-BE64-4CDD-9AF5-78D36D9A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5EBCC-3450-4639-BDF4-6A9386CB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E5C6E-5AEB-4887-9B52-DCB18F40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7C9-E31C-4927-8EC1-0ABFA95A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D07-07E6-4CEE-8484-0C6BE617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90D3-B6FA-4782-AE5D-8313FDCD7B09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D57D-2823-43B3-B8F5-92AB878167B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8E75-0D4D-4023-BF91-5790300DBD20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8B47-3777-4CD7-9AA1-41FAD125650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9B6-9FA8-403D-B604-68E4894237C3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7773-BCCC-4FED-8773-BB61EC73CCA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C0FA-2303-4B36-8673-375EDF14EF2D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9C11-C105-44B5-BEAB-E5A7EDBEE3B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7F1B-7239-4DE7-8FA1-E81E59F3773C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F532-78CD-45FD-A860-6E7B09611C4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0902-3168-4FA0-B255-514EF6B8B4C7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D8C-C474-4020-A00B-722273FA8AB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Александр\Pictures\1299195530_molnia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-231840" y="-79200"/>
            <a:ext cx="8077320" cy="2377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16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ШАРОВАЯ МОЛ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Как ведет себя шаровая молния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екторию шаровой молнии очень сложно предсказать, но есть определенные закономер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аровая молния обычно движется горизонтально, параллельно линии зем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аровая молния часто проникает в помещ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лния обходит проводящие ток объекты, люд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грозы земля и объекты на ней заряжаются положительно, т.к. молния «облетает» объекты и траекторию движения копирует линию земл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&gt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ровая молния имеет положительный заряд. Молнию тянет к отрицательно заряженным телам, и вероятнее всего столкнувшись с ними она взорв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ь молнии мала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10 м/с. Шаровая молния существует от 10с до 1м, в зависимости от её разме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C0F5-0609-4D8C-932B-E7C8E448F9C4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ак угасает молния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4" name="Объект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7569000" cy="4627440"/>
          </a:xfrm>
          <a:prstGeom prst="rect">
            <a:avLst/>
          </a:prstGeom>
          <a:ln w="0">
            <a:noFill/>
          </a:ln>
        </p:spPr>
      </p:pic>
      <p:sp>
        <p:nvSpPr>
          <p:cNvPr id="325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1D0D-0990-4542-B8C4-8E78C2DC7D3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189000"/>
            <a:ext cx="8291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звестен факт, что в один момент на земле существует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~550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шаровых молний, но вероятность увидеть шаровую молнию за всю жизнь равна 0.1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E1FC-20C4-449B-8358-DF827CDD09F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560" y="242064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Franklin Gothic Book"/>
                <a:ea typeface="Aharoni"/>
              </a:rPr>
              <a:t>КОНЕЦ</a:t>
            </a:r>
            <a:endParaRPr b="0" lang="en-US" sz="9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A230-881F-434E-A4F1-2DDE02F355D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Объект 9" descr=""/>
          <p:cNvPicPr/>
          <p:nvPr/>
        </p:nvPicPr>
        <p:blipFill>
          <a:blip r:embed="rId1"/>
          <a:stretch/>
        </p:blipFill>
        <p:spPr>
          <a:xfrm>
            <a:off x="-30240" y="115920"/>
            <a:ext cx="9406080" cy="6626160"/>
          </a:xfrm>
          <a:prstGeom prst="rect">
            <a:avLst/>
          </a:prstGeom>
          <a:ln w="0">
            <a:noFill/>
          </a:ln>
        </p:spPr>
      </p:pic>
      <p:sp>
        <p:nvSpPr>
          <p:cNvPr id="265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509A-C15B-4DEA-93FC-3C80B85B4CC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бъект 6"/>
          <p:cNvSpPr/>
          <p:nvPr/>
        </p:nvSpPr>
        <p:spPr>
          <a:xfrm>
            <a:off x="457200" y="15858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При образовании шаровой молнии, этот канал прерывается не доходя до земли. Заряд останавливается на месте конца этого канал, в следствии чего образуется шаровая мол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В грозовой заряженной туче, от нее к земле прокладывает тонкий канал, по которому заряд опускается к земле, потом от земли к туче заряд возвращается по этому канала, в этот момент мы и видим вспышк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Прямоугольник с двумя скругленными противолежащими углами 5"/>
          <p:cNvGrpSpPr/>
          <p:nvPr/>
        </p:nvGrpSpPr>
        <p:grpSpPr>
          <a:xfrm>
            <a:off x="85680" y="1494000"/>
            <a:ext cx="8899560" cy="5267160"/>
            <a:chOff x="85680" y="1494000"/>
            <a:chExt cx="8899560" cy="5267160"/>
          </a:xfrm>
        </p:grpSpPr>
        <p:pic>
          <p:nvPicPr>
            <p:cNvPr id="269" name="Прямоугольник с двумя скругленными противолежащими углами 5" descr=""/>
            <p:cNvPicPr/>
            <p:nvPr/>
          </p:nvPicPr>
          <p:blipFill>
            <a:blip r:embed="rId1"/>
            <a:stretch/>
          </p:blipFill>
          <p:spPr>
            <a:xfrm>
              <a:off x="85680" y="1494000"/>
              <a:ext cx="88995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26960" y="1832040"/>
              <a:ext cx="8217000" cy="45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ование молн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Облако 3"/>
          <p:cNvSpPr/>
          <p:nvPr/>
        </p:nvSpPr>
        <p:spPr>
          <a:xfrm>
            <a:off x="826920" y="1844640"/>
            <a:ext cx="2665440" cy="1079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755640" y="6237360"/>
            <a:ext cx="2664000" cy="144360"/>
          </a:xfrm>
          <a:prstGeom prst="rect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Прямая со стрелкой 13"/>
          <p:cNvCxnSpPr/>
          <p:nvPr/>
        </p:nvCxnSpPr>
        <p:spPr>
          <a:xfrm>
            <a:off x="1258560" y="2383920"/>
            <a:ext cx="1080" cy="385380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75" name="Прямая со стрелкой 15"/>
          <p:cNvCxnSpPr/>
          <p:nvPr/>
        </p:nvCxnSpPr>
        <p:spPr>
          <a:xfrm flipV="1">
            <a:off x="1476000" y="2383560"/>
            <a:ext cx="1080" cy="385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6" name="Молния 17"/>
          <p:cNvSpPr/>
          <p:nvPr/>
        </p:nvSpPr>
        <p:spPr>
          <a:xfrm rot="1585800">
            <a:off x="421920" y="1878120"/>
            <a:ext cx="1900080" cy="42400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8"/>
          <p:cNvSpPr/>
          <p:nvPr/>
        </p:nvSpPr>
        <p:spPr>
          <a:xfrm>
            <a:off x="4801680" y="253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9"/>
          <p:cNvSpPr/>
          <p:nvPr/>
        </p:nvSpPr>
        <p:spPr>
          <a:xfrm>
            <a:off x="495720" y="253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Облако 20"/>
          <p:cNvSpPr/>
          <p:nvPr/>
        </p:nvSpPr>
        <p:spPr>
          <a:xfrm>
            <a:off x="5508720" y="1844640"/>
            <a:ext cx="2663640" cy="1079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22"/>
          <p:cNvSpPr/>
          <p:nvPr/>
        </p:nvSpPr>
        <p:spPr>
          <a:xfrm>
            <a:off x="5508720" y="6237360"/>
            <a:ext cx="2663640" cy="144360"/>
          </a:xfrm>
          <a:prstGeom prst="rect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Прямая со стрелкой 23"/>
          <p:cNvCxnSpPr/>
          <p:nvPr/>
        </p:nvCxnSpPr>
        <p:spPr>
          <a:xfrm>
            <a:off x="6156000" y="2466720"/>
            <a:ext cx="1080" cy="233100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82" name="Овал 25"/>
          <p:cNvSpPr/>
          <p:nvPr/>
        </p:nvSpPr>
        <p:spPr>
          <a:xfrm>
            <a:off x="5651640" y="4311720"/>
            <a:ext cx="1008000" cy="917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F96A-6D77-4A18-AEE0-B336BE4661E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Что такое шаровая молния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Шаровая молния — редкое природное явление, единой физической теории возникновения и протекания которого к настоящему времени не представлено. Существуют около 200 теорий, объясняющих явление, но ни одна из них не получила абсолютного признания в академической сред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Широко распространено мнение, что шаровая молния — явление электрического происхождения, естественной природы, то есть представляющая собой особого вида молнию, существующую продолжительное время и имеющую форму шара, способного перемещаться по непредсказуемой, иногда очень удивительной для очевидцев траектор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658D-F0F9-4C76-B4A3-E9A98F7D00E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D093-196D-4BF7-99DC-66AD1542E46E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" descr="C:\Users\Александр\Documents\images.jpeg"/>
          <p:cNvPicPr/>
          <p:nvPr/>
        </p:nvPicPr>
        <p:blipFill>
          <a:blip r:embed="rId1"/>
          <a:stretch/>
        </p:blipFill>
        <p:spPr>
          <a:xfrm>
            <a:off x="611280" y="1481040"/>
            <a:ext cx="1990800" cy="2295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Users\Александр\Documents\65314840_2.jpg"/>
          <p:cNvPicPr/>
          <p:nvPr/>
        </p:nvPicPr>
        <p:blipFill>
          <a:blip r:embed="rId2"/>
          <a:srcRect l="0" t="0" r="0" b="7457"/>
          <a:stretch/>
        </p:blipFill>
        <p:spPr>
          <a:xfrm>
            <a:off x="2843280" y="595440"/>
            <a:ext cx="6114960" cy="4065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C:\Users\Александр\Documents\Ball_lightning.png"/>
          <p:cNvPicPr/>
          <p:nvPr/>
        </p:nvPicPr>
        <p:blipFill>
          <a:blip r:embed="rId3"/>
          <a:stretch/>
        </p:blipFill>
        <p:spPr>
          <a:xfrm>
            <a:off x="2195640" y="3346560"/>
            <a:ext cx="4162320" cy="3247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C:\Users\Александр\Documents\fireball.jpg"/>
          <p:cNvPicPr/>
          <p:nvPr/>
        </p:nvPicPr>
        <p:blipFill>
          <a:blip r:embed="rId4"/>
          <a:stretch/>
        </p:blipFill>
        <p:spPr>
          <a:xfrm>
            <a:off x="5364000" y="3500280"/>
            <a:ext cx="35308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Шаровая молния в лабораторных условиях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C084-D868-41F1-9B87-EEC5142A6EB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Прямоугольник 4"/>
          <p:cNvGrpSpPr/>
          <p:nvPr/>
        </p:nvGrpSpPr>
        <p:grpSpPr>
          <a:xfrm>
            <a:off x="6802560" y="1914480"/>
            <a:ext cx="1731960" cy="4254480"/>
            <a:chOff x="6802560" y="1914480"/>
            <a:chExt cx="1731960" cy="4254480"/>
          </a:xfrm>
        </p:grpSpPr>
        <p:pic>
          <p:nvPicPr>
            <p:cNvPr id="29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6802560" y="1914480"/>
              <a:ext cx="1731960" cy="42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875640" y="1989000"/>
              <a:ext cx="1584000" cy="41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Прямоугольник 7"/>
          <p:cNvSpPr/>
          <p:nvPr/>
        </p:nvSpPr>
        <p:spPr>
          <a:xfrm>
            <a:off x="7236000" y="5715000"/>
            <a:ext cx="865080" cy="2872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11"/>
          <p:cNvSpPr/>
          <p:nvPr/>
        </p:nvSpPr>
        <p:spPr>
          <a:xfrm>
            <a:off x="971640" y="4869000"/>
            <a:ext cx="2376360" cy="936360"/>
          </a:xfrm>
          <a:prstGeom prst="rect">
            <a:avLst/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10"/>
          <p:cNvSpPr/>
          <p:nvPr/>
        </p:nvSpPr>
        <p:spPr>
          <a:xfrm>
            <a:off x="971640" y="4149720"/>
            <a:ext cx="2376360" cy="165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17"/>
          <p:cNvSpPr/>
          <p:nvPr/>
        </p:nvSpPr>
        <p:spPr>
          <a:xfrm>
            <a:off x="4067280" y="2492280"/>
            <a:ext cx="0" cy="0"/>
          </a:xfrm>
          <a:prstGeom prst="line">
            <a:avLst/>
          </a:prstGeom>
          <a:ln w="7632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люс 34"/>
          <p:cNvSpPr/>
          <p:nvPr/>
        </p:nvSpPr>
        <p:spPr>
          <a:xfrm>
            <a:off x="7020000" y="1914480"/>
            <a:ext cx="1297080" cy="1297080"/>
          </a:xfrm>
          <a:custGeom>
            <a:avLst/>
            <a:gdLst/>
            <a:ahLst/>
            <a:rect l="l" t="t" r="r" b="b"/>
            <a:pathLst>
              <a:path w="1296144" h="1296144">
                <a:moveTo>
                  <a:pt x="171804" y="495645"/>
                </a:moveTo>
                <a:lnTo>
                  <a:pt x="495645" y="495645"/>
                </a:lnTo>
                <a:lnTo>
                  <a:pt x="495645" y="171804"/>
                </a:lnTo>
                <a:lnTo>
                  <a:pt x="800499" y="171804"/>
                </a:lnTo>
                <a:lnTo>
                  <a:pt x="800499" y="495645"/>
                </a:lnTo>
                <a:lnTo>
                  <a:pt x="1124340" y="495645"/>
                </a:lnTo>
                <a:lnTo>
                  <a:pt x="1124340" y="800499"/>
                </a:lnTo>
                <a:lnTo>
                  <a:pt x="800499" y="800499"/>
                </a:lnTo>
                <a:lnTo>
                  <a:pt x="800499" y="1124340"/>
                </a:lnTo>
                <a:lnTo>
                  <a:pt x="495645" y="1124340"/>
                </a:lnTo>
                <a:lnTo>
                  <a:pt x="495645" y="800499"/>
                </a:lnTo>
                <a:lnTo>
                  <a:pt x="171804" y="800499"/>
                </a:lnTo>
                <a:lnTo>
                  <a:pt x="171804" y="49564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37"/>
          <p:cNvSpPr/>
          <p:nvPr/>
        </p:nvSpPr>
        <p:spPr>
          <a:xfrm>
            <a:off x="3929040" y="2562120"/>
            <a:ext cx="2952720" cy="730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38"/>
          <p:cNvSpPr/>
          <p:nvPr/>
        </p:nvSpPr>
        <p:spPr>
          <a:xfrm rot="1561800">
            <a:off x="3435120" y="2447640"/>
            <a:ext cx="503280" cy="730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Скругленный прямоугольник 39"/>
          <p:cNvSpPr/>
          <p:nvPr/>
        </p:nvSpPr>
        <p:spPr>
          <a:xfrm rot="178800">
            <a:off x="3904920" y="2585880"/>
            <a:ext cx="71280" cy="46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40"/>
          <p:cNvSpPr/>
          <p:nvPr/>
        </p:nvSpPr>
        <p:spPr>
          <a:xfrm>
            <a:off x="1741320" y="2584440"/>
            <a:ext cx="1727280" cy="71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41"/>
          <p:cNvSpPr/>
          <p:nvPr/>
        </p:nvSpPr>
        <p:spPr>
          <a:xfrm>
            <a:off x="1741320" y="2584440"/>
            <a:ext cx="82800" cy="23922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43"/>
          <p:cNvSpPr/>
          <p:nvPr/>
        </p:nvSpPr>
        <p:spPr>
          <a:xfrm>
            <a:off x="611280" y="6021360"/>
            <a:ext cx="6264360" cy="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44"/>
          <p:cNvSpPr/>
          <p:nvPr/>
        </p:nvSpPr>
        <p:spPr>
          <a:xfrm>
            <a:off x="611280" y="3429000"/>
            <a:ext cx="73080" cy="2664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45"/>
          <p:cNvSpPr/>
          <p:nvPr/>
        </p:nvSpPr>
        <p:spPr>
          <a:xfrm>
            <a:off x="611280" y="3429000"/>
            <a:ext cx="647640" cy="71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46"/>
          <p:cNvSpPr/>
          <p:nvPr/>
        </p:nvSpPr>
        <p:spPr>
          <a:xfrm>
            <a:off x="1187280" y="3429000"/>
            <a:ext cx="71640" cy="21607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Овал 47"/>
          <p:cNvSpPr/>
          <p:nvPr/>
        </p:nvSpPr>
        <p:spPr>
          <a:xfrm>
            <a:off x="1979640" y="2924280"/>
            <a:ext cx="1019160" cy="10094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lt;=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анный опы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ет нечто подобное шаровой молнии на короткий сро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5EBB-264E-43AA-9F2A-9A78627925E8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7" descr=""/>
          <p:cNvPicPr/>
          <p:nvPr/>
        </p:nvPicPr>
        <p:blipFill>
          <a:blip r:embed="rId1"/>
          <a:stretch/>
        </p:blipFill>
        <p:spPr>
          <a:xfrm>
            <a:off x="1427040" y="237960"/>
            <a:ext cx="1511280" cy="117777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845160" cy="511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haroni"/>
              </a:rPr>
              <a:t>Шаровая молния способна проникать в отверстия намного меньшее по диаметру чем сама шаровая молния.  Таким образом, молния диаметром 50 см может проникнуть в щель диаметром всего несколько миллиметров. Она отлично деформируется и восстанавливает сво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F339-9C2E-46F3-BC05-FC184843363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Цвет шаровой молн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8" name="Объект 6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7569000" cy="4627440"/>
          </a:xfrm>
          <a:prstGeom prst="rect">
            <a:avLst/>
          </a:prstGeom>
          <a:ln w="0">
            <a:noFill/>
          </a:ln>
        </p:spPr>
      </p:pic>
      <p:sp>
        <p:nvSpPr>
          <p:cNvPr id="319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70ED-4509-4F61-B3F4-CF38692C8CA8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7:07:19Z</dcterms:created>
  <dc:creator>Александр</dc:creator>
  <dc:description/>
  <dc:language>en-US</dc:language>
  <cp:lastModifiedBy>Александр</cp:lastModifiedBy>
  <dcterms:modified xsi:type="dcterms:W3CDTF">2011-11-14T19:29:43Z</dcterms:modified>
  <cp:revision>16</cp:revision>
  <dc:subject/>
  <dc:title>Доклад подготовил ученик 11 «А» класса Шашков А.</dc:title>
</cp:coreProperties>
</file>