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1DD-F620-4726-81BB-AB0E5D17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3BE-32A5-4A2C-8F0D-034EC6A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9E4-1EB4-4E10-8C5C-AE1E3F0C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F1E-CA25-48DE-BAEF-3F40FD2D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8FA-A550-4EE0-9C30-B2505940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08C-8930-4937-8D0F-53F0271B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955-3D4F-40DC-A576-D40031B5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5B3-6430-4BF3-B1D4-C8E3CF3F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BBA-051F-42A4-A050-666E02E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1DF-BB3C-4261-A3CF-EF5F201D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9C5-236A-4F6B-8D46-D64BB4F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A27-3EAE-4215-B994-0544398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D0D-C189-490D-99D0-3366965D5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Систематизация знаний по периодической системе химических элем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6685560" y="4515120"/>
            <a:ext cx="4381560" cy="74880"/>
          </a:xfrm>
          <a:prstGeom prst="parallelogram">
            <a:avLst>
              <a:gd name="adj" fmla="val 232703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477120"/>
            <a:ext cx="7467480" cy="75960"/>
          </a:xfrm>
          <a:prstGeom prst="parallelogram">
            <a:avLst>
              <a:gd name="adj" fmla="val 390957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66680"/>
            <a:ext cx="6248160" cy="76320"/>
          </a:xfrm>
          <a:prstGeom prst="parallelogram">
            <a:avLst>
              <a:gd name="adj" fmla="val 325577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1543680" y="2762280"/>
            <a:ext cx="4381560" cy="74880"/>
          </a:xfrm>
          <a:prstGeom prst="parallelogram">
            <a:avLst>
              <a:gd name="adj" fmla="val 232703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 основании электронных формул определите, в каких периодах находятся элементы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752480"/>
          <a:ext cx="4648320" cy="4737240"/>
        </p:xfrm>
        <a:graphic>
          <a:graphicData uri="http://schemas.openxmlformats.org/drawingml/2006/table">
            <a:tbl>
              <a:tblPr/>
              <a:tblGrid>
                <a:gridCol w="3809880"/>
                <a:gridCol w="83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ер</a:t>
                      </a:r>
                      <a:r>
                        <a:rPr b="1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f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952880" y="1905120"/>
          <a:ext cx="3886200" cy="4340160"/>
        </p:xfrm>
        <a:graphic>
          <a:graphicData uri="http://schemas.openxmlformats.org/drawingml/2006/table">
            <a:tbl>
              <a:tblPr/>
              <a:tblGrid>
                <a:gridCol w="3048120"/>
                <a:gridCol w="838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 основании электронных формул определите, в каких периодах находятся элемент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600200"/>
          <a:ext cx="8686800" cy="5175360"/>
        </p:xfrm>
        <a:graphic>
          <a:graphicData uri="http://schemas.openxmlformats.org/drawingml/2006/table">
            <a:tbl>
              <a:tblPr/>
              <a:tblGrid>
                <a:gridCol w="7424640"/>
                <a:gridCol w="1262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пер</a:t>
                      </a: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f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 основании электронных формул определите, в каких группах находятся элемент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1165320"/>
          <a:ext cx="8610480" cy="5692680"/>
        </p:xfrm>
        <a:graphic>
          <a:graphicData uri="http://schemas.openxmlformats.org/drawingml/2006/table">
            <a:tbl>
              <a:tblPr/>
              <a:tblGrid>
                <a:gridCol w="6556320"/>
                <a:gridCol w="205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Электронная форм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групп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s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p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химические элементы по их положению в таблице Д. И. Менделеева. Запишите их названия, из первых букв которых вы составите название одного из элементов 4-го периода.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пишите его электронную формул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362320"/>
          <a:ext cx="9143640" cy="685800"/>
        </p:xfrm>
        <a:graphic>
          <a:graphicData uri="http://schemas.openxmlformats.org/drawingml/2006/table">
            <a:tbl>
              <a:tblPr/>
              <a:tblGrid>
                <a:gridCol w="5474160"/>
                <a:gridCol w="611640"/>
                <a:gridCol w="613440"/>
                <a:gridCol w="608040"/>
                <a:gridCol w="614880"/>
                <a:gridCol w="610200"/>
                <a:gridCol w="611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5-й период, главна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0" y="3276720"/>
          <a:ext cx="9144000" cy="820440"/>
        </p:xfrm>
        <a:graphic>
          <a:graphicData uri="http://schemas.openxmlformats.org/drawingml/2006/table">
            <a:tbl>
              <a:tblPr/>
              <a:tblGrid>
                <a:gridCol w="5985000"/>
                <a:gridCol w="631800"/>
                <a:gridCol w="633240"/>
                <a:gridCol w="631800"/>
                <a:gridCol w="630360"/>
                <a:gridCol w="631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5-й период, главная под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4267080"/>
          <a:ext cx="9144000" cy="838440"/>
        </p:xfrm>
        <a:graphic>
          <a:graphicData uri="http://schemas.openxmlformats.org/drawingml/2006/table">
            <a:tbl>
              <a:tblPr/>
              <a:tblGrid>
                <a:gridCol w="5473800"/>
                <a:gridCol w="610920"/>
                <a:gridCol w="614520"/>
                <a:gridCol w="608040"/>
                <a:gridCol w="614520"/>
                <a:gridCol w="610920"/>
                <a:gridCol w="6112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рупп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5257800"/>
          <a:ext cx="9143280" cy="533160"/>
        </p:xfrm>
        <a:graphic>
          <a:graphicData uri="http://schemas.openxmlformats.org/drawingml/2006/table">
            <a:tbl>
              <a:tblPr/>
              <a:tblGrid>
                <a:gridCol w="6317640"/>
                <a:gridCol w="706680"/>
                <a:gridCol w="706680"/>
                <a:gridCol w="705960"/>
                <a:gridCol w="706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76320" y="6037200"/>
          <a:ext cx="9067680" cy="820800"/>
        </p:xfrm>
        <a:graphic>
          <a:graphicData uri="http://schemas.openxmlformats.org/drawingml/2006/table">
            <a:tbl>
              <a:tblPr/>
              <a:tblGrid>
                <a:gridCol w="5395680"/>
                <a:gridCol w="612720"/>
                <a:gridCol w="611280"/>
                <a:gridCol w="612720"/>
                <a:gridCol w="611280"/>
                <a:gridCol w="612720"/>
                <a:gridCol w="611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3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304920"/>
          <a:ext cx="9144000" cy="685800"/>
        </p:xfrm>
        <a:graphic>
          <a:graphicData uri="http://schemas.openxmlformats.org/drawingml/2006/table">
            <a:tbl>
              <a:tblPr/>
              <a:tblGrid>
                <a:gridCol w="5473800"/>
                <a:gridCol w="612720"/>
                <a:gridCol w="612720"/>
                <a:gridCol w="608040"/>
                <a:gridCol w="615960"/>
                <a:gridCol w="609480"/>
                <a:gridCol w="611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5-й период, главна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0" y="1371600"/>
          <a:ext cx="9144000" cy="820800"/>
        </p:xfrm>
        <a:graphic>
          <a:graphicData uri="http://schemas.openxmlformats.org/drawingml/2006/table">
            <a:tbl>
              <a:tblPr/>
              <a:tblGrid>
                <a:gridCol w="5985000"/>
                <a:gridCol w="631800"/>
                <a:gridCol w="633240"/>
                <a:gridCol w="631800"/>
                <a:gridCol w="630360"/>
                <a:gridCol w="631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5-й период, главная подгруп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0" y="2590920"/>
          <a:ext cx="9144000" cy="838080"/>
        </p:xfrm>
        <a:graphic>
          <a:graphicData uri="http://schemas.openxmlformats.org/drawingml/2006/table">
            <a:tbl>
              <a:tblPr/>
              <a:tblGrid>
                <a:gridCol w="5473800"/>
                <a:gridCol w="610920"/>
                <a:gridCol w="614520"/>
                <a:gridCol w="608040"/>
                <a:gridCol w="614520"/>
                <a:gridCol w="610920"/>
                <a:gridCol w="611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рупп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3809880"/>
          <a:ext cx="9144000" cy="577800"/>
        </p:xfrm>
        <a:graphic>
          <a:graphicData uri="http://schemas.openxmlformats.org/drawingml/2006/table">
            <a:tbl>
              <a:tblPr/>
              <a:tblGrid>
                <a:gridCol w="6318360"/>
                <a:gridCol w="706320"/>
                <a:gridCol w="706320"/>
                <a:gridCol w="706680"/>
                <a:gridCol w="706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0" y="4724280"/>
          <a:ext cx="9144000" cy="820800"/>
        </p:xfrm>
        <a:graphic>
          <a:graphicData uri="http://schemas.openxmlformats.org/drawingml/2006/table">
            <a:tbl>
              <a:tblPr/>
              <a:tblGrid>
                <a:gridCol w="5442120"/>
                <a:gridCol w="617400"/>
                <a:gridCol w="615960"/>
                <a:gridCol w="617400"/>
                <a:gridCol w="617760"/>
                <a:gridCol w="617400"/>
                <a:gridCol w="615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3-й период, главная подгрупп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57200" y="5791320"/>
            <a:ext cx="80010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p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p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4s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d</a:t>
            </a:r>
            <a:r>
              <a:rPr b="1" lang="en-US" sz="36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97212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88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черкните электронные схемы, соответствующие  атомам химических 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- второго периода Периодической таблицы Д. И. Менделе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главной подгруппы второй груп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 букв, соответствующих правильным ответам, вы составите название одного из химических эле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третье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ариант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I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1981080"/>
          <a:ext cx="7696080" cy="2273400"/>
        </p:xfrm>
        <a:graphic>
          <a:graphicData uri="http://schemas.openxmlformats.org/drawingml/2006/table">
            <a:tbl>
              <a:tblPr/>
              <a:tblGrid>
                <a:gridCol w="4190760"/>
                <a:gridCol w="1944720"/>
                <a:gridCol w="1560600"/>
              </a:tblGrid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8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ē, 5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8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7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219320" y="2286000"/>
          <a:ext cx="3352680" cy="517680"/>
        </p:xfrm>
        <a:graphic>
          <a:graphicData uri="http://schemas.openxmlformats.org/drawingml/2006/table">
            <a:tbl>
              <a:tblPr/>
              <a:tblGrid>
                <a:gridCol w="838440"/>
                <a:gridCol w="838440"/>
                <a:gridCol w="83736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2120" y="4343400"/>
          <a:ext cx="7848360" cy="2259000"/>
        </p:xfrm>
        <a:graphic>
          <a:graphicData uri="http://schemas.openxmlformats.org/drawingml/2006/table">
            <a:tbl>
              <a:tblPr/>
              <a:tblGrid>
                <a:gridCol w="3885840"/>
                <a:gridCol w="2286000"/>
                <a:gridCol w="1676520"/>
              </a:tblGrid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1 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 ē, 8 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6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8ē, 18ē, 8ē, 2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990720" y="4495680"/>
          <a:ext cx="3123720" cy="517320"/>
        </p:xfrm>
        <a:graphic>
          <a:graphicData uri="http://schemas.openxmlformats.org/drawingml/2006/table">
            <a:tbl>
              <a:tblPr/>
              <a:tblGrid>
                <a:gridCol w="780840"/>
                <a:gridCol w="780840"/>
                <a:gridCol w="781200"/>
                <a:gridCol w="78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09480" y="457200"/>
          <a:ext cx="7696440" cy="2771640"/>
        </p:xfrm>
        <a:graphic>
          <a:graphicData uri="http://schemas.openxmlformats.org/drawingml/2006/table">
            <a:tbl>
              <a:tblPr/>
              <a:tblGrid>
                <a:gridCol w="4191120"/>
                <a:gridCol w="1944720"/>
                <a:gridCol w="1560600"/>
              </a:tblGrid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8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ē, 5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8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7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066680" y="762120"/>
          <a:ext cx="3353040" cy="5173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3733920"/>
          <a:ext cx="8076960" cy="2908080"/>
        </p:xfrm>
        <a:graphic>
          <a:graphicData uri="http://schemas.openxmlformats.org/drawingml/2006/table">
            <a:tbl>
              <a:tblPr/>
              <a:tblGrid>
                <a:gridCol w="3998520"/>
                <a:gridCol w="2536200"/>
                <a:gridCol w="1542240"/>
              </a:tblGrid>
              <a:tr h="3988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ьте его электронную формул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2800" spc="-1" strike="noStrike" baseline="30000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2ē, 1 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2 ē, 8 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2ē, 8ē, 8ē, 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2ē, 6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) 2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) 2ē, 8ē, 18ē, 8ē, 2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066680" y="3962520"/>
          <a:ext cx="3124080" cy="517320"/>
        </p:xfrm>
        <a:graphic>
          <a:graphicData uri="http://schemas.openxmlformats.org/drawingml/2006/table">
            <a:tbl>
              <a:tblPr/>
              <a:tblGrid>
                <a:gridCol w="780840"/>
                <a:gridCol w="781200"/>
                <a:gridCol w="780840"/>
                <a:gridCol w="781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27672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600200"/>
          <a:ext cx="8686800" cy="50371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600200"/>
          <a:ext cx="8686800" cy="503712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ите какие величины,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характеризующие строение атома и положение химического элемента в ПСХЭ равны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600200"/>
          <a:ext cx="8686440" cy="503712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  <a:gridCol w="2171880"/>
                <a:gridCol w="217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ние ат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.уровне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 flipV="1">
            <a:off x="3352680" y="678168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010280" y="4685760"/>
            <a:ext cx="4267080" cy="76320"/>
          </a:xfrm>
          <a:prstGeom prst="parallelogram">
            <a:avLst>
              <a:gd name="adj" fmla="val 84901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2153160" y="2153160"/>
            <a:ext cx="4381560" cy="74520"/>
          </a:xfrm>
          <a:prstGeom prst="parallelogram">
            <a:avLst>
              <a:gd name="adj" fmla="val 12984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0" y="0"/>
            <a:ext cx="5410080" cy="76320"/>
          </a:xfrm>
          <a:prstGeom prst="parallelogram">
            <a:avLst>
              <a:gd name="adj" fmla="val 63010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бразуйте из приведённых величин восемь численно соответствующих п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lang="en-US" sz="28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поряд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порядков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lang="en-US" sz="28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порядков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(</a:t>
            </a:r>
            <a:r>
              <a:rPr b="1" lang="en-US" sz="2800" spc="-1" strike="noStrike" baseline="-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p)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группы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(вн.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ē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периода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(эн.уровн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828800"/>
          <a:ext cx="8534160" cy="639720"/>
        </p:xfrm>
        <a:graphic>
          <a:graphicData uri="http://schemas.openxmlformats.org/drawingml/2006/table">
            <a:tbl>
              <a:tblPr/>
              <a:tblGrid>
                <a:gridCol w="761760"/>
                <a:gridCol w="1043280"/>
                <a:gridCol w="904680"/>
                <a:gridCol w="414360"/>
                <a:gridCol w="914400"/>
                <a:gridCol w="1219320"/>
                <a:gridCol w="914400"/>
                <a:gridCol w="1143000"/>
                <a:gridCol w="12189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ē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яд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н.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ē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э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н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 flipV="1">
            <a:off x="152280" y="151920"/>
            <a:ext cx="5410440" cy="76320"/>
          </a:xfrm>
          <a:prstGeom prst="parallelogram">
            <a:avLst>
              <a:gd name="adj" fmla="val 63015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000880" y="2305080"/>
            <a:ext cx="4381560" cy="74880"/>
          </a:xfrm>
          <a:prstGeom prst="parallelogram">
            <a:avLst>
              <a:gd name="adj" fmla="val 129219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6629400"/>
            <a:ext cx="5791320" cy="76320"/>
          </a:xfrm>
          <a:prstGeom prst="parallelogram">
            <a:avLst>
              <a:gd name="adj" fmla="val 98014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819840" y="4533840"/>
            <a:ext cx="4267440" cy="76320"/>
          </a:xfrm>
          <a:prstGeom prst="parallelogram">
            <a:avLst>
              <a:gd name="adj" fmla="val 84908"/>
            </a:avLst>
          </a:prstGeom>
          <a:gradFill rotWithShape="0">
            <a:gsLst>
              <a:gs pos="0">
                <a:srgbClr val="00c9c4"/>
              </a:gs>
              <a:gs pos="50000">
                <a:srgbClr val="bbe0e3"/>
              </a:gs>
              <a:gs pos="100000">
                <a:srgbClr val="00c9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5T07:20:1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