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5F1-B26C-4D3D-9479-EC9434CA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DE3-DF16-466B-9A9E-49557471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751-931C-4975-B319-90D07FCF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2CC-2212-4646-A655-9DD0A5B8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E2C-434F-42FD-AA66-DDDA50FC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C97-318E-406F-B4C4-DC103DB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DAD-CD28-494A-AE9D-B8156AA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FEF-101D-4915-AF9A-3BC9B49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045-B6ED-409C-A651-F5C9526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A7C-C970-4ABD-8470-4C3E81E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4D3-6AEF-4D53-BC63-022A671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2F9-9403-41A2-A691-44BA36D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BD2-CB8B-4A05-A9DF-CF034AD8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Систематизация знаний по периодической системе химических эле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6685560" y="4515120"/>
            <a:ext cx="4381560" cy="74880"/>
          </a:xfrm>
          <a:prstGeom prst="parallelogram">
            <a:avLst>
              <a:gd name="adj" fmla="val 232703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477120"/>
            <a:ext cx="7467480" cy="75960"/>
          </a:xfrm>
          <a:prstGeom prst="parallelogram">
            <a:avLst>
              <a:gd name="adj" fmla="val 390957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6248160" cy="76320"/>
          </a:xfrm>
          <a:prstGeom prst="parallelogram">
            <a:avLst>
              <a:gd name="adj" fmla="val 325577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543680" y="2762280"/>
            <a:ext cx="4381560" cy="74880"/>
          </a:xfrm>
          <a:prstGeom prst="parallelogram">
            <a:avLst>
              <a:gd name="adj" fmla="val 232703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периодах находятся элементы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752480"/>
          <a:ext cx="4648320" cy="4737240"/>
        </p:xfrm>
        <a:graphic>
          <a:graphicData uri="http://schemas.openxmlformats.org/drawingml/2006/table">
            <a:tbl>
              <a:tblPr/>
              <a:tblGrid>
                <a:gridCol w="3809880"/>
                <a:gridCol w="8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ер</a:t>
                      </a: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f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1905120"/>
          <a:ext cx="3886200" cy="4340160"/>
        </p:xfrm>
        <a:graphic>
          <a:graphicData uri="http://schemas.openxmlformats.org/drawingml/2006/table">
            <a:tbl>
              <a:tblPr/>
              <a:tblGrid>
                <a:gridCol w="3048120"/>
                <a:gridCol w="83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периодах находятся элемен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600200"/>
          <a:ext cx="8686800" cy="5175360"/>
        </p:xfrm>
        <a:graphic>
          <a:graphicData uri="http://schemas.openxmlformats.org/drawingml/2006/table">
            <a:tbl>
              <a:tblPr/>
              <a:tblGrid>
                <a:gridCol w="7424640"/>
                <a:gridCol w="1262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ер</a:t>
                      </a: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f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группах находятся элемен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1165320"/>
          <a:ext cx="8610480" cy="5692680"/>
        </p:xfrm>
        <a:graphic>
          <a:graphicData uri="http://schemas.openxmlformats.org/drawingml/2006/table">
            <a:tbl>
              <a:tblPr/>
              <a:tblGrid>
                <a:gridCol w="6556320"/>
                <a:gridCol w="205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химические элементы по их положению в таблице Д. И. Менделеева. Запишите их названия, из первых букв которых вы составите название одного из элементов 4-го периода.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пишите его электронную формул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362320"/>
          <a:ext cx="9143640" cy="685800"/>
        </p:xfrm>
        <a:graphic>
          <a:graphicData uri="http://schemas.openxmlformats.org/drawingml/2006/table">
            <a:tbl>
              <a:tblPr/>
              <a:tblGrid>
                <a:gridCol w="5474160"/>
                <a:gridCol w="611640"/>
                <a:gridCol w="613440"/>
                <a:gridCol w="608040"/>
                <a:gridCol w="614880"/>
                <a:gridCol w="610200"/>
                <a:gridCol w="61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5-й период, главна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3276720"/>
          <a:ext cx="9144000" cy="820440"/>
        </p:xfrm>
        <a:graphic>
          <a:graphicData uri="http://schemas.openxmlformats.org/drawingml/2006/table">
            <a:tbl>
              <a:tblPr/>
              <a:tblGrid>
                <a:gridCol w="5985000"/>
                <a:gridCol w="631800"/>
                <a:gridCol w="633240"/>
                <a:gridCol w="631800"/>
                <a:gridCol w="630360"/>
                <a:gridCol w="63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5-й период, главная под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4267080"/>
          <a:ext cx="9144000" cy="838440"/>
        </p:xfrm>
        <a:graphic>
          <a:graphicData uri="http://schemas.openxmlformats.org/drawingml/2006/table">
            <a:tbl>
              <a:tblPr/>
              <a:tblGrid>
                <a:gridCol w="5473800"/>
                <a:gridCol w="610920"/>
                <a:gridCol w="614520"/>
                <a:gridCol w="608040"/>
                <a:gridCol w="614520"/>
                <a:gridCol w="610920"/>
                <a:gridCol w="6112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рупп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5257800"/>
          <a:ext cx="9143280" cy="533160"/>
        </p:xfrm>
        <a:graphic>
          <a:graphicData uri="http://schemas.openxmlformats.org/drawingml/2006/table">
            <a:tbl>
              <a:tblPr/>
              <a:tblGrid>
                <a:gridCol w="6317640"/>
                <a:gridCol w="706680"/>
                <a:gridCol w="706680"/>
                <a:gridCol w="705960"/>
                <a:gridCol w="706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6320" y="6037200"/>
          <a:ext cx="9067680" cy="820800"/>
        </p:xfrm>
        <a:graphic>
          <a:graphicData uri="http://schemas.openxmlformats.org/drawingml/2006/table">
            <a:tbl>
              <a:tblPr/>
              <a:tblGrid>
                <a:gridCol w="5395680"/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3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304920"/>
          <a:ext cx="9144000" cy="685800"/>
        </p:xfrm>
        <a:graphic>
          <a:graphicData uri="http://schemas.openxmlformats.org/drawingml/2006/table">
            <a:tbl>
              <a:tblPr/>
              <a:tblGrid>
                <a:gridCol w="5473800"/>
                <a:gridCol w="612720"/>
                <a:gridCol w="612720"/>
                <a:gridCol w="608040"/>
                <a:gridCol w="615960"/>
                <a:gridCol w="609480"/>
                <a:gridCol w="61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5-й период, главна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1371600"/>
          <a:ext cx="9144000" cy="820800"/>
        </p:xfrm>
        <a:graphic>
          <a:graphicData uri="http://schemas.openxmlformats.org/drawingml/2006/table">
            <a:tbl>
              <a:tblPr/>
              <a:tblGrid>
                <a:gridCol w="5985000"/>
                <a:gridCol w="631800"/>
                <a:gridCol w="633240"/>
                <a:gridCol w="631800"/>
                <a:gridCol w="630360"/>
                <a:gridCol w="63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5-й период, главная под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2590920"/>
          <a:ext cx="9144000" cy="838080"/>
        </p:xfrm>
        <a:graphic>
          <a:graphicData uri="http://schemas.openxmlformats.org/drawingml/2006/table">
            <a:tbl>
              <a:tblPr/>
              <a:tblGrid>
                <a:gridCol w="5473800"/>
                <a:gridCol w="610920"/>
                <a:gridCol w="614520"/>
                <a:gridCol w="608040"/>
                <a:gridCol w="614520"/>
                <a:gridCol w="610920"/>
                <a:gridCol w="611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рупп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3809880"/>
          <a:ext cx="9144000" cy="577800"/>
        </p:xfrm>
        <a:graphic>
          <a:graphicData uri="http://schemas.openxmlformats.org/drawingml/2006/table">
            <a:tbl>
              <a:tblPr/>
              <a:tblGrid>
                <a:gridCol w="6318360"/>
                <a:gridCol w="706320"/>
                <a:gridCol w="706320"/>
                <a:gridCol w="706680"/>
                <a:gridCol w="706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4724280"/>
          <a:ext cx="9144000" cy="820800"/>
        </p:xfrm>
        <a:graphic>
          <a:graphicData uri="http://schemas.openxmlformats.org/drawingml/2006/table">
            <a:tbl>
              <a:tblPr/>
              <a:tblGrid>
                <a:gridCol w="5442120"/>
                <a:gridCol w="617400"/>
                <a:gridCol w="615960"/>
                <a:gridCol w="617400"/>
                <a:gridCol w="617760"/>
                <a:gridCol w="617400"/>
                <a:gridCol w="615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3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5791320"/>
            <a:ext cx="8001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p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p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4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88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черкните электронные схемы, соответствующие  атомам химически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- второго периода Периодической таблицы Д. И. Менделе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главной подгруппы второй груп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букв, соответствующих правильным ответам, вы составите название одного из химически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третье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I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981080"/>
          <a:ext cx="7696080" cy="2273400"/>
        </p:xfrm>
        <a:graphic>
          <a:graphicData uri="http://schemas.openxmlformats.org/drawingml/2006/table">
            <a:tbl>
              <a:tblPr/>
              <a:tblGrid>
                <a:gridCol w="4190760"/>
                <a:gridCol w="1944720"/>
                <a:gridCol w="1560600"/>
              </a:tblGrid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ē, 5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8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7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219320" y="2286000"/>
          <a:ext cx="3352680" cy="517680"/>
        </p:xfrm>
        <a:graphic>
          <a:graphicData uri="http://schemas.openxmlformats.org/drawingml/2006/table">
            <a:tbl>
              <a:tblPr/>
              <a:tblGrid>
                <a:gridCol w="838440"/>
                <a:gridCol w="838440"/>
                <a:gridCol w="83736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2120" y="4343400"/>
          <a:ext cx="7848360" cy="2259000"/>
        </p:xfrm>
        <a:graphic>
          <a:graphicData uri="http://schemas.openxmlformats.org/drawingml/2006/table">
            <a:tbl>
              <a:tblPr/>
              <a:tblGrid>
                <a:gridCol w="3885840"/>
                <a:gridCol w="2286000"/>
                <a:gridCol w="1676520"/>
              </a:tblGrid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1 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 ē, 8 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6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8ē, 18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90720" y="4495680"/>
          <a:ext cx="3123720" cy="517320"/>
        </p:xfrm>
        <a:graphic>
          <a:graphicData uri="http://schemas.openxmlformats.org/drawingml/2006/table">
            <a:tbl>
              <a:tblPr/>
              <a:tblGrid>
                <a:gridCol w="780840"/>
                <a:gridCol w="780840"/>
                <a:gridCol w="781200"/>
                <a:gridCol w="78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457200"/>
          <a:ext cx="7696440" cy="2771640"/>
        </p:xfrm>
        <a:graphic>
          <a:graphicData uri="http://schemas.openxmlformats.org/drawingml/2006/table">
            <a:tbl>
              <a:tblPr/>
              <a:tblGrid>
                <a:gridCol w="4191120"/>
                <a:gridCol w="1944720"/>
                <a:gridCol w="1560600"/>
              </a:tblGrid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ē, 5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8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7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066680" y="762120"/>
          <a:ext cx="3353040" cy="5173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3733920"/>
          <a:ext cx="8076960" cy="2908080"/>
        </p:xfrm>
        <a:graphic>
          <a:graphicData uri="http://schemas.openxmlformats.org/drawingml/2006/table">
            <a:tbl>
              <a:tblPr/>
              <a:tblGrid>
                <a:gridCol w="3998520"/>
                <a:gridCol w="2536200"/>
                <a:gridCol w="1542240"/>
              </a:tblGrid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1 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 ē, 8 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6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8ē, 18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3962520"/>
          <a:ext cx="3124080" cy="51732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0840"/>
                <a:gridCol w="781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27672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600200"/>
          <a:ext cx="8686800" cy="5037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600200"/>
          <a:ext cx="8686800" cy="5037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бразуйте из приведённых величин восемь численно соответствующих п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поря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орядков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орядков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группы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(вн.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ериода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(эн.уров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828800"/>
          <a:ext cx="8534160" cy="639720"/>
        </p:xfrm>
        <a:graphic>
          <a:graphicData uri="http://schemas.openxmlformats.org/drawingml/2006/table">
            <a:tbl>
              <a:tblPr/>
              <a:tblGrid>
                <a:gridCol w="761760"/>
                <a:gridCol w="1043280"/>
                <a:gridCol w="904680"/>
                <a:gridCol w="414360"/>
                <a:gridCol w="914400"/>
                <a:gridCol w="1219320"/>
                <a:gridCol w="914400"/>
                <a:gridCol w="1143000"/>
                <a:gridCol w="12189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ē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я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н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ē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э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н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flipV="1">
            <a:off x="152280" y="151920"/>
            <a:ext cx="5410440" cy="76320"/>
          </a:xfrm>
          <a:prstGeom prst="parallelogram">
            <a:avLst>
              <a:gd name="adj" fmla="val 63015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000880" y="2305080"/>
            <a:ext cx="4381560" cy="74880"/>
          </a:xfrm>
          <a:prstGeom prst="parallelogram">
            <a:avLst>
              <a:gd name="adj" fmla="val 129219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07:20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