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2E318-0B66-465D-BF22-76A93CDDB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90F-0F88-4145-A36B-FF3CB7C9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D47-C372-4065-9958-0A58C703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1CD-8094-4D10-AAE3-17CAEE79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43E-0010-467C-B442-D7D17F5B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E15-2646-4228-80CD-7ADFFCF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25C-AF19-4455-8D0F-BCBD795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00A-E35A-445E-BE5A-D20B3ED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C0C-28B6-4A7E-8805-69421E0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9F5-80A2-4D27-95CA-D841A1DA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B62-533B-4158-A4E9-37704D9F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2DC-F7DA-49A8-865B-A746DBE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C64-2D48-4715-A4FE-CB56064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4B698-AFE0-477D-8C52-91266C7F7D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yava.zp.ua/upload/30003.jpg" TargetMode="External"/><Relationship Id="rId2" Type="http://schemas.openxmlformats.org/officeDocument/2006/relationships/hyperlink" Target="http://www.obyava.zp.ua/upload/30003.jpg" TargetMode="External"/><Relationship Id="rId3" Type="http://schemas.openxmlformats.org/officeDocument/2006/relationships/hyperlink" Target="http://www.forumimage.ru/uploads/20110204/129683029116003589.jpg" TargetMode="External"/><Relationship Id="rId4" Type="http://schemas.openxmlformats.org/officeDocument/2006/relationships/hyperlink" Target="http://tourist.kharkov.ua/review_longtravel/topic39_1.jpg" TargetMode="External"/><Relationship Id="rId5" Type="http://schemas.openxmlformats.org/officeDocument/2006/relationships/hyperlink" Target="http://s43.radikal.ru/i101/1002/4c/73b40e723606.jpg" TargetMode="External"/><Relationship Id="rId6" Type="http://schemas.openxmlformats.org/officeDocument/2006/relationships/hyperlink" Target="http://s43.radikal.ru/i101/1002/4c/73b40e723606.jpg" TargetMode="External"/><Relationship Id="rId7" Type="http://schemas.openxmlformats.org/officeDocument/2006/relationships/hyperlink" Target="http://www.sk59.ru/news/data/upimages/yar.jpg" TargetMode="External"/><Relationship Id="rId8" Type="http://schemas.openxmlformats.org/officeDocument/2006/relationships/hyperlink" Target="http://www.orfey.net/news/4.jpg" TargetMode="External"/><Relationship Id="rId9" Type="http://schemas.openxmlformats.org/officeDocument/2006/relationships/hyperlink" Target="http://media.filmz.ru/photos/full/f_5654.jpg" TargetMode="External"/><Relationship Id="rId10" Type="http://schemas.openxmlformats.org/officeDocument/2006/relationships/hyperlink" Target="http://stat17.privet.ru/lr/0a085e18cf41b9e6dee91e77e990b758" TargetMode="External"/><Relationship Id="rId11" Type="http://schemas.openxmlformats.org/officeDocument/2006/relationships/hyperlink" Target="http://v-suhovey.narod.ru/62/albums/congratulations/1960-e/slides/68iskr_164.jpg" TargetMode="External"/><Relationship Id="rId12" Type="http://schemas.openxmlformats.org/officeDocument/2006/relationships/hyperlink" Target="http://ostrova.onego.ru/pix/big/mushrooms.jpg" TargetMode="Externa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9995040" cy="77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000" y="1949040"/>
            <a:ext cx="9072360" cy="5613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6800" y="1079640"/>
            <a:ext cx="869940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Щудрова Лариса Герман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МОУ «СОШ №1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п. Кавалер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Приморский кра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ул. Арсеньева, 10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Учитель матема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Старинные денежные единицы Ру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Урок в 5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ЭХ ВЫ, ЛАПТИ, ДА ЛАПТИ МОИ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апаха боярская с сапогами изношен- ными, вместе стоят без четырех грошей 6 рублей с полтиной. Покупай. Могу обмен устроить: за папаху давай 15 лаптей, а за сапоги 3. Сколько стоят одни лап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2160720"/>
            <a:ext cx="52196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615636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апаха с сапогами стоят 6 рублей с полтиной без 4 грошей, т.е. 6р 50 коп – 2 коп = 6р 48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у сумму предлагают обме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15 + 3 = 18 (лапте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дни лапти стоят 648 коп : 18 = 36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36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80000" y="720720"/>
            <a:ext cx="35150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КУПАЕМ КОРМ ДЛЯ ХРЮ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невной рацион для поросенка: карто- фель 10 фунтов, свекла - 2 фунта. Закупай овощей на три дня, если два фунта картофеля стоят гривенник, а фунт свеклы - алты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86072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280" y="1260360"/>
            <a:ext cx="615924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три дня нужно 30 фунтов картофеля и 6 фунтов свёклы. 2 фунта картофеля стоят гривенник (10 коп), за 30 фунтов надо заплатить 150 копе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унт свёклы стоит алтын (3 коп),  за 6 фунтов надо заплатить 1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ся покупка будет стоить 16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 рубль 68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1200" y="539640"/>
            <a:ext cx="33591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ОМУ ГУСЯТ? КОМУ ГУСЯ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клетке 8 гусят. Заплати мне за полстолько 6 полтин и 10 гривенников и забирай гу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50403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гусёнка стоят 6 полтин и 10 грив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300 + 100 = 400 копеек = 4 руб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8 гусят будут стоить 8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8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51339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ОКУПАЙ ГРИБ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нашем краю, словно в раю: рябину, грибы корзиной бери... Кладу на весы 2 фунта еды. Покупай грибы. За фунт плати полт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3280" y="1770120"/>
            <a:ext cx="4427640" cy="498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979640"/>
            <a:ext cx="52196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унт стоит полтину = 50 копе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2 фунта будут стоить  100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 руб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19640" y="1619280"/>
            <a:ext cx="47736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А ВОТ ЧУДО КАПУСТ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пуста не пуста, са ма летит в уста. Ты приготовил деньги на покупку кочана в 3 кг? 1 кг капусты стоит полтину.  На прилавке остался лишь кочан весом 5 кг, да и цена 1 кг вы- ше на алтын с 4 гро- шами. Придется  покупать этот кочан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40360" y="1800360"/>
            <a:ext cx="486072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кг капусты стоит полтина да алтын с 4 грошами = 50 коп + 3 коп + 2 коп = 55 коп, Кочан весом в 5 кг будет стоить 27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 2р 7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1200" y="1800360"/>
            <a:ext cx="498024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ЯРМАРКА, ЯРМАРК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360" y="1440000"/>
            <a:ext cx="5079960" cy="57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дравствуйте, приг- лашаем вас приоб- рести наш товар. Покупайте, не скупи- тесь. Покажите сме- калку, сообразитель- ность, умение считать. Ребята,покупая товар, вы должны перевести старинные деньги в копейки, пользуясь таб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4141800" cy="52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С УДАЧНОЙ ПОКУП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7600" y="1800360"/>
            <a:ext cx="940104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спользованы 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440000"/>
            <a:ext cx="9072720" cy="53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cio.pnzgu.ru/personal/171/4/4/prilogeni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byava.zp.ua/upload/30003.jp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www.obyava.zp.u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forumimage.ru/uploads/20110204/129683029116003589.jpg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www.forumimage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tourist.kharkov.ua/review_longtravel/topic39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s43.radikal.ru/i101/1002/4c/73b40e723606.jp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 Перейти на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s43.radikal.r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7"/>
              </a:rPr>
              <a:t>http://www.sk59.ru/news/data/upimages/yar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8"/>
              </a:rPr>
              <a:t>http://www.orfey.net/news/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9"/>
              </a:rPr>
              <a:t>http://media.filmz.ru/photos/full/f_565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0"/>
              </a:rPr>
              <a:t>http://stat17.privet.ru/lr/0a085e18cf41b9e6dee91e77e990b7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1"/>
              </a:rPr>
              <a:t>http://v-suhovey.narod.ru/62/albums/congratulations/1960-e/slides/68iskr_16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2"/>
              </a:rPr>
              <a:t>http://ostrova.onego.ru/pix/big/mushroom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Gothic"/>
              </a:rPr>
              <a:t>http://4desktop.ru/wallpaper/4desktop_ru_Puteshestvie_na_share_1024_321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ДЕНЕЖНЫЕ ЕД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убль = 2 полти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тина = 5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ятиалтынный = 15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лтын = 3 копей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ивенник = 10 ко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деньги = 1 копей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ош = 0.5 копей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ушка = 0.25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3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РОДАЁТСЯ ЧЕБАК! ПОКУП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чебак на золотой цепочке.     1 фунт чебака стоит 4 гривенника, за цепочку золотую заплатить надо 5 рублей с пятиал- тынным. Сколько стоит весь това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4680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 гривенника = 40 копей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ятиалтынный = 15 копей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начит весь товар стоит 5 рублей 55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5 рублей 55 копе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979640"/>
            <a:ext cx="5040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ПОКУПАЙ, НАЛЕТАЙ! НАЛИ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налим с максой. 1 фунт налима стоит полтину с четырьмя алтынами, а макса - 2 рубля без гривенника. Налим весит 10 фунтов, а макса - 2 фунта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468000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39640"/>
            <a:ext cx="61563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лтина с 4 алтынами: 50 + 12 = 62 (коп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фунтов будут стоить 620 коп = 6р 2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рубля без гривенника = 1р 9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 фунта будут стоить 3р 80 к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ся покупка: 6р 20коп + 3р 80 коп = 10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1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333360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ОДНЫЙ ЖИЛЕТ, ПОЧТИ ДАР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4427640" cy="4991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одается  модный жилет. Модный жилет с поношен- ным пиджаком стоит полтора рубля с пятиалтынным. Пиджак стоит рубль с пятиалтынным. Сколько стоит жил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1979640"/>
            <a:ext cx="5040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иджак с жилетом стоят полтора рубля с пятиалтынным, пиджак  стоит один рубль с пятиалтынным, значит жилет стоит половину руб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: 50 копе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19640" y="1800360"/>
            <a:ext cx="47736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