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BCF-4DA0-496C-BBA7-01CED927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23C-319B-4486-8E78-121303D0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934-8D29-4DE2-A71A-99EF521F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8E1-6A13-4853-94E9-8F4B6D68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E49E-D743-4FBF-9111-8242F4B4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918A-BA88-409B-A5AB-265B855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F212-C192-4704-B5BC-44F98700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75C0-61AB-4B54-A9AB-05075C26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B756-E08B-4FA8-9570-BF7E1E9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4293-98BE-4B8E-BB4C-0F148C99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ED07-6281-4B24-98C1-E6AB42CF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7A7-5DAD-40BC-A764-23943AA3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2AE2-F46B-4646-9B07-DA984137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3D23-4427-4CC6-9895-5D110C8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3831-22F9-4B84-B129-E836334A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9BA9-12FB-4723-BE88-078E5E2E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BAEE-EF53-4B83-B9AC-126C9535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721-C61B-4AAE-A7EC-49D27783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FA8-16F8-47F9-B141-E6D7F86C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BA5-1EC3-46B9-A4B1-71747FF4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2CD-281E-4516-9571-FAB201FD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265-E4A1-4AA8-B49D-209888D6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3FB-4035-4998-9D95-48F9D33E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DD6-039C-4B1B-880A-6E703280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97A2-41A8-4225-ADF3-3470B10568B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186B-4228-49A1-858A-CC102D89F95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981080" y="2057400"/>
            <a:ext cx="4953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жатое изложение 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шестом классе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09680" y="518148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зентация выполнена методистом по русскому языку Рожко О.В. (ГОУ 254)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. Способы сжатия текста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исключение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подробностей, деталей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обобщение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конкретных, единичных явлений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упрощение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сложных синтаксических конструкций</a:t>
            </a:r>
            <a:r>
              <a:rPr b="0" i="1" lang="en-US" sz="3200" spc="-1" strike="noStrike">
                <a:solidFill>
                  <a:srgbClr val="9933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b0dd5"/>
                </a:solidFill>
                <a:latin typeface="Arial"/>
              </a:rPr>
              <a:t>Использованные в изложении                                            способы сжа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2666520"/>
            <a:ext cx="738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1 абзац: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исключение, обобщ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2 абзац: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обобщение, упрощение, исклю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3 абзац: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обобщение, исклю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. Сжатие текс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391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Избы, в которых жили ямщики со своими семьями, чаще всего строились курными, отапливаемыми по-черному печами без труб. Печь занимала пол-избы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Избы ямщиков строились курными и отапливались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печами без труб)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Даже в яркий солнечный день свет с трудом проникал сквозь малюсенькие оконца,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затянутые мутным бычьим пузырем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Даже в солнечный день свет с трудом проникал сквозь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маленькие оконца)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Мебели в избе находилось мало: широкие лавки вдоль стен, да в красном углу под прокопченным ликом иконы большой стол. На полках по стенам стояла немудрящая глиняная и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0b854"/>
                </a:solidFill>
                <a:latin typeface="Arial"/>
              </a:rPr>
              <a:t>деревянная утварь.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Мебели в избе было мало: лавки и большой стол в красном углу под иконой. На полках стояла деревянная утварь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68544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b854"/>
                </a:solidFill>
                <a:latin typeface="Arial"/>
              </a:rPr>
              <a:t>В длинные зимние вечера семья собиралась вокруг стола, мастерили нужные для хозяйства вещи, рукодельничали, пряли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(Зимними вечерами семья собиралась вокруг стола и занималась хозяйственными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делами.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0b854"/>
                </a:solidFill>
                <a:latin typeface="Arial"/>
              </a:rPr>
              <a:t>Потрескивала лучина в железном поставце, мерцающим светом освещая эту картину. Зимой вся семья спала на полатях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0b854"/>
                </a:solidFill>
                <a:latin typeface="Arial"/>
              </a:rPr>
              <a:t>под потолком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(Мерцающий свет лучины освещал эту картину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b854"/>
                </a:solidFill>
                <a:latin typeface="Arial"/>
              </a:rPr>
              <a:t>К избе примыкал обширный двор, где содержались лошади, коровы, овцы, хранилась «гонебная рухлядь»: телеги, сани, хомуты, сбруя. Каждый ямской двор – своеобразная крепость. Мало ли какой люд бродит по проезжей дороге! От них и от диких зверей берегли рачительные хозяева свое добро. В местах, где частые заносы и обильные снегопады,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0b854"/>
                </a:solidFill>
                <a:latin typeface="Arial"/>
              </a:rPr>
              <a:t>над дворами возводилась крыша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(К избе примыкал двор, где содержался скот и хранилась «гонебная рухлядь». Ямской двор был своеобразной крепостью, защищавшей хозяев от непрошеных гостей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50be7"/>
                </a:solidFill>
                <a:latin typeface="Arial"/>
              </a:rPr>
              <a:t>Можно приступать к рабо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386480" cy="4800600"/>
          </a:xfrm>
          <a:prstGeom prst="rect">
            <a:avLst/>
          </a:prstGeom>
          <a:noFill/>
          <a:ln w="9360">
            <a:solidFill>
              <a:srgbClr val="f0b85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Избы ямщиков и их семей, чаще всего строились курными. Печь занимала половину избы. В солнечный день свет плохо проникал сквозь маленькие оконца. Мебели было мало. На полках стояла деревянная утварь. Избы таких людей были очень скромн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В зимние вечера семья собиралась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около 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стола. В железном блюдце поблескивала свеча, освещающая комнату. (Пропущена микротема: зачем семья собиралась вокруг стол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К избе примыкал обширный двор с большим количеством скота.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На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 дворе хранилась гонебная рухлядь. Каждый ямской двор как крепость,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защищенная от воров и диких зверей под охраной самих хозяев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. В местах, где шел сильный снег, ямщики и их семьи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возводили крыши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1523880"/>
            <a:ext cx="7476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                        </a:t>
            </a: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Конец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0b854"/>
                </a:solidFill>
                <a:latin typeface="Arial"/>
              </a:rPr>
              <a:t>Избы, в которых жили ямщики со своими семьями, чаще всего строились курными, отапливаемыми по-черному печами без труб. Печь занимала пол-избы. Даже в яркий солнечный день свет с трудом проникал сквозь малюсенькие оконца, затянутые мутным бычьим пузырем. Мебели в избе находилось мало: широкие лавки вдоль стен, да в красном углу под прокопченным ликом иконы большой стол. На полках по стенам стояла немудрящая глиняная и деревянная утвар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09680" y="152280"/>
            <a:ext cx="2876760" cy="1009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ходный текст</a:t>
            </a:r>
            <a:endParaRPr b="0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854"/>
                </a:solidFill>
                <a:latin typeface="Arial"/>
              </a:rPr>
              <a:t>В длинные зимние вечера семья собиралась вокруг стола, мастерили нужные для хозяйства вещи, рукодельничали, пряли. Потрескивала лучина в железном поставце, мерцающим светом освещая эту картину. Зимой вся семья спала на полатях под потолк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b854"/>
                </a:solidFill>
                <a:latin typeface="Arial"/>
              </a:rPr>
              <a:t>К избе примыкал обширный двор, где содержались лошади, коровы, овцы, хранилась «гонебная рухлядь»: телеги, сани, хомуты, сбруя. Каждый ямской двор – своеобразная крепость. Мало ли какой люд бродит по проезжей дороге! От них и от диких зверей берегли рачительные хозяева свое добро. В местах, где частые заносы и обильные снегопады, над дворами возводилась крыш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Слова для справ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0b85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Красный угол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 – передний, где иконы и сто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Утварь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 – предметы обихода: посуда, орудия домашнего тру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Гон</a:t>
            </a: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бная (рухлядь)</a:t>
            </a:r>
            <a:r>
              <a:rPr b="0" lang="ru-RU" sz="3200" spc="-1" strike="noStrike">
                <a:solidFill>
                  <a:srgbClr val="f0b854"/>
                </a:solidFill>
                <a:latin typeface="Arial"/>
              </a:rPr>
              <a:t> – относящаяся к ямской гоньбе, то есть повинности ямщиков доставлять почту и пассажиров на лошадях (гоньба – от гнать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d5b781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 Тема текс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95480" y="609480"/>
            <a:ext cx="3038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ализ текст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14400" y="2209680"/>
            <a:ext cx="703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зба и усадьба русского ямщи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523880" y="2971800"/>
            <a:ext cx="5715000" cy="3701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. Стиль тек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371600"/>
            <a:ext cx="6038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учно-популя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1905120" cy="136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581280" y="2666880"/>
            <a:ext cx="1301760" cy="184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592600" y="3475080"/>
            <a:ext cx="1827360" cy="1231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3. Микротемы тек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0b854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 микротема: обстановка внутри избы убога, жить в такой избе тяже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2 микротема: зимними вечерами семья занята хозяйственно-практическими дел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3 микротема: двор укреплен и удобен для ведения хозяйст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. Идея всего тек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Изба и двор ямщика строились с ориентацией прежде всего на хозяйственно-практическую деятельность семьи ямщ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3352680" cy="26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очка</cp:lastModifiedBy>
  <dcterms:modified xsi:type="dcterms:W3CDTF">2010-10-18T16:05:4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