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2F4-D660-4819-AF8E-73857EC0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6C8-E69E-43A5-B0A6-0B4E9DA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780-84EE-4F87-9687-016060E8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48B-A960-4369-B0E9-D93AC0D3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3830-7222-433A-948D-024122E8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929-D3AF-46CF-A73C-6FB64DD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A038-8594-4A9F-A244-5D7D7076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7C2C-38C4-48B6-AAFF-79738AF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B265-8C92-426A-8994-F196D66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A183-1CE8-4405-BA1C-C2AA82F2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333E-FA2B-427F-A5F4-F8FBE6B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000-4FE4-44A3-867F-23B14B26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E59-CBC6-42DB-AF36-C075C60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BB51-F2B8-484F-88CC-8501A1F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99C1-E1A9-46BD-A4A9-BC7FA164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5A16-A9DF-4D89-BA48-DAE4B4AC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B029-91EE-4417-8B32-18A3A438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26D-C23A-4CD4-ADC4-D4E4F15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E00-5428-46E1-805B-AB988B72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B00-6FA7-452B-A81E-F22CCFF0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9ED-E57A-4FA5-B76E-CA587C48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3A6-F7B0-4254-ABA5-23F8B06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595-BA87-4C1A-A29A-FF79606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5B9-D968-41F2-94B4-1647CF88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CD1A-2308-483C-8534-7F8186DD2A4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8D7-B9A3-4D2B-ACA6-EFAC9D40EEB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81080" y="2057400"/>
            <a:ext cx="4953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жатое изложение 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шестом классе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09680" y="518148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зентация выполнена методистом по русскому языку Рожко О.В. (ГОУ 254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. Способы сжатия текста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исключение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подробностей, деталей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обобщение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конкретных, единичных явлений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упрощение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сложных синтаксических конструкций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b0dd5"/>
                </a:solidFill>
                <a:latin typeface="Arial"/>
              </a:rPr>
              <a:t>Использованные в изложении                                            способы сжа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2666520"/>
            <a:ext cx="738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 абзац: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исключение, обобщ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2 абзац: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обобщение, упрощение, ис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3 абзац: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обобщение, ис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. Сжатие текс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Избы, в которых жили ямщики со своими семьями, чаще всего строились курными, отапливаемыми по-черному печами без труб. Печь занимала пол-избы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Избы ямщиков строились курными и отапливались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печами без труб)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Даже в яркий солнечный день свет с трудом проникал сквозь малюсенькие оконца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затянутые мутным бычьим пузырем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Даже в солнечный день свет с трудом проникал сквозь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маленькие оконца)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Мебели в избе находилось мало: широкие лавки вдоль стен, да в красном углу под прокопченным ликом иконы большой стол. На полках по стенам стояла немудрящая глиняная 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деревянная утварь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Мебели в избе было мало: лавки и большой стол в красном углу под иконой. На полках стояла деревянная утварь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68544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В длинные зимние вечера семья собиралась вокруг стола, мастерили нужные для хозяйства вещи, рукодельничали, пряли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Зимними вечерами семья собиралась вокруг стола и занималась хозяйственным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елами.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Потрескивала лучина в железном поставце, мерцающим светом освещая эту картину. Зимой вся семья спала на полатя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под потолком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Мерцающий свет лучины освещал эту картину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b854"/>
                </a:solidFill>
                <a:latin typeface="Arial"/>
              </a:rPr>
              <a:t>К избе примыкал обширный двор, где содержались лошади, коровы, овцы, хранилась «гонебная рухлядь»: телеги, сани, хомуты, сбруя. Каждый ямской двор – своеобразная крепость. Мало ли какой люд бродит по проезжей дороге! От них и от диких зверей берегли рачительные хозяева свое добро. В местах, где частые заносы и обильные снегопады,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0b854"/>
                </a:solidFill>
                <a:latin typeface="Arial"/>
              </a:rPr>
              <a:t>над дворами возводилась крыша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(К избе примыкал двор, где содержался скот и хранилась «гонебная рухлядь». Ямской двор был своеобразной крепостью, защищавшей хозяев от непрошеных гостей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0be7"/>
                </a:solidFill>
                <a:latin typeface="Arial"/>
              </a:rPr>
              <a:t>Можно приступать к рабо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386480" cy="480060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Избы ямщиков и их семей, чаще всего строились курными. Печь занимала половину избы. В солнечный день свет плохо проникал сквозь маленькие оконца. Мебели было мало. На полках стояла деревянная утварь. Избы таких людей были очень скромн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В зимние вечера семья собиралась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около 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стола. В железном блюдце поблескивала свеча, освещающая комнату. (Пропущена микротема: зачем семья собиралась вокруг стол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К избе примыкал обширный двор с большим количеством скота.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На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дворе хранилась гонебная рухлядь. Каждый ямской двор как крепость,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защищенная от воров и диких зверей под охраной самих хозяев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. В местах, где шел сильный снег, ямщики и их семьи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возводили крыши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1523880"/>
            <a:ext cx="7476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                        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Конец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Избы, в которых жили ямщики со своими семьями, чаще всего строились курными, отапливаемыми по-черному печами без труб. Печь занимала пол-избы. Даже в яркий солнечный день свет с трудом проникал сквозь малюсенькие оконца, затянутые мутным бычьим пузырем. Мебели в избе находилось мало: широкие лавки вдоль стен, да в красном углу под прокопченным ликом иконы большой стол. На полках по стенам стояла немудрящая глиняная и деревянная утвар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09680" y="152280"/>
            <a:ext cx="2876760" cy="100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ходный текст</a:t>
            </a:r>
            <a:endParaRPr b="0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В длинные зимние вечера семья собиралась вокруг стола, мастерили нужные для хозяйства вещи, рукодельничали, пряли. Потрескивала лучина в железном поставце, мерцающим светом освещая эту картину. Зимой вся семья спала на полатях под потолк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b854"/>
                </a:solidFill>
                <a:latin typeface="Arial"/>
              </a:rPr>
              <a:t>К избе примыкал обширный двор, где содержались лошади, коровы, овцы, хранилась «гонебная рухлядь»: телеги, сани, хомуты, сбруя. Каждый ямской двор – своеобразная крепость. Мало ли какой люд бродит по проезжей дороге! От них и от диких зверей берегли рачительные хозяева свое добро. В местах, где частые заносы и обильные снегопады, над дворами возводилась крыш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Слова для справ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Красный угол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– передний, где иконы и сто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Утварь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– предметы обихода: посуда, орудия домашнего тру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Гон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бная (рухлядь)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– относящаяся к ямской гоньбе, то есть повинности ямщиков доставлять почту и пассажиров на лошадях (гоньба – от гнать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d5b781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Тема текс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95480" y="609480"/>
            <a:ext cx="303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ализ текст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14400" y="2209680"/>
            <a:ext cx="703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зба и усадьба русского ямщ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523880" y="2971800"/>
            <a:ext cx="5715000" cy="3701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 Стиль т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371600"/>
            <a:ext cx="6038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учно-популя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1905120" cy="136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581280" y="2666880"/>
            <a:ext cx="1301760" cy="184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592600" y="3475080"/>
            <a:ext cx="1827360" cy="123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3. Микротемы т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 микротема: обстановка внутри избы убога, жить в такой избе тяже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 микротема: зимними вечерами семья занята хозяйственно-практическими дел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3 микротема: двор укреплен и удобен для ведения хозяй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. Идея всего т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Изба и двор ямщика строились с ориентацией прежде всего на хозяйственно-практическую деятельность семьи ямщ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очка</cp:lastModifiedBy>
  <dcterms:modified xsi:type="dcterms:W3CDTF">2010-10-18T16:05:4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