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819B-6344-4D3D-A0C2-9120826B17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158F-457E-435A-A0D0-8530A8AE4D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95F-B872-4B03-8060-04938097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F96-A164-45A9-9A4F-6E925970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C2F-4766-4D62-A5AA-876A687A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71E-74F6-4B4A-93A5-DCE763C6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1073F-56E7-44BA-8BE2-4AF88F56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F5493-0748-4861-8D79-52D67300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F1494-51B1-4906-BB6B-215DC8B2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F6C42-B913-4706-881E-BDAF3F53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BFC61-294B-434D-9B90-7C5D7AD6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9AEED-EC4B-415D-A1EC-B7280E7E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AE8F9-6E33-4B66-8414-D52E79B1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7CE-AF4E-4A37-9F0A-335D8690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AA169-49F0-4256-B759-50929C02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A04BD-2DFD-4888-BC11-A84ECF29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F6B15-8729-4152-8B72-36782BD0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53634-7409-4AC0-A9C1-DA3D0774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EB019-1574-4597-B9D2-4E1A2362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4328F-ADBE-44BF-9FD7-F22F6A27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E12E6-7206-4507-B137-329F5E81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8EEE-0FF9-4289-9F54-31E6D963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FC4E9-4A7E-423F-86A2-52B7D1B5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504E6-CF84-40BA-A81B-AF1BE2A3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E71-3EB3-4C93-9BB2-43918F9C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1A981-AE5A-43A3-9A15-C9F197A2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89EF-AACF-42D9-BE4F-B161B65C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CEC6D-5F10-4D6B-A6B3-F144D9C0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EE028-1ED7-4E12-B26E-BBF85F7A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3450-6FAC-4324-ADC4-74CAE6FE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63E33-38E6-4889-AA33-D96A0F6B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34425-0B44-4CE8-9611-38810914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6666F-D05A-4DB9-B737-7F35F429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395ADE-DC2D-4337-82B2-62AC59FB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3E14B5-6696-45AD-AD72-53B816EC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A8D8-23EE-4255-A462-79820C94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48CC58-E3C2-4296-B8AE-63B20382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6A993D-7A8C-4C9B-A0DB-59CDE9CE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69C85A-52E8-4346-909B-A0B428B1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407763-DD25-4435-80E2-FEC96209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B1833-71E8-426E-B975-2DB353BC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4CF6B2-BD38-4FAB-BFF9-8451DB79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EA73A0-52E1-4CD0-AF1D-BA945691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1391DD-E59B-4AF8-A47D-10D0A91F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4AB63-707C-46BE-8162-4EDD8D43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86CBC-9865-4F76-A78B-1898F403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972-07C0-41FB-9C88-88F07DAF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8E42E-3606-4184-BAC6-A3E424A7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80A2E-E4C0-472D-9F8D-ECAC550B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FA0454-B7A8-4CFB-B995-85068F42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F1363-143C-4271-8D93-081B1CFC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7133E6-C2A4-4E59-BB5A-A06F8A21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05819-3120-48EA-9EDA-69AB5B32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ED87F-94F1-46B6-8F21-14E0178D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1691E6-392C-4DCE-B519-1DFD36C2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DE798-757A-47BD-AF64-04CD055D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2B6D07-E68F-4C1D-800E-4E02DBC9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DCB-1B22-4C4F-A1ED-C7280ECC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FE893-A8FD-42AE-9458-AAFF6200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ACF59-E3B3-4D48-B40A-1E64A238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B2A052-E558-4632-A156-1F1C98D3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28869-258E-48CA-9D02-4B44F10C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053F12-D350-4E09-B66E-5638EED3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16A6D4-5647-4E03-A31C-4442F053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0DF62E-26EF-4AEC-B66D-F2E85550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23358-DFCD-4A6D-8A63-7D7EFE08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240589-6792-43DE-AC89-79D78A55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32CE24-9E90-4908-AAEE-2BEBCE93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ECD-A2D9-4DEF-A552-46DA80DB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3D0CD-E31E-4567-8072-C3BD8A43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153283-0A38-4175-B738-02C8A3E0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B3E1E-86E9-4F88-8EBF-0310CCAE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15F-E6F9-4B29-9FF9-61AACBCB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13F-C1D4-47C6-8F53-D368F306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91AE-F571-43C0-9338-94264048BFD1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B43D-745A-45A0-A596-E5D6F6A03424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3924-BD20-4B28-BF33-CB8CFFA90FAA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683C-D38C-4266-8B14-F15B58ABB07D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15D4-C991-464A-9858-396B0EFB8029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7D6E-68F5-4A49-AA29-81AF350657CD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text%20for%20reading%20-job.docx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4714920"/>
            <a:ext cx="83059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4d26"/>
                </a:solidFill>
                <a:latin typeface="Constantia"/>
              </a:rPr>
              <a:t>11 класс, УМК О.Л.Гроза «Новый миллениум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4d26"/>
                </a:solidFill>
                <a:latin typeface="Constantia"/>
              </a:rPr>
              <a:t>Дождикова А.И., учитель английского язык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4d26"/>
                </a:solidFill>
                <a:latin typeface="Constantia"/>
              </a:rPr>
              <a:t>МОУ ОСОШ №2, пос.Орловск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4d26"/>
                </a:solidFill>
                <a:latin typeface="Constantia"/>
              </a:rPr>
              <a:t>Урок №1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Прямоугольник 3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84675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Текст 1" descr=""/>
          <p:cNvPicPr/>
          <p:nvPr/>
        </p:nvPicPr>
        <p:blipFill>
          <a:blip r:embed="rId1"/>
          <a:stretch/>
        </p:blipFill>
        <p:spPr>
          <a:xfrm>
            <a:off x="1103400" y="993600"/>
            <a:ext cx="1871640" cy="586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64268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Bak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Barber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Barm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Butc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Chambermai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Chef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Fishmong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hair dresser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Judge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lawy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Vet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wai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9760" y="185724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Bake bread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Shave men’s beards and cut men’s hair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Serve drink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Prepare and sell meat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Clean and tidy room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Prepare and sell food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Prepare and sell fish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Cut and style hair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Judge and sentence people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Defend and prosecute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Look after animal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Serve people food and drin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Заголовок 4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567000"/>
          </a:xfrm>
          <a:prstGeom prst="rect">
            <a:avLst/>
          </a:prstGeom>
          <a:ln w="0">
            <a:noFill/>
          </a:ln>
        </p:spPr>
      </p:pic>
      <p:grpSp>
        <p:nvGrpSpPr>
          <p:cNvPr id="292" name="Текст 5"/>
          <p:cNvGrpSpPr/>
          <p:nvPr/>
        </p:nvGrpSpPr>
        <p:grpSpPr>
          <a:xfrm>
            <a:off x="4645080" y="920880"/>
            <a:ext cx="3078000" cy="511200"/>
            <a:chOff x="4645080" y="920880"/>
            <a:chExt cx="3078000" cy="511200"/>
          </a:xfrm>
        </p:grpSpPr>
        <p:pic>
          <p:nvPicPr>
            <p:cNvPr id="293" name="Текст 5" descr=""/>
            <p:cNvPicPr/>
            <p:nvPr/>
          </p:nvPicPr>
          <p:blipFill>
            <a:blip r:embed="rId3"/>
            <a:stretch/>
          </p:blipFill>
          <p:spPr>
            <a:xfrm>
              <a:off x="4645080" y="920880"/>
              <a:ext cx="30780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648320" y="928800"/>
              <a:ext cx="3066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00000"/>
                  </a:solidFill>
                  <a:latin typeface="Constantia"/>
                </a:rPr>
                <a:t>What do they do</a:t>
              </a:r>
              <a:endParaRPr b="0" lang="en-US" sz="2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3500280"/>
            <a:ext cx="82296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What the main job description 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What kinds of training are need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Where they may wor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f they need special tools, equip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f the job is more suitable for a man or a wom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"/>
          <p:cNvSpPr/>
          <p:nvPr/>
        </p:nvSpPr>
        <p:spPr>
          <a:xfrm>
            <a:off x="1143000" y="1785960"/>
            <a:ext cx="714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ccountant, acrobat, agronomist, driver, art director,  assayer, auto-decision detailer, appliance repairer,  attendant, avionics technician, librarian, animal train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394840" cy="1152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Discuss the type of jobs you find in a supermark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From the headline alone can you predict what the article will be abou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text for reading -job.doc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Use the expressions from the text in your own senten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Fit as a fidd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Gammy kne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Sheltered accommod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Driving around all the pa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1714680"/>
            <a:ext cx="8229600" cy="43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Use the expressions from the text in your own senten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Fit as a fidd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Gammy kne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Sheltered accommod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Driving around all the pa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Find in the text verbs in 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Present Simple, Present Perfect, Past Continuous, Past Simple </a:t>
            </a: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and, working in pairs, work out how they are used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Прямоугольник 3" descr=""/>
          <p:cNvPicPr/>
          <p:nvPr/>
        </p:nvPicPr>
        <p:blipFill>
          <a:blip r:embed="rId1"/>
          <a:stretch/>
        </p:blipFill>
        <p:spPr>
          <a:xfrm>
            <a:off x="1133640" y="176040"/>
            <a:ext cx="72054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n groups discuss the problem of employing older people. What jobs can they do after retiring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6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01600"/>
            <a:ext cx="91569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. To write a letter to the editor/supermarket manager about Ji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Ex 2 p 4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28760" y="150012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Дидактическая цель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Формирование  гражданской позиции и социальной зрел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Какие компетентности формирует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Социально-бытовая сфера</a:t>
            </a: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Методические це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Обучение обработке и обобщению информаци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Совершенствование умений читать с детальным пониманием</a:t>
            </a: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solidFill>
            <a:srgbClr val="f1d77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 love my job. I love the pay!</a:t>
            </a:r>
            <a:br>
              <a:rPr sz="2600"/>
            </a:b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 love it more and more each day</a:t>
            </a:r>
            <a:br>
              <a:rPr sz="2600"/>
            </a:b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 love my boss, he is the best!</a:t>
            </a:r>
            <a:br>
              <a:rPr sz="2600"/>
            </a:b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 love his boss and all the re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 love my office and its location. </a:t>
            </a:r>
            <a:br>
              <a:rPr sz="2600"/>
            </a:b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 hate to have to go on vacation. </a:t>
            </a:r>
            <a:br>
              <a:rPr sz="2600"/>
            </a:b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 love my furniture, drab and grey,</a:t>
            </a:r>
            <a:br>
              <a:rPr sz="2600"/>
            </a:b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And piles of paper that grow each day!</a:t>
            </a:r>
            <a:br>
              <a:rPr sz="2600"/>
            </a:b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 think my job is really swell, </a:t>
            </a:r>
            <a:br>
              <a:rPr sz="2600"/>
            </a:b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There's nothing else I love so w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347760" y="-96840"/>
            <a:ext cx="844848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Is there a tradition in your family of doing certain kinds of work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What kind of work ethic do the members of your family hav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What attitudes toward work have been passed from generation to genera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D:\Мама\www.dogdikova.ru.files\image974.gif"/>
          <p:cNvPicPr/>
          <p:nvPr/>
        </p:nvPicPr>
        <p:blipFill>
          <a:blip r:embed="rId2"/>
          <a:stretch/>
        </p:blipFill>
        <p:spPr>
          <a:xfrm>
            <a:off x="3000240" y="442908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D:\Мама\www.dogdikova.ru.files\image974.gif"/>
          <p:cNvPicPr/>
          <p:nvPr/>
        </p:nvPicPr>
        <p:blipFill>
          <a:blip r:embed="rId2"/>
          <a:stretch/>
        </p:blipFill>
        <p:spPr>
          <a:xfrm>
            <a:off x="2857680" y="2214720"/>
            <a:ext cx="3000240" cy="40719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3429000" y="621504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I’d like to become 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5786280" y="37861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My mu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2643120" y="378612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My d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2786040" y="450072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My brothers and sist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5715000" y="278604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My grandpare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1357200" y="300024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My grandpare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11"/>
          <p:cNvSpPr/>
          <p:nvPr/>
        </p:nvSpPr>
        <p:spPr>
          <a:xfrm>
            <a:off x="5572080" y="207180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My aunts and unc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12"/>
          <p:cNvSpPr/>
          <p:nvPr/>
        </p:nvSpPr>
        <p:spPr>
          <a:xfrm>
            <a:off x="1143000" y="228600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My aunts and unc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How many persons have worked in similar occupa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Do you notice any family trend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Which relatives were particularly helpful/inspiring to other family members in career matter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Do you think the youngest generation  will continue family traditions or create new pattern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Did location, educational opportunities or  special talents influence any choic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3026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Прямоугольник 3" descr=""/>
          <p:cNvPicPr/>
          <p:nvPr/>
        </p:nvPicPr>
        <p:blipFill>
          <a:blip r:embed="rId1"/>
          <a:stretch/>
        </p:blipFill>
        <p:spPr>
          <a:xfrm>
            <a:off x="1695600" y="36360"/>
            <a:ext cx="6119640" cy="1109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-ar- </a:t>
            </a: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begga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-er – </a:t>
            </a: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painte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-or – </a:t>
            </a: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tailo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-ess – </a:t>
            </a: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poetes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-ist – </a:t>
            </a: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industriali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-cian –</a:t>
            </a: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electricia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-eer - </a:t>
            </a: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enginee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onstantia"/>
              </a:rPr>
              <a:t>-</a:t>
            </a: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man - </a:t>
            </a:r>
            <a:r>
              <a:rPr b="1" lang="en-US" sz="4000" spc="-1" strike="noStrike">
                <a:solidFill>
                  <a:srgbClr val="002060"/>
                </a:solidFill>
                <a:latin typeface="Constantia"/>
              </a:rPr>
              <a:t>mailma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-woman - </a:t>
            </a:r>
            <a:r>
              <a:rPr b="1" lang="en-US" sz="4000" spc="-1" strike="noStrike">
                <a:solidFill>
                  <a:srgbClr val="002060"/>
                </a:solidFill>
                <a:latin typeface="Constantia"/>
              </a:rPr>
              <a:t>policewoma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-maker - </a:t>
            </a:r>
            <a:r>
              <a:rPr b="1" lang="en-US" sz="4000" spc="-1" strike="noStrike">
                <a:solidFill>
                  <a:srgbClr val="002060"/>
                </a:solidFill>
                <a:latin typeface="Constantia"/>
              </a:rPr>
              <a:t>dressmak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-smith - </a:t>
            </a:r>
            <a:r>
              <a:rPr b="1" lang="en-US" sz="4000" spc="-1" strike="noStrike">
                <a:solidFill>
                  <a:srgbClr val="002060"/>
                </a:solidFill>
                <a:latin typeface="Constantia"/>
              </a:rPr>
              <a:t>blacksmith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T: </a:t>
            </a:r>
            <a:r>
              <a:rPr b="1" lang="en-US" sz="3600" spc="-1" strike="noStrike" u="sng">
                <a:solidFill>
                  <a:srgbClr val="7030a0"/>
                </a:solidFill>
                <a:uFillTx/>
                <a:latin typeface="Constantia"/>
              </a:rPr>
              <a:t>Give some more exampl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3" name="Прямоугольник 3" descr=""/>
          <p:cNvPicPr/>
          <p:nvPr/>
        </p:nvPicPr>
        <p:blipFill>
          <a:blip r:embed="rId1"/>
          <a:stretch/>
        </p:blipFill>
        <p:spPr>
          <a:xfrm>
            <a:off x="1682640" y="231840"/>
            <a:ext cx="6162840" cy="1152360"/>
          </a:xfrm>
          <a:prstGeom prst="rect">
            <a:avLst/>
          </a:prstGeom>
          <a:ln w="0">
            <a:noFill/>
          </a:ln>
        </p:spPr>
      </p:pic>
      <p:sp>
        <p:nvSpPr>
          <p:cNvPr id="284" name="Левая фигурная скобка 4"/>
          <p:cNvSpPr/>
          <p:nvPr/>
        </p:nvSpPr>
        <p:spPr>
          <a:xfrm>
            <a:off x="428760" y="4286160"/>
            <a:ext cx="285480" cy="78588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785880"/>
              <a:gd name="textAreaBottom" fmla="*/ 77868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Правая фигурная скобка 5"/>
          <p:cNvSpPr/>
          <p:nvPr/>
        </p:nvSpPr>
        <p:spPr>
          <a:xfrm>
            <a:off x="6929280" y="4286160"/>
            <a:ext cx="357480" cy="78588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785880"/>
              <a:gd name="textAreaBottom" fmla="*/ 7768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9"/>
                  <a:pt x="10800" y="818"/>
                </a:cubicBezTo>
                <a:lnTo>
                  <a:pt x="10800" y="10401"/>
                </a:lnTo>
                <a:cubicBezTo>
                  <a:pt x="10800" y="10810"/>
                  <a:pt x="16200" y="11219"/>
                  <a:pt x="21600" y="11219"/>
                </a:cubicBezTo>
                <a:cubicBezTo>
                  <a:pt x="16200" y="11219"/>
                  <a:pt x="10800" y="11628"/>
                  <a:pt x="10800" y="12037"/>
                </a:cubicBezTo>
                <a:lnTo>
                  <a:pt x="10800" y="20782"/>
                </a:lnTo>
                <a:cubicBezTo>
                  <a:pt x="10800" y="21191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18572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Flexibi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Leadershi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Teamwork ski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Physical streng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Ded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Creativ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ndividua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A sharp mi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Artistic abi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1:01:33Z</dcterms:created>
  <dc:creator>Admin</dc:creator>
  <dc:description/>
  <dc:language>en-US</dc:language>
  <cp:lastModifiedBy>Алла</cp:lastModifiedBy>
  <dcterms:modified xsi:type="dcterms:W3CDTF">2011-11-27T17:37:08Z</dcterms:modified>
  <cp:revision>72</cp:revision>
  <dc:subject/>
  <dc:title>Слайд 1</dc:title>
</cp:coreProperties>
</file>