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8F45-C724-43C0-B2A3-E5441CCE44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D7EA-71EE-4236-8FFD-E7A6FF6442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04F-A130-4935-BCC2-D504E387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C9B3-8171-487A-B886-1BDFDC7C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929-1689-471F-A331-604028B0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27B4-CF3D-44EE-90B2-807829C6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94D87-8058-44CB-AD1B-AA1FF048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CC525-74D6-4139-9D49-447266E8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BEBB2-62A1-478D-97FC-8FB71959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CE7A4-2453-49A6-B8C0-38409C81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B59C7-30FA-4EF1-8EB7-33FA745E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5C90E-85D2-4F01-AB64-0CAF7235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6970B-A91F-493F-8E5F-58DBB1E6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119-ACBB-4D7F-A685-A8ED3C40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A850A-2DD3-441C-9634-0D762E25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AD054-9232-453D-944B-4BC3AC76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68579-FDB3-443E-A5E0-BC2B52F2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B8803-79DC-478D-9B3D-04C0B275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995A4-E3FD-4638-85A2-30ADF786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086CB-EFF3-48E4-B7DF-B89E99FE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A78B2-68E4-4939-A807-A3D8978D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94C55-7BF8-4161-BADE-187D2A11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C2077-C859-44D5-BC32-03755204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1081D-E6A5-4349-AFD0-765494A7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940A-C18E-40C3-B524-1907419B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FBF95-2937-418D-B4EC-873FBEBE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A0365-A5F9-481B-8FC5-CFD42B9B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5AFBC-249B-4A0D-9E93-17B48AC4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78217-A809-4915-9B4E-8086DDDE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63C0D-E58A-476B-8818-36A4F6D2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A637B-E664-489B-9945-F607E09D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5F72A-9D64-40C9-B580-578D04A3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248FE0-FA94-44D1-8AEC-1F3A9A60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CFA328-8AE1-441C-9B60-B47EA6F0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A4ED65-856F-47F4-90AF-9C0CADA7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5464-CA72-4429-9E33-0EBD8C3A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FBA61F-FEBD-43A2-AB98-4FCD0A0A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BB769F-76C8-465E-85D4-3D1B3056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EABCEF-8530-46D5-A696-B6E43825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7F43FC-31F5-4735-84A5-838AD7D2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C9349E-8163-4139-952A-78047A0E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B3B99E-4C28-457F-A69E-BD955569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EF8F35-B805-4307-BEC2-9BB292A0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D3BF91-4CA8-42C3-A4D2-7724BAAF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E14081-7AE7-460A-B649-C4FCBBEE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CC7224-8084-4B01-80E2-780DCFFE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0B69-DB24-4A9D-8661-AD18D733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DA2AAA-6D9E-48BB-9D43-D6061077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CBA8A5-EBB9-4CF5-BAF9-5E1A4CF4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365E4A-410A-4FD5-A950-3CA6C2A0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882197-2E5B-4133-B0CF-A5674447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53764-2684-4137-9DB3-93692048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0D66EB-E055-4D34-A4FF-01CAF144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4BD6E1-1703-4702-AEEF-31A91D20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B5E4C7-FD65-4DE7-9823-064774DE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F50FD8-0B5F-4F05-B22E-5F155874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255501-15E1-4A14-9D7A-D3FAEEC0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5D35-D57B-4F03-8F47-EFA559F3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D663FE-1B20-4927-8789-CCDA92AB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015358-5B56-4F95-816E-19836FDE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C8B281-5702-473E-B7AD-299A2B5E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0D704D-02C1-43E6-9CA7-6518056F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4BB25A-5B6B-4BE9-A5FC-7A9E2ACD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721B3B-4150-4022-9EE6-6B7655A6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F731ED-9AAF-4D94-831C-3704A356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85B538-A32A-421C-B285-986B5ECD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740238-9703-462B-8440-E1FE9991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69B820-9861-4CFC-B292-8F4D0217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4A0-C669-42F7-A105-0363EFB1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06714A-87A7-4856-9328-91784966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3A8825-3131-4C51-AAF3-EC67406A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4E13B3-5FCF-4FA1-8A8D-F379A4D5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5A8-2100-476C-AAAC-6348528A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E809-71F4-4CCC-BC80-862E5E78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C4AA-7D32-42AD-BFE3-6C6EE1DACDEA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621A-4372-48CF-9F53-7BC210B231BA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F169-6E4F-4D2B-BC53-C7CD4593B5E5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0D7D-22BA-4F40-911F-C1397E2E8D1E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E784-4CF3-4FB8-94FF-5DBB003CB399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10F3-4AB4-4D96-BF05-8C543F1AD040}" type="slidenum">
              <a:rPr b="0" lang="ru-RU" sz="16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text%20for%20reading%20-job.docx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4714920"/>
            <a:ext cx="83059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4d26"/>
                </a:solidFill>
                <a:latin typeface="Constantia"/>
              </a:rPr>
              <a:t>11 класс, УМК О.Л.Гроза «Новый миллениум»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4d26"/>
                </a:solidFill>
                <a:latin typeface="Constantia"/>
              </a:rPr>
              <a:t>Дождикова А.И., учитель английского язык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4d26"/>
                </a:solidFill>
                <a:latin typeface="Constantia"/>
              </a:rPr>
              <a:t>МОУ ОСОШ №2, пос.Орловски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4d26"/>
                </a:solidFill>
                <a:latin typeface="Constantia"/>
              </a:rPr>
              <a:t>Урок №1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Прямоугольник 3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846756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Текст 1" descr=""/>
          <p:cNvPicPr/>
          <p:nvPr/>
        </p:nvPicPr>
        <p:blipFill>
          <a:blip r:embed="rId1"/>
          <a:stretch/>
        </p:blipFill>
        <p:spPr>
          <a:xfrm>
            <a:off x="1103400" y="993600"/>
            <a:ext cx="1871640" cy="586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57200" y="164268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Bak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Barbers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Barm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Butch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Chambermai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Chef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Fishmong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hair dressers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Judges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lawy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Vets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wai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9760" y="185724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Bake bread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Shave men’s beards and cut men’s hair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Serve drink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Prepare and sell meat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Clean and tidy room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Prepare and sell food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Prepare and sell fish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Cut and style hair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Judge and sentence people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Defend and prosecute 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Look after animal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Serve people food and drin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Заголовок 4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567000"/>
          </a:xfrm>
          <a:prstGeom prst="rect">
            <a:avLst/>
          </a:prstGeom>
          <a:ln w="0">
            <a:noFill/>
          </a:ln>
        </p:spPr>
      </p:pic>
      <p:grpSp>
        <p:nvGrpSpPr>
          <p:cNvPr id="292" name="Текст 5"/>
          <p:cNvGrpSpPr/>
          <p:nvPr/>
        </p:nvGrpSpPr>
        <p:grpSpPr>
          <a:xfrm>
            <a:off x="4645080" y="920880"/>
            <a:ext cx="3078000" cy="511200"/>
            <a:chOff x="4645080" y="920880"/>
            <a:chExt cx="3078000" cy="511200"/>
          </a:xfrm>
        </p:grpSpPr>
        <p:pic>
          <p:nvPicPr>
            <p:cNvPr id="293" name="Текст 5" descr=""/>
            <p:cNvPicPr/>
            <p:nvPr/>
          </p:nvPicPr>
          <p:blipFill>
            <a:blip r:embed="rId3"/>
            <a:stretch/>
          </p:blipFill>
          <p:spPr>
            <a:xfrm>
              <a:off x="4645080" y="920880"/>
              <a:ext cx="30780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648320" y="928800"/>
              <a:ext cx="3066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00000"/>
                  </a:solidFill>
                  <a:latin typeface="Constantia"/>
                </a:rPr>
                <a:t>What do they do</a:t>
              </a:r>
              <a:endParaRPr b="0" lang="en-US" sz="2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3500280"/>
            <a:ext cx="822960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What the main job description 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What kinds of training are need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Where they may wor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f they need special tools, equip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f the job is more suitable for a man or a wom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Заголовок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"/>
          <p:cNvSpPr/>
          <p:nvPr/>
        </p:nvSpPr>
        <p:spPr>
          <a:xfrm>
            <a:off x="1143000" y="1785960"/>
            <a:ext cx="714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ccountant, acrobat, agronomist, driver, art director,  assayer, auto-decision detailer, appliance repairer,  attendant, avionics technician, librarian, animal train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394840" cy="11527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Discuss the type of jobs you find in a supermark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From the headline alone can you predict what the article will be abou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text for reading -job.doc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Use the expressions from the text in your own sentenc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Fit as a fidd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Gammy kne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Sheltered accommod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Driving around all the pas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57200" y="1714680"/>
            <a:ext cx="8229600" cy="43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Use the expressions from the text in your own sentenc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Fit as a fidd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Gammy kne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Sheltered accommod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Driving around all the pas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Find in the text verbs in </a:t>
            </a: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Present Simple, Present Perfect, Past Continuous, Past Simple </a:t>
            </a: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and, working in pairs, work out how they are used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Прямоугольник 3" descr=""/>
          <p:cNvPicPr/>
          <p:nvPr/>
        </p:nvPicPr>
        <p:blipFill>
          <a:blip r:embed="rId1"/>
          <a:stretch/>
        </p:blipFill>
        <p:spPr>
          <a:xfrm>
            <a:off x="1133640" y="176040"/>
            <a:ext cx="720540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7200" y="24289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n groups discuss the problem of employing older people. What jobs can they do after retiring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6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201600"/>
            <a:ext cx="91569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. To write a letter to the editor/supermarket manager about Ji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Ex 2 p 4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8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28760" y="150012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Дидактическая цель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Формирование  гражданской позиции и социальной зрел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Какие компетентности формирует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Социально-бытовая сфера</a:t>
            </a: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Методические цел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Обучение обработке и обобщению информации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- Совершенствование умений читать с детальным пониманием</a:t>
            </a: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solidFill>
            <a:srgbClr val="f1d77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 love my job. I love the pay!</a:t>
            </a:r>
            <a:br>
              <a:rPr sz="2600"/>
            </a:b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 love it more and more each day</a:t>
            </a:r>
            <a:br>
              <a:rPr sz="2600"/>
            </a:b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 love my boss, he is the best!</a:t>
            </a:r>
            <a:br>
              <a:rPr sz="2600"/>
            </a:b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 love his boss and all the re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 love my office and its location. </a:t>
            </a:r>
            <a:br>
              <a:rPr sz="2600"/>
            </a:b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 hate to have to go on vacation. </a:t>
            </a:r>
            <a:br>
              <a:rPr sz="2600"/>
            </a:b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 love my furniture, drab and grey,</a:t>
            </a:r>
            <a:br>
              <a:rPr sz="2600"/>
            </a:b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And piles of paper that grow each day!</a:t>
            </a:r>
            <a:br>
              <a:rPr sz="2600"/>
            </a:b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 think my job is really swell, </a:t>
            </a:r>
            <a:br>
              <a:rPr sz="2600"/>
            </a:b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There's nothing else I love so w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347760" y="-96840"/>
            <a:ext cx="844848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Constantia"/>
              </a:rPr>
              <a:t>Is there a tradition in your family of doing certain kinds of work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Constantia"/>
              </a:rPr>
              <a:t>What kind of work ethic do the members of your family hav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Constantia"/>
              </a:rPr>
              <a:t>What attitudes toward work have been passed from generation to generati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D:\Мама\www.dogdikova.ru.files\image974.gif"/>
          <p:cNvPicPr/>
          <p:nvPr/>
        </p:nvPicPr>
        <p:blipFill>
          <a:blip r:embed="rId2"/>
          <a:stretch/>
        </p:blipFill>
        <p:spPr>
          <a:xfrm>
            <a:off x="3000240" y="4429080"/>
            <a:ext cx="24289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D:\Мама\www.dogdikova.ru.files\image974.gif"/>
          <p:cNvPicPr/>
          <p:nvPr/>
        </p:nvPicPr>
        <p:blipFill>
          <a:blip r:embed="rId2"/>
          <a:stretch/>
        </p:blipFill>
        <p:spPr>
          <a:xfrm>
            <a:off x="2857680" y="2214720"/>
            <a:ext cx="3000240" cy="407196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3429000" y="621504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nstantia"/>
              </a:rPr>
              <a:t>I’d like to become 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5786280" y="37861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nstantia"/>
              </a:rPr>
              <a:t>My mu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2643120" y="378612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nstantia"/>
              </a:rPr>
              <a:t>My da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TextBox 7"/>
          <p:cNvSpPr/>
          <p:nvPr/>
        </p:nvSpPr>
        <p:spPr>
          <a:xfrm>
            <a:off x="2786040" y="450072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1800" spc="-1" strike="noStrike">
                <a:solidFill>
                  <a:srgbClr val="7030a0"/>
                </a:solidFill>
                <a:latin typeface="Constantia"/>
              </a:rPr>
              <a:t>My brothers and sist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TextBox 8"/>
          <p:cNvSpPr/>
          <p:nvPr/>
        </p:nvSpPr>
        <p:spPr>
          <a:xfrm>
            <a:off x="5715000" y="278604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nstantia"/>
              </a:rPr>
              <a:t>My grandparent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TextBox 10"/>
          <p:cNvSpPr/>
          <p:nvPr/>
        </p:nvSpPr>
        <p:spPr>
          <a:xfrm>
            <a:off x="1357200" y="300024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nstantia"/>
              </a:rPr>
              <a:t>My grandparent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TextBox 11"/>
          <p:cNvSpPr/>
          <p:nvPr/>
        </p:nvSpPr>
        <p:spPr>
          <a:xfrm>
            <a:off x="5572080" y="207180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nstantia"/>
              </a:rPr>
              <a:t>My aunts and unc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Box 12"/>
          <p:cNvSpPr/>
          <p:nvPr/>
        </p:nvSpPr>
        <p:spPr>
          <a:xfrm>
            <a:off x="1143000" y="228600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nstantia"/>
              </a:rPr>
              <a:t>My aunts and unc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Constantia"/>
              </a:rPr>
              <a:t>How many persons have worked in similar occupati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Constantia"/>
              </a:rPr>
              <a:t>Do you notice any family trend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Constantia"/>
              </a:rPr>
              <a:t>Which relatives were particularly helpful/inspiring to other family members in career matter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Constantia"/>
              </a:rPr>
              <a:t>Do you think the youngest generation  will continue family traditions or create new pattern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Constantia"/>
              </a:rPr>
              <a:t>Did location, educational opportunities or  special talents influence any choic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9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30268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Прямоугольник 3" descr=""/>
          <p:cNvPicPr/>
          <p:nvPr/>
        </p:nvPicPr>
        <p:blipFill>
          <a:blip r:embed="rId1"/>
          <a:stretch/>
        </p:blipFill>
        <p:spPr>
          <a:xfrm>
            <a:off x="1695600" y="36360"/>
            <a:ext cx="6119640" cy="11098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   </a:t>
            </a: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-ar- </a:t>
            </a: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beggar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-er – </a:t>
            </a: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painter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-or – </a:t>
            </a: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tailor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-ess – </a:t>
            </a: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poetes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-ist – </a:t>
            </a: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industriali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-cian –</a:t>
            </a: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electricia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-eer - </a:t>
            </a: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engineer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onstantia"/>
              </a:rPr>
              <a:t>-</a:t>
            </a: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man - </a:t>
            </a:r>
            <a:r>
              <a:rPr b="1" lang="en-US" sz="4000" spc="-1" strike="noStrike">
                <a:solidFill>
                  <a:srgbClr val="002060"/>
                </a:solidFill>
                <a:latin typeface="Constantia"/>
              </a:rPr>
              <a:t>mailma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-woman - </a:t>
            </a:r>
            <a:r>
              <a:rPr b="1" lang="en-US" sz="4000" spc="-1" strike="noStrike">
                <a:solidFill>
                  <a:srgbClr val="002060"/>
                </a:solidFill>
                <a:latin typeface="Constantia"/>
              </a:rPr>
              <a:t>policewoma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-maker - </a:t>
            </a:r>
            <a:r>
              <a:rPr b="1" lang="en-US" sz="4000" spc="-1" strike="noStrike">
                <a:solidFill>
                  <a:srgbClr val="002060"/>
                </a:solidFill>
                <a:latin typeface="Constantia"/>
              </a:rPr>
              <a:t>dressmak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-smith - </a:t>
            </a:r>
            <a:r>
              <a:rPr b="1" lang="en-US" sz="4000" spc="-1" strike="noStrike">
                <a:solidFill>
                  <a:srgbClr val="002060"/>
                </a:solidFill>
                <a:latin typeface="Constantia"/>
              </a:rPr>
              <a:t>blacksmith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  </a:t>
            </a:r>
            <a:r>
              <a:rPr b="1" lang="en-US" sz="4000" spc="-1" strike="noStrike">
                <a:solidFill>
                  <a:srgbClr val="c00000"/>
                </a:solidFill>
                <a:latin typeface="Constantia"/>
              </a:rPr>
              <a:t>T: </a:t>
            </a:r>
            <a:r>
              <a:rPr b="1" lang="en-US" sz="3600" spc="-1" strike="noStrike" u="sng">
                <a:solidFill>
                  <a:srgbClr val="7030a0"/>
                </a:solidFill>
                <a:uFillTx/>
                <a:latin typeface="Constantia"/>
              </a:rPr>
              <a:t>Give some more exampl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3" name="Прямоугольник 3" descr=""/>
          <p:cNvPicPr/>
          <p:nvPr/>
        </p:nvPicPr>
        <p:blipFill>
          <a:blip r:embed="rId1"/>
          <a:stretch/>
        </p:blipFill>
        <p:spPr>
          <a:xfrm>
            <a:off x="1682640" y="231840"/>
            <a:ext cx="6162840" cy="1152360"/>
          </a:xfrm>
          <a:prstGeom prst="rect">
            <a:avLst/>
          </a:prstGeom>
          <a:ln w="0">
            <a:noFill/>
          </a:ln>
        </p:spPr>
      </p:pic>
      <p:sp>
        <p:nvSpPr>
          <p:cNvPr id="284" name="Левая фигурная скобка 4"/>
          <p:cNvSpPr/>
          <p:nvPr/>
        </p:nvSpPr>
        <p:spPr>
          <a:xfrm>
            <a:off x="428760" y="4286160"/>
            <a:ext cx="285480" cy="78588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785880"/>
              <a:gd name="textAreaBottom" fmla="*/ 77868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Правая фигурная скобка 5"/>
          <p:cNvSpPr/>
          <p:nvPr/>
        </p:nvSpPr>
        <p:spPr>
          <a:xfrm>
            <a:off x="6929280" y="4286160"/>
            <a:ext cx="357480" cy="785880"/>
          </a:xfrm>
          <a:custGeom>
            <a:avLst/>
            <a:gdLst>
              <a:gd name="textAreaLeft" fmla="*/ 0 w 357480"/>
              <a:gd name="textAreaRight" fmla="*/ 128880 w 357480"/>
              <a:gd name="textAreaTop" fmla="*/ 9000 h 785880"/>
              <a:gd name="textAreaBottom" fmla="*/ 7768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9"/>
                  <a:pt x="10800" y="818"/>
                </a:cubicBezTo>
                <a:lnTo>
                  <a:pt x="10800" y="10401"/>
                </a:lnTo>
                <a:cubicBezTo>
                  <a:pt x="10800" y="10810"/>
                  <a:pt x="16200" y="11219"/>
                  <a:pt x="21600" y="11219"/>
                </a:cubicBezTo>
                <a:cubicBezTo>
                  <a:pt x="16200" y="11219"/>
                  <a:pt x="10800" y="11628"/>
                  <a:pt x="10800" y="12037"/>
                </a:cubicBezTo>
                <a:lnTo>
                  <a:pt x="10800" y="20782"/>
                </a:lnTo>
                <a:cubicBezTo>
                  <a:pt x="10800" y="21191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18572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Flexibi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Leadershi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Teamwork ski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Physical streng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Ded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Creativ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ndividua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A sharp mi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Artistic abi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1:01:33Z</dcterms:created>
  <dc:creator>Admin</dc:creator>
  <dc:description/>
  <dc:language>en-US</dc:language>
  <cp:lastModifiedBy>Алла</cp:lastModifiedBy>
  <dcterms:modified xsi:type="dcterms:W3CDTF">2011-11-27T17:37:08Z</dcterms:modified>
  <cp:revision>72</cp:revision>
  <dc:subject/>
  <dc:title>Слайд 1</dc:title>
</cp:coreProperties>
</file>