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3D1-0BFE-44AF-89F3-8A738E4C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A29-83D1-4D12-BCB6-9531BA14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97350-C479-4EDB-BE78-EF8D613E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AD226-44E4-420D-9582-F484A0A5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E7385-152E-4E5F-ADD0-0AE55168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51326-C501-4BAE-BDDD-541677B8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D30BE-8EC0-444D-9D30-A5E3996E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F2BD8-C977-4363-9C3D-FD295E77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6C736-4311-4F51-8776-68659705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F0805-E91C-4034-A490-BE9C6849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B817C-5A42-4538-AE89-3778CB3F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0D833-A8C0-410F-966B-DDAD9C46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138-8C12-4C2E-92C0-26ADDB17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F14B0-0617-4FB4-B287-4E19233C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7AD03-B712-4B88-B6FC-E7CA65E7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18B31-7663-4ECA-9228-2DD8656A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81F00-2E9C-4603-AB65-BFFF6477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CA680-BAC9-4E4B-8BE3-12057B19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0CDBF-FC3A-4B41-8662-70F6918C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A06A7-43F4-4668-BB79-B2FDBA3C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B3F40-DBE4-4A40-A429-8DFF2335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D00CB-242D-4B6B-9982-DA18DFAC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17C76-4315-4FCB-AC50-E39DC52C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77C-EB55-4E14-884A-E10E91E3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EEA18-7E79-40B6-91B3-EAE7CEB4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5C002-F052-469F-B1CC-24707E73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6857C-8126-4AF6-8895-76FBAFD6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0E968-CB82-4FF1-881C-BE050266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5FE14-25AF-4CF5-BB14-E7C6D69A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173E0-8E97-4AF0-9509-1B15667F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6F55C-480A-4242-8A5B-28EBD7D5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E07E8-CB29-4199-922A-E59A3BA5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2E79D-D8B6-4207-A6B6-E6171E54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AB08F-322A-4351-9F80-8834C80B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5035-AA81-49FE-B63C-C9F3A76A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8D4BD-613A-4713-90CC-A4C5A4FD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459CA-F7B6-4C0E-A283-B45F3863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BEDA8-22F0-4A01-AEEB-5EC15A3E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1B92-4AF5-4E59-BBEA-30DB72BF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44B2-9835-4515-B0D1-C3AFFD89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F366-A75A-4BF3-8F1A-DB8F1E85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BD6E-02F3-4387-A4E5-BC9B05E1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8F53-5193-4389-8EAB-C2A69FD7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427C-66F9-4D6F-B679-BFF69629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A29-CB04-4384-950F-79C8BD71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25E5-5DD4-46C6-96C1-A9CD95A2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61F3-1DA5-401A-93A3-77407206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9DB6-E32B-4F0A-A871-C5689F3B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68C0-3CFD-4EFF-A051-DA232E09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B418-89B8-4E08-963A-6283812A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98E15-4BC6-403F-AB88-78478F09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460C6-FD6B-4D55-949E-8BF79C31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4B90F-4675-4E53-B023-A6AD55C0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671A1-BCB2-452E-AFF7-4D056575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0CE65-72BD-4E53-B35C-BB641F38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D0F-E578-46F7-B969-4394B3DE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48D6F-F55E-401C-98FC-E6209625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365BA-06D4-4E72-8288-58D72809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67E8A-4B2F-4299-AC6E-D7A6643C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B501E-C07C-47B5-BEFE-8D3227DE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BFB9E-24A8-49C7-849F-F769CCA4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431BA-3A40-4516-AD70-64A1F810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605BA-131B-465B-AC6B-D529AE79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37BE1-4C8B-47E9-9056-34940404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1DBCF-3D6D-466D-A46F-BEBF088E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63D28-B645-4727-9F31-575C1AA5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BBB-016B-4438-A1EF-5E553594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D0CD-A6D7-4417-9414-42066E8D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E803F-53B9-471F-98AB-6E9CCADE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7903D-D2F7-4471-AD26-4C6DF0CB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398B9-0781-416E-8DEE-D3630D6D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D692A-9A56-40C4-8BCF-C6B59055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4A4D-400B-4297-B8F9-43FFDC2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F715E-B5C2-46F3-8A7D-28008979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61446-7464-4A3C-B5C0-38065115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2E37-E58B-47AB-B4EA-E38AD3CF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42ADB-850E-472D-86E0-87D0FCBE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A0D-FB5B-4A14-ADB3-8B067E8B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67864-B980-460D-A1E1-35C73449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2B086-8A89-4BBA-BDDB-61BB8D91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42CBD-ABF2-4F10-84A7-8ED814ED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4F354-51E1-4E0E-BD7E-0751368D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323A5-E162-4613-9E9D-C115217A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9A1F3-0421-48CD-BFC5-E2D1DCA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1FBD3-588D-41E9-BAAA-0A4EB548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D7760-20F4-4E75-A5B7-D1F31292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88F6-1124-44D9-ABA9-0A493631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33EC9-DED3-452E-A8C0-DD1BBFDA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C3A-E790-4E6B-8858-752BE19D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ABB4D-368A-4E95-86F3-BD859A46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198A5-38B1-4CE0-B684-4A2F7459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EB504-50E6-4AE1-979B-947C4B70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ECE0F-0358-4291-BCE4-6CE287A3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DC028-7123-40CF-92AE-378F6789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D4C8B-2DE8-48E3-B8B2-44C9495C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564A-6FB4-4B0C-966E-1B63330C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BA122-69BF-42B6-B687-C46D4E07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D3446-4CB1-46FD-9A93-CBF3242C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C362E-5FBC-4390-A6A0-72BFF0CE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D85-AE46-4F94-93F7-9C54E667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65F53-2B38-4206-916F-07A8A6F1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7EADD-3CA0-43CD-A8E3-BECA0C84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13F0A-48C0-46D7-A97F-6A472DE7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50547-3BF6-4131-9AD8-EBA9DB12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A4002-6F91-4F0A-BD8A-3DA25D48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D1316-1AF4-4C3D-B86A-FCB4603B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C3819-93F5-41EA-9D2D-459DD17C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7DF9D-AB21-47D5-A736-50F8DD6B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770CB-EA1B-48BC-BA07-F2E1A94B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F998E-7C71-4F3F-8E40-F99280E8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01B-BA01-4E49-898F-8CA9CFCD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B03D7-EB94-44AF-9790-666AFD48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C5832-859D-4114-A011-3181C00D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B2B31-5BA0-4291-8788-71F5ECE7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E67A4-66F4-44F9-A3F2-945960A9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374F7-B341-4915-AE9B-5535B864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4AD28-E3A1-46F7-8890-EBFF190D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94208-C9B4-4AD4-93A3-0832ADE4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E4767-A974-4581-A7AB-45BD63C1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B86E2-B3B0-4B27-94E4-F6F87C11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842EA-18EE-4BE6-AEAA-9A3F9782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BC0-16BE-4A44-BD89-CA54A9D2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0D332-27B8-4607-8F76-85E80380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6A213-F9AB-4EC3-B99D-46130BCA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7F6C1-D570-43B6-ADEB-9E948D10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94F05-225B-4709-947B-248561F7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0201F-ED18-405F-80D5-8A168E24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EF521-CDC4-4B71-B301-6EDEF6F8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19AA3-1C0F-4889-8B5D-09E4AD8A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15E3C-36F3-45E3-856A-36B4DBCE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2BC44-CB5D-49D8-8F6B-428C310A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7D0E4-7E89-439F-B0C4-FAF7F7F8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173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359B-2516-463A-8D16-E981F1AE86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46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4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5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B558-37D1-4064-AE8E-C215983BFA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6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9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0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6672-53AB-4512-AC89-D0DD6B62BDE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3D66-A618-41C2-A028-4F022E6146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173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88B0-0528-4A56-9DC0-C3A018B06D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2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4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1651-89EC-4A5D-97FC-770F7F201B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5BC8-1C90-428C-A97D-F2BE8E91C6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2c24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3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4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4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4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FBAE-A085-4DF7-AD8E-D167E2F1A7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9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9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9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9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9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9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9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1814-AEED-420B-ADE3-5439459A3E9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4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4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4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4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4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51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52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D719-00C2-4B2B-A6CD-CED31B1DB7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96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9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9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0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30F0-B5CA-4B82-A24E-B9D11B74BC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2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9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cd60"/>
            </a:gs>
            <a:gs pos="100000">
              <a:srgbClr val="7666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Rectangle 2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9400" cy="1712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Интерференция на мыльной пленке"/>
          <p:cNvPicPr/>
          <p:nvPr/>
        </p:nvPicPr>
        <p:blipFill>
          <a:blip r:embed="rId2"/>
          <a:stretch/>
        </p:blipFill>
        <p:spPr>
          <a:xfrm>
            <a:off x="357120" y="1928880"/>
            <a:ext cx="4929120" cy="4681440"/>
          </a:xfrm>
          <a:prstGeom prst="rect">
            <a:avLst/>
          </a:prstGeom>
          <a:ln w="0">
            <a:noFill/>
          </a:ln>
        </p:spPr>
      </p:pic>
      <p:sp>
        <p:nvSpPr>
          <p:cNvPr id="547" name="TextBox 5"/>
          <p:cNvSpPr/>
          <p:nvPr/>
        </p:nvSpPr>
        <p:spPr>
          <a:xfrm>
            <a:off x="5715000" y="2286000"/>
            <a:ext cx="2786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читель физики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Сухова Татьяна Михайловн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МОУ «Средняя общеобразовательная школа №56 с углубленным изучением  отдельных предметов» Ленинского район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г.Саратов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Rectangle 2" descr=""/>
          <p:cNvPicPr/>
          <p:nvPr/>
        </p:nvPicPr>
        <p:blipFill>
          <a:blip r:embed="rId1"/>
          <a:stretch/>
        </p:blipFill>
        <p:spPr>
          <a:xfrm>
            <a:off x="622440" y="146160"/>
            <a:ext cx="6941880" cy="19810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"/>
          <p:cNvPicPr/>
          <p:nvPr/>
        </p:nvPicPr>
        <p:blipFill>
          <a:blip r:embed="rId2"/>
          <a:stretch/>
        </p:blipFill>
        <p:spPr>
          <a:xfrm>
            <a:off x="0" y="2060640"/>
            <a:ext cx="8408880" cy="47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456080" cy="35971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"/>
          <p:cNvPicPr/>
          <p:nvPr/>
        </p:nvPicPr>
        <p:blipFill>
          <a:blip r:embed="rId2"/>
          <a:stretch/>
        </p:blipFill>
        <p:spPr>
          <a:xfrm>
            <a:off x="0" y="3716280"/>
            <a:ext cx="4456080" cy="3141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"/>
          <p:cNvPicPr/>
          <p:nvPr/>
        </p:nvPicPr>
        <p:blipFill>
          <a:blip r:embed="rId3"/>
          <a:stretch/>
        </p:blipFill>
        <p:spPr>
          <a:xfrm>
            <a:off x="4610160" y="3733920"/>
            <a:ext cx="4533840" cy="31240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"/>
          <p:cNvPicPr/>
          <p:nvPr/>
        </p:nvPicPr>
        <p:blipFill>
          <a:blip r:embed="rId4"/>
          <a:stretch/>
        </p:blipFill>
        <p:spPr>
          <a:xfrm>
            <a:off x="4610160" y="0"/>
            <a:ext cx="4533840" cy="358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Rectangle 4" descr=""/>
          <p:cNvPicPr/>
          <p:nvPr/>
        </p:nvPicPr>
        <p:blipFill>
          <a:blip r:embed="rId1"/>
          <a:stretch/>
        </p:blipFill>
        <p:spPr>
          <a:xfrm>
            <a:off x="420840" y="0"/>
            <a:ext cx="8246880" cy="148752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395280" y="1915920"/>
            <a:ext cx="40608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716000" y="1125360"/>
            <a:ext cx="3627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азличные цвета тонких плёнок – результат интерференции двух волн, отражающихся от нижней и верхней поверхности плёнки. Усиление света произойдёт в том случае, если преломлённая волна </a:t>
            </a:r>
            <a:r>
              <a:rPr b="1" lang="ru-RU" sz="2400" spc="-1" strike="noStrike">
                <a:solidFill>
                  <a:srgbClr val="9900ff"/>
                </a:solidFill>
                <a:latin typeface="Franklin Gothic 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отстанет от отражённой </a:t>
            </a:r>
            <a:r>
              <a:rPr b="1" lang="ru-RU" sz="2400" spc="-1" strike="noStrike">
                <a:solidFill>
                  <a:srgbClr val="9900ff"/>
                </a:solidFill>
                <a:latin typeface="Franklin Gothic Book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на чётное число длин волн.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81" name="Picture 9" descr="tst_3_7_4"/>
          <p:cNvPicPr/>
          <p:nvPr/>
        </p:nvPicPr>
        <p:blipFill>
          <a:blip r:embed="rId2"/>
          <a:stretch/>
        </p:blipFill>
        <p:spPr>
          <a:xfrm>
            <a:off x="0" y="1197000"/>
            <a:ext cx="4984920" cy="566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2" name="Text Box 15"/>
          <p:cNvSpPr/>
          <p:nvPr/>
        </p:nvSpPr>
        <p:spPr>
          <a:xfrm>
            <a:off x="3635280" y="26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2771640" y="1700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000" y="7392600"/>
            <a:ext cx="8218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55640" y="404280"/>
            <a:ext cx="7696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отеря полуволны </a:t>
            </a:r>
            <a:r>
              <a:rPr b="1" lang="el-GR" sz="2400" spc="-1" strike="noStrike">
                <a:solidFill>
                  <a:srgbClr val="9900ff"/>
                </a:solidFill>
                <a:latin typeface="Franklin Gothic Book"/>
              </a:rPr>
              <a:t>λ</a:t>
            </a:r>
            <a:r>
              <a:rPr b="1" lang="en-US" sz="2400" spc="-1" strike="noStrike">
                <a:solidFill>
                  <a:srgbClr val="9900ff"/>
                </a:solidFill>
                <a:latin typeface="Franklin Gothic Book"/>
              </a:rPr>
              <a:t>/2</a:t>
            </a:r>
            <a:r>
              <a:rPr b="1" lang="ru-RU" sz="2400" spc="-1" strike="noStrike">
                <a:solidFill>
                  <a:srgbClr val="9900ff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роисходит при отражении от верхней поверхности плёнки. Следовательно, оптическая разность хода </a:t>
            </a:r>
            <a:r>
              <a:rPr b="1" lang="el-GR" sz="2400" spc="-1" strike="noStrike">
                <a:solidFill>
                  <a:srgbClr val="9900ff"/>
                </a:solidFill>
                <a:latin typeface="Franklin Gothic Book"/>
              </a:rPr>
              <a:t>Δ</a:t>
            </a:r>
            <a:r>
              <a:rPr b="1" lang="en-US" sz="2400" spc="-1" strike="noStrike">
                <a:solidFill>
                  <a:srgbClr val="9900ff"/>
                </a:solidFill>
                <a:latin typeface="Franklin Gothic Book"/>
              </a:rPr>
              <a:t>=2dn­</a:t>
            </a:r>
            <a:r>
              <a:rPr b="1" lang="el-GR" sz="2400" spc="-1" strike="noStrike">
                <a:solidFill>
                  <a:srgbClr val="9900ff"/>
                </a:solidFill>
                <a:latin typeface="Franklin Gothic Book"/>
              </a:rPr>
              <a:t>λ</a:t>
            </a:r>
            <a:r>
              <a:rPr b="1" lang="en-US" sz="2400" spc="-1" strike="noStrike">
                <a:solidFill>
                  <a:srgbClr val="9900ff"/>
                </a:solidFill>
                <a:latin typeface="Franklin Gothic Book"/>
              </a:rPr>
              <a:t>/2</a:t>
            </a:r>
            <a:r>
              <a:rPr b="1" lang="ru-RU" sz="2400" spc="-1" strike="noStrike">
                <a:solidFill>
                  <a:srgbClr val="9900ff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Тогда условие максимального усиления интерферирующих лучей в отражённом свете следующее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1" lang="el-GR" sz="2400" spc="-1" strike="noStrike">
                <a:solidFill>
                  <a:srgbClr val="9900ff"/>
                </a:solidFill>
                <a:latin typeface="Franklin Gothic Book"/>
              </a:rPr>
              <a:t>λ</a:t>
            </a:r>
            <a:r>
              <a:rPr b="1" lang="en-US" sz="2400" spc="-1" strike="noStrike">
                <a:solidFill>
                  <a:srgbClr val="9900ff"/>
                </a:solidFill>
                <a:latin typeface="Franklin Gothic Book"/>
              </a:rPr>
              <a:t>=2dn­</a:t>
            </a:r>
            <a:r>
              <a:rPr b="1" lang="el-GR" sz="2400" spc="-1" strike="noStrike">
                <a:solidFill>
                  <a:srgbClr val="9900ff"/>
                </a:solidFill>
                <a:latin typeface="Franklin Gothic Book"/>
              </a:rPr>
              <a:t>λ</a:t>
            </a:r>
            <a:r>
              <a:rPr b="1" lang="en-US" sz="2400" spc="-1" strike="noStrike">
                <a:solidFill>
                  <a:srgbClr val="9900ff"/>
                </a:solidFill>
                <a:latin typeface="Franklin Gothic Book"/>
              </a:rPr>
              <a:t>/2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Различные цвета тонких плёнок зависят от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) толщины плёнки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2) вещества, соприкасающегося с плёнкой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3) угла падени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4) длины световой волны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Если плёнка имеет неодинаковую толщину, то при освещении её белым светом появляются различные цвета. Там, где плёнка тоньше усиливаются лучи с малой длиной волны (синие, фиолетовые), там, где толще – с большей длиной волны (оранжевые, красные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4" descr=""/>
          <p:cNvPicPr/>
          <p:nvPr/>
        </p:nvPicPr>
        <p:blipFill>
          <a:blip r:embed="rId1"/>
          <a:stretch/>
        </p:blipFill>
        <p:spPr>
          <a:xfrm>
            <a:off x="895320" y="182520"/>
            <a:ext cx="6883560" cy="11527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493560" y="1652760"/>
            <a:ext cx="4003920" cy="445752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89" name="Picture 7" descr="Кольца Ньютона"/>
          <p:cNvPicPr/>
          <p:nvPr/>
        </p:nvPicPr>
        <p:blipFill>
          <a:blip r:embed="rId3"/>
          <a:stretch/>
        </p:blipFill>
        <p:spPr>
          <a:xfrm>
            <a:off x="0" y="928800"/>
            <a:ext cx="6727680" cy="5751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8" descr="0400303"/>
          <p:cNvPicPr/>
          <p:nvPr/>
        </p:nvPicPr>
        <p:blipFill>
          <a:blip r:embed="rId4"/>
          <a:stretch/>
        </p:blipFill>
        <p:spPr>
          <a:xfrm>
            <a:off x="3357720" y="1071720"/>
            <a:ext cx="5545080" cy="54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Rectangle 4" descr=""/>
          <p:cNvPicPr/>
          <p:nvPr/>
        </p:nvPicPr>
        <p:blipFill>
          <a:blip r:embed="rId1"/>
          <a:stretch/>
        </p:blipFill>
        <p:spPr>
          <a:xfrm>
            <a:off x="420840" y="353880"/>
            <a:ext cx="8156520" cy="16146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 txBox="1"/>
          <p:nvPr/>
        </p:nvSpPr>
        <p:spPr>
          <a:xfrm>
            <a:off x="642600" y="2356920"/>
            <a:ext cx="397044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857840" y="1915920"/>
            <a:ext cx="4000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Кольца Ньютона возникают при интерференции света, отраженного верхней и нижней границами воздушного зазор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ctr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олна </a:t>
            </a:r>
            <a:r>
              <a:rPr b="1" lang="ru-RU" sz="2000" spc="-1" strike="noStrike">
                <a:solidFill>
                  <a:srgbClr val="9900ff"/>
                </a:solidFill>
                <a:latin typeface="Franklin Gothic Book"/>
              </a:rPr>
              <a:t>1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– результат отражения её от выпуклой поверхности линзы на границе стекло- возду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ctr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олна </a:t>
            </a:r>
            <a:r>
              <a:rPr b="1" lang="ru-RU" sz="2000" spc="-1" strike="noStrike">
                <a:solidFill>
                  <a:srgbClr val="9900ff"/>
                </a:solidFill>
                <a:latin typeface="Franklin Gothic Book"/>
              </a:rPr>
              <a:t>2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– отражение от плоской пластины на границе воздух-стекл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ctr">
              <a:lnSpc>
                <a:spcPct val="7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олны когерентны: они имеют одинаковую длину и постоянную разность фаз, которая возникает из-за того, что волна </a:t>
            </a:r>
            <a:r>
              <a:rPr b="1" lang="ru-RU" sz="2000" spc="-1" strike="noStrike">
                <a:solidFill>
                  <a:srgbClr val="9900ff"/>
                </a:solidFill>
                <a:latin typeface="Franklin Gothic Book"/>
              </a:rPr>
              <a:t>2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проходит больший путь, чем волна  </a:t>
            </a:r>
            <a:r>
              <a:rPr b="1" lang="ru-RU" sz="2000" spc="-1" strike="noStrike">
                <a:solidFill>
                  <a:srgbClr val="9900ff"/>
                </a:solidFill>
                <a:latin typeface="Franklin Gothic Book"/>
              </a:rPr>
              <a:t>1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94" name="Picture 9" descr="0400303"/>
          <p:cNvPicPr/>
          <p:nvPr/>
        </p:nvPicPr>
        <p:blipFill>
          <a:blip r:embed="rId2"/>
          <a:srcRect l="0" t="56685" r="46102" b="0"/>
          <a:stretch/>
        </p:blipFill>
        <p:spPr>
          <a:xfrm>
            <a:off x="642960" y="2357280"/>
            <a:ext cx="3643200" cy="35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Rectangle 4" descr=""/>
          <p:cNvPicPr/>
          <p:nvPr/>
        </p:nvPicPr>
        <p:blipFill>
          <a:blip r:embed="rId1"/>
          <a:stretch/>
        </p:blipFill>
        <p:spPr>
          <a:xfrm>
            <a:off x="407880" y="171360"/>
            <a:ext cx="8285400" cy="1492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648320" y="1642680"/>
            <a:ext cx="40384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олна </a:t>
            </a:r>
            <a:r>
              <a:rPr b="1" lang="ru-RU" sz="2200" spc="-1" strike="noStrike">
                <a:solidFill>
                  <a:srgbClr val="9900ff"/>
                </a:solidFill>
                <a:latin typeface="Franklin Gothic Book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не изменяет своей фазы, а волна </a:t>
            </a:r>
            <a:r>
              <a:rPr b="1" lang="ru-RU" sz="2200" spc="-1" strike="noStrike">
                <a:solidFill>
                  <a:srgbClr val="9900ff"/>
                </a:solidFill>
                <a:latin typeface="Franklin Gothic Book"/>
              </a:rPr>
              <a:t>2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и отражении от пластины возвращается в противофазе. Поэтому лучи гасят друг друга и наблюдается тёмное пятно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ctr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Тёмные кольца возникают при выполнении условия </a:t>
            </a:r>
            <a:r>
              <a:rPr b="1" lang="en-US" sz="2200" spc="-1" strike="noStrike">
                <a:solidFill>
                  <a:srgbClr val="9900ff"/>
                </a:solidFill>
                <a:latin typeface="Franklin Gothic Book"/>
              </a:rPr>
              <a:t>MAX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: разность хода равна целому числу длин волн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ctr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ветлые кольца возникают там, где </a:t>
            </a:r>
            <a:r>
              <a:rPr b="1" lang="en-US" sz="2200" spc="-1" strike="noStrike">
                <a:solidFill>
                  <a:srgbClr val="9900ff"/>
                </a:solidFill>
                <a:latin typeface="Franklin Gothic Book"/>
              </a:rPr>
              <a:t>MIN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: разность хода равна нечётному числу длин полуволн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98" name="Picture 7" descr="Кольца Ньютона"/>
          <p:cNvPicPr/>
          <p:nvPr/>
        </p:nvPicPr>
        <p:blipFill>
          <a:blip r:embed="rId3">
            <a:lum contrast="20000"/>
          </a:blip>
          <a:srcRect l="6297" t="7871" r="44100" b="15752"/>
          <a:stretch/>
        </p:blipFill>
        <p:spPr>
          <a:xfrm>
            <a:off x="500040" y="1571760"/>
            <a:ext cx="3927600" cy="50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Если свет, освещающий установку, белый, то будут наблюдаться цветные кольца. По расположению колец для разных цветов можно подсчитать длину волны соответствующих цветных лучей. Юнг проделал этот расчет и определил длину волны для разных участков спектра. Интересно, что при этом он использовал данные Ньютона, которые были достаточно точны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285720" y="213840"/>
            <a:ext cx="562932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чиная с XIX века взгляды ученых-оптиков постепенно склоняются в пользу волновой теории света. Уже известные кольца Ньютона, цвета тонких пленок и ряд эффектов, говорящих о неаддитивности освещенности от нескольких источников, весьма смутно объяснялись корпускулярной теорией. В первую очередь благодаря работам Томаса Юнга появляется теория интерференции как явления перераспределения световой энергии в пространстве. Ставший классическим интерференционный опыт Юнга с двумя щелями позволил впервые оценить длину световой волн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02" name="Рисунок 5" descr="Thomas-Young.jpg"/>
          <p:cNvPicPr/>
          <p:nvPr/>
        </p:nvPicPr>
        <p:blipFill>
          <a:blip r:embed="rId1"/>
          <a:stretch/>
        </p:blipFill>
        <p:spPr>
          <a:xfrm>
            <a:off x="285840" y="642960"/>
            <a:ext cx="3214440" cy="47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Заголовок 1" descr=""/>
          <p:cNvPicPr/>
          <p:nvPr/>
        </p:nvPicPr>
        <p:blipFill>
          <a:blip r:embed="rId1"/>
          <a:stretch/>
        </p:blipFill>
        <p:spPr>
          <a:xfrm>
            <a:off x="298440" y="244440"/>
            <a:ext cx="8699400" cy="17175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ягилев Ф.М. Из истории физики и жизни ее творцов. – М.: Просвещение, 1986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ивухин Д. В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Общий курс физики — Издание 3-е, стереотипное. — М.: Физматлит, МФТИ,       2002. — Т. IV. Оптика. — 792 с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иблиотека наглядных пособий «Физика 7-11».Пермь:Дрофа и Формоза, 2004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Rectangle 6" descr=""/>
          <p:cNvPicPr/>
          <p:nvPr/>
        </p:nvPicPr>
        <p:blipFill>
          <a:blip r:embed="rId1"/>
          <a:stretch/>
        </p:blipFill>
        <p:spPr>
          <a:xfrm>
            <a:off x="158760" y="2066760"/>
            <a:ext cx="8229600" cy="27972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971640" y="4365360"/>
            <a:ext cx="77724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Book"/>
              </a:rPr>
              <a:t>Когерентность волн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Это волны, имеющие одинаковые частоты, постоянную разность фаз, а колебания происходят в одной плоскост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Rectangle 2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240760" cy="207936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Наложение когерентных волн, приводящее к перераспределению энергии в пространстве (интенсивности света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80028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ак происходит  интерференц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68360" y="333360"/>
            <a:ext cx="8300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9" descr="Интерференция на мыльной пленке"/>
          <p:cNvPicPr/>
          <p:nvPr/>
        </p:nvPicPr>
        <p:blipFill>
          <a:blip r:embed="rId1"/>
          <a:stretch/>
        </p:blipFill>
        <p:spPr>
          <a:xfrm>
            <a:off x="0" y="-189000"/>
            <a:ext cx="9501120" cy="7047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13"/>
          <p:cNvSpPr/>
          <p:nvPr/>
        </p:nvSpPr>
        <p:spPr>
          <a:xfrm>
            <a:off x="900000" y="234936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Monotype Corsiva"/>
              </a:rPr>
              <a:t>Как происходит интерференция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Rectangle 4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3651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45684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Томас Юнг – разносторонний учёный, светский человек, врач, гимнаст и музыкант. В 20 лет стал членом королевского научного общества, за доказательство того, что хрусталик  человеческого глаза – линза с переменной кривизно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1" name="Picture 7" descr="Юнг Томас"/>
          <p:cNvPicPr/>
          <p:nvPr/>
        </p:nvPicPr>
        <p:blipFill>
          <a:blip r:embed="rId3"/>
          <a:srcRect l="0" t="0" r="0" b="14290"/>
          <a:stretch/>
        </p:blipFill>
        <p:spPr>
          <a:xfrm>
            <a:off x="0" y="1488960"/>
            <a:ext cx="4500720" cy="536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Rectangle 2" descr=""/>
          <p:cNvPicPr/>
          <p:nvPr/>
        </p:nvPicPr>
        <p:blipFill>
          <a:blip r:embed="rId1"/>
          <a:stretch/>
        </p:blipFill>
        <p:spPr>
          <a:xfrm>
            <a:off x="426960" y="66600"/>
            <a:ext cx="8356680" cy="17431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21686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0" y="465264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вет от точечного монохроматического источника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падал на два небольших отверстия на экране. Эти отверстия – два когерентных источника света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1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и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S2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.Волны от них интерферируют в области перекрытия,  проходя разные пути: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Gautami"/>
                <a:ea typeface="Gautami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Gautam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Gautami"/>
              </a:rPr>
              <a:t> r</a:t>
            </a:r>
            <a:r>
              <a:rPr b="1" lang="en-US" sz="2400" spc="-1" strike="noStrike">
                <a:solidFill>
                  <a:srgbClr val="000000"/>
                </a:solidFill>
                <a:latin typeface="Gautami"/>
                <a:ea typeface="Gautam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Gautami"/>
                <a:ea typeface="Gautami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5" name="Picture 16" descr="Схема опыта Юнга"/>
          <p:cNvPicPr/>
          <p:nvPr/>
        </p:nvPicPr>
        <p:blipFill>
          <a:blip r:embed="rId3"/>
          <a:srcRect l="0" t="27563" r="0" b="27563"/>
          <a:stretch/>
        </p:blipFill>
        <p:spPr>
          <a:xfrm>
            <a:off x="611280" y="1628640"/>
            <a:ext cx="77040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Rectangle 15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8431200" cy="19083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0400302"/>
          <p:cNvPicPr/>
          <p:nvPr/>
        </p:nvPicPr>
        <p:blipFill>
          <a:blip r:embed="rId3"/>
          <a:stretch/>
        </p:blipFill>
        <p:spPr>
          <a:xfrm>
            <a:off x="0" y="1781280"/>
            <a:ext cx="8820000" cy="50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Условие интерференционного максимума"/>
          <p:cNvPicPr/>
          <p:nvPr/>
        </p:nvPicPr>
        <p:blipFill>
          <a:blip r:embed="rId2"/>
          <a:stretch/>
        </p:blipFill>
        <p:spPr>
          <a:xfrm>
            <a:off x="250920" y="1844640"/>
            <a:ext cx="4244760" cy="41767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Условие интерференционного минимума"/>
          <p:cNvPicPr/>
          <p:nvPr/>
        </p:nvPicPr>
        <p:blipFill>
          <a:blip r:embed="rId3"/>
          <a:stretch/>
        </p:blipFill>
        <p:spPr>
          <a:xfrm>
            <a:off x="4648320" y="2401920"/>
            <a:ext cx="4343400" cy="312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14:13:33Z</dcterms:created>
  <dc:creator>Полина</dc:creator>
  <dc:description/>
  <dc:language>en-US</dc:language>
  <cp:lastModifiedBy>User</cp:lastModifiedBy>
  <dcterms:modified xsi:type="dcterms:W3CDTF">2011-11-21T19:52:34Z</dcterms:modified>
  <cp:revision>66</cp:revision>
  <dc:subject/>
  <dc:title>ИНТЕРФЕРЕНЦИЯ СВЕТА</dc:title>
</cp:coreProperties>
</file>