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>
    <p:sldRg st="1" end="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2911-C5CA-421A-BA45-CF9CFE92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BC71-6954-43D7-96A6-32931908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A9FE5-AE20-450D-98D8-915900EF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0B6337-3484-4165-B7BE-D5EBC619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3017E-A5BD-4E3F-BE59-CDBE3382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F3CDA-7224-4286-AF5B-D4C0EFB5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A29D7-18E0-4072-A3E0-0253EDAF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6E357E-B35B-4780-9F18-47E80C2D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E3B17A-9F84-4D8D-82B0-D72A41AD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92D3F3-A1A5-4F49-956A-E946A88E4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FA23A-2E29-45D6-BE19-881A70AA1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A1DBC2-AB2E-4E2E-85E8-FF464AE1D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DE43-6CA3-4A3B-B140-B1AEB5FAC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BAAB8-EDD7-4BAB-98CD-B639DBEE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8F924-597F-41F2-A2D8-0C72EAD5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821CC9-D53E-4F5A-8E62-06BB5391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88001F-D4AB-4734-9949-E7575F76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CFB5D-269A-4EB8-BD2B-0E86FB83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95CC1-EF93-4BF1-803E-BE5A3DD1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98EF8-224D-4315-B03E-08B42768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E7D8B9-DA98-4CAF-9DE6-7DE6437D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81B23-3CBA-4614-BCF7-4E1A5CC7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54A941-7B78-4F59-95FF-308102FC4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F971-33E8-498F-86FD-E4C57F042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157635-3B1B-416D-836F-D754EFB40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512D6-70F3-49C5-944A-78F84A67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F7CEA-7312-4748-AAFA-235D6730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CE07FE-76D8-46AC-A88A-B4A27AB6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51C62-A3FD-48A7-BBA4-28A1B23D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B91D9-877C-48F1-B78D-BD92700A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6908C-8BFE-47F0-999F-4E172FB6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81CF0-CDDD-45AE-A821-56B50F5B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AFD5A-3752-48DD-920B-260CA5F6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5F956-6035-40EE-86E0-E2B9930F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714C-7DC4-46D7-A5F3-898BED7BD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F6BEB-AA35-4CAD-A5AE-30ECB035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5AF8F-C6C1-4A16-82E8-085442E3D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D4D9A-F5B6-4138-B4C0-70BEDECDF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972B-41F0-4DB4-AA91-B28B3B4C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9CDB-5596-4E1C-9E1B-E50A76D3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D7AD-69EC-46C3-99C2-6D514732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FCEB-4063-4709-AF0B-7F79D830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404C-8870-4C87-9FEB-7670AA70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F176-1DF6-4D2F-BDE9-8005E9BA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65FB-3554-4C12-935A-E99E61D4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F186-A4F9-44C8-B1FB-3E734103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7D05-497B-48F2-B63C-BFBC910D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DED0-927E-46CC-AC89-E1294C70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A2F0-2EAD-469F-BF02-493D56D3A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9F22-1186-453C-886F-9658B4B36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FABBB2-808D-492C-A2DB-0DFAFEAA1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61D26D-305E-4DAB-B671-9D2C6DB8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D8F6A8-2E9F-4C7C-A66C-51EF2C37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1822ED-5DC8-4A22-8EF6-243293DC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8B42FE-04BD-4343-AF56-D59C703D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D8E3-AE9D-4A70-BBBB-EA6D7FA9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397BAE-AD33-4F06-A7EF-CF56AFF7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23FECE-E394-4539-93FC-94D8AF88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3A9F14-3A1F-4E6C-AE60-50798CEC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FA72EE-6694-48CF-B889-D5CCCE43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6A7EC9-BE97-4743-95D1-60326CF1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F8D608-B575-4B95-8A58-843A49E34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D1DB5C-9899-4C33-BA38-3E83600CF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EC3A4-F971-4DBC-8893-7C570AC6A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DD6EA-8C00-486C-99E0-0BBC89F3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E6656-6939-4606-BA6C-9758E5A1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B044-A574-4189-A35C-022895B5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FEAC1-9CA9-4644-9264-69E6333A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812D1-FE9C-4626-A431-471ACA1B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F87A2-CD32-483D-8CD8-0B44FFE5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BA0EE-0212-46DB-BD63-28FEC402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FD8EA-5566-4609-BCF0-D543E5BF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57482-57E3-4E7B-8EA3-360F3F94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28AFD-1FDA-4898-9CDB-672B1228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C06AE-622E-478C-AF75-2E613349C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374A7-68C5-4064-81EF-AE9947D2B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5EE7B-44AA-4FAB-AD28-9D9103BCA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9761-EB68-4619-B559-8372894B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EDD20-1FA5-4A2B-BB87-0316D76A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E3EAE-5ACD-4B46-989F-37AC4CD0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4C1C9-B4F5-4FA3-B2B8-4424E015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3E203-A72F-4A55-B000-247FC523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329C6-445C-4E68-9426-E02FD105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C1740-8393-493E-857E-E38AAF13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FBC67-2BC3-4E5A-BB78-49A85570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E8503-3F14-4CDB-8D4B-680F08B3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589C4-E56C-44AE-807C-C47CDE29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84AF0-4347-41A5-9879-844B3205E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F564-66FC-46A3-AB50-5ACA9279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DF4DC-3D85-4254-8483-7061EBE25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F7411-AEA6-4D45-B541-EF5B6537D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C98AA-1659-43C4-90F5-5F6E6690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109EF-958F-4F20-899D-796D3511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66165-0AAB-4C78-B99E-502F939D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159F2-DFB6-491F-A154-20E18992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97BD2-5A82-4DE1-BF99-C042BA4F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6DFB6-F812-4BB9-8B16-DAFEA4C4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A6FC3-9BBD-4E5E-A3D7-C1FAF8E0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8E023-0011-4368-903D-9919B9E1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B735-4F0C-4EEF-BB01-D28BC87D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8C2B8-EF98-4852-A237-21D72138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A133E-8FA1-437E-875B-E44D424D0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A9447-992C-4918-B8F0-05DBA4F5D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381A7-6F80-450F-9916-F2C4AFEC5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4519F-B566-47BE-B4DD-F308D664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CCB17-A4EB-4A5F-972F-E7A9FAC6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7E098-7AB3-446C-8E4A-43CA0DDB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E125B-088A-4E52-867B-CD0C6FF9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EF1FA-E5C7-4F9A-B3EB-7B2AAD29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718CC-C159-430F-A7B0-D23D6704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9DDD-55DE-4048-8951-889C6D35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11323-CDF7-4A5C-BA6D-0186D2CB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3F67D-AB96-4C6A-8A4F-37E4ED91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5EC97-9D32-47E1-9C49-8CF59DDD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92D52-4532-4D0C-A595-B833AE76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065BE-392F-4D8C-93E9-05DAA85A9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DE888-688B-4925-AF06-96602731A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E0D3A-E8F6-4354-841C-F0C71AD3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E0761-3809-490E-B063-173FF674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90B58-34A8-4BDB-9540-E1915DCE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D63F9-E69F-4ECA-98E2-8818767E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D811-D5FF-4A50-8B57-D7C677B7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17FF8-B408-4899-ADAD-0AF92006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13AD8-BD3B-4E34-8E08-4C239048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3DE8D-B5E6-4B76-BBA7-9889A0EF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527EB-ACE0-4EA2-B831-CC099964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7ECDC-3ACE-4828-A9CD-C38FADFE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5EE9A-0457-4452-8097-36F1BC732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C13C3-DDEA-476E-A32F-E46CA26B6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A5C59-4833-4E64-B3FC-70C58E325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3756B-1BFF-4CC5-A345-04ADAE7F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25DF6-E449-4D26-B857-D0A37CC3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173"/>
            </a:gs>
            <a:gs pos="100000">
              <a:srgbClr val="7666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569F-C254-40EC-A980-01B705A1FBC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cd60"/>
            </a:gs>
            <a:gs pos="100000">
              <a:srgbClr val="7666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46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4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4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5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5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38CC-9B45-4EAB-8304-BCF60B9437A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cd60"/>
            </a:gs>
            <a:gs pos="100000">
              <a:srgbClr val="7666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96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9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9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0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0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0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0C5D-1CD4-4FDE-B128-0174D2C2AA4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cd60"/>
            </a:gs>
            <a:gs pos="100000">
              <a:srgbClr val="7666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2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D341-35E8-4C00-AC09-BD24D03FB2F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4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173"/>
            </a:gs>
            <a:gs pos="100000">
              <a:srgbClr val="7666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D7FC-CF76-4EE8-8F7E-2BBECD3F9C4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cd60"/>
            </a:gs>
            <a:gs pos="100000">
              <a:srgbClr val="7666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3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3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3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3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4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42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143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A078-EC2D-43F3-B936-2F30C2DFB30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cd60"/>
            </a:gs>
            <a:gs pos="100000">
              <a:srgbClr val="7666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8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9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9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9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BA0C-5E41-4747-BB74-C1FB33F4238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2c24"/>
            </a:gs>
            <a:gs pos="100000">
              <a:srgbClr val="7666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3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3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4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4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4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45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246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22EA-67AE-40D7-9C01-D894C3B7234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cd60"/>
            </a:gs>
            <a:gs pos="100000">
              <a:srgbClr val="7666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90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9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93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9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96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9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99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733C-318E-4D89-A2F4-8776500CC2C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cd60"/>
            </a:gs>
            <a:gs pos="100000">
              <a:srgbClr val="7666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43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45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46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48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349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51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52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1337-55F2-43C9-8AF9-F43AA5DDA72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cd60"/>
            </a:gs>
            <a:gs pos="100000">
              <a:srgbClr val="7666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96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9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9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0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F0D6-5BEC-4288-B5F9-7928B99524F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2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9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cd60"/>
            </a:gs>
            <a:gs pos="100000">
              <a:srgbClr val="7666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Rectangle 2" descr=""/>
          <p:cNvPicPr/>
          <p:nvPr/>
        </p:nvPicPr>
        <p:blipFill>
          <a:blip r:embed="rId1"/>
          <a:stretch/>
        </p:blipFill>
        <p:spPr>
          <a:xfrm>
            <a:off x="298440" y="249120"/>
            <a:ext cx="8699400" cy="17128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Интерференция на мыльной пленке"/>
          <p:cNvPicPr/>
          <p:nvPr/>
        </p:nvPicPr>
        <p:blipFill>
          <a:blip r:embed="rId2"/>
          <a:stretch/>
        </p:blipFill>
        <p:spPr>
          <a:xfrm>
            <a:off x="357120" y="1928880"/>
            <a:ext cx="4929120" cy="4681440"/>
          </a:xfrm>
          <a:prstGeom prst="rect">
            <a:avLst/>
          </a:prstGeom>
          <a:ln w="0">
            <a:noFill/>
          </a:ln>
        </p:spPr>
      </p:pic>
      <p:sp>
        <p:nvSpPr>
          <p:cNvPr id="547" name="TextBox 5"/>
          <p:cNvSpPr/>
          <p:nvPr/>
        </p:nvSpPr>
        <p:spPr>
          <a:xfrm>
            <a:off x="5715000" y="2286000"/>
            <a:ext cx="2786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Учитель физики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Сухова Татьяна Михайловна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МОУ «Средняя общеобразовательная школа №56 с углубленным изучением  отдельных предметов» Ленинского района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г.Саратова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Rectangle 2" descr=""/>
          <p:cNvPicPr/>
          <p:nvPr/>
        </p:nvPicPr>
        <p:blipFill>
          <a:blip r:embed="rId1"/>
          <a:stretch/>
        </p:blipFill>
        <p:spPr>
          <a:xfrm>
            <a:off x="622440" y="146160"/>
            <a:ext cx="6941880" cy="19810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3" descr=""/>
          <p:cNvPicPr/>
          <p:nvPr/>
        </p:nvPicPr>
        <p:blipFill>
          <a:blip r:embed="rId2"/>
          <a:stretch/>
        </p:blipFill>
        <p:spPr>
          <a:xfrm>
            <a:off x="0" y="2060640"/>
            <a:ext cx="8408880" cy="479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4456080" cy="35971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7" descr=""/>
          <p:cNvPicPr/>
          <p:nvPr/>
        </p:nvPicPr>
        <p:blipFill>
          <a:blip r:embed="rId2"/>
          <a:stretch/>
        </p:blipFill>
        <p:spPr>
          <a:xfrm>
            <a:off x="0" y="3716280"/>
            <a:ext cx="4456080" cy="31417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8" descr=""/>
          <p:cNvPicPr/>
          <p:nvPr/>
        </p:nvPicPr>
        <p:blipFill>
          <a:blip r:embed="rId3"/>
          <a:stretch/>
        </p:blipFill>
        <p:spPr>
          <a:xfrm>
            <a:off x="4610160" y="3733920"/>
            <a:ext cx="4533840" cy="31240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9" descr=""/>
          <p:cNvPicPr/>
          <p:nvPr/>
        </p:nvPicPr>
        <p:blipFill>
          <a:blip r:embed="rId4"/>
          <a:stretch/>
        </p:blipFill>
        <p:spPr>
          <a:xfrm>
            <a:off x="4610160" y="0"/>
            <a:ext cx="4533840" cy="358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Rectangle 4" descr=""/>
          <p:cNvPicPr/>
          <p:nvPr/>
        </p:nvPicPr>
        <p:blipFill>
          <a:blip r:embed="rId1"/>
          <a:stretch/>
        </p:blipFill>
        <p:spPr>
          <a:xfrm>
            <a:off x="420840" y="0"/>
            <a:ext cx="8246880" cy="148752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 txBox="1"/>
          <p:nvPr/>
        </p:nvSpPr>
        <p:spPr>
          <a:xfrm>
            <a:off x="395280" y="1915920"/>
            <a:ext cx="4060800" cy="35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4716000" y="1125360"/>
            <a:ext cx="36277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Различные цвета тонких плёнок – результат интерференции двух волн, отражающихся от нижней и верхней поверхности плёнки. Усиление света произойдёт в том случае, если преломлённая волна </a:t>
            </a:r>
            <a:r>
              <a:rPr b="1" lang="ru-RU" sz="2400" spc="-1" strike="noStrike">
                <a:solidFill>
                  <a:srgbClr val="9900ff"/>
                </a:solidFill>
                <a:latin typeface="Franklin Gothic 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отстанет от отражённой </a:t>
            </a:r>
            <a:r>
              <a:rPr b="1" lang="ru-RU" sz="2400" spc="-1" strike="noStrike">
                <a:solidFill>
                  <a:srgbClr val="9900ff"/>
                </a:solidFill>
                <a:latin typeface="Franklin Gothic Book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на чётное число длин волн.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81" name="Picture 9" descr="tst_3_7_4"/>
          <p:cNvPicPr/>
          <p:nvPr/>
        </p:nvPicPr>
        <p:blipFill>
          <a:blip r:embed="rId2"/>
          <a:stretch/>
        </p:blipFill>
        <p:spPr>
          <a:xfrm>
            <a:off x="0" y="1197000"/>
            <a:ext cx="4984920" cy="566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2" name="Text Box 15"/>
          <p:cNvSpPr/>
          <p:nvPr/>
        </p:nvSpPr>
        <p:spPr>
          <a:xfrm>
            <a:off x="3635280" y="263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3" name="Text Box 16"/>
          <p:cNvSpPr/>
          <p:nvPr/>
        </p:nvSpPr>
        <p:spPr>
          <a:xfrm>
            <a:off x="2771640" y="170028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68000" y="7392600"/>
            <a:ext cx="8218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755640" y="404280"/>
            <a:ext cx="76960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Потеря полуволны </a:t>
            </a:r>
            <a:r>
              <a:rPr b="1" lang="el-GR" sz="2400" spc="-1" strike="noStrike">
                <a:solidFill>
                  <a:srgbClr val="9900ff"/>
                </a:solidFill>
                <a:latin typeface="Franklin Gothic Book"/>
              </a:rPr>
              <a:t>λ</a:t>
            </a:r>
            <a:r>
              <a:rPr b="1" lang="en-US" sz="2400" spc="-1" strike="noStrike">
                <a:solidFill>
                  <a:srgbClr val="9900ff"/>
                </a:solidFill>
                <a:latin typeface="Franklin Gothic Book"/>
              </a:rPr>
              <a:t>/2</a:t>
            </a:r>
            <a:r>
              <a:rPr b="1" lang="ru-RU" sz="2400" spc="-1" strike="noStrike">
                <a:solidFill>
                  <a:srgbClr val="9900ff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происходит при отражении от верхней поверхности плёнки. Следовательно, оптическая разность хода </a:t>
            </a:r>
            <a:r>
              <a:rPr b="1" lang="el-GR" sz="2400" spc="-1" strike="noStrike">
                <a:solidFill>
                  <a:srgbClr val="9900ff"/>
                </a:solidFill>
                <a:latin typeface="Franklin Gothic Book"/>
              </a:rPr>
              <a:t>Δ</a:t>
            </a:r>
            <a:r>
              <a:rPr b="1" lang="en-US" sz="2400" spc="-1" strike="noStrike">
                <a:solidFill>
                  <a:srgbClr val="9900ff"/>
                </a:solidFill>
                <a:latin typeface="Franklin Gothic Book"/>
              </a:rPr>
              <a:t>=2dn­</a:t>
            </a:r>
            <a:r>
              <a:rPr b="1" lang="el-GR" sz="2400" spc="-1" strike="noStrike">
                <a:solidFill>
                  <a:srgbClr val="9900ff"/>
                </a:solidFill>
                <a:latin typeface="Franklin Gothic Book"/>
              </a:rPr>
              <a:t>λ</a:t>
            </a:r>
            <a:r>
              <a:rPr b="1" lang="en-US" sz="2400" spc="-1" strike="noStrike">
                <a:solidFill>
                  <a:srgbClr val="9900ff"/>
                </a:solidFill>
                <a:latin typeface="Franklin Gothic Book"/>
              </a:rPr>
              <a:t>/2</a:t>
            </a:r>
            <a:r>
              <a:rPr b="1" lang="ru-RU" sz="2400" spc="-1" strike="noStrike">
                <a:solidFill>
                  <a:srgbClr val="9900ff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ctr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Тогда условие максимального усиления интерферирующих лучей в отражённом свете следующее: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ctr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Comic Sans MS"/>
              </a:rPr>
              <a:t>m</a:t>
            </a:r>
            <a:r>
              <a:rPr b="1" lang="el-GR" sz="2400" spc="-1" strike="noStrike">
                <a:solidFill>
                  <a:srgbClr val="9900ff"/>
                </a:solidFill>
                <a:latin typeface="Franklin Gothic Book"/>
              </a:rPr>
              <a:t>λ</a:t>
            </a:r>
            <a:r>
              <a:rPr b="1" lang="en-US" sz="2400" spc="-1" strike="noStrike">
                <a:solidFill>
                  <a:srgbClr val="9900ff"/>
                </a:solidFill>
                <a:latin typeface="Franklin Gothic Book"/>
              </a:rPr>
              <a:t>=2dn­</a:t>
            </a:r>
            <a:r>
              <a:rPr b="1" lang="el-GR" sz="2400" spc="-1" strike="noStrike">
                <a:solidFill>
                  <a:srgbClr val="9900ff"/>
                </a:solidFill>
                <a:latin typeface="Franklin Gothic Book"/>
              </a:rPr>
              <a:t>λ</a:t>
            </a:r>
            <a:r>
              <a:rPr b="1" lang="en-US" sz="2400" spc="-1" strike="noStrike">
                <a:solidFill>
                  <a:srgbClr val="9900ff"/>
                </a:solidFill>
                <a:latin typeface="Franklin Gothic Book"/>
              </a:rPr>
              <a:t>/2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ctr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Различные цвета тонких плёнок зависят от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ctr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1) толщины плёнки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ctr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2) вещества, соприкасающегося с плёнкой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ctr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3) угла падения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ctr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4) длины световой волны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ctr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Если плёнка имеет неодинаковую толщину, то при освещении её белым светом появляются различные цвета. Там, где плёнка тоньше усиливаются лучи с малой длиной волны (синие, фиолетовые), там, где толще – с большей длиной волны (оранжевые, красные)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Rectangle 4" descr=""/>
          <p:cNvPicPr/>
          <p:nvPr/>
        </p:nvPicPr>
        <p:blipFill>
          <a:blip r:embed="rId1"/>
          <a:stretch/>
        </p:blipFill>
        <p:spPr>
          <a:xfrm>
            <a:off x="895320" y="182520"/>
            <a:ext cx="6883560" cy="115272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2"/>
          <a:stretch/>
        </p:blipFill>
        <p:spPr>
          <a:xfrm>
            <a:off x="493560" y="1652760"/>
            <a:ext cx="4003920" cy="445752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89" name="Picture 7" descr="Кольца Ньютона"/>
          <p:cNvPicPr/>
          <p:nvPr/>
        </p:nvPicPr>
        <p:blipFill>
          <a:blip r:embed="rId3"/>
          <a:stretch/>
        </p:blipFill>
        <p:spPr>
          <a:xfrm>
            <a:off x="0" y="928800"/>
            <a:ext cx="6727680" cy="575136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8" descr="0400303"/>
          <p:cNvPicPr/>
          <p:nvPr/>
        </p:nvPicPr>
        <p:blipFill>
          <a:blip r:embed="rId4"/>
          <a:stretch/>
        </p:blipFill>
        <p:spPr>
          <a:xfrm>
            <a:off x="3357720" y="1071720"/>
            <a:ext cx="5545080" cy="540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Rectangle 4" descr=""/>
          <p:cNvPicPr/>
          <p:nvPr/>
        </p:nvPicPr>
        <p:blipFill>
          <a:blip r:embed="rId1"/>
          <a:stretch/>
        </p:blipFill>
        <p:spPr>
          <a:xfrm>
            <a:off x="420840" y="353880"/>
            <a:ext cx="8156520" cy="161460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 txBox="1"/>
          <p:nvPr/>
        </p:nvSpPr>
        <p:spPr>
          <a:xfrm>
            <a:off x="642600" y="2356920"/>
            <a:ext cx="3970440" cy="37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4857840" y="1915920"/>
            <a:ext cx="4000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7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Кольца Ньютона возникают при интерференции света, отраженного верхней и нижней границами воздушного зазор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ctr">
              <a:lnSpc>
                <a:spcPct val="7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Волна </a:t>
            </a:r>
            <a:r>
              <a:rPr b="1" lang="ru-RU" sz="2000" spc="-1" strike="noStrike">
                <a:solidFill>
                  <a:srgbClr val="9900ff"/>
                </a:solidFill>
                <a:latin typeface="Franklin Gothic Book"/>
              </a:rPr>
              <a:t>1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 – результат отражения её от выпуклой поверхности линзы на границе стекло- воздух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ctr">
              <a:lnSpc>
                <a:spcPct val="7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Волна </a:t>
            </a:r>
            <a:r>
              <a:rPr b="1" lang="ru-RU" sz="2000" spc="-1" strike="noStrike">
                <a:solidFill>
                  <a:srgbClr val="9900ff"/>
                </a:solidFill>
                <a:latin typeface="Franklin Gothic Book"/>
              </a:rPr>
              <a:t>2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– отражение от плоской пластины на границе воздух-стекло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ctr">
              <a:lnSpc>
                <a:spcPct val="7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Волны когерентны: они имеют одинаковую длину и постоянную разность фаз, которая возникает из-за того, что волна </a:t>
            </a:r>
            <a:r>
              <a:rPr b="1" lang="ru-RU" sz="2000" spc="-1" strike="noStrike">
                <a:solidFill>
                  <a:srgbClr val="9900ff"/>
                </a:solidFill>
                <a:latin typeface="Franklin Gothic Book"/>
              </a:rPr>
              <a:t>2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 проходит больший путь, чем волна  </a:t>
            </a:r>
            <a:r>
              <a:rPr b="1" lang="ru-RU" sz="2000" spc="-1" strike="noStrike">
                <a:solidFill>
                  <a:srgbClr val="9900ff"/>
                </a:solidFill>
                <a:latin typeface="Franklin Gothic Book"/>
              </a:rPr>
              <a:t>1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94" name="Picture 9" descr="0400303"/>
          <p:cNvPicPr/>
          <p:nvPr/>
        </p:nvPicPr>
        <p:blipFill>
          <a:blip r:embed="rId2"/>
          <a:srcRect l="0" t="56685" r="46102" b="0"/>
          <a:stretch/>
        </p:blipFill>
        <p:spPr>
          <a:xfrm>
            <a:off x="642960" y="2357280"/>
            <a:ext cx="3643200" cy="350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Rectangle 4" descr=""/>
          <p:cNvPicPr/>
          <p:nvPr/>
        </p:nvPicPr>
        <p:blipFill>
          <a:blip r:embed="rId1"/>
          <a:stretch/>
        </p:blipFill>
        <p:spPr>
          <a:xfrm>
            <a:off x="407880" y="171360"/>
            <a:ext cx="8285400" cy="149220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/>
          </p:nvPr>
        </p:nvSpPr>
        <p:spPr>
          <a:xfrm>
            <a:off x="4648320" y="1642680"/>
            <a:ext cx="40384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Волна </a:t>
            </a:r>
            <a:r>
              <a:rPr b="1" lang="ru-RU" sz="2200" spc="-1" strike="noStrike">
                <a:solidFill>
                  <a:srgbClr val="9900ff"/>
                </a:solidFill>
                <a:latin typeface="Franklin Gothic Book"/>
              </a:rPr>
              <a:t>1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 не изменяет своей фазы, а волна </a:t>
            </a:r>
            <a:r>
              <a:rPr b="1" lang="ru-RU" sz="2200" spc="-1" strike="noStrike">
                <a:solidFill>
                  <a:srgbClr val="9900ff"/>
                </a:solidFill>
                <a:latin typeface="Franklin Gothic Book"/>
              </a:rPr>
              <a:t>2 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при отражении от пластины возвращается в противофазе. Поэтому лучи гасят друг друга и наблюдается тёмное пятно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 algn="ctr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Тёмные кольца возникают при выполнении условия </a:t>
            </a:r>
            <a:r>
              <a:rPr b="1" lang="en-US" sz="2200" spc="-1" strike="noStrike">
                <a:solidFill>
                  <a:srgbClr val="9900ff"/>
                </a:solidFill>
                <a:latin typeface="Franklin Gothic Book"/>
              </a:rPr>
              <a:t>MAX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: разность хода равна целому числу длин волн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 algn="ctr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Светлые кольца возникают там, где </a:t>
            </a:r>
            <a:r>
              <a:rPr b="1" lang="en-US" sz="2200" spc="-1" strike="noStrike">
                <a:solidFill>
                  <a:srgbClr val="9900ff"/>
                </a:solidFill>
                <a:latin typeface="Franklin Gothic Book"/>
              </a:rPr>
              <a:t>MIN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: разность хода равна нечётному числу длин полуволн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98" name="Picture 7" descr="Кольца Ньютона"/>
          <p:cNvPicPr/>
          <p:nvPr/>
        </p:nvPicPr>
        <p:blipFill>
          <a:blip r:embed="rId3">
            <a:lum contrast="20000"/>
          </a:blip>
          <a:srcRect l="6297" t="7871" r="44100" b="15752"/>
          <a:stretch/>
        </p:blipFill>
        <p:spPr>
          <a:xfrm>
            <a:off x="500040" y="1571760"/>
            <a:ext cx="3927600" cy="504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Если свет, освещающий установку, белый, то будут наблюдаться цветные кольца. По расположению колец для разных цветов можно подсчитать длину волны соответствующих цветных лучей. Юнг проделал этот расчет и определил длину волны для разных участков спектра. Интересно, что при этом он использовал данные Ньютона, которые были достаточно точным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285720" y="213840"/>
            <a:ext cx="5629320" cy="66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Начиная с XIX века взгляды ученых-оптиков постепенно склоняются в пользу волновой теории света. Уже известные кольца Ньютона, цвета тонких пленок и ряд эффектов, говорящих о неаддитивности освещенности от нескольких источников, весьма смутно объяснялись корпускулярной теорией. В первую очередь благодаря работам Томаса Юнга появляется теория интерференции как явления перераспределения световой энергии в пространстве. Ставший классическим интерференционный опыт Юнга с двумя щелями позволил впервые оценить длину световой волны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602" name="Рисунок 5" descr="Thomas-Young.jpg"/>
          <p:cNvPicPr/>
          <p:nvPr/>
        </p:nvPicPr>
        <p:blipFill>
          <a:blip r:embed="rId1"/>
          <a:stretch/>
        </p:blipFill>
        <p:spPr>
          <a:xfrm>
            <a:off x="285840" y="642960"/>
            <a:ext cx="3214440" cy="471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Заголовок 1" descr=""/>
          <p:cNvPicPr/>
          <p:nvPr/>
        </p:nvPicPr>
        <p:blipFill>
          <a:blip r:embed="rId1"/>
          <a:stretch/>
        </p:blipFill>
        <p:spPr>
          <a:xfrm>
            <a:off x="298440" y="244440"/>
            <a:ext cx="8699400" cy="171756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ягилев Ф.М. Из истории физики и жизни ее творцов. – М.: Просвещение, 1986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ивухин Д. В</a:t>
            </a: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 Общий курс физики — Издание 3-е, стереотипное. — М.: Физматлит, МФТИ,       2002. — Т. IV. Оптика. — 792 с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Библиотека наглядных пособий «Физика 7-11».Пермь:Дрофа и Формоза, 2004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Rectangle 6" descr=""/>
          <p:cNvPicPr/>
          <p:nvPr/>
        </p:nvPicPr>
        <p:blipFill>
          <a:blip r:embed="rId1"/>
          <a:stretch/>
        </p:blipFill>
        <p:spPr>
          <a:xfrm>
            <a:off x="158760" y="2066760"/>
            <a:ext cx="8229600" cy="279720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 txBox="1"/>
          <p:nvPr/>
        </p:nvSpPr>
        <p:spPr>
          <a:xfrm>
            <a:off x="971640" y="4365360"/>
            <a:ext cx="777240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Franklin Gothic Book"/>
              </a:rPr>
              <a:t>Когерентность волн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Rectangle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Это волны, имеющие одинаковые частоты, постоянную разность фаз, а колебания происходят в одной плоскости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Rectangle 2" descr=""/>
          <p:cNvPicPr/>
          <p:nvPr/>
        </p:nvPicPr>
        <p:blipFill>
          <a:blip r:embed="rId1"/>
          <a:stretch/>
        </p:blipFill>
        <p:spPr>
          <a:xfrm>
            <a:off x="390600" y="262080"/>
            <a:ext cx="8240760" cy="207936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Наложение когерентных волн, приводящее к перераспределению энергии в пространстве (интенсивности света)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26920" y="3357720"/>
            <a:ext cx="80028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Как происходит  интерференция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68360" y="333360"/>
            <a:ext cx="83008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6" name="Picture 9" descr="Интерференция на мыльной пленке"/>
          <p:cNvPicPr/>
          <p:nvPr/>
        </p:nvPicPr>
        <p:blipFill>
          <a:blip r:embed="rId1"/>
          <a:stretch/>
        </p:blipFill>
        <p:spPr>
          <a:xfrm>
            <a:off x="0" y="-189000"/>
            <a:ext cx="9501120" cy="704700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13"/>
          <p:cNvSpPr/>
          <p:nvPr/>
        </p:nvSpPr>
        <p:spPr>
          <a:xfrm>
            <a:off x="900000" y="2349360"/>
            <a:ext cx="784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Monotype Corsiva"/>
              </a:rPr>
              <a:t>Как происходит интерференция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Rectangle 4" descr=""/>
          <p:cNvPicPr/>
          <p:nvPr/>
        </p:nvPicPr>
        <p:blipFill>
          <a:blip r:embed="rId1"/>
          <a:stretch/>
        </p:blipFill>
        <p:spPr>
          <a:xfrm>
            <a:off x="450720" y="189000"/>
            <a:ext cx="8242560" cy="136512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456840" y="1600200"/>
            <a:ext cx="4033800" cy="452592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Томас Юнг – разносторонний учёный, светский человек, врач, гимнаст и музыкант. В 20 лет стал членом королевского научного общества, за доказательство того, что хрусталик  человеческого глаза – линза с переменной кривизной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61" name="Picture 7" descr="Юнг Томас"/>
          <p:cNvPicPr/>
          <p:nvPr/>
        </p:nvPicPr>
        <p:blipFill>
          <a:blip r:embed="rId3"/>
          <a:srcRect l="0" t="0" r="0" b="14290"/>
          <a:stretch/>
        </p:blipFill>
        <p:spPr>
          <a:xfrm>
            <a:off x="0" y="1488960"/>
            <a:ext cx="4500720" cy="536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Rectangle 2" descr=""/>
          <p:cNvPicPr/>
          <p:nvPr/>
        </p:nvPicPr>
        <p:blipFill>
          <a:blip r:embed="rId1"/>
          <a:stretch/>
        </p:blipFill>
        <p:spPr>
          <a:xfrm>
            <a:off x="426960" y="66600"/>
            <a:ext cx="8356680" cy="174312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216864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0" y="465264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Свет от точечного монохроматического источника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падал на два небольших отверстия на экране. Эти отверстия – два когерентных источника света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S1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и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S2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.Волны от них интерферируют в области перекрытия,  проходя разные пути: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Gautami"/>
                <a:ea typeface="Gautami"/>
              </a:rPr>
              <a:t>1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  <a:ea typeface="Gautami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Gautami"/>
              </a:rPr>
              <a:t> r</a:t>
            </a:r>
            <a:r>
              <a:rPr b="1" lang="en-US" sz="2400" spc="-1" strike="noStrike">
                <a:solidFill>
                  <a:srgbClr val="000000"/>
                </a:solidFill>
                <a:latin typeface="Gautami"/>
                <a:ea typeface="Gautami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Gautami"/>
                <a:ea typeface="Gautami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65" name="Picture 16" descr="Схема опыта Юнга"/>
          <p:cNvPicPr/>
          <p:nvPr/>
        </p:nvPicPr>
        <p:blipFill>
          <a:blip r:embed="rId3"/>
          <a:srcRect l="0" t="27563" r="0" b="27563"/>
          <a:stretch/>
        </p:blipFill>
        <p:spPr>
          <a:xfrm>
            <a:off x="611280" y="1628640"/>
            <a:ext cx="7704000" cy="30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Rectangle 15" descr=""/>
          <p:cNvPicPr/>
          <p:nvPr/>
        </p:nvPicPr>
        <p:blipFill>
          <a:blip r:embed="rId1"/>
          <a:stretch/>
        </p:blipFill>
        <p:spPr>
          <a:xfrm>
            <a:off x="-73080" y="-6480"/>
            <a:ext cx="8431200" cy="190836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8229600" cy="41148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6" descr="0400302"/>
          <p:cNvPicPr/>
          <p:nvPr/>
        </p:nvPicPr>
        <p:blipFill>
          <a:blip r:embed="rId3"/>
          <a:stretch/>
        </p:blipFill>
        <p:spPr>
          <a:xfrm>
            <a:off x="0" y="1781280"/>
            <a:ext cx="8820000" cy="50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Rectangle 4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7" descr="Условие интерференционного максимума"/>
          <p:cNvPicPr/>
          <p:nvPr/>
        </p:nvPicPr>
        <p:blipFill>
          <a:blip r:embed="rId2"/>
          <a:stretch/>
        </p:blipFill>
        <p:spPr>
          <a:xfrm>
            <a:off x="250920" y="1844640"/>
            <a:ext cx="4244760" cy="41767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8" descr="Условие интерференционного минимума"/>
          <p:cNvPicPr/>
          <p:nvPr/>
        </p:nvPicPr>
        <p:blipFill>
          <a:blip r:embed="rId3"/>
          <a:stretch/>
        </p:blipFill>
        <p:spPr>
          <a:xfrm>
            <a:off x="4648320" y="2401920"/>
            <a:ext cx="4343400" cy="3120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14:13:33Z</dcterms:created>
  <dc:creator>Полина</dc:creator>
  <dc:description/>
  <dc:language>en-US</dc:language>
  <cp:lastModifiedBy>User</cp:lastModifiedBy>
  <dcterms:modified xsi:type="dcterms:W3CDTF">2011-11-21T19:52:34Z</dcterms:modified>
  <cp:revision>66</cp:revision>
  <dc:subject/>
  <dc:title>ИНТЕРФЕРЕНЦИЯ СВЕТА</dc:title>
</cp:coreProperties>
</file>