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4CE-D223-454E-A7C7-C5C61AB3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A58-339D-40EA-9E41-B78FA6F6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0A8-FF13-43A1-BD78-15C1FB6F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604-F00B-46E1-9BD4-1B828FB5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EC9E-ED3C-4520-93C5-55B89EC3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CB5D-3DBF-4524-B9CE-D271D618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E812-CF52-413B-9669-6F8154CC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AD84-5E26-4198-8803-7D3A4944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6137-FC7B-46B1-88C2-B66E516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FB60-B025-46C2-8EBE-169811A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B45-BCB6-4F3B-B454-21725024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5D7-7AFD-4C38-B531-EA60DDFF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39E-E274-402E-B681-A68ACE8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197-BB57-4489-8FEA-162254B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D662-72A3-4377-8DC8-5B79840C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750-D9A2-4839-8258-DD3AF675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FDED-A9A3-4DC8-A14B-42B3B486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937-28C2-4D06-934F-FDEFE045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EAE-9CCD-46C5-B159-0C1E9166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BDB-5718-482A-8A9B-75CAD81F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227-E814-436C-9F45-AFE08CC7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E0F-AD0E-4D18-8CFE-FD5B95EF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85C-E612-48F9-ADBB-8589EAFE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975-81BF-42D3-AFBE-25F3476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BE28-B16E-44FE-AC1B-38BC641274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3F8E-64B9-4A68-9B18-3830BC28E5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Книга рекордов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класс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А здесь мы проверяли, у кого самые сильны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лёгкие. Победил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44560" y="1447920"/>
            <a:ext cx="7454880" cy="5105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Буслаков Алексе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7454880" cy="5562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амая долгая «ласточка» у Юли. Она же обладательница самого длинного шага среди девочек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44560" y="914400"/>
            <a:ext cx="7454880" cy="56386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реди мальчиков самым стойким оказался Игорь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ергею удалось больше всех присесть, удерживая карандаш между носом и губами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7454880" cy="5486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амая длинная чёлка у Алёши Мелентьева – 8см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44560" y="914400"/>
            <a:ext cx="7454880" cy="56386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амый длинный шаг среди мальчиков принадлежит Миш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5790960" cy="5867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810240" cy="5902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амая длинная коса у Лены Кули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На классном часе мы познакомились с книгой «Книга рекордов Гиннеса» и историей её создания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44560" y="1523880"/>
            <a:ext cx="7454880" cy="4700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Эти рекорды нам особенно запомнились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ые большие ступни у Мэтью Макгрори, СШ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ши кролика Тобби 2 в длину 74,3см, в ширину 18.7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ичард Ноубл 4 октября 1983 года промчался по пустыне со скоростью 1019,467 км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 на автомобиле с ракетным двигател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 июня 1996 году Доминик О’Брайен установил новый рекорд по запоминанию игральных карт. Он сумел запомнить колоду за 38,29 секун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ликая китайская стена протянулась на 3460 км. Это одно из немногих созданных людьми сооружений, которые можно увидеть из космо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5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рэнк Бомхолфер, штат Огайо, США, в июне 1924 года сфотографировался в шлеме, сплошь покрытом пчёла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454880" cy="54385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Есть в этой книге и русские рекорды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еро Байкал по объёму пресной воды занимает 1 место в мире. Его объём равен 23000 км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на Мастеркова 14 августа 1996 года в Швейцарии пробежала 1 милю за 12,56 секунд, а через 9 дней в Бельгии 1000 метров за 2 минуты 28,98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7000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996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Мы решили создать свою книгу рекордов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1025640"/>
            <a:ext cx="8305920" cy="5146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219320" y="1143000"/>
            <a:ext cx="64767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НИГ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КОРДО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7000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 первом конкурсе мы проверили самого выносливого …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дались: Женя,Миша, Лена, Юля, Лер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44560" y="1828800"/>
            <a:ext cx="7454880" cy="4724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11-27T09:37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