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69-8C23-45BC-B9DE-3FE598C9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9EB-C6C3-44A2-AD0D-5FC66FD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FAB-5B13-4A8D-873B-283EFB55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722-74B4-4DAA-A040-31447FD2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A2CF-15B0-498A-926E-B89C08CA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A7E7-8A4B-4094-A2F7-6A341885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4B3B-5898-45C3-9CE8-357EAC45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87DE-A30E-4569-9621-8574E26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D191-EB7D-40F9-875B-F050EAF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15B-2705-4F0F-9CD0-BA1236D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178E-CEF1-46B5-A94D-B8208A1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BC3-8709-4E32-8E9B-F9A7BFC8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83C-901B-4AC7-B18D-33DA914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86F9-0FB5-484E-9F6B-66A1D7C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7F6C-4A34-4FE5-AB08-FB2E8F8C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F22-A6FC-4570-8F19-9D17565F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BF6-8977-4FD6-ADE2-D901B6A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9DB-50F5-40B2-A9A4-10F8695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5D7-ADFE-470C-94EB-0278BE7C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FC3-1A9B-42AD-933E-4C1A23C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DE8-DA06-4AD6-94A3-FE522AA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B8F-F2FA-4019-876C-2BED18E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EEF-2D35-4B57-B6D9-3E0BA18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6B6-DEFD-47CF-90F6-CA4BE02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CD6-1264-40BF-961E-8AB5E66C9B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916-ABE6-4675-8E2E-CDACB5674B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Книга рекордов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класс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А здесь мы проверяли, у кого самые сильны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лёгкие. Победил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44560" y="1447920"/>
            <a:ext cx="7454880" cy="5105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услаков Алексе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454880" cy="5562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амая долгая «ласточка» у Юли. Она же обладательница самого длинного шага среди девочек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44560" y="914400"/>
            <a:ext cx="74548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реди мальчиков самым стойким оказался Игорь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ергею удалось больше всех присесть, удерживая карандаш между носом и губами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454880" cy="5486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ая длинная чёлка у Алёши Мелентьева – 8см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44560" y="914400"/>
            <a:ext cx="74548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ый длинный шаг среди мальчиков принадлежит Миш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790960" cy="5867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5902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амая длинная коса у Лены Кул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 классном часе мы познакомились с книгой «Книга рекордов Гиннеса» и историей её создания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454880" cy="4700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Эти рекорды нам особенно запомнились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ые большие ступни у Мэтью Макгрори, СШ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ши кролика Тобби 2 в длину 74,3см, в ширину 18.7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чард Ноубл 4 октября 1983 года промчался по пустыне со скоростью 1019,467 км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 на автомобиле с ракетным двигател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 июня 1996 году Доминик О’Брайен установил новый рекорд по запоминанию игральных карт. Он сумел запомнить колоду за 38,29 секун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ликая китайская стена протянулась на 3460 км. Это одно из немногих созданных людьми сооружений, которые можно увидеть из космо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5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энк Бомхолфер, штат Огайо, США, в июне 1924 года сфотографировался в шлеме, сплошь покрытом пчёла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454880" cy="5438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Есть в этой книге и русские рекорды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еро Байкал по объёму пресной воды занимает 1 место в мире. Его объём равен 23000 км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на Мастеркова 14 августа 1996 года в Швейцарии пробежала 1 милю за 12,56 секунд, а через 9 дней в Бельгии 1000 метров за 2 минуты 28,98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996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Мы решили создать свою книгу рекордов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025640"/>
            <a:ext cx="8305920" cy="5146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19320" y="1143000"/>
            <a:ext cx="6476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НИГ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КОРД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7000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первом конкурсе мы проверили самого выносливого …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дались: Женя,Миша, Лена, Юля, Ле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44560" y="1828800"/>
            <a:ext cx="7454880" cy="4724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7T09:37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