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png" ContentType="image/png"/>
  <Override PartName="/ppt/media/image3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6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31.jpeg" ContentType="image/jpeg"/>
  <Override PartName="/ppt/media/image6.png" ContentType="image/pn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13.gif" ContentType="image/gif"/>
  <Override PartName="/ppt/media/image12.gif" ContentType="image/gif"/>
  <Override PartName="/ppt/media/image32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0.gif" ContentType="image/gif"/>
  <Override PartName="/ppt/media/image40.jpeg" ContentType="image/jpeg"/>
  <Override PartName="/ppt/media/image9.png" ContentType="image/png"/>
  <Override PartName="/ppt/media/image38.jpeg" ContentType="image/jpeg"/>
  <Override PartName="/ppt/media/image5.gif" ContentType="image/gif"/>
  <Override PartName="/ppt/media/image30.jpeg" ContentType="image/jpeg"/>
  <Override PartName="/ppt/media/image7.wmf" ContentType="image/x-wmf"/>
  <Override PartName="/ppt/media/image33.jpeg" ContentType="image/jpeg"/>
  <Override PartName="/ppt/media/image4.gif" ContentType="image/gif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41.jpeg" ContentType="image/jpeg"/>
  <Override PartName="/ppt/media/image19.gif" ContentType="image/gif"/>
  <Override PartName="/ppt/media/image21.gif" ContentType="image/gif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8CF-E163-432C-A094-94458709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87C-5D5C-4179-BEB2-5867B4C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FF0-1189-4B1B-888E-32EF080F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A85-D4C2-43A6-A2B6-8248C298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B344-48F3-49AA-B01E-ACA62182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416-4D00-4C6D-9F91-508B54E1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DE2-A823-4C15-9475-A25F420C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A6A-5C9D-4F72-BFC9-3ABAA16C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5ED2-4E0A-4D14-9BD1-D0D5A38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93FC-88B7-4245-BFBA-60020CCF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E70-41A4-4E57-A577-F9F6484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572-0FF9-4386-8D81-DA284C3A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1323-C649-42B7-9188-F9C37CAD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BE17-1E63-44B1-94FC-8475ABA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FC1-1091-4C3D-9AC0-0D792FAE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E7E4-27B0-4222-BC30-C2FE22B1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DECE-C2B1-412A-8C23-08B71DF4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C2F-6DF9-4516-98CB-36FA9A2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BB5-98A9-43AD-9BA8-3F9F6BF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18E-0E04-4676-87BD-20808CE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AC7-73F1-46CC-BAD5-850AD34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6A2-2602-44EF-B5AC-25D9DE7B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D8B-63B4-4EC4-98F5-1D3D325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A63-5504-4B77-8091-8C3FB35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F64-9D84-4BDC-9B29-B5712D03F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62E-11B2-4590-BBEE-1F257FA0B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z.morozko.net/index.htm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зентация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6" descr="small_0798677.gif.jpg"/>
          <p:cNvPicPr/>
          <p:nvPr/>
        </p:nvPicPr>
        <p:blipFill>
          <a:blip r:embed="rId1"/>
          <a:stretch/>
        </p:blipFill>
        <p:spPr>
          <a:xfrm>
            <a:off x="304920" y="4648320"/>
            <a:ext cx="704880" cy="19047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small_0798677.gif.jpg"/>
          <p:cNvPicPr/>
          <p:nvPr/>
        </p:nvPicPr>
        <p:blipFill>
          <a:blip r:embed="rId2"/>
          <a:stretch/>
        </p:blipFill>
        <p:spPr>
          <a:xfrm>
            <a:off x="8229600" y="4572000"/>
            <a:ext cx="704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DSCN0073.jpg"/>
          <p:cNvPicPr/>
          <p:nvPr/>
        </p:nvPicPr>
        <p:blipFill>
          <a:blip r:embed="rId3"/>
          <a:stretch/>
        </p:blipFill>
        <p:spPr>
          <a:xfrm>
            <a:off x="533520" y="380880"/>
            <a:ext cx="8429400" cy="369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362320" y="1523880"/>
            <a:ext cx="4419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ьные г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есные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чное первенство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чшие поделки в конкурсе «Урожай 2007» у Буслакова Алексея, Мелентьева Алексея, Плескуниной Юл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курс закладок: 1 место – Ю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место – Л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место – Серг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Русский медвежонок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лёша М. – 1 место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лёша Б. – 3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на – 2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ыжные гонки: Игорь – 1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тём -  3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на – 1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95580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903240" cy="1209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4067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класс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участвов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Урожа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08». Самые активные: Лера, Алёша М., Юля, Кристина, Миша, Женя, Серг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макулатуры: Алёша Б., Артём, Лена, Алёша М., Юля, Крист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шиповника: Артём и Крист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Сувениры Деду Морозу». Участвовали Лера, Юля, Кристина, Саша. Алёша М. и Ксюша получили сладкие пр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 класс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ктив класс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295280"/>
          <a:ext cx="8229600" cy="5787720"/>
        </p:xfrm>
        <a:graphic>
          <a:graphicData uri="http://schemas.openxmlformats.org/drawingml/2006/table">
            <a:tbl>
              <a:tblPr/>
              <a:tblGrid>
                <a:gridCol w="2538360"/>
                <a:gridCol w="56912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ос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ик Ел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 старос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ля Плеску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нита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хайлова Диана, Старикова Кристина, Меньшенин  Кири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дколле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дачин Михаил, Буслаков Алексей, Краев Владисл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и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ковская Ксения, Лугинина Вале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удовое зве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емякин Сергей, Хабаров Евгений, Горбунов Артём, Ипатов Денис, Коковин Игорь, Мелентьев Алексей,Старковский Алексан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рожай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2009». Грамота за активное участ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деля по профориентации. Грамоты за 1 место в выполнении заданий и за 2 место в «Круизе по великому океану професси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деля ОБЖ. Грамоты за 3 место в конкурсе агитбригад и за 2 место в «Дорожном марафоне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diamond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гровая программа «Дорога сказок». Грамота за 1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йонный конкурс экологических проектов по озеленению «Цветами радуйте планету». Грамота за 2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чтецов на военную тематику. Грамота за активное участ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патриотической песни. Грамота за 1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8132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609560" cy="160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чные достижения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ставки рисунк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Осенние фантазии»: Миша и Ксюш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Весёлый праздник Новый год»: Артём, Диана, Владик, Кристина, Ми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Цветы в подарок маме»: Кирилл, Диана, Ксюша, Алёша М., Женя, Алёша 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Сохрани свою жизнь»: Кирилл, Диана, Ксюша, Ю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8 Марта»: Лена, Юля, Игорь, Ксюша, Лера, Дени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Рисунки по сказкам Г. Х. Андерсена»: Женя, Кирил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b21[1]"/>
          <p:cNvPicPr/>
          <p:nvPr/>
        </p:nvPicPr>
        <p:blipFill>
          <a:blip r:embed="rId1"/>
          <a:stretch/>
        </p:blipFill>
        <p:spPr>
          <a:xfrm flipH="1">
            <a:off x="7162920" y="0"/>
            <a:ext cx="1487520" cy="171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svetotek_obitateli"/>
          <p:cNvPicPr/>
          <p:nvPr/>
        </p:nvPicPr>
        <p:blipFill>
          <a:blip r:embed="rId2"/>
          <a:stretch/>
        </p:blipFill>
        <p:spPr>
          <a:xfrm>
            <a:off x="4191120" y="5562720"/>
            <a:ext cx="1295280" cy="904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vetotek_obitateli"/>
          <p:cNvPicPr/>
          <p:nvPr/>
        </p:nvPicPr>
        <p:blipFill>
          <a:blip r:embed="rId3"/>
          <a:stretch/>
        </p:blipFill>
        <p:spPr>
          <a:xfrm>
            <a:off x="2971800" y="5410080"/>
            <a:ext cx="1295280" cy="905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vetotek_obitateli"/>
          <p:cNvPicPr/>
          <p:nvPr/>
        </p:nvPicPr>
        <p:blipFill>
          <a:blip r:embed="rId4"/>
          <a:stretch/>
        </p:blipFill>
        <p:spPr>
          <a:xfrm>
            <a:off x="5486400" y="5410080"/>
            <a:ext cx="1295280" cy="905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76720" y="2775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чные достижения:                                                      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рожа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2009». Самая активная – Старикова Кристина. Сладкие призы получили Кристина, Лена, Алёша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сс 500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орь – 1 место.                                                                                Алёша М. – 2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Юля – 1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стина – 2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573200" cy="1501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чные достиж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95120" y="159984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Математическая олимпи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00"/>
                </a:solidFill>
                <a:uFillTx/>
                <a:latin typeface="Times New Roman"/>
              </a:rPr>
              <a:t>ноябрь, 200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Times New Roman"/>
              </a:rPr>
              <a:t>февраль, 20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место – Артём             Алёша 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место – Алёша М.       Артё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место – Алёша Б.         Миш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Олимпиада по русскому язы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место - Алёша 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место - Алёша Б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место - Миш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27" descr="peo-day_dreaming[1]"/>
          <p:cNvPicPr/>
          <p:nvPr/>
        </p:nvPicPr>
        <p:blipFill>
          <a:blip r:embed="rId1"/>
          <a:stretch/>
        </p:blipFill>
        <p:spPr>
          <a:xfrm flipH="1">
            <a:off x="6400440" y="4572000"/>
            <a:ext cx="17334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computer_girl[1]"/>
          <p:cNvPicPr/>
          <p:nvPr/>
        </p:nvPicPr>
        <p:blipFill>
          <a:blip r:embed="rId2"/>
          <a:stretch/>
        </p:blipFill>
        <p:spPr>
          <a:xfrm>
            <a:off x="380880" y="1752480"/>
            <a:ext cx="2313000" cy="24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чные достиж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«Сувениры Деду Морозу»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В район отправили только работы Дениса, Юли, Алёши М., Кирил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Меньшенин Кирилл – 3 место в номинации «Упаковка подар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Выставка рисунков Удачина Михаила «Рисуют мальчики войну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ученик 2"/>
          <p:cNvPicPr/>
          <p:nvPr/>
        </p:nvPicPr>
        <p:blipFill>
          <a:blip r:embed="rId2"/>
          <a:stretch/>
        </p:blipFill>
        <p:spPr>
          <a:xfrm>
            <a:off x="3505320" y="52578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429000" y="2247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0" t="0" r="60619" b="60752"/>
          <a:stretch/>
        </p:blipFill>
        <p:spPr>
          <a:xfrm rot="1118400">
            <a:off x="2438280" y="914400"/>
            <a:ext cx="4359240" cy="4498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914400" y="5067360"/>
            <a:ext cx="77724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шли мы в 5 класс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ё начинается со школьного звонка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 далёкий путь отчаливают парты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ам, впереди, покруче будут старты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 посерьёзней будут, а пока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2735280" cy="2243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20089800">
            <a:off x="838080" y="533160"/>
            <a:ext cx="3402000" cy="453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3200400" cy="389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1585200">
            <a:off x="5638680" y="2286000"/>
            <a:ext cx="3219480" cy="420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28840" cy="4238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3171960" cy="4267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810400" y="0"/>
            <a:ext cx="333360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81320" cy="378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2743200" y="0"/>
            <a:ext cx="3362400" cy="3781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923080" y="0"/>
            <a:ext cx="3220920" cy="4343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 rot="20824800">
            <a:off x="0" y="2666520"/>
            <a:ext cx="3209760" cy="4343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048120" y="2859120"/>
            <a:ext cx="3241440" cy="3998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 rot="1021200">
            <a:off x="6009840" y="3123720"/>
            <a:ext cx="3133800" cy="4000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4194000" cy="525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2133720" y="60948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5041800" y="1523880"/>
            <a:ext cx="4102200" cy="5334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ш класс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услаков Алекс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рбунов Артё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атов Дени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овин Иго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аев Владисла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лик Е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угинина Вале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лентьев Алекс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ньшенин Кирил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хайлова Ди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лескунина Юл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икова Крист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ковская Кс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ковский Александ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дачин Михаи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абаров Евг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емякин Серг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89680" y="1943280"/>
            <a:ext cx="352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Давайте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вспомним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05320" y="9144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133720"/>
          <a:ext cx="8153280" cy="4273560"/>
        </p:xfrm>
        <a:graphic>
          <a:graphicData uri="http://schemas.openxmlformats.org/drawingml/2006/table">
            <a:tbl>
              <a:tblPr/>
              <a:tblGrid>
                <a:gridCol w="251460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ос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ш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блиотека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ёша М., Артём, Л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нита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ра, Кристина, Же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ов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ис, Диана, Са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и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ёша Б., Юля, Ксю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 за порядок и дисципл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дик, Сергей, Кири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-457200"/>
            <a:ext cx="1441440" cy="2665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67640" y="257040"/>
            <a:ext cx="2071440" cy="1749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 в 1 класс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амота за участие в спортивном праздни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вый этап отборочных соревнований Малых Олимпийских игр – 1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ревнования по подвижным играм – 2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14600" y="3673440"/>
          <a:ext cx="403848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673440"/>
                    <a:ext cx="403848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чное первенств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Урожай - 2006»: Лугинина Валерия, Краев Владислав, Меньшенин Кирилл, Ипатов Дени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кормушек: Алексей Мелентьев, Алексей Бусла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Самый творческий первоклашка - 2007»: Буслаков Алекс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91320" y="4876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423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ерешли мы во второй класс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6758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10de"/>
                </a:solidFill>
                <a:latin typeface="Times New Roman"/>
              </a:rPr>
              <a:t>Название – </a:t>
            </a:r>
            <a:r>
              <a:rPr b="0" lang="en-US" sz="3200" spc="-1" strike="noStrike">
                <a:solidFill>
                  <a:srgbClr val="3c10de"/>
                </a:solidFill>
                <a:latin typeface="Times New Roman"/>
              </a:rPr>
              <a:t>Stars</a:t>
            </a:r>
            <a:r>
              <a:rPr b="0" lang="ru-RU" sz="3200" spc="-1" strike="noStrike">
                <a:solidFill>
                  <a:srgbClr val="3c10de"/>
                </a:solidFill>
                <a:latin typeface="Times New Roman"/>
              </a:rPr>
              <a:t> ( в переводе с англ. – «звёзды»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09b"/>
                </a:solidFill>
                <a:latin typeface="Times New Roman"/>
              </a:rPr>
              <a:t>Девиз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просто супер, просто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сё получится у нас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 всех делах нас ждёт успе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ь мы на свете лучше всех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image533"/>
          <p:cNvPicPr/>
          <p:nvPr/>
        </p:nvPicPr>
        <p:blipFill>
          <a:blip r:embed="rId1"/>
          <a:stretch/>
        </p:blipFill>
        <p:spPr>
          <a:xfrm>
            <a:off x="6858000" y="4343400"/>
            <a:ext cx="2044800" cy="216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professor"/>
          <p:cNvPicPr/>
          <p:nvPr/>
        </p:nvPicPr>
        <p:blipFill>
          <a:blip r:embed="rId2"/>
          <a:stretch/>
        </p:blipFill>
        <p:spPr>
          <a:xfrm>
            <a:off x="7086600" y="304920"/>
            <a:ext cx="1441440" cy="174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7620120" cy="6916680"/>
        </p:xfrm>
        <a:graphic>
          <a:graphicData uri="http://schemas.openxmlformats.org/drawingml/2006/table">
            <a:tbl>
              <a:tblPr/>
              <a:tblGrid>
                <a:gridCol w="3160800"/>
                <a:gridCol w="2431800"/>
                <a:gridCol w="202752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ши пору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год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год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ёша 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ра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и учи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еня, Лена, Кирилл,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сюша, Серг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 за поряд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тём, Алёша М., Миша, Влад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блиотека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сюша, Иго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о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гей, Ди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дик, Иго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 за поздравление именин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ра, Ю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на и Артё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нит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стина, Ден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стина,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352600" cy="21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3499200">
            <a:off x="6914880" y="4629240"/>
            <a:ext cx="2352600" cy="21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 во 2 класс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место в игре «Перестрелка» между 1 и 2 класс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плом за участие в соревнованиях, посвящённых дню тури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плом за участие в школьном фестивале экологических спектаклей «Наш дом – Земля» в номинации «Разнообразие декораци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99360" y="4343400"/>
            <a:ext cx="2744640" cy="2895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11-27T09:39:2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