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6.png" ContentType="image/png"/>
  <Override PartName="/ppt/media/image3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6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31.jpeg" ContentType="image/jpeg"/>
  <Override PartName="/ppt/media/image6.png" ContentType="image/pn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1.gif" ContentType="image/gif"/>
  <Override PartName="/ppt/media/image13.gif" ContentType="image/gif"/>
  <Override PartName="/ppt/media/image12.gif" ContentType="image/gif"/>
  <Override PartName="/ppt/media/image32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10.gif" ContentType="image/gif"/>
  <Override PartName="/ppt/media/image40.jpeg" ContentType="image/jpeg"/>
  <Override PartName="/ppt/media/image9.png" ContentType="image/png"/>
  <Override PartName="/ppt/media/image38.jpeg" ContentType="image/jpeg"/>
  <Override PartName="/ppt/media/image5.gif" ContentType="image/gif"/>
  <Override PartName="/ppt/media/image30.jpeg" ContentType="image/jpeg"/>
  <Override PartName="/ppt/media/image7.wmf" ContentType="image/x-wmf"/>
  <Override PartName="/ppt/media/image33.jpeg" ContentType="image/jpeg"/>
  <Override PartName="/ppt/media/image4.gif" ContentType="image/gif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41.jpeg" ContentType="image/jpeg"/>
  <Override PartName="/ppt/media/image19.gif" ContentType="image/gif"/>
  <Override PartName="/ppt/media/image21.gif" ContentType="image/gif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DC7-7E93-4E82-9FB6-0610AB00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318-83E6-42C5-9CAC-51B91EA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FAA-86A3-4B2C-B4F8-790AB465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831-3EC7-42BF-8617-A64083EB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A9B2-08EF-4095-8372-6DF6B422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E6B0-B35E-4C07-940D-925FF08E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F30F-268E-4B24-81EC-D11BC148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52FA-A3F0-4F07-B84B-3CF9306D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A498-F3A9-4530-A0F4-B711F428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5F23-888C-47E9-A88C-80CB551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E1D5-FAF1-436B-8DD6-54A5EBB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F06-9201-4261-B9C8-AE713757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AF0B-6438-4B08-BA8E-54B9AB8B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EA64-7107-4E4D-A405-82FD553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EC4-1E05-435C-A5FB-AD7383E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0A5A-6004-49CE-834F-B8792985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7223-1F12-4852-98C8-F072F80B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FB0-5315-4C28-AB64-E20FCEF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DA4-178B-4F0B-99C8-DAC1993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EAA-78C6-430C-8D3A-7DF0E9F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44D-B11F-4AC6-A063-332B851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92E-DD8A-4196-BBC2-EC25E49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081-EEB3-41AF-BFF5-60AECE08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D5E-41B3-480D-9B81-503FCB5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0B99-1C86-4501-A509-DDDD7D9D2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7B28-E7A4-49DD-827D-77D1F97E5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z.morozko.net/index.html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зентация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Рисунок 6" descr="small_0798677.gif.jpg"/>
          <p:cNvPicPr/>
          <p:nvPr/>
        </p:nvPicPr>
        <p:blipFill>
          <a:blip r:embed="rId1"/>
          <a:stretch/>
        </p:blipFill>
        <p:spPr>
          <a:xfrm>
            <a:off x="304920" y="4648320"/>
            <a:ext cx="704880" cy="19047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small_0798677.gif.jpg"/>
          <p:cNvPicPr/>
          <p:nvPr/>
        </p:nvPicPr>
        <p:blipFill>
          <a:blip r:embed="rId2"/>
          <a:stretch/>
        </p:blipFill>
        <p:spPr>
          <a:xfrm>
            <a:off x="8229600" y="4572000"/>
            <a:ext cx="704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DSCN0073.jpg"/>
          <p:cNvPicPr/>
          <p:nvPr/>
        </p:nvPicPr>
        <p:blipFill>
          <a:blip r:embed="rId3"/>
          <a:stretch/>
        </p:blipFill>
        <p:spPr>
          <a:xfrm>
            <a:off x="533520" y="380880"/>
            <a:ext cx="8429400" cy="369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362320" y="1523880"/>
            <a:ext cx="4419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ьные г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есные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чное первенство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чшие поделки в конкурсе «Урожай 2007» у Буслакова Алексея, Мелентьева Алексея, Плескуниной Юл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нкурс закладок: 1 место – Ю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место – Л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место – Серг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«Русский медвежонок»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лёша М. – 1 место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лёша Б. – 3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на – 2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ыжные гонки: Игорь – 1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ртём -  3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на – 1 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95580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903240" cy="1209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34120" y="4067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класс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участвов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Урожай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08». Самые активные: Лера, Алёша М., Юля, Кристина, Миша, Женя, Серг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макулатуры: Алёша Б., Артём, Лена, Алёша М., Юля, Крист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шиповника: Артём и Крист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Сувениры Деду Морозу». Участвовали Лера, Юля, Кристина, Саша. Алёша М. и Ксюша получили сладкие пр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diamond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 класс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ктив класс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295280"/>
          <a:ext cx="8229600" cy="5787720"/>
        </p:xfrm>
        <a:graphic>
          <a:graphicData uri="http://schemas.openxmlformats.org/drawingml/2006/table">
            <a:tbl>
              <a:tblPr/>
              <a:tblGrid>
                <a:gridCol w="2538360"/>
                <a:gridCol w="56912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ос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ик Ел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 старос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ля Плеску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нита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хайлова Диана, Старикова Кристина, Меньшенин  Кири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дколлег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дачин Михаил, Буслаков Алексей, Краев Владисл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и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ковская Ксения, Лугинина Вале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удовое зве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емякин Сергей, Хабаров Евгений, Горбунов Артём, Ипатов Денис, Коковин Игорь, Мелентьев Алексей,Старковский Александ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рожай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2009». Грамота за активное участ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деля по профориентации. Грамоты за 1 место в выполнении заданий и за 2 место в «Круизе по великому океану профессий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деля ОБЖ. Грамоты за 3 место в конкурсе агитбригад и за 2 место в «Дорожном марафоне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diamond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гровая программа «Дорога сказок». Грамота за 1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йонный конкурс экологических проектов по озеленению «Цветами радуйте планету». Грамота за 2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чтецов на военную тематику. Грамота за активное участ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патриотической песни. Грамота за 1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8132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609560" cy="1609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чные достижения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ставки рисунко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Осенние фантазии»: Миша и Ксюш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Весёлый праздник Новый год»: Артём, Диана, Владик, Кристина, Миш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Цветы в подарок маме»: Кирилл, Диана, Ксюша, Алёша М., Женя, Алёша 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Сохрани свою жизнь»: Кирилл, Диана, Ксюша, Ю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8 Марта»: Лена, Юля, Игорь, Ксюша, Лера, Дени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Рисунки по сказкам Г. Х. Андерсена»: Женя, Кирил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b21[1]"/>
          <p:cNvPicPr/>
          <p:nvPr/>
        </p:nvPicPr>
        <p:blipFill>
          <a:blip r:embed="rId1"/>
          <a:stretch/>
        </p:blipFill>
        <p:spPr>
          <a:xfrm flipH="1">
            <a:off x="7162920" y="0"/>
            <a:ext cx="1487520" cy="1716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svetotek_obitateli"/>
          <p:cNvPicPr/>
          <p:nvPr/>
        </p:nvPicPr>
        <p:blipFill>
          <a:blip r:embed="rId2"/>
          <a:stretch/>
        </p:blipFill>
        <p:spPr>
          <a:xfrm>
            <a:off x="4191120" y="5562720"/>
            <a:ext cx="1295280" cy="904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vetotek_obitateli"/>
          <p:cNvPicPr/>
          <p:nvPr/>
        </p:nvPicPr>
        <p:blipFill>
          <a:blip r:embed="rId3"/>
          <a:stretch/>
        </p:blipFill>
        <p:spPr>
          <a:xfrm>
            <a:off x="2971800" y="5410080"/>
            <a:ext cx="1295280" cy="905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vetotek_obitateli"/>
          <p:cNvPicPr/>
          <p:nvPr/>
        </p:nvPicPr>
        <p:blipFill>
          <a:blip r:embed="rId4"/>
          <a:stretch/>
        </p:blipFill>
        <p:spPr>
          <a:xfrm>
            <a:off x="5486400" y="5410080"/>
            <a:ext cx="1295280" cy="905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76720" y="2775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чные достижения:                                                               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Урожа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2009». Самая активная – Старикова Кристина. Сладкие призы получили Кристина, Лена, Алёша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сс 500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орь – 1 место.                                                                                Алёша М. – 2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Юля – 1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стина – 2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573200" cy="1501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чные достиж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95120" y="1599840"/>
            <a:ext cx="579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Математическая олимпиа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cc00"/>
                </a:solidFill>
                <a:uFillTx/>
                <a:latin typeface="Times New Roman"/>
              </a:rPr>
              <a:t>ноябрь, 200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cc00"/>
                </a:solidFill>
                <a:uFillTx/>
                <a:latin typeface="Times New Roman"/>
              </a:rPr>
              <a:t>февраль, 20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место – Артём             Алёша Б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место – Алёша М.       Артё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место – Алёша Б.         Миш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Олимпиада по русскому язык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место - Алёша 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место - Алёша Б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место - Миш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27" descr="peo-day_dreaming[1]"/>
          <p:cNvPicPr/>
          <p:nvPr/>
        </p:nvPicPr>
        <p:blipFill>
          <a:blip r:embed="rId1"/>
          <a:stretch/>
        </p:blipFill>
        <p:spPr>
          <a:xfrm flipH="1">
            <a:off x="6400440" y="4572000"/>
            <a:ext cx="17334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computer_girl[1]"/>
          <p:cNvPicPr/>
          <p:nvPr/>
        </p:nvPicPr>
        <p:blipFill>
          <a:blip r:embed="rId2"/>
          <a:stretch/>
        </p:blipFill>
        <p:spPr>
          <a:xfrm>
            <a:off x="380880" y="1752480"/>
            <a:ext cx="2313000" cy="24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чные достиже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«Сувениры Деду Морозу»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В район отправили только работы Дениса, Юли, Алёши М., Кирил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Меньшенин Кирилл – 3 место в номинации «Упаковка подар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Выставка рисунков Удачина Михаила «Рисуют мальчики войну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ученик 2"/>
          <p:cNvPicPr/>
          <p:nvPr/>
        </p:nvPicPr>
        <p:blipFill>
          <a:blip r:embed="rId2"/>
          <a:stretch/>
        </p:blipFill>
        <p:spPr>
          <a:xfrm>
            <a:off x="3505320" y="525780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429000" y="2247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0" t="0" r="60619" b="60752"/>
          <a:stretch/>
        </p:blipFill>
        <p:spPr>
          <a:xfrm rot="1118400">
            <a:off x="2438280" y="914400"/>
            <a:ext cx="4359240" cy="4498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914400" y="5067360"/>
            <a:ext cx="77724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шли мы в 5 класс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diamond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ё начинается со школьного звонка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 далёкий путь отчаливают парты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ам, впереди, покруче будут старты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 посерьёзней будут, а пока…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2735280" cy="2243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20089800">
            <a:off x="838080" y="533160"/>
            <a:ext cx="3402000" cy="4530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3200400" cy="389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 rot="1585200">
            <a:off x="5638680" y="2286000"/>
            <a:ext cx="3219480" cy="4200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28840" cy="4238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743200" y="0"/>
            <a:ext cx="3171960" cy="4267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810400" y="0"/>
            <a:ext cx="333360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81320" cy="378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2743200" y="0"/>
            <a:ext cx="3362400" cy="3781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923080" y="0"/>
            <a:ext cx="3220920" cy="4343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 rot="20824800">
            <a:off x="0" y="2666520"/>
            <a:ext cx="3209760" cy="4343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3048120" y="2859120"/>
            <a:ext cx="3241440" cy="3998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 rot="1021200">
            <a:off x="6009840" y="3123720"/>
            <a:ext cx="3133800" cy="4000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4194000" cy="525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2133720" y="60948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"/>
          <a:stretch/>
        </p:blipFill>
        <p:spPr>
          <a:xfrm>
            <a:off x="5041800" y="1523880"/>
            <a:ext cx="4102200" cy="5334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аш класс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услаков Алекс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рбунов Артё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атов Дени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овин Иго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аев Владисла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лик Е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угинина Вале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лентьев Алекс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ньшенин Кирил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хайлова Ди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лескунина Юл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икова Крист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ковская Кс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ковский Александ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дачин Михаи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абаров Евг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емякин Серг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89680" y="1943280"/>
            <a:ext cx="352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Давайте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вспомним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05320" y="9144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кла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2133720"/>
          <a:ext cx="8153280" cy="4273560"/>
        </p:xfrm>
        <a:graphic>
          <a:graphicData uri="http://schemas.openxmlformats.org/drawingml/2006/table">
            <a:tbl>
              <a:tblPr/>
              <a:tblGrid>
                <a:gridCol w="251460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ос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ш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блиотекар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ёша М., Артём, Л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нита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ра, Кристина, Же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ов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ис, Диана, Са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и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ёша Б., Юля, Ксю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 за порядок и дисципл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адик, Сергей, Кири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-457200"/>
            <a:ext cx="1441440" cy="2665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67640" y="257040"/>
            <a:ext cx="2071440" cy="1749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 в 1 класс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амота за участие в спортивном праздни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вый этап отборочных соревнований Малых Олимпийских игр – 1 ме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ревнования по подвижным играм – 2 ме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14600" y="3673440"/>
          <a:ext cx="403848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673440"/>
                    <a:ext cx="403848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чное первенств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Урожай - 2006»: Лугинина Валерия, Краев Владислав, Меньшенин Кирилл, Ипатов Дени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кормушек: Алексей Мелентьев, Алексей Бусла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Самый творческий первоклашка - 2007»: Буслаков Алекс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91320" y="48769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423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ерешли мы во второй класс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09120" y="1904760"/>
            <a:ext cx="6758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10de"/>
                </a:solidFill>
                <a:latin typeface="Times New Roman"/>
              </a:rPr>
              <a:t>Название – </a:t>
            </a:r>
            <a:r>
              <a:rPr b="0" lang="en-US" sz="3200" spc="-1" strike="noStrike">
                <a:solidFill>
                  <a:srgbClr val="3c10de"/>
                </a:solidFill>
                <a:latin typeface="Times New Roman"/>
              </a:rPr>
              <a:t>Stars</a:t>
            </a:r>
            <a:r>
              <a:rPr b="0" lang="ru-RU" sz="3200" spc="-1" strike="noStrike">
                <a:solidFill>
                  <a:srgbClr val="3c10de"/>
                </a:solidFill>
                <a:latin typeface="Times New Roman"/>
              </a:rPr>
              <a:t> ( в переводе с англ. – «звёзды»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09b"/>
                </a:solidFill>
                <a:latin typeface="Times New Roman"/>
              </a:rPr>
              <a:t>Девиз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просто супер, просто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сё получится у нас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 всех делах нас ждёт успе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дь мы на свете лучше всех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image533"/>
          <p:cNvPicPr/>
          <p:nvPr/>
        </p:nvPicPr>
        <p:blipFill>
          <a:blip r:embed="rId1"/>
          <a:stretch/>
        </p:blipFill>
        <p:spPr>
          <a:xfrm>
            <a:off x="6858000" y="4343400"/>
            <a:ext cx="2044800" cy="216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professor"/>
          <p:cNvPicPr/>
          <p:nvPr/>
        </p:nvPicPr>
        <p:blipFill>
          <a:blip r:embed="rId2"/>
          <a:stretch/>
        </p:blipFill>
        <p:spPr>
          <a:xfrm>
            <a:off x="7086600" y="304920"/>
            <a:ext cx="1441440" cy="174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7620120" cy="6916680"/>
        </p:xfrm>
        <a:graphic>
          <a:graphicData uri="http://schemas.openxmlformats.org/drawingml/2006/table">
            <a:tbl>
              <a:tblPr/>
              <a:tblGrid>
                <a:gridCol w="3160800"/>
                <a:gridCol w="2431800"/>
                <a:gridCol w="202752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ши пору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год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год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ро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ёша 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ра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мощники учи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еня, Лена, Кирилл,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сюша, Серг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 за поряд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тём, Алёша М., Миша, Влад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блиотека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сюша, Иго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ветов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гей, Ди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ладик, Иго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 за поздравление именин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ра, Ю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на и Артё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нит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стина, Ден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стина, Саш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352600" cy="210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3499200">
            <a:off x="6914880" y="4629240"/>
            <a:ext cx="2352600" cy="21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 участвовали во 2 класс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место в игре «Перестрелка» между 1 и 2 класс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плом за участие в соревнованиях, посвящённых дню тури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иплом за участие в школьном фестивале экологических спектаклей «Наш дом – Земля» в номинации «Разнообразие декораци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99360" y="4343400"/>
            <a:ext cx="2744640" cy="2895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11-27T09:39:2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