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B717F-D4CC-4969-B990-02191F211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78F3C-518A-4EB6-AE02-22713E3D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95A22-47D7-4DF9-8B82-2178FE218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7BCBF-B4B4-4EB1-9914-A32CA6556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1BFBA-5233-4955-A330-EC8220F82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837AA-F613-41AB-AFEA-EA10A28FD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7AA6D-C958-4915-8CB8-BDCF5B71D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EFF98-DC3C-4173-9CEA-602562193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AD9BA-10B0-4171-9FF8-00195A24E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AA53-BBF5-42E5-B0D2-A39283F9B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96E70-C413-4AE3-915B-1BA11F09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AE57-8D8D-41B5-A0D1-1B802574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DB88-0B84-4A1F-9349-2DEDB99C1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73736-4784-474E-95D0-0A055BED2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82E59-887E-49A1-BF62-E8ABA0F7E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C7203-05EE-469F-AC4F-BA888F968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8BF42-23E1-42D8-A6E0-6F1B02048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BDECE-AC3B-4691-AEE8-4889A1D1A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89BC-90F7-4B13-8D27-AD38F83D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931C-CBA0-40A6-B745-601F24A46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D657-D5A0-46C5-82F7-6B4E4CB1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126BA-BA74-457F-A2FF-8E5A9F6D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096A-0C0C-46CC-8E82-336F888C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1878-81C3-4F89-811E-538D1A31B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6EDF-C28D-4F49-9B94-A2C82105E62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33B6-2256-4EB6-A492-21CB32557464}"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60;&#1072;&#1081;&#1083;:Ocelot.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ec94"/>
                </a:solidFill>
                <a:latin typeface="Times New Roman"/>
              </a:rPr>
              <a:t>Семейство кошачьи</a:t>
            </a:r>
            <a:endParaRPr b="1" lang="en-US" sz="2000" spc="-1" strike="noStrike">
              <a:solidFill>
                <a:srgbClr val="feec94"/>
              </a:solidFill>
              <a:latin typeface="Times New Roman"/>
            </a:endParaRPr>
          </a:p>
        </p:txBody>
      </p:sp>
      <p:sp>
        <p:nvSpPr>
          <p:cNvPr id="121" name="PlaceHolder 2"/>
          <p:cNvSpPr>
            <a:spLocks noGrp="1"/>
          </p:cNvSpPr>
          <p:nvPr>
            <p:ph type="subTitle"/>
          </p:nvPr>
        </p:nvSpPr>
        <p:spPr>
          <a:xfrm>
            <a:off x="4788000" y="3886200"/>
            <a:ext cx="4356000" cy="175248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ученица 3 «А» класса      Колпакова Екатерина</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КОШКА ЛЕСНАЯ</a:t>
            </a:r>
            <a:br>
              <a:rPr sz="2000"/>
            </a:br>
            <a:br>
              <a:rPr sz="2000"/>
            </a:br>
            <a:endParaRPr b="1" lang="en-US" sz="2000" spc="-1" strike="noStrike">
              <a:solidFill>
                <a:srgbClr val="feec94"/>
              </a:solidFill>
              <a:latin typeface="Times New Roman"/>
            </a:endParaRPr>
          </a:p>
        </p:txBody>
      </p:sp>
      <p:sp>
        <p:nvSpPr>
          <p:cNvPr id="151" name="PlaceHolder 2"/>
          <p:cNvSpPr>
            <a:spLocks noGrp="1"/>
          </p:cNvSpPr>
          <p:nvPr>
            <p:ph/>
          </p:nvPr>
        </p:nvSpPr>
        <p:spPr>
          <a:xfrm>
            <a:off x="-1405080" y="764640"/>
            <a:ext cx="6121440" cy="6093000"/>
          </a:xfrm>
          <a:prstGeom prst="rect">
            <a:avLst/>
          </a:prstGeom>
          <a:noFill/>
          <a:ln w="0">
            <a:noFill/>
          </a:ln>
        </p:spPr>
        <p:txBody>
          <a:bodyPr lIns="90000" rIns="90000" tIns="46800" bIns="46800" anchor="t">
            <a:normAutofit/>
          </a:bodyPr>
          <a:p>
            <a:pPr lvl="4" marL="2057400" indent="0">
              <a:lnSpc>
                <a:spcPct val="9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ffffff"/>
                </a:solidFill>
                <a:latin typeface="Times New Roman"/>
              </a:rPr>
              <a:t>КОШКА ЛЕСНАЯ (Felis silvestris)</a:t>
            </a:r>
            <a:r>
              <a:rPr b="0" lang="ru-RU" sz="1400" spc="-1" strike="noStrike">
                <a:solidFill>
                  <a:srgbClr val="ffffff"/>
                </a:solidFill>
                <a:latin typeface="Times New Roman"/>
              </a:rPr>
              <a:t> иногда называемая европейской, или дикой, по внешнему виду, особенно по окраске, похожа на обыкновенную серую домашнюю кошку, так что нередко распознавать их бывает очень трудно, тем более что домашние кошки нередко дичают. Лесная кошка более плотного телосложения, крупнее, с толстым хвостом, как бы обрубленным на конце. Длина тела до 75—80 см, хвоста — 30—34 см, масса около 6 кг, а иногда до 10 кг. Распространена она по всей Западной Европе, включая Шотландию, где сохранились подходящие условия, в Малой Азии, а также в Европейской части России. Лесная кошка живет преимущественно в смешанных низменных и горных лесах до высоты 1500—2000 м, реже — в зарослях кустарников и тростника. Предпочитает глухие, безлюдные места, хотя изредка поселяется на чердаках домов. На Кавказе с выпадением снега перемещается в нижний пояс гор. Индивидуальный участок занимает около 2—3 км2. Для убежищ дикая кошка использует - дупла, расщелины скал, старые норы барсуков и лисиц. Охотится обычно по ночам, а при пасмурной погоде и днем, главным образом путем подкарауливания или скрадывания, но известны случаи преследования зайца-русака в угон. Питается в основном мелкими грызунами, отчасти птицами из воробьиных. </a:t>
            </a:r>
            <a:endParaRPr b="0" lang="en-US" sz="1400" spc="-1" strike="noStrike">
              <a:solidFill>
                <a:srgbClr val="ffffff"/>
              </a:solidFill>
              <a:latin typeface="Times New Roman"/>
            </a:endParaRPr>
          </a:p>
        </p:txBody>
      </p:sp>
      <p:sp>
        <p:nvSpPr>
          <p:cNvPr id="152" name=""/>
          <p:cNvSpPr txBox="1"/>
          <p:nvPr/>
        </p:nvSpPr>
        <p:spPr>
          <a:xfrm>
            <a:off x="4858920" y="12682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4" name="" descr=""/>
          <p:cNvPicPr/>
          <p:nvPr/>
        </p:nvPicPr>
        <p:blipFill>
          <a:blip r:embed="rId1"/>
          <a:stretch/>
        </p:blipFill>
        <p:spPr>
          <a:xfrm>
            <a:off x="4788000" y="1197000"/>
            <a:ext cx="4151160" cy="4608360"/>
          </a:xfrm>
          <a:prstGeom prst="rect">
            <a:avLst/>
          </a:prstGeom>
          <a:ln w="0">
            <a:noFill/>
          </a:ln>
        </p:spPr>
      </p:pic>
      <p:sp>
        <p:nvSpPr>
          <p:cNvPr id="155" name=""/>
          <p:cNvSpPr/>
          <p:nvPr/>
        </p:nvSpPr>
        <p:spPr>
          <a:xfrm>
            <a:off x="-4653000" y="3260880"/>
            <a:ext cx="18432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00360" y="0"/>
            <a:ext cx="4392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ЛЕВ</a:t>
            </a:r>
            <a:endParaRPr b="1" lang="en-US" sz="2000" spc="-1" strike="noStrike">
              <a:solidFill>
                <a:srgbClr val="feec94"/>
              </a:solidFill>
              <a:latin typeface="Times New Roman"/>
            </a:endParaRPr>
          </a:p>
        </p:txBody>
      </p:sp>
      <p:sp>
        <p:nvSpPr>
          <p:cNvPr id="157" name="PlaceHolder 2"/>
          <p:cNvSpPr>
            <a:spLocks noGrp="1"/>
          </p:cNvSpPr>
          <p:nvPr>
            <p:ph/>
          </p:nvPr>
        </p:nvSpPr>
        <p:spPr>
          <a:xfrm>
            <a:off x="685800" y="692280"/>
            <a:ext cx="7772400" cy="345744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ЛЕВ (Panthera leo)</a:t>
            </a:r>
            <a:r>
              <a:rPr b="0" lang="ru-RU" sz="1400" spc="-1" strike="noStrike">
                <a:solidFill>
                  <a:srgbClr val="ffffff"/>
                </a:solidFill>
                <a:latin typeface="Times New Roman"/>
              </a:rPr>
              <a:t> имеет наиболее своеобразный внешний вид среди кошачьих. Это очень крупный, могучего телосложения зверь. Его самцы достигают в длину 180—240 см, не считая хвоста (60—90 см). Масса льва от 180 до 227 кг. Тело льва мощное, а вместе с тем стройное, можно сказать, поджарое. Голова чрезвычайно массивная, с довольно длинной мордой. Лапы невысокие, очень сильные. Хвост длинный, с кисточкой на конце. Весьма характерна сильно развитая у взрослых самцов длинная грива, покрывающая шею, плечи и грудь, тогда как на всем остальном теле шерсть короткая, буровато-желтая. Грива окрашена значительно темнее. Лев — один из немногих видов хищных зверей, у которых резко выражен половой диморфизм. Он проявляется не только в меньших размерах львиц, но и в отсутствии у них гривы. Еще в VIII — Х вв. львы водились даже на юге Европы, в частности на Кавказе, но ареал этого замечательного зверя неуклонно сокращался. Если раньше он простирался по всей Африке и далее на восток до Индостана, то теперь лев сохранился только в Центральной Африке, а затем, в очень небольшом числе, в индийском штате Гуджарат, в Гирских лесах. Вопреки широко распространенному мнению, лев отнюдь не принадлежит к числу обитателей пустынь. Для него наиболее благоприятны саванны с их открытым ландшафтом, обилием разнообразных копытных животных, наличием водопоев. Последние совершенно необходимы для существования львов. В отличие от других крупных хищников львы встречаются не только в одиночку и парами, но и крупными группами, так называемыми прайдами </a:t>
            </a:r>
            <a:endParaRPr b="0" lang="en-US" sz="1400" spc="-1" strike="noStrike">
              <a:solidFill>
                <a:srgbClr val="ffffff"/>
              </a:solidFill>
              <a:latin typeface="Times New Roman"/>
            </a:endParaRPr>
          </a:p>
        </p:txBody>
      </p:sp>
      <p:sp>
        <p:nvSpPr>
          <p:cNvPr id="158"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59" name="" descr=""/>
          <p:cNvPicPr/>
          <p:nvPr/>
        </p:nvPicPr>
        <p:blipFill>
          <a:blip r:embed="rId1"/>
          <a:stretch/>
        </p:blipFill>
        <p:spPr>
          <a:xfrm>
            <a:off x="3203640" y="3860640"/>
            <a:ext cx="3002040" cy="270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440" y="-360"/>
            <a:ext cx="38098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Добычей им служат различные антилопы, зебры и другие копытные средней величины, вплоть до молодых слонов, носорогов, бегемотов, а также домашнего скота. Лев ест падаль и всевозможных мелких животных (даже мышевидных грызунов). При охоте на крупную дичь хищник сперва осторожно подкрадывается к намеченной жертве, затем настигает ее несколькими огромными молниеносными прыжками и убивает с помощью своих могучих, вооруженных большими, острыми когтями лап и мощных зубов, способных раздробить любую кость. Насытившись, львы утоляют жажду и ложатся отдыхать. </a:t>
            </a:r>
            <a:endParaRPr b="0" lang="en-US" sz="1400" spc="-1" strike="noStrike">
              <a:solidFill>
                <a:srgbClr val="ffffff"/>
              </a:solidFill>
              <a:latin typeface="Times New Roman"/>
            </a:endParaRPr>
          </a:p>
        </p:txBody>
      </p:sp>
      <p:pic>
        <p:nvPicPr>
          <p:cNvPr id="161" name="" descr=""/>
          <p:cNvPicPr/>
          <p:nvPr/>
        </p:nvPicPr>
        <p:blipFill>
          <a:blip r:embed="rId1"/>
          <a:stretch/>
        </p:blipFill>
        <p:spPr>
          <a:xfrm>
            <a:off x="2700360" y="2637000"/>
            <a:ext cx="619272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ЛЕОПАРД (Panthera pardus)</a:t>
            </a:r>
            <a:r>
              <a:rPr b="0" lang="ru-RU" sz="1400" spc="-1" strike="noStrike">
                <a:solidFill>
                  <a:srgbClr val="ffffff"/>
                </a:solidFill>
                <a:latin typeface="Times New Roman"/>
              </a:rPr>
              <a:t> замечательно красивая кошка обладает вытянутым, гибким, стройным и вместе с тем сильным телом, округлой головой, длинным хвостом, стройными, очень сильными ногами. Тело в длину достигает 91—180 см, хвост — 75—110 см, масса обычно 32—40 кг, но изредка превышает 100 кг. Мех у леопардов из тропических стран густой, но не пушистый, весьма ярко окрашенный. У дальневосточных зверей зимой шерсть пушистая, более густая, довольно тусклая. Общий тон окраски желтый с тем или иным оттенком. По этому фону (по всему телу, хвосту и ногам) рассеяны четко очерченные сплошные и в виде колец черные пятна. В тропических странах иногда встречаются звери-меланисты, которых называют черными пантерами. Они особенно обычны на Яве. Черные особи могут родиться в одном выводке с нормально окрашенными детенышами. Ареал леопарда весьма обширен, превышая область распространения любого другого представителя семейства кошачьих, не исключая пумы. Он населяет большую часть Африки (кроме Сахары) и южную половину Азии. В пределах бывшего Советского Союза леопард еще недавно водился на Кавказе, но в настоящее время изредка появляется только в Закавказье. Иногда он встречается в республиках Средней Азии, а чаще — в южной части Приморья. Леопард обитает в глухих тропических, субтропических и смешанных лесах маньчжурского типа, на горных склонах и равнинах, в саваннах, зарослях по берегам рек. Подчас этот хищник живет неподалеку от населенных пунктов, держится поодиночке и выходит на охоту ночью.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64" name="" descr=""/>
          <p:cNvPicPr/>
          <p:nvPr/>
        </p:nvPicPr>
        <p:blipFill>
          <a:blip r:embed="rId1"/>
          <a:stretch/>
        </p:blipFill>
        <p:spPr>
          <a:xfrm>
            <a:off x="2556000" y="3284640"/>
            <a:ext cx="432108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440" y="1197000"/>
            <a:ext cx="3809880" cy="48988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Леопард прекрасно лазает по деревьям, нередко устраиваясь там на дневной отдых или в засаде, а порой даже ловит на деревьях обезьян. Однако в основном леопард охотится на земле. Он исключительно ловко подкрадывается к жертве и настигает ее несколькими мощными прыжками или подкарауливает в засаде около звериной тропы, над нею или у водопоя. Леопард в основном питается относительно мелкими разнообразными видами антилоп, оленями, косулями и другими копытными животными, а в случае их недостатка — грызунами, обезьянами, птицами, даже пресмыкающимися и насекомыми. Утром он затаскивает остатки крупной добычи на дерево, чтобы уберечь от гиен, шакалов и других некрофагов. Впрочем, старые леопарды сами едят падаль. Отдельные особи специализируются на охоте за собаками и домашним скотом. Наконец, среди леопардов, правда реже, чем у львов и тигров, появляются людоеды. Но по дерзости нападений на людей леопарды порой даже превосходят львов и тигров.</a:t>
            </a:r>
            <a:endParaRPr b="0" lang="en-US" sz="1400" spc="-1" strike="noStrike">
              <a:solidFill>
                <a:srgbClr val="ffffff"/>
              </a:solidFill>
              <a:latin typeface="Times New Roman"/>
            </a:endParaRPr>
          </a:p>
        </p:txBody>
      </p:sp>
      <p:pic>
        <p:nvPicPr>
          <p:cNvPr id="166" name="" descr=""/>
          <p:cNvPicPr/>
          <p:nvPr/>
        </p:nvPicPr>
        <p:blipFill>
          <a:blip r:embed="rId1"/>
          <a:stretch/>
        </p:blipFill>
        <p:spPr>
          <a:xfrm>
            <a:off x="4500720" y="260280"/>
            <a:ext cx="4386240" cy="348624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1640" y="764640"/>
            <a:ext cx="3886200" cy="6093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Семейство КОШАЧЬИ (Felidae)</a:t>
            </a:r>
            <a:r>
              <a:rPr b="0" lang="ru-RU" sz="1400" spc="-1" strike="noStrike">
                <a:solidFill>
                  <a:srgbClr val="ffffff"/>
                </a:solidFill>
                <a:latin typeface="Times New Roman"/>
              </a:rPr>
              <a:t> Кошачьи — наиболее специализированные из всех хищных, всецело приспособленные к добыванию животной пищи преимущественно путем скрадывания, подкарауливания, реже — преследования и к питанию мясом своих жертв. Подобный плотоядный образ жизни наложил глубокий отпечаток на все строение тела и многие другие морфологические особенности кошачьих. Наша домашняя кошка может служить типичным представителем семейства. Однако оно отличается большим разнообразием. Достаточно вспомнить, что наряду с мелкими кошками в семейство входят такие огромные звери, как лев и тигр, и столь своеобразные виды, как гепард, по своему экстерьеру скорее похожий на собаку. Длина тела в пределах семейства колеблется от 50 до 380 см, длина хвоста от 10 до 114 см, масса от 1,5 до 275 кг. Череп округлый, с хорошо развитыми скуловыми дугами и гребнями. Зубная система резко выраженного плотоядного типа. Клыки длинные, изогнутые. Коренные зубы, ряд которых укорочен, обладают острыми, режущими вершинами, особенно мощными у хищнических зубов. Важную роль в поедании мяса играет чрезвычайно шероховатый (подобно терке) мускулистый язык, покрытый заостренными, изогнутыми роговыми сосочками.</a:t>
            </a:r>
            <a:endParaRPr b="0" lang="en-US" sz="1400" spc="-1" strike="noStrike">
              <a:solidFill>
                <a:srgbClr val="ffffff"/>
              </a:solidFill>
              <a:latin typeface="Times New Roman"/>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4" name="250px-Ocelot" descr="">
            <a:hlinkClick r:id="rId1"/>
          </p:cNvPr>
          <p:cNvPicPr/>
          <p:nvPr/>
        </p:nvPicPr>
        <p:blipFill>
          <a:blip r:embed="rId2"/>
          <a:stretch/>
        </p:blipFill>
        <p:spPr>
          <a:xfrm>
            <a:off x="971640" y="1557360"/>
            <a:ext cx="3605040" cy="236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468360" y="0"/>
            <a:ext cx="4878360" cy="67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се кошачьи ведут вполне наземную жизнь, населяя преимущественно леса, отчасти пустыни, саванны и горы вплоть до верхнего их пояса. Многие виды прекрасно лазают по деревьям, способны делать огромные прыжки, некоторые хорошо и охотно плавают. Среди кошачьих есть отличные бегуны. Все они пальцеходящие. Питаются одной только животной пищей. Деятельны круглый год. Живут преимущественно в одиночку или семьями, львы образуют группы (прайды) до 20 особей и более. Пользуются естественными убежищами на земле и деревьях или чужими норами. Большинство видов приносит 1 выводок в год, наиболее крупные размножаются раз в 2—3 года. Период беременности длится от 55 до 270 дней. Детеныши рождаются слепыми, беспомощными. Самки у большинства видов становятся половозрелыми через 12—15 месяцев. Продолжительность жизни до 30 лет. Кошачьи широко распространены по всем континентам, кроме Австралии, а также Мадагаскара, Вест-Индии и ряда океанических островов. В своем большинстве приурочены к тропическим и субтропическим, отчасти к умеренным климатическим поясам.</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 семействе кошачьих различают 2 подсемейства, 4 рода и приблизительно 36 видов. Из них в фауне России представлены оба подсемейства, 3 рода и 12 видов. Все виды кошачьих, обладая красивым мехом, имеют пушное промысловое значение. Многие весьма полезны как истребители вредных грызунов. В состав семейства входит домашняя кошка (Felis catus) с большим числом пород и отродьев. Все виды кошачьих, кроме гепарда, относятся к подсемейству Felinae. Большинство их принадлежит к роду кошек {Felis) с множеством подродов.</a:t>
            </a:r>
            <a:endParaRPr b="0" lang="en-US" sz="1400" spc="-1" strike="noStrike">
              <a:solidFill>
                <a:srgbClr val="ffffff"/>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7" name="" descr=""/>
          <p:cNvPicPr/>
          <p:nvPr/>
        </p:nvPicPr>
        <p:blipFill>
          <a:blip r:embed="rId1"/>
          <a:stretch/>
        </p:blipFill>
        <p:spPr>
          <a:xfrm>
            <a:off x="5796000" y="620640"/>
            <a:ext cx="2857320" cy="2009880"/>
          </a:xfrm>
          <a:prstGeom prst="rect">
            <a:avLst/>
          </a:prstGeom>
          <a:ln w="0">
            <a:noFill/>
          </a:ln>
        </p:spPr>
      </p:pic>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29" name="" descr=""/>
          <p:cNvPicPr/>
          <p:nvPr/>
        </p:nvPicPr>
        <p:blipFill>
          <a:blip r:embed="rId2"/>
          <a:stretch/>
        </p:blipFill>
        <p:spPr>
          <a:xfrm>
            <a:off x="5651640" y="3789360"/>
            <a:ext cx="3241440" cy="16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0" y="188640"/>
            <a:ext cx="45720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РЫСЬ</a:t>
            </a:r>
            <a:endParaRPr b="1" lang="en-US" sz="2000" spc="-1" strike="noStrike">
              <a:solidFill>
                <a:srgbClr val="feec94"/>
              </a:solidFill>
              <a:latin typeface="Times New Roman"/>
            </a:endParaRPr>
          </a:p>
        </p:txBody>
      </p:sp>
      <p:sp>
        <p:nvSpPr>
          <p:cNvPr id="131" name="PlaceHolder 2"/>
          <p:cNvSpPr>
            <a:spLocks noGrp="1"/>
          </p:cNvSpPr>
          <p:nvPr>
            <p:ph/>
          </p:nvPr>
        </p:nvSpPr>
        <p:spPr>
          <a:xfrm>
            <a:off x="685440" y="-360"/>
            <a:ext cx="3809880" cy="7893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ЫСЬ (Felis lynx)</a:t>
            </a:r>
            <a:r>
              <a:rPr b="0" lang="ru-RU" sz="1400" spc="-1" strike="noStrike">
                <a:solidFill>
                  <a:srgbClr val="ffffff"/>
                </a:solidFill>
                <a:latin typeface="Times New Roman"/>
              </a:rPr>
              <a:t> принадлежит к типичным обитателям тайги, отчасти смешанных и горных лесов. По лесной зоне она далеко заходит к северу, где зимой существует в условиях глубокого, рыхлого снежного покрова, в связи с чем располагает специальными приспособлениями. Рысь — довольно крупный зверь. Тело ее имеет длину 82—105 см, хвост — 20—31 см, масса — 8—15 кг, редко больше. Туловище у нее короткое, плотное, на высоких сильных ногах с очень широкими мохнатыми лапами. По бокам головы развиты широкие баки, а на концах ушей —кисточки. Хвост короткий, на конце как бы обрубленный. Зимняя шерсть очень густая, мягкая, с окраской, изменяющейся от палево-дымчатой до ржаво-красноватой, с более или менее выраженной пятнистостью на спине, боках и ногах. Раньше считалось, что в Северной Америке водится особый вид рыси (F. canadensis), но, судя по всему, это всего лишь подвид. В Европе рысь сохранилась в лесных массивах, главным образом в горах Пиренейского полуострова, в Скандинавии, Финляндии, Польше, Чехословакии, Венгрии, Румынии, Югославии, Албании, Греции и почти по всей России. Рысь отдает предпочтение глухим, сильно захламленным темнохвойным лесам, хотя встречается в самых разнообразных насаждениях. Она отлично лазает по деревьям и скалам, способна далеко плавать. В случае недостатка корма рыси покидают насиженные места, пускаются в странствия и могут появиться где-нибудь далеко в лесостепи. </a:t>
            </a:r>
            <a:endParaRPr b="0" lang="en-US" sz="1400" spc="-1" strike="noStrike">
              <a:solidFill>
                <a:srgbClr val="ffffff"/>
              </a:solidFill>
              <a:latin typeface="Times New Roman"/>
            </a:endParaRPr>
          </a:p>
        </p:txBody>
      </p:sp>
      <p:pic>
        <p:nvPicPr>
          <p:cNvPr id="132" name="" descr=""/>
          <p:cNvPicPr/>
          <p:nvPr/>
        </p:nvPicPr>
        <p:blipFill>
          <a:blip r:embed="rId1"/>
          <a:stretch/>
        </p:blipFill>
        <p:spPr>
          <a:xfrm>
            <a:off x="5364000" y="76500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440" y="1268280"/>
            <a:ext cx="3809880" cy="4827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Вопреки широко распространенным представлениям, рысь никогда не прыгает на свою жертву с дерева, но предпочитает терпеливо подкарауливать в засаде около тропы или бесшумно, с необычайной осторожностью скрадывать, а затем нападать большими прыжками. Вообще это весьма ловкий и сильный хищник. Убежищем им служит логово под вывернутыми корнями упавшего дерева, какая-либо яма, небольшая земляная пещера, расщелина скал, старая нора барсука, расположенная в укромном, труднодоступном для людей месте. В воспитании потомства участвуют оба родителя. Рысь обладает красивым ценным мехом. Долгие годы у нас этого зверя относили к числу вредных, подлежащих истреблению. Однако на самом деле, как и многие хищники, рысь играет важную селекционную роль в лесных биоценозах и заслуживает внимательного к себе отношения. Лишь в некоторых специальных охотничьих хозяйствах, например там, где разводят косуль, пятнистых оленей, фазанов, присутствие рыси нежелательно.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 name=""/>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4788000" y="1700280"/>
            <a:ext cx="338292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ГЕПАРД</a:t>
            </a:r>
            <a:br>
              <a:rPr sz="4000"/>
            </a:br>
            <a:br>
              <a:rPr sz="4000"/>
            </a:br>
            <a:endParaRPr b="1" lang="en-US" sz="2000" spc="-1" strike="noStrike">
              <a:solidFill>
                <a:srgbClr val="feec94"/>
              </a:solidFill>
              <a:latin typeface="Times New Roman"/>
            </a:endParaRPr>
          </a:p>
        </p:txBody>
      </p:sp>
      <p:sp>
        <p:nvSpPr>
          <p:cNvPr id="137" name="PlaceHolder 2"/>
          <p:cNvSpPr>
            <a:spLocks noGrp="1"/>
          </p:cNvSpPr>
          <p:nvPr>
            <p:ph/>
          </p:nvPr>
        </p:nvSpPr>
        <p:spPr>
          <a:xfrm>
            <a:off x="324000" y="1052280"/>
            <a:ext cx="4171680" cy="561636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ГЕПАРД (Acinonyx jubatus)</a:t>
            </a:r>
            <a:r>
              <a:rPr b="0" lang="ru-RU" sz="1400" spc="-1" strike="noStrike">
                <a:solidFill>
                  <a:srgbClr val="ffffff"/>
                </a:solidFill>
                <a:latin typeface="Times New Roman"/>
              </a:rPr>
              <a:t> представляет собой совершенно особый приспособительный тип. Этот зверь настолько своеобразен, что выделяется в отдельное подсемейство. По внешнему облику и строению тела гепард скорее напоминает длинноногую собаку, чем кошку, ибо исключительно хорошо приспособлен к быстрому бегу. Это довольно крупное животное: длина тела около 130 см, хвоста — 75 см. Тело у него, сравнительно с другими кошками, укороченное, тогда как ноги очень длинные, тонкие, стройные, а вместе с тем сильные. Когти, что очень характерно, невтяжные. Хвост длинный, тонкий, равномерно опушенный. Голова небольшая. Мех короткий, негустой. Развита небольшая грива. Общий тон окраски желтоватый, песчаный. По всей шкуре гепарда, кроме брюха, густо рассеяны мелкие темные сплошные пятна. Гепард принадлежит к обитателям равнинных пустынь и саванн. В этих ландшафтах он распространен в Африке, Передней, Средней и Центральной Азии до Индостана, но всюду очень редок, изредка встречается только в Южной Туркмении. На охоту гепард выходит преимущественно днем или в сумерки, реже — ночью, перед этим отдохнув в логове, под кустом или в траве. Держится он поодиночке или парами, если не считать времени воспитания молодняка. </a:t>
            </a:r>
            <a:endParaRPr b="0" lang="en-US" sz="1400" spc="-1" strike="noStrike">
              <a:solidFill>
                <a:srgbClr val="ffffff"/>
              </a:solidFill>
              <a:latin typeface="Times New Roman"/>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4500720" y="1916280"/>
            <a:ext cx="4392360" cy="33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549000"/>
            <a:ext cx="3814920" cy="5546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 гепарда острое зрение, и он издалека видит копытных, за которыми охотится. Это — газели, джейраны и другие мелкие антилопы, иногда архары. Питается он зайцами и птицами. Жертв он сперва скрадывает, а затем преследует, развивая на короткой дистанции (до 500 м) огромную скорость — до 110 км/ч. Недаром гепард является самым быстроногим из наземных млекопитающих. Иногда он подкарауливает добычу около водопоев. Период беременности у гепарда равен 84—95 дням. Детеныши (1—4) рождаются слепыми, однотонно окрашенными. Пятнистый рисунок появляется позднее. Сроки размножения неизвестны, но в мае и сентябре в Туркмении встречаются самки с детенышами (величиной с домашнюю кошку или несколько крупнее). В зоопарках молодые гепарды достигают половой зрелости в трехлетнем возрасте. Как редкий зверь гепард промыслового значения не имеет и нуждается в полной охране на всем пространстве ареала. В Индии и Иране гепардов приручали, дрессировали и использовали для охоты на антилоп. Охотничьи гепарды были известны и в Киевской Руси. </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41" name="" descr=""/>
          <p:cNvPicPr/>
          <p:nvPr/>
        </p:nvPicPr>
        <p:blipFill>
          <a:blip r:embed="rId1"/>
          <a:stretch/>
        </p:blipFill>
        <p:spPr>
          <a:xfrm>
            <a:off x="5219640" y="134136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43280" y="304560"/>
            <a:ext cx="4500720" cy="46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eec94"/>
                </a:solidFill>
                <a:latin typeface="Times New Roman"/>
              </a:rPr>
              <a:t>ТИГР</a:t>
            </a:r>
            <a:endParaRPr b="1" lang="en-US" sz="2000" spc="-1" strike="noStrike">
              <a:solidFill>
                <a:srgbClr val="feec94"/>
              </a:solidFill>
              <a:latin typeface="Times New Roman"/>
            </a:endParaRPr>
          </a:p>
        </p:txBody>
      </p:sp>
      <p:sp>
        <p:nvSpPr>
          <p:cNvPr id="143" name="PlaceHolder 2"/>
          <p:cNvSpPr>
            <a:spLocks noGrp="1"/>
          </p:cNvSpPr>
          <p:nvPr>
            <p:ph/>
          </p:nvPr>
        </p:nvSpPr>
        <p:spPr>
          <a:xfrm>
            <a:off x="0" y="189000"/>
            <a:ext cx="4572000" cy="4535280"/>
          </a:xfrm>
          <a:prstGeom prst="rect">
            <a:avLst/>
          </a:prstGeom>
          <a:noFill/>
          <a:ln w="0">
            <a:noFill/>
          </a:ln>
        </p:spPr>
        <p:txBody>
          <a:bodyPr lIns="90000" rIns="90000" tIns="46800" bIns="46800" anchor="t">
            <a:normAutofit fontScale="82000"/>
          </a:bodyPr>
          <a:p>
            <a:pPr marL="281160" indent="-2811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ТИГР (Panthera tigris)</a:t>
            </a:r>
            <a:r>
              <a:rPr b="0" lang="ru-RU" sz="1400" spc="-1" strike="noStrike">
                <a:solidFill>
                  <a:srgbClr val="ffffff"/>
                </a:solidFill>
                <a:latin typeface="Times New Roman"/>
              </a:rPr>
              <a:t> по внешнему виду довольно сильно отличается от льва, но их черепа настолько сходны, что различаются с трудом. Общий облик тигра значительно более кошачий, чем у льва. Тело у тигра вытянутое, гибкое, голова округлая, ноги недлинные, хвост длинный, равномерно опушенный на всем протяжении. При всем том это огромный могучий зверь, даже в клетке зоологического парка производящий внушительное впечатление, а в естественных условиях поражающий мощью, легкостью и ловкостью движений. В длину тело тигра 180—280 см, хвост примерно 90 см, масса от 227 до 272 кг. Чрезвычайно характерна поперечнополосатая окраска тигра, рисунок которой сильно варьирует в различных географических районах и служит основанием для выделения ряда подвидов. В Индии иногда встречаются и специально разводятся белые тигры, у которых по белому фону расположены коричневые полосы. У этих зверей голубые глаза. В связи с постоянным преследованием со стороны человека и неблагоприятными изменениями условий обитания численность тигра непрерывно падает, а область распространения сокращается. Основная часть ареала тигра приходится на тропические и субтропические широты. В настоящее время этот хищник, общая численность которого вряд ли превышает 15 000 особей, сохранился на севере Ирана, севере Афганистана, в Индостане (главным образом на севере полуострова), Непале, Бирме, Таиланде, Индокитае, на Малаккском полуострове, Яве, Бали, в некоторых провинциях Южного и Северо-Восточного Китая, на севере Корейского полуострова. В России тигр обитает в вековых смешанных лесах маньчжурского типа, покрывающих склоны гор и сопок. Для спокойного существования этого хищника необходимо наличие удобных логовищ, обилие диких копытных, близость водопоев. </a:t>
            </a:r>
            <a:endParaRPr b="0" lang="en-US" sz="1400" spc="-1" strike="noStrike">
              <a:solidFill>
                <a:srgbClr val="ffffff"/>
              </a:solidFill>
              <a:latin typeface="Times New Roman"/>
            </a:endParaRPr>
          </a:p>
        </p:txBody>
      </p:sp>
      <p:sp>
        <p:nvSpPr>
          <p:cNvPr id="144" name=""/>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6" name="" descr=""/>
          <p:cNvPicPr/>
          <p:nvPr/>
        </p:nvPicPr>
        <p:blipFill>
          <a:blip r:embed="rId1"/>
          <a:stretch/>
        </p:blipFill>
        <p:spPr>
          <a:xfrm>
            <a:off x="4500720" y="1557360"/>
            <a:ext cx="4500360" cy="381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3780000" cy="68580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Одиночные взрослые звери в Приморье занимают участки не менее 400 км2. Тигрица с маленькими тигрятами сперва ограничивается территорией в 15—20 км2, а потом постепенно расширяет ее. Тигр непрестанно кочует по своему участку, зимой протаптывая торные тропы, которые облегчают ему передвижение, поскольку в глубоком, рыхлом снегу он сильно вязнет. Добычей тигру служат различные копытные звери, в первую очередь кабаны, олени, косули, а затем и другие животные, включая крокодилов, черепах, рыбу, крабов, насекомых. Обитателей водоемов тигру ловить нетрудно, т. к. он любит купаться и хорошо плавает. За копытными он охотится путем скрадывания или из засады. При этом тигр, несмотря на огромные размеры, обнаруживает большую осторожность, ловкость, умение маскироваться и совершенно бесшумно передвигаться в лесной чаще. Тигр обладает такой огромной силой, что, нападая, перекусывает и ломает позвонки даже крупным животным (например, буйволу), а затем утаскивает тушу иногда за несколько километров. При недостатке диких копытных зверей тигры могут уничтожать домашний скот и собак. Как и у львов, среди тигров, особенно в тропических странах, порой появляются людоеды. Нередко ночью в тайге и джунглях бывает слышен громкий рев хищника. Он вообще деятелен преимущественно в ночные часы, тем более что в тропиках днем иногда страдает от жары, прячется от нее в тени, часто купается и много пьет. </a:t>
            </a:r>
            <a:endParaRPr b="0" lang="en-US" sz="1400" spc="-1" strike="noStrike">
              <a:solidFill>
                <a:srgbClr val="ffffff"/>
              </a:solidFill>
              <a:latin typeface="Times New Roman"/>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49" name="" descr=""/>
          <p:cNvPicPr/>
          <p:nvPr/>
        </p:nvPicPr>
        <p:blipFill>
          <a:blip r:embed="rId1"/>
          <a:stretch/>
        </p:blipFill>
        <p:spPr>
          <a:xfrm>
            <a:off x="3851280" y="1052640"/>
            <a:ext cx="5292720" cy="38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рия</cp:lastModifiedBy>
  <dcterms:modified xsi:type="dcterms:W3CDTF">2010-02-11T17:42:05Z</dcterms:modified>
  <cp:revision>3</cp:revision>
  <dc:subject/>
  <dc:title>PowerPoint Presentation</dc:title>
</cp:coreProperties>
</file>