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F503-C061-484C-9E5A-3D96A29E9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5D43-3975-420E-854D-700242A60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DB9F-2E0C-4D00-ACFE-CA227739C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030F-8FC5-48EA-880E-F0CE437CD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83E62-68F0-4905-BD25-F2DF03200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F96EA-3C88-451F-A9F0-2010A4074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5731C-61D2-4E6B-8950-47C3B96C2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5859F-D8F2-4C8C-84DF-F418E3694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FEEA1-64D5-412E-AEC6-992369A61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84A16-E386-491F-8BBB-37EECD90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86BD2-4C83-49BC-9FE2-5C9E2693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84A8-7D9B-41F7-8977-F4D8DDC1F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CD45B-4103-445D-AA6D-D39C7511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8FAD9-FF7E-423A-BEAA-E390D08E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CF4C6-E08B-44B4-93AC-89F65A681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FF4F5-1279-461C-B4F1-5CF96B9E9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E5E51-C929-4999-B80F-987613C39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9D2F-55DD-47FB-8E00-A7ACE6CF3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B982-CAF3-4378-AD9A-425A52F7D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90CC-657B-4D1B-A950-8335030DF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A296-D8DF-451A-A88E-1B7CB879D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FF07-F839-4AAC-9A38-C1888197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FE9F-81FD-48DE-BAA5-26D20F02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7E48-4AFA-4023-B994-824CE5CC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0236A-5378-402F-A96C-F0772E5E6CB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B24D2-FECE-4975-8E53-EDC0553B6CD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g0.liveinternet.ru/images/attach/c/2/64/534/64534217_21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2411280" y="476280"/>
            <a:ext cx="561672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инерально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итани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стений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50920" y="2852640"/>
            <a:ext cx="3809880" cy="38102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497840" y="5012280"/>
            <a:ext cx="419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атвеева Наталия Валентин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итель би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БОУ «СОШ №7» г. Череповц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Зоны корн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5967360" cy="47847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300720" y="2133720"/>
            <a:ext cx="264168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Почвенное питание растений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0338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связано с поглощением воды и минеральных веществ с помощью корневых волосков зоны всасывания корн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5219640" y="907920"/>
          <a:ext cx="3311640" cy="25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907920"/>
                    <a:ext cx="3311640" cy="25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5219640" y="3527280"/>
            <a:ext cx="3240000" cy="2151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68360" y="559008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ода,  минеральные вещества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корневые волоски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клетки корня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сосуды корня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сосуды стебля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сосуды листа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клетки лис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Элементы питания растений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Макроэлемент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нужны в большом количестве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Азо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Фосфо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ал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48360" y="1628640"/>
            <a:ext cx="374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Микроэлемент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нужны в малых количествах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Мед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Бо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Маргане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Цин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Молибде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обаль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411280" y="1197000"/>
            <a:ext cx="1224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508720" y="1125360"/>
            <a:ext cx="100800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Удобрени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Органическ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навоз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поме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тор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перегной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59280" y="1599840"/>
            <a:ext cx="382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Минеральны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627280" y="1125360"/>
            <a:ext cx="936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03640" y="1125360"/>
            <a:ext cx="936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4066920" y="2060640"/>
            <a:ext cx="1081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86728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659640" y="2060640"/>
            <a:ext cx="1081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21440" y="4219920"/>
            <a:ext cx="171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зотны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078160" y="4651920"/>
            <a:ext cx="21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Фосфорны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21440" y="4219920"/>
            <a:ext cx="17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алийны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628720" y="2780280"/>
            <a:ext cx="23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омплексны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94160" y="2851200"/>
            <a:ext cx="190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Микро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удобр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Картинка 16 из 11943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00640"/>
            <a:ext cx="3276720" cy="2457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078520" y="306756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с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500720" y="3500280"/>
            <a:ext cx="79200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72360" y="3500280"/>
            <a:ext cx="107928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867280" y="3573360"/>
            <a:ext cx="7308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Значение элементов питани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Азо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Для роста раст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Недостаток азота"/>
          <p:cNvPicPr/>
          <p:nvPr/>
        </p:nvPicPr>
        <p:blipFill>
          <a:blip r:embed="rId1"/>
          <a:stretch/>
        </p:blipFill>
        <p:spPr>
          <a:xfrm>
            <a:off x="5003640" y="1557360"/>
            <a:ext cx="3816360" cy="31798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932360" y="5147280"/>
            <a:ext cx="4037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желтевшие нижние лист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 табака — призн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достатка азо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Значение элементов питани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Фосфо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скорение развития и плодонош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силение рос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орне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вышение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зимостойк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Картинка 1 из 874"/>
          <p:cNvPicPr/>
          <p:nvPr/>
        </p:nvPicPr>
        <p:blipFill>
          <a:blip r:embed="rId1"/>
          <a:stretch/>
        </p:blipFill>
        <p:spPr>
          <a:xfrm>
            <a:off x="4932360" y="2852640"/>
            <a:ext cx="3852720" cy="2573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074920" y="5805360"/>
            <a:ext cx="361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знаки недоста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сфора на листьях том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Значение элементов питани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3300"/>
                </a:solidFill>
                <a:latin typeface="Arial"/>
              </a:rPr>
              <a:t>Кал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ддерживает водный режи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вышает морозо- и засухоустойчиво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нижение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ражаемости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болевания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Картинка 2 из 374"/>
          <p:cNvPicPr/>
          <p:nvPr/>
        </p:nvPicPr>
        <p:blipFill>
          <a:blip r:embed="rId1"/>
          <a:stretch/>
        </p:blipFill>
        <p:spPr>
          <a:xfrm>
            <a:off x="5219640" y="2781360"/>
            <a:ext cx="3708360" cy="27892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276720" y="5661000"/>
            <a:ext cx="560052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достаток калия –появление бурых пятен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листьях, отмирание лист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Гидропоник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3" name="" descr="Картинка 33 из 22544"/>
          <p:cNvPicPr/>
          <p:nvPr/>
        </p:nvPicPr>
        <p:blipFill>
          <a:blip r:embed="rId1"/>
          <a:stretch/>
        </p:blipFill>
        <p:spPr>
          <a:xfrm>
            <a:off x="0" y="981000"/>
            <a:ext cx="4643280" cy="34768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Картинка 3 из 22544"/>
          <p:cNvPicPr/>
          <p:nvPr/>
        </p:nvPicPr>
        <p:blipFill>
          <a:blip r:embed="rId2"/>
          <a:stretch/>
        </p:blipFill>
        <p:spPr>
          <a:xfrm>
            <a:off x="4643280" y="3416400"/>
            <a:ext cx="4500720" cy="34416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005800" y="1339920"/>
            <a:ext cx="377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способ выращ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тений без почв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18:08:07Z</dcterms:created>
  <dc:creator>Station</dc:creator>
  <dc:description/>
  <dc:language>en-US</dc:language>
  <cp:lastModifiedBy>Station</cp:lastModifiedBy>
  <dcterms:modified xsi:type="dcterms:W3CDTF">2011-11-27T19:03:00Z</dcterms:modified>
  <cp:revision>2</cp:revision>
  <dc:subject/>
  <dc:title>Слайд 1</dc:title>
</cp:coreProperties>
</file>