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C2EC-516D-49AE-B744-3F565E931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A376-D451-45D4-A5BB-0E8AC3D7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1548-E868-4B91-BA92-CF7280EEB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68B4-D0F8-4EAD-9877-82C5FE853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6E3A8-54EC-4D8E-9C5E-F6F51634A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FD1E-F392-4908-9E70-8BF35469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3AE1-827A-45BC-B049-172C643E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9C72-E140-4C32-B051-B28978E7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AAA1-7752-41B3-BFF5-932B6624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ACCE-AC2D-4AAB-B22F-9594EDC4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DAD59-64D9-4E74-BC1B-BB29373E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3C06-EBF0-4486-A729-B86692F6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E8CA-7C0A-4AD5-A405-3F397C50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961C-6801-4DE5-86E5-A97116C1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17A1-DCEF-4C02-9A39-F4672C5A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9D19-9C7A-4B2D-ACF7-3CB9B7A53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06B0C-C9F5-4F5F-850A-B7DBC750C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BA38-419A-41EB-AACA-79EDBD84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1C61-C779-4205-8CA4-2478CC4E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3179-BE00-491A-98FD-E1276179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6250-A2D2-4AE5-88B4-444AA808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3D19-B13C-4C34-B068-2B4EA1A3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F8E6-A03C-4A08-9606-C8D52AEA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61B3-BB8F-4EFD-96FD-A146CB70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DA7E-FD09-4FD6-8841-0C7D5ED9067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10A9-72FC-4D72-8DC0-AEB473A56D7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c/2/64/534/64534217_21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411280" y="476280"/>
            <a:ext cx="561672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инерально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ита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стени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3809880" cy="38102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497840" y="5012280"/>
            <a:ext cx="419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атвеева Наталия Валенти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итель би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БОУ «СОШ №7» г. Черепов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Зоны корн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5967360" cy="47847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300720" y="2133720"/>
            <a:ext cx="264168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очвенное питание растений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0338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вязано с поглощением воды и минеральных веществ с помощью корневых волосков зоны всасывания корн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219640" y="907920"/>
          <a:ext cx="3311640" cy="25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907920"/>
                    <a:ext cx="3311640" cy="25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219640" y="3527280"/>
            <a:ext cx="3240000" cy="2151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68360" y="559008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ода,  минеральные вещества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корневые волоски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клетки корня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сосуды корня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сосуды стебля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сосуды листа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клетки лис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Элементы питания растений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Макроэлемент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нужны в большом количестве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зо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Фосфо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ал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48360" y="1628640"/>
            <a:ext cx="37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Микроэлемент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нужны в малых количествах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Мед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о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Маргане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Цин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Молибде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обаль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411280" y="119700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08720" y="1125360"/>
            <a:ext cx="100800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Удобрен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Органическ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наво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поме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тор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перегно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59280" y="1599840"/>
            <a:ext cx="382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Минеральны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627280" y="112536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03640" y="112536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066920" y="2060640"/>
            <a:ext cx="1081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59640" y="2060640"/>
            <a:ext cx="108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21440" y="4219920"/>
            <a:ext cx="171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зотны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78160" y="4651920"/>
            <a:ext cx="21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Фосфорны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21440" y="4219920"/>
            <a:ext cx="17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алийн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28720" y="2780280"/>
            <a:ext cx="23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омплексны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94160" y="2851200"/>
            <a:ext cx="190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Микро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добр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Картинка 16 из 1194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00640"/>
            <a:ext cx="3276720" cy="2457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078520" y="30675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с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500720" y="3500280"/>
            <a:ext cx="79200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2360" y="3500280"/>
            <a:ext cx="10792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67280" y="3573360"/>
            <a:ext cx="7308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Значение элементов питан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Азо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ля роста раст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Недостаток азота"/>
          <p:cNvPicPr/>
          <p:nvPr/>
        </p:nvPicPr>
        <p:blipFill>
          <a:blip r:embed="rId1"/>
          <a:stretch/>
        </p:blipFill>
        <p:spPr>
          <a:xfrm>
            <a:off x="5003640" y="1557360"/>
            <a:ext cx="3816360" cy="31798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932360" y="5147280"/>
            <a:ext cx="4037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желтевшие нижние лист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табака — призн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достатка аз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Значение элементов питан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Фосфо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скорение развития и плодонош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силение рос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орн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вышение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зимостойк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Картинка 1 из 874"/>
          <p:cNvPicPr/>
          <p:nvPr/>
        </p:nvPicPr>
        <p:blipFill>
          <a:blip r:embed="rId1"/>
          <a:stretch/>
        </p:blipFill>
        <p:spPr>
          <a:xfrm>
            <a:off x="4932360" y="2852640"/>
            <a:ext cx="3852720" cy="2573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074920" y="5805360"/>
            <a:ext cx="361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знаки недоста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сфора на листьях том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Значение элементов питан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3300"/>
                </a:solidFill>
                <a:latin typeface="Arial"/>
              </a:rPr>
              <a:t>Кал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ддерживает водный режи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вышает морозо- и засухоустойчив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нижение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ражаемости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болевания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Картинка 2 из 374"/>
          <p:cNvPicPr/>
          <p:nvPr/>
        </p:nvPicPr>
        <p:blipFill>
          <a:blip r:embed="rId1"/>
          <a:stretch/>
        </p:blipFill>
        <p:spPr>
          <a:xfrm>
            <a:off x="5219640" y="2781360"/>
            <a:ext cx="3708360" cy="27892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276720" y="5661000"/>
            <a:ext cx="560052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достаток калия –появление бурых пятен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листьях, отмирание лист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Гидропоник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3" name="" descr="Картинка 33 из 22544"/>
          <p:cNvPicPr/>
          <p:nvPr/>
        </p:nvPicPr>
        <p:blipFill>
          <a:blip r:embed="rId1"/>
          <a:stretch/>
        </p:blipFill>
        <p:spPr>
          <a:xfrm>
            <a:off x="0" y="981000"/>
            <a:ext cx="4643280" cy="34768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Картинка 3 из 22544"/>
          <p:cNvPicPr/>
          <p:nvPr/>
        </p:nvPicPr>
        <p:blipFill>
          <a:blip r:embed="rId2"/>
          <a:stretch/>
        </p:blipFill>
        <p:spPr>
          <a:xfrm>
            <a:off x="4643280" y="3416400"/>
            <a:ext cx="4500720" cy="3441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005800" y="1339920"/>
            <a:ext cx="377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способ выращ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тений без почв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18:08:07Z</dcterms:created>
  <dc:creator>Station</dc:creator>
  <dc:description/>
  <dc:language>en-US</dc:language>
  <cp:lastModifiedBy>Station</cp:lastModifiedBy>
  <dcterms:modified xsi:type="dcterms:W3CDTF">2011-11-27T19:03:00Z</dcterms:modified>
  <cp:revision>2</cp:revision>
  <dc:subject/>
  <dc:title>Слайд 1</dc:title>
</cp:coreProperties>
</file>