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592C-CF75-4EF2-A485-F3F3571A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B594-89EF-4CF4-AB37-EFC4BBC6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2F19-B29D-474A-A916-F00273ED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90B3-0881-4376-A0C5-6A18E456D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9E89-E1F6-44E5-81CB-8E1E80DD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6635-B2CB-467E-BE29-7C04B283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021B-BC43-4163-9CC7-1381E3A6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8A90-906B-4DBF-B90F-CF670FBB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8F8B-BC1C-430A-9706-F43F3FD9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A92D-957F-46EE-85BF-57FD53CF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15D7-9475-4DD0-ABE2-D7BBFC89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CBD4-FCFA-438A-A632-38ABB604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294C-8B11-40E2-912D-E24E8F7DE0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anais.info/art/pic/vasnetsov23.html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www.tanais.info/art/pic/vasnetsov28.html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500040" y="1285920"/>
            <a:ext cx="771516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Мой  Пушкин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43" name="Picture 2" descr="Тропинин 1827"/>
          <p:cNvPicPr/>
          <p:nvPr/>
        </p:nvPicPr>
        <p:blipFill>
          <a:blip r:embed="rId4"/>
          <a:stretch/>
        </p:blipFill>
        <p:spPr>
          <a:xfrm>
            <a:off x="3214800" y="2714760"/>
            <a:ext cx="3143160" cy="3570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«Евгений Онегин»"/>
          <p:cNvPicPr/>
          <p:nvPr/>
        </p:nvPicPr>
        <p:blipFill>
          <a:blip r:embed="rId2"/>
          <a:stretch/>
        </p:blipFill>
        <p:spPr>
          <a:xfrm rot="21052800">
            <a:off x="228240" y="457200"/>
            <a:ext cx="3124080" cy="233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i"/>
          <p:cNvPicPr/>
          <p:nvPr/>
        </p:nvPicPr>
        <p:blipFill>
          <a:blip r:embed="rId3"/>
          <a:stretch/>
        </p:blipFill>
        <p:spPr>
          <a:xfrm>
            <a:off x="3714840" y="428760"/>
            <a:ext cx="2124000" cy="3124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al_book_25008"/>
          <p:cNvPicPr/>
          <p:nvPr/>
        </p:nvPicPr>
        <p:blipFill>
          <a:blip r:embed="rId4"/>
          <a:srcRect l="8890" t="10004" r="12591" b="10004"/>
          <a:stretch/>
        </p:blipFill>
        <p:spPr>
          <a:xfrm>
            <a:off x="3643200" y="3500280"/>
            <a:ext cx="2355840" cy="3200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5"/>
          <a:stretch/>
        </p:blipFill>
        <p:spPr>
          <a:xfrm rot="249600">
            <a:off x="5864400" y="1526760"/>
            <a:ext cx="2858760" cy="4191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л"/>
          <p:cNvPicPr/>
          <p:nvPr/>
        </p:nvPicPr>
        <p:blipFill>
          <a:blip r:embed="rId6"/>
          <a:stretch/>
        </p:blipFill>
        <p:spPr>
          <a:xfrm rot="21225600">
            <a:off x="1114560" y="2607840"/>
            <a:ext cx="2193840" cy="3532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Рисунок1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1357200" y="1357200"/>
            <a:ext cx="64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шкин глазами худож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Documents and Settings\Dom\Desktop\ПУШКИНИАНА\Пушкин в живописи. Много потретов одним архивом\Ксавье де Местр. Пушкин - ребенок. 1801-1802 гг. Металлическая овальная пластина,.jpg"/>
          <p:cNvPicPr/>
          <p:nvPr/>
        </p:nvPicPr>
        <p:blipFill>
          <a:blip r:embed="rId2"/>
          <a:stretch/>
        </p:blipFill>
        <p:spPr>
          <a:xfrm>
            <a:off x="857160" y="1857240"/>
            <a:ext cx="3030480" cy="3308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Documents and Settings\Dom\Desktop\ПУШКИНИАНА\Пушкин в живописи. Много потретов одним архивом\Саша Пушкин, лицеист. Художник Ю.В.Иванов..jpg"/>
          <p:cNvPicPr/>
          <p:nvPr/>
        </p:nvPicPr>
        <p:blipFill>
          <a:blip r:embed="rId3"/>
          <a:stretch/>
        </p:blipFill>
        <p:spPr>
          <a:xfrm>
            <a:off x="4929120" y="1857240"/>
            <a:ext cx="3571920" cy="39513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1"/>
          <p:cNvSpPr/>
          <p:nvPr/>
        </p:nvSpPr>
        <p:spPr>
          <a:xfrm>
            <a:off x="857160" y="5286240"/>
            <a:ext cx="35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шкин - ребенок. 1801-1802 гг. Металлическая овальная пла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2"/>
          <p:cNvSpPr/>
          <p:nvPr/>
        </p:nvSpPr>
        <p:spPr>
          <a:xfrm>
            <a:off x="4357800" y="571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ша Пушкин, лицеист. Художник Ю.В.Ива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Dom\Desktop\ПУШКИНИАНА\Пушкин в живописи. Много потретов одним архивом\О.А. Кипренский. Портрет Пушкина. 1827 г. Холст, масло..jpg"/>
          <p:cNvPicPr/>
          <p:nvPr/>
        </p:nvPicPr>
        <p:blipFill>
          <a:blip r:embed="rId2"/>
          <a:stretch/>
        </p:blipFill>
        <p:spPr>
          <a:xfrm>
            <a:off x="5214960" y="1357200"/>
            <a:ext cx="3314520" cy="39448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7"/>
          <p:cNvSpPr/>
          <p:nvPr/>
        </p:nvSpPr>
        <p:spPr>
          <a:xfrm>
            <a:off x="428760" y="1285920"/>
            <a:ext cx="47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«Себя как в зеркало я вижу, но это зеркало мне льстит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428760" y="2136600"/>
            <a:ext cx="471492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.А. Кипренский `Портрет Пушкина`. 1827 г. Холст, масл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поразительном сходстве портрета с Пушкиным говорили его современники. Так, например, Н.А. Муханов сказал: `С Пушкина списал Кипренский портрет необычайно похожий.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755640" y="1125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Documents and Settings\Dom\Desktop\ПУШКИНИАНА\Пушкин в живописи. Много потретов одним архивом\В.А. Тропинин. Портрет Пушкина. 1827 г. Холст, масло..jpg"/>
          <p:cNvPicPr/>
          <p:nvPr/>
        </p:nvPicPr>
        <p:blipFill>
          <a:blip r:embed="rId2"/>
          <a:stretch/>
        </p:blipFill>
        <p:spPr>
          <a:xfrm>
            <a:off x="5214960" y="1500120"/>
            <a:ext cx="3286080" cy="385776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7"/>
          <p:cNvSpPr/>
          <p:nvPr/>
        </p:nvSpPr>
        <p:spPr>
          <a:xfrm>
            <a:off x="571680" y="1714680"/>
            <a:ext cx="464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А. Тропинин  `Портрет Пушкина` 1827 г. Холст, масл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рет Тропинину заказал сам Пушкин и подарил его своему другу С.А.Соболевск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755640" y="1125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7"/>
          <p:cNvSpPr/>
          <p:nvPr/>
        </p:nvSpPr>
        <p:spPr>
          <a:xfrm>
            <a:off x="571680" y="1714680"/>
            <a:ext cx="46432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F:\Documents and Settings\александр\Рабочий стол\пушкин\3.bmp"/>
          <p:cNvPicPr/>
          <p:nvPr/>
        </p:nvPicPr>
        <p:blipFill>
          <a:blip r:embed="rId2"/>
          <a:stretch/>
        </p:blipFill>
        <p:spPr>
          <a:xfrm>
            <a:off x="5286240" y="1214280"/>
            <a:ext cx="3114720" cy="41436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6"/>
          <p:cNvSpPr/>
          <p:nvPr/>
        </p:nvSpPr>
        <p:spPr>
          <a:xfrm>
            <a:off x="428760" y="1214280"/>
            <a:ext cx="478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36 г., портрет признается последним, написанным при жизни Пушкина. И.Л.Линев, видимо, знал и сумел показать тяжелое душевное состояние поэта в последний, самый трудный период его жизни. В портрете ощущается не только понимание духовной драмы Пушкина, но и глубокое сочувствие поэ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042920" y="1432080"/>
            <a:ext cx="6840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ав от суеты мирск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благом молчанье одинок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й Пушкин, каждою стро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говорю с тобой, как с Бо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повторяю вновь и внов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вой пламень время не остуд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бя, как первую любов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сии сердце не забуд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Дориз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1042920" y="1432080"/>
            <a:ext cx="684072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Волгогра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зентацию к уроку подгото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ебова Наталья Николаевна, учитель русского языка и 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1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900000" y="1546200"/>
            <a:ext cx="3527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еселое имя: Пушкин»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 словам русского поэта XX в. Александра Блока, стало паролем русской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rcRect l="1586" t="0" r="3398" b="563"/>
          <a:stretch/>
        </p:blipFill>
        <p:spPr>
          <a:xfrm>
            <a:off x="4572000" y="1214280"/>
            <a:ext cx="4000680" cy="5034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Рисунок1"/>
          <p:cNvPicPr/>
          <p:nvPr/>
        </p:nvPicPr>
        <p:blipFill>
          <a:blip r:embed="rId1"/>
          <a:stretch/>
        </p:blipFill>
        <p:spPr>
          <a:xfrm>
            <a:off x="0" y="-714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1000080" y="928800"/>
            <a:ext cx="774864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имени Пушкина тотчас осеняет мысль о русском национальном поэте. В самом деле, никто из поэтов наших не выше его и не может более назваться национальным; это право решительно принадлежит ему. В нём, как будто в лексиконе, заключилось всё богатство, сила и гибкость нашего языка. Он более всех, он далее раздвинул ему границы и более покавсё его пространство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 Гог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увство красоты развито у него до высшей степени, как ни у кого. Чем ярче вдохновение, тем больше должно быть кропотливой работы для его исполнения. Мы читаем у Пушкина стихи такие гладкие, такие простые, и нам кажется, что у него так и вылилось это в такую форму. А нам не видно, сколько он употребил труда для того, чтобы вышло так просто и гладко..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.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500720" y="1197000"/>
            <a:ext cx="3960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7"/>
          <p:cNvSpPr/>
          <p:nvPr/>
        </p:nvSpPr>
        <p:spPr>
          <a:xfrm>
            <a:off x="571680" y="21420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ушкин  глазами великих люд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2079360" cy="244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2627280" y="1341360"/>
            <a:ext cx="59054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был первым поэтом, который стал в глазах всей русской публики на то высокое место, какое должен занимать в своей стране великий писатель. Вся возможность дальнейшего развития русской литературы была приготовлена и отчасти ещё приготовляется Пушки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611280" y="1484280"/>
            <a:ext cx="4246560" cy="42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Он входит в нашу жизнь в самом начале ее и уже не покидает нас до конца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Твард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класс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упление к поэ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услан и Людми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332000" y="465300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F:\Documents and Settings\александр\Рабочий стол\пушкин\Resize%20of%2092.jpg"/>
          <p:cNvPicPr/>
          <p:nvPr/>
        </p:nvPicPr>
        <p:blipFill>
          <a:blip r:embed="rId2"/>
          <a:stretch/>
        </p:blipFill>
        <p:spPr>
          <a:xfrm>
            <a:off x="4857840" y="1500120"/>
            <a:ext cx="3848040" cy="4762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3571920" y="1143000"/>
            <a:ext cx="51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857760" y="1000080"/>
            <a:ext cx="41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Дубровск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http://s56.radikal.ru/i154/0810/5a/524390b742c2.jpg"/>
          <p:cNvPicPr/>
          <p:nvPr/>
        </p:nvPicPr>
        <p:blipFill>
          <a:blip r:embed="rId2"/>
          <a:stretch/>
        </p:blipFill>
        <p:spPr>
          <a:xfrm>
            <a:off x="4572000" y="1643040"/>
            <a:ext cx="3809880" cy="464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http://s54.radikal.ru/i143/0810/81/30dcc3149582.jpg"/>
          <p:cNvPicPr/>
          <p:nvPr/>
        </p:nvPicPr>
        <p:blipFill>
          <a:blip r:embed="rId3"/>
          <a:stretch/>
        </p:blipFill>
        <p:spPr>
          <a:xfrm>
            <a:off x="214200" y="571680"/>
            <a:ext cx="3595680" cy="4214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684360" y="1214280"/>
            <a:ext cx="396072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воих произведениях он рассказывал о прошлом своего народа, о своих современниках и о себе так выразительно и так вер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еснь о вещем Олег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1619280" y="4508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 Виктор Васнецов. &#10; Прощание Олега с конем. &#10; Victor Vasnetsov. &#10; Oleg's farewell to his horce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1285920"/>
            <a:ext cx="3071880" cy="2500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 Виктор Васнецов. &#10; Встреча Олега с кудесником. &#10; Victor Vasnetsov. &#10; Oleg Meeting the Magus.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86240" y="3357720"/>
            <a:ext cx="335772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Рисунок1"/>
          <p:cNvPicPr/>
          <p:nvPr/>
        </p:nvPicPr>
        <p:blipFill>
          <a:blip r:embed="rId1"/>
          <a:stretch/>
        </p:blipFill>
        <p:spPr>
          <a:xfrm>
            <a:off x="0" y="-571680"/>
            <a:ext cx="9144000" cy="6858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642960" y="714240"/>
            <a:ext cx="75009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«Капитанская доч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1619280" y="227664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А"/>
          <p:cNvPicPr/>
          <p:nvPr/>
        </p:nvPicPr>
        <p:blipFill>
          <a:blip r:embed="rId2"/>
          <a:stretch/>
        </p:blipFill>
        <p:spPr>
          <a:xfrm>
            <a:off x="1000080" y="2714760"/>
            <a:ext cx="2603520" cy="3657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Е"/>
          <p:cNvPicPr/>
          <p:nvPr/>
        </p:nvPicPr>
        <p:blipFill>
          <a:blip r:embed="rId3"/>
          <a:stretch/>
        </p:blipFill>
        <p:spPr>
          <a:xfrm>
            <a:off x="5786280" y="2714760"/>
            <a:ext cx="2714760" cy="3571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Манифесты Е"/>
          <p:cNvPicPr/>
          <p:nvPr/>
        </p:nvPicPr>
        <p:blipFill>
          <a:blip r:embed="rId4"/>
          <a:stretch/>
        </p:blipFill>
        <p:spPr>
          <a:xfrm>
            <a:off x="3286080" y="2928960"/>
            <a:ext cx="2525760" cy="28098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3"/>
          <p:cNvSpPr/>
          <p:nvPr/>
        </p:nvSpPr>
        <p:spPr>
          <a:xfrm>
            <a:off x="785880" y="150012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им из первых исследователей и биографов Пугачева стал Пу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500040" y="141300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вгений Онегин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0" y="20001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 (523x699, 103Kb)"/>
          <p:cNvPicPr/>
          <p:nvPr/>
        </p:nvPicPr>
        <p:blipFill>
          <a:blip r:embed="rId2"/>
          <a:stretch/>
        </p:blipFill>
        <p:spPr>
          <a:xfrm>
            <a:off x="4786200" y="1071720"/>
            <a:ext cx="3857760" cy="5072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 (544x698, 87Kb)"/>
          <p:cNvPicPr/>
          <p:nvPr/>
        </p:nvPicPr>
        <p:blipFill>
          <a:blip r:embed="rId3"/>
          <a:stretch/>
        </p:blipFill>
        <p:spPr>
          <a:xfrm>
            <a:off x="1857240" y="2143080"/>
            <a:ext cx="3571920" cy="450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19:37:53Z</dcterms:created>
  <dc:creator>User</dc:creator>
  <dc:description/>
  <dc:language>en-US</dc:language>
  <cp:lastModifiedBy>александр</cp:lastModifiedBy>
  <dcterms:modified xsi:type="dcterms:W3CDTF">2011-10-14T16:11:47Z</dcterms:modified>
  <cp:revision>17</cp:revision>
  <dc:subject/>
  <dc:title>Слайд 1</dc:title>
</cp:coreProperties>
</file>