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F26-0094-4085-B001-1C31F56B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155-92F3-46F5-AACE-77736626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691-4184-4EC5-8751-BC5CCAA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0DA-5AC1-4FF1-BDEE-B946794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2C0-14FB-4A59-9426-6060A5C9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F27-5874-4A26-AAAC-8E548510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9DF-33D3-4451-92B3-8C74902B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E9C-5228-4501-ADC7-DD543581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B24-E1F7-4F06-96A6-27F2D641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A8C-5F10-4D25-9CF0-46C3CABC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0F2-C2B2-4531-8E79-E3ED31E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E5B-CB02-4A77-977E-315CF3E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40CA-F4DD-4888-9C9D-7922CB6A2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nais.info/art/pic/vasnetsov23.html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tanais.info/art/pic/vasnetsov28.html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500040" y="1285920"/>
            <a:ext cx="77151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Мой  Пушкин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3" name="Picture 2" descr="Тропинин 1827"/>
          <p:cNvPicPr/>
          <p:nvPr/>
        </p:nvPicPr>
        <p:blipFill>
          <a:blip r:embed="rId4"/>
          <a:stretch/>
        </p:blipFill>
        <p:spPr>
          <a:xfrm>
            <a:off x="3214800" y="2714760"/>
            <a:ext cx="3143160" cy="357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«Евгений Онегин»"/>
          <p:cNvPicPr/>
          <p:nvPr/>
        </p:nvPicPr>
        <p:blipFill>
          <a:blip r:embed="rId2"/>
          <a:stretch/>
        </p:blipFill>
        <p:spPr>
          <a:xfrm rot="21052800">
            <a:off x="228240" y="457200"/>
            <a:ext cx="312408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"/>
          <p:cNvPicPr/>
          <p:nvPr/>
        </p:nvPicPr>
        <p:blipFill>
          <a:blip r:embed="rId3"/>
          <a:stretch/>
        </p:blipFill>
        <p:spPr>
          <a:xfrm>
            <a:off x="3714840" y="428760"/>
            <a:ext cx="212400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l_book_25008"/>
          <p:cNvPicPr/>
          <p:nvPr/>
        </p:nvPicPr>
        <p:blipFill>
          <a:blip r:embed="rId4"/>
          <a:srcRect l="8890" t="10004" r="12591" b="10004"/>
          <a:stretch/>
        </p:blipFill>
        <p:spPr>
          <a:xfrm>
            <a:off x="3643200" y="3500280"/>
            <a:ext cx="2355840" cy="32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5"/>
          <a:stretch/>
        </p:blipFill>
        <p:spPr>
          <a:xfrm rot="249600">
            <a:off x="5864400" y="1526760"/>
            <a:ext cx="2858760" cy="419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л"/>
          <p:cNvPicPr/>
          <p:nvPr/>
        </p:nvPicPr>
        <p:blipFill>
          <a:blip r:embed="rId6"/>
          <a:stretch/>
        </p:blipFill>
        <p:spPr>
          <a:xfrm rot="21225600">
            <a:off x="1114560" y="2607840"/>
            <a:ext cx="2193840" cy="353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1357200" y="135720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ин глазами худо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Dom\Desktop\ПУШКИНИАНА\Пушкин в живописи. Много потретов одним архивом\Ксавье де Местр. Пушкин - ребенок. 1801-1802 гг. Металлическая овальная пластина,.jpg"/>
          <p:cNvPicPr/>
          <p:nvPr/>
        </p:nvPicPr>
        <p:blipFill>
          <a:blip r:embed="rId2"/>
          <a:stretch/>
        </p:blipFill>
        <p:spPr>
          <a:xfrm>
            <a:off x="857160" y="1857240"/>
            <a:ext cx="3030480" cy="330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Dom\Desktop\ПУШКИНИАНА\Пушкин в живописи. Много потретов одним архивом\Саша Пушкин, лицеист. Художник Ю.В.Иванов..jpg"/>
          <p:cNvPicPr/>
          <p:nvPr/>
        </p:nvPicPr>
        <p:blipFill>
          <a:blip r:embed="rId3"/>
          <a:stretch/>
        </p:blipFill>
        <p:spPr>
          <a:xfrm>
            <a:off x="4929120" y="1857240"/>
            <a:ext cx="3571920" cy="3951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857160" y="52862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шкин - ребенок. 1801-1802 гг. Металлическая овальная пла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4357800" y="571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ша Пушкин, лицеист. Художник Ю.В.Ив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Dom\Desktop\ПУШКИНИАНА\Пушкин в живописи. Много потретов одним архивом\О.А. Кипренский. Портрет Пушкина. 1827 г. Холст, масло..jpg"/>
          <p:cNvPicPr/>
          <p:nvPr/>
        </p:nvPicPr>
        <p:blipFill>
          <a:blip r:embed="rId2"/>
          <a:stretch/>
        </p:blipFill>
        <p:spPr>
          <a:xfrm>
            <a:off x="5214960" y="1357200"/>
            <a:ext cx="3314520" cy="3944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428760" y="128592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«Себя как в зеркало я вижу, но это зеркало мне льстит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428760" y="2136600"/>
            <a:ext cx="47149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.А. Кипренский `Портрет Пушкина`. 1827 г. Холст, ма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оразительном сходстве портрета с Пушкиным говорили его современники. Так, например, Н.А. Муханов сказал: `С Пушкина списал Кипренский портрет необычайно похожий.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55640" y="112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Dom\Desktop\ПУШКИНИАНА\Пушкин в живописи. Много потретов одним архивом\В.А. Тропинин. Портрет Пушкина. 1827 г. Холст, масло..jpg"/>
          <p:cNvPicPr/>
          <p:nvPr/>
        </p:nvPicPr>
        <p:blipFill>
          <a:blip r:embed="rId2"/>
          <a:stretch/>
        </p:blipFill>
        <p:spPr>
          <a:xfrm>
            <a:off x="5214960" y="150012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571680" y="1714680"/>
            <a:ext cx="46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А. Тропинин  `Портрет Пушкина` 1827 г. Холст, ма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рет Тропинину заказал сам Пушкин и подарил его своему другу С.А.Соболев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55640" y="1125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71680" y="1714680"/>
            <a:ext cx="4643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F:\Documents and Settings\александр\Рабочий стол\пушкин\3.bmp"/>
          <p:cNvPicPr/>
          <p:nvPr/>
        </p:nvPicPr>
        <p:blipFill>
          <a:blip r:embed="rId2"/>
          <a:stretch/>
        </p:blipFill>
        <p:spPr>
          <a:xfrm>
            <a:off x="5286240" y="1214280"/>
            <a:ext cx="311472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428760" y="1214280"/>
            <a:ext cx="47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36 г., портрет признается последним, написанным при жизни Пушкина. И.Л.Линев, видимо, знал и сумел показать тяжелое душевное состояние поэта в последний, самый трудный период его жизни. В портрете ощущается не только понимание духовной драмы Пушкина, но и глубокое сочувствие поэ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42920" y="1432080"/>
            <a:ext cx="684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т суеты мирс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лагом молчанье одино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й Пушкин, каждою стр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говорю с тобой, как с Бо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вторяю вновь и внов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й пламень время не осту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я, как первую любов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и сердце не забуд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Дор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042920" y="1432080"/>
            <a:ext cx="684072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Волгогр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ю к уроку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ебова Наталья Николаевна, 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900000" y="1546200"/>
            <a:ext cx="352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еселое имя: Пушкин»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словам русского поэта XX в. Александра Блока, стало паролем рус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rcRect l="1586" t="0" r="3398" b="563"/>
          <a:stretch/>
        </p:blipFill>
        <p:spPr>
          <a:xfrm>
            <a:off x="4572000" y="1214280"/>
            <a:ext cx="4000680" cy="503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1"/>
          <p:cNvPicPr/>
          <p:nvPr/>
        </p:nvPicPr>
        <p:blipFill>
          <a:blip r:embed="rId1"/>
          <a:stretch/>
        </p:blipFill>
        <p:spPr>
          <a:xfrm>
            <a:off x="0" y="-714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000080" y="928800"/>
            <a:ext cx="77486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имени Пушкина тотчас осеняет мысль о русском национальном поэте. В самом деле, никто из поэтов наших не выше его и не может более назваться национальным; это право решительно принадлежит ему. В нём, как будто в лексиконе, заключилось всё богатство, сила и гибкость нашего языка. Он более всех, он далее раздвинул ему границы и более покавсё его пространств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Гог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о красоты развито у него до высшей степени, как ни у кого. Чем ярче вдохновение, тем больше должно быть кропотливой работы для его исполнения. Мы читаем у Пушкина стихи такие гладкие, такие простые, и нам кажется, что у него так и вылилось это в такую форму. А нам не видно, сколько он употребил труда для того, чтобы вышло так просто и гладко..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00720" y="1197000"/>
            <a:ext cx="396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716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шкин  глазами великих люд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07936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627280" y="1341360"/>
            <a:ext cx="5905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был первым поэтом, который стал в глазах всей русской публики на то высокое место, какое должен занимать в своей стране великий писатель. Вся возможность дальнейшего развития русской литературы была приготовлена и отчасти ещё приготовляется Пушки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11280" y="1484280"/>
            <a:ext cx="424656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н входит в нашу жизнь в самом начале ее и уже не покидает нас до конц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 к поэ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лан и Людми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465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F:\Documents and Settings\александр\Рабочий стол\пушкин\Resize%20of%2092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804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571920" y="1143000"/>
            <a:ext cx="51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857760" y="1000080"/>
            <a:ext cx="41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убровс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http://s56.radikal.ru/i154/0810/5a/524390b742c2.jpg"/>
          <p:cNvPicPr/>
          <p:nvPr/>
        </p:nvPicPr>
        <p:blipFill>
          <a:blip r:embed="rId2"/>
          <a:stretch/>
        </p:blipFill>
        <p:spPr>
          <a:xfrm>
            <a:off x="4572000" y="1643040"/>
            <a:ext cx="3809880" cy="464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s54.radikal.ru/i143/0810/81/30dcc3149582.jpg"/>
          <p:cNvPicPr/>
          <p:nvPr/>
        </p:nvPicPr>
        <p:blipFill>
          <a:blip r:embed="rId3"/>
          <a:stretch/>
        </p:blipFill>
        <p:spPr>
          <a:xfrm>
            <a:off x="214200" y="571680"/>
            <a:ext cx="3595680" cy="4214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684360" y="1214280"/>
            <a:ext cx="396072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их произведениях он рассказывал о прошлом своего народа, о своих современниках и о себе так выразительно и так вер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снь о вещем Олег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619280" y="45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 Виктор Васнецов. &#10; Прощание Олега с конем. &#10; Victor Vasnetsov. &#10; Oleg's farewell to his horce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8592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 Виктор Васнецов. &#10; Встреча Олега с кудесником. &#10; Victor Vasnetsov. &#10; Oleg Meeting the Magus.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86240" y="335772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6858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42960" y="714240"/>
            <a:ext cx="75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«Капитанская доч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19280" y="2276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А"/>
          <p:cNvPicPr/>
          <p:nvPr/>
        </p:nvPicPr>
        <p:blipFill>
          <a:blip r:embed="rId2"/>
          <a:stretch/>
        </p:blipFill>
        <p:spPr>
          <a:xfrm>
            <a:off x="1000080" y="2714760"/>
            <a:ext cx="2603520" cy="36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Е"/>
          <p:cNvPicPr/>
          <p:nvPr/>
        </p:nvPicPr>
        <p:blipFill>
          <a:blip r:embed="rId3"/>
          <a:stretch/>
        </p:blipFill>
        <p:spPr>
          <a:xfrm>
            <a:off x="5786280" y="2714760"/>
            <a:ext cx="271476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Манифесты Е"/>
          <p:cNvPicPr/>
          <p:nvPr/>
        </p:nvPicPr>
        <p:blipFill>
          <a:blip r:embed="rId4"/>
          <a:stretch/>
        </p:blipFill>
        <p:spPr>
          <a:xfrm>
            <a:off x="3286080" y="2928960"/>
            <a:ext cx="252576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3"/>
          <p:cNvSpPr/>
          <p:nvPr/>
        </p:nvSpPr>
        <p:spPr>
          <a:xfrm>
            <a:off x="785880" y="15001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первых исследователей и биографов Пугачева стал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00040" y="14130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гений Онеги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20001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 (523x699, 103Kb)"/>
          <p:cNvPicPr/>
          <p:nvPr/>
        </p:nvPicPr>
        <p:blipFill>
          <a:blip r:embed="rId2"/>
          <a:stretch/>
        </p:blipFill>
        <p:spPr>
          <a:xfrm>
            <a:off x="4786200" y="1071720"/>
            <a:ext cx="3857760" cy="507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 (544x698, 87Kb)"/>
          <p:cNvPicPr/>
          <p:nvPr/>
        </p:nvPicPr>
        <p:blipFill>
          <a:blip r:embed="rId3"/>
          <a:stretch/>
        </p:blipFill>
        <p:spPr>
          <a:xfrm>
            <a:off x="1857240" y="214308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9:37:53Z</dcterms:created>
  <dc:creator>User</dc:creator>
  <dc:description/>
  <dc:language>en-US</dc:language>
  <cp:lastModifiedBy>александр</cp:lastModifiedBy>
  <dcterms:modified xsi:type="dcterms:W3CDTF">2011-10-14T16:11:47Z</dcterms:modified>
  <cp:revision>17</cp:revision>
  <dc:subject/>
  <dc:title>Слайд 1</dc:title>
</cp:coreProperties>
</file>