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9.png" ContentType="image/png"/>
  <Override PartName="/ppt/media/image30.png" ContentType="image/png"/>
  <Override PartName="/ppt/media/image8.jpeg" ContentType="image/jpeg"/>
  <Override PartName="/ppt/media/image29.jpeg" ContentType="image/jpeg"/>
  <Override PartName="/ppt/media/image31.png" ContentType="image/png"/>
  <Override PartName="/ppt/media/applause.wav" ContentType="audio/x-wav"/>
  <Override PartName="/ppt/media/image18.png" ContentType="image/png"/>
  <Override PartName="/ppt/media/image6.jpeg" ContentType="image/jpeg"/>
  <Override PartName="/ppt/media/image12.png" ContentType="image/png"/>
  <Override PartName="/ppt/media/image35.wmf" ContentType="image/x-wmf"/>
  <Override PartName="/ppt/media/image15.png" ContentType="image/png"/>
  <Override PartName="/ppt/media/image13.png" ContentType="image/png"/>
  <Override PartName="/ppt/media/chimes.wav" ContentType="audio/x-wav"/>
  <Override PartName="/ppt/media/image5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5C8-600B-489B-AFC9-F84B422D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CDB-A0EC-4138-84E1-B15853B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EDAAF-61EC-4D74-A2FE-ADF6DCE8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10E4F-6A21-4B5A-ACFC-914B3BB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5C3F-43CB-43C2-AD65-F62E88DA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CF217-8C41-40D7-B299-0CBA602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E2C16-E211-489F-A8BE-DDDEB92D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905A2-2E48-4D94-AC15-52C2F369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FD173-3F89-491B-BB5F-87B0B61F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FA0ED-B8B6-4A56-8A8C-F44D7179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42A28-4759-4649-8ECF-E83C82A6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81750-8992-4F06-86D8-E0C69819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204-7933-4959-A78A-E60A92C2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9E56B-B454-44F7-B1DA-DBD690F8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A3DDE-CB23-40A1-BEA1-B3C6EBD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69E41-A2A0-472D-B2C0-9CE6B220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CE85E-112F-4CA0-9FC8-7ECCEAE3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841AE-12F5-45E9-BA83-24A07CF4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D073F-4EB8-4E62-A66F-5D80DDA4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D2F3E-2A2A-467A-AFD9-EF448F2C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F46C0-9A03-4EA6-AFBB-D8FB795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52E70-E549-4562-8068-3445DE21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CCF49-722B-4D2E-839C-3975FEC8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AFE-6589-47FE-9B84-AFA4DF43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3F065-938E-4DE8-A7B4-368901FC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1CF-606B-4982-89E3-1A3BE2BF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38AA-1E11-401A-A364-086E048F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4588-038B-4BCC-86F2-2720724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97E1-DE78-406D-8CB3-D2A8357B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F050-2606-4BAA-B2D0-DA12948C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602B-C615-4FE2-8649-A7C5E7E7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7315-7ED6-4CAB-9A24-F4C3253D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7FC-EC3B-4F94-B9CF-02E09725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D963-83E5-4F28-A8A0-01638DF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AEC7-8606-4366-8215-4B440803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C4C3-06DE-475A-AFAE-7B97F259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EA67-406D-45C0-A9D1-65156113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D1C9-181D-4293-B517-BF6C09D0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FCDE-5767-4C0B-A62D-A042422E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4CBB-B77C-4F75-A178-EED6A8EE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77B8-B5CF-43C1-A767-8383BDE7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225F-246C-4844-8EC8-8141D628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C813-CF27-42BC-A757-3B768ED1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5A4-A896-42F7-973D-93BA62F3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33A5-AD78-40CB-839F-FE37E74A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CC97-E402-42C0-A3AD-04875324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003D-226A-4F1B-BA9E-3475A3A4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B658-9073-4959-A8F9-FE547D9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DE2C-47C7-40BD-B225-0E7B08D0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9456-9073-42FE-9E48-4943765F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8E79-DB0C-4CB5-8AE2-C4B1BFF8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8277-30F4-4DFD-91C9-DD59BF2F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9BBB7-2CF3-4650-B312-8F5AC7DB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831D-D036-492B-A5B8-9075D41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408-41C4-460A-BB99-0E8F607C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55111-6A0F-43FE-968A-095550AB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8F49-2FCB-46D3-A6DB-D1A64A8E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1A46-E42F-4A0D-9EE0-942526A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63EB0-8AF4-4AE9-8274-F5E6C31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51ED-8F93-4412-B3CD-85F91E4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95DB4-566C-442B-BCC5-1FCEA5DE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37114-EB57-45AA-8352-DE6FA0A7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861C-14F4-4EA8-8D6C-F60D3080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6DAB-DC8F-453A-B8F1-D30870F8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F2DA-354A-43F0-BFE4-E7CBCEB2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97A-F982-4E66-8A4E-1070EE9B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7687-67A9-4DF4-B28F-CC687CF3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FA848-08C4-4938-A95E-D2F33E24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C986E-2185-45B2-A310-0E231B05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C1B23-4BD1-4504-9015-2197A44C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2AD4-564C-4214-A25C-7F6C0752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9B2D-D45E-40CE-8B60-09AD180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8C47-E492-4399-B2FA-4C5D4AB1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4E764-20D2-4358-9043-DD583D0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C1A5-245F-4D9A-9E8D-2FCC9BAD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C7B27-B5A9-42E2-AAFE-D0F6EB22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620-4422-4419-991A-DF698739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8AB79-835E-4B8B-BFB1-E2F45DE0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0D466-09D7-4429-8F9A-1959D3C2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3ADE7-B20E-4DA9-AC22-AACA5A3B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9C728-44A9-4CDC-88C9-00F8D69F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F2EEC-FDAE-49C0-ACBF-5A381C2B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8C59F-421D-4B1E-A4CE-A1CBE97A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C79C-67FA-417E-B514-566A89D4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56165-1A4C-459F-B1F8-8FE0594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6936C-8AC8-415E-BF0E-87B81A27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1E6F8-3929-4558-8A64-8C8F7467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97D-2FC3-487F-8083-C781678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31E4F-DA8E-464D-9194-A7CE811F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9C2A3-24CF-4459-AF6A-153FA73A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AB93-F233-440D-BEDC-4AC34297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47BC8-080C-4E9A-A704-CCB56B50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9E52-91F0-499F-94BC-8C79A899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9B919-0220-4531-9A1E-6876E752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F04BE-77AB-492D-92D6-9284C981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F1CA-1E48-4214-912E-D077B08C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69ACF-6393-4759-9B04-660EEFC4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2608F-A163-44B6-9C29-D3976DB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B7A-4300-48D7-916D-7E22CB6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19A1F-7478-4C5B-83A0-5397817C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8F21-CF70-41E7-97F4-4BB57A22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F09EA-F244-47DF-8FF6-69921327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14973-6E0B-4C01-ADC6-29F0B40A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0AAF-45A4-4D56-8DEF-7360356E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4AD59-FA4F-41B8-A92C-4761FF80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B32BB-95AA-4385-85E6-00E70DF4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0D147-7A0E-4AD0-AD05-D456590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80154-4630-4610-BB9D-0C7492DD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83C1-E6C4-43B4-BB8C-1EC315F5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369-E566-4B95-AC83-48F12AEA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51048-91F9-4E95-BFAF-6B7B558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A9E9E-354C-4B1B-813A-E552DE43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5E022-768E-43E7-82AC-C374FEF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8C363-7191-4165-913E-49F37ED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6680B-AA48-4671-98BB-DE005C9C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9EF3-9B57-41D4-B66E-776BF6A5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EE40-1A3E-4B2E-AFC5-B388D9BE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4DBB2-2D09-4F5D-A8CF-5426590C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43EED-ABAF-44CD-829C-DD91F40D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F9D4F-4064-47D8-A9D2-68718B7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CEF0-16C5-4E77-A41B-D76D1D2EF9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3A3E-F939-4B88-BDF4-96DBDAD819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59D-3642-4DAB-9138-FAD4595C2D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E9A2-2F6F-4199-8191-D450BA9D6D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83FA-3B51-4CA7-B636-50C5A525AE2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E6E-00DB-42F4-8460-B39E5B08C26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3F4-59F8-4511-974C-8E2B1912B4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66F7-7376-4882-8AF4-F1BADB6697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9A6C-461D-47F0-9779-C64D578636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936520" y="6528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C84F-83E4-4174-9AE3-C53A6A45EF5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ru.wikipedia.org/wiki/1950" TargetMode="External"/><Relationship Id="rId3" Type="http://schemas.openxmlformats.org/officeDocument/2006/relationships/hyperlink" Target="http://ru.wikipedia.org/wiki/1953_&#1075;&#1086;&#1076;" TargetMode="External"/><Relationship Id="rId4" Type="http://schemas.openxmlformats.org/officeDocument/2006/relationships/hyperlink" Target="http://ru.wikipedia.org/wiki/&#1040;&#1076;&#1077;&#1085;&#1080;&#1085;" TargetMode="External"/><Relationship Id="rId5" Type="http://schemas.openxmlformats.org/officeDocument/2006/relationships/hyperlink" Target="http://ru.wikipedia.org/wiki/&#1044;&#1053;&#1050;" TargetMode="External"/><Relationship Id="rId6" Type="http://schemas.openxmlformats.org/officeDocument/2006/relationships/hyperlink" Target="http://ru.wikipedia.org/wiki/&#1058;&#1080;&#1084;&#1080;&#1085;" TargetMode="External"/><Relationship Id="rId7" Type="http://schemas.openxmlformats.org/officeDocument/2006/relationships/hyperlink" Target="http://ru.wikipedia.org/wiki/&#1043;&#1091;&#1072;&#1085;&#1080;&#1085;" TargetMode="External"/><Relationship Id="rId8" Type="http://schemas.openxmlformats.org/officeDocument/2006/relationships/hyperlink" Target="http://ru.wikipedia.org/wiki/&#1062;&#1080;&#1090;&#1086;&#1079;&#1080;&#1085;" TargetMode="External"/><Relationship Id="rId9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91;&#1088;&#1080;&#1085;" TargetMode="External"/><Relationship Id="rId2" Type="http://schemas.openxmlformats.org/officeDocument/2006/relationships/hyperlink" Target="http://ru.wikipedia.org/wiki/&#1055;&#1080;&#1088;&#1080;&#1084;&#1080;&#1076;&#1080;&#1085;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920" y="141264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Нуклеиновые кислоты.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НК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НК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4" name="Picture 4" descr="Рисунок15"/>
          <p:cNvPicPr/>
          <p:nvPr/>
        </p:nvPicPr>
        <p:blipFill>
          <a:blip r:embed="rId1"/>
          <a:stretch/>
        </p:blipFill>
        <p:spPr>
          <a:xfrm rot="20790000">
            <a:off x="611280" y="2492280"/>
            <a:ext cx="2714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3788f"/>
                </a:solidFill>
                <a:latin typeface="Corbel"/>
              </a:rPr>
              <a:t>Химическое строение </a:t>
            </a:r>
            <a:br>
              <a:rPr sz="2900"/>
            </a:br>
            <a:r>
              <a:rPr b="1" lang="ru-RU" sz="2900" spc="-1" strike="noStrike">
                <a:solidFill>
                  <a:srgbClr val="03788f"/>
                </a:solidFill>
                <a:latin typeface="Corbel"/>
              </a:rPr>
              <a:t>азотистых оснований и углеводов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7" name="Picture 7" descr="Рисунок64"/>
          <p:cNvPicPr/>
          <p:nvPr/>
        </p:nvPicPr>
        <p:blipFill>
          <a:blip r:embed="rId1"/>
          <a:stretch/>
        </p:blipFill>
        <p:spPr>
          <a:xfrm>
            <a:off x="0" y="1700280"/>
            <a:ext cx="4643280" cy="3673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Рисунок65"/>
          <p:cNvPicPr/>
          <p:nvPr/>
        </p:nvPicPr>
        <p:blipFill>
          <a:blip r:embed="rId2"/>
          <a:srcRect l="-113" t="1058" r="2046" b="2923"/>
          <a:stretch/>
        </p:blipFill>
        <p:spPr>
          <a:xfrm>
            <a:off x="4716360" y="1628640"/>
            <a:ext cx="4249800" cy="3862440"/>
          </a:xfrm>
          <a:prstGeom prst="rect">
            <a:avLst/>
          </a:prstGeom>
          <a:ln w="0">
            <a:noFill/>
          </a:ln>
        </p:spPr>
      </p:pic>
      <p:sp>
        <p:nvSpPr>
          <p:cNvPr id="489" name="Oval 9"/>
          <p:cNvSpPr/>
          <p:nvPr/>
        </p:nvSpPr>
        <p:spPr>
          <a:xfrm>
            <a:off x="4067280" y="2349360"/>
            <a:ext cx="431640" cy="432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0"/>
          <p:cNvSpPr/>
          <p:nvPr/>
        </p:nvSpPr>
        <p:spPr>
          <a:xfrm>
            <a:off x="5867280" y="4869000"/>
            <a:ext cx="216000" cy="358560"/>
          </a:xfrm>
          <a:prstGeom prst="ellipse">
            <a:avLst/>
          </a:prstGeom>
          <a:noFill/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1"/>
          <p:cNvSpPr/>
          <p:nvPr/>
        </p:nvSpPr>
        <p:spPr>
          <a:xfrm>
            <a:off x="5724360" y="3068640"/>
            <a:ext cx="216000" cy="358920"/>
          </a:xfrm>
          <a:prstGeom prst="ellipse">
            <a:avLst/>
          </a:prstGeom>
          <a:noFill/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5294520" y="54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 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7506360" y="5465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4"/>
          <p:cNvSpPr/>
          <p:nvPr/>
        </p:nvSpPr>
        <p:spPr>
          <a:xfrm>
            <a:off x="2413080" y="3284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5"/>
          <p:cNvSpPr/>
          <p:nvPr/>
        </p:nvSpPr>
        <p:spPr>
          <a:xfrm>
            <a:off x="3853440" y="3284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Д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5435640" y="5445000"/>
            <a:ext cx="50472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7"/>
          <p:cNvSpPr/>
          <p:nvPr/>
        </p:nvSpPr>
        <p:spPr>
          <a:xfrm>
            <a:off x="7596360" y="544500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8"/>
          <p:cNvSpPr/>
          <p:nvPr/>
        </p:nvSpPr>
        <p:spPr>
          <a:xfrm>
            <a:off x="1979640" y="3573360"/>
            <a:ext cx="50472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9"/>
          <p:cNvSpPr/>
          <p:nvPr/>
        </p:nvSpPr>
        <p:spPr>
          <a:xfrm>
            <a:off x="3419640" y="3573360"/>
            <a:ext cx="50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"/>
          <p:cNvSpPr/>
          <p:nvPr/>
        </p:nvSpPr>
        <p:spPr>
          <a:xfrm>
            <a:off x="1187280" y="1989000"/>
            <a:ext cx="2160720" cy="0"/>
          </a:xfrm>
          <a:prstGeom prst="line">
            <a:avLst/>
          </a:prstGeom>
          <a:ln w="25560">
            <a:solidFill>
              <a:srgbClr val="0378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1"/>
          <p:cNvSpPr/>
          <p:nvPr/>
        </p:nvSpPr>
        <p:spPr>
          <a:xfrm>
            <a:off x="1332000" y="3860640"/>
            <a:ext cx="2016000" cy="0"/>
          </a:xfrm>
          <a:prstGeom prst="line">
            <a:avLst/>
          </a:prstGeom>
          <a:ln w="25560">
            <a:solidFill>
              <a:srgbClr val="0378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2"/>
          <p:cNvSpPr/>
          <p:nvPr/>
        </p:nvSpPr>
        <p:spPr>
          <a:xfrm>
            <a:off x="6084720" y="2060640"/>
            <a:ext cx="1511640" cy="0"/>
          </a:xfrm>
          <a:prstGeom prst="line">
            <a:avLst/>
          </a:prstGeom>
          <a:ln w="25560">
            <a:solidFill>
              <a:srgbClr val="0378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1"/>
          <p:cNvSpPr/>
          <p:nvPr/>
        </p:nvSpPr>
        <p:spPr>
          <a:xfrm>
            <a:off x="1566720" y="549360"/>
            <a:ext cx="62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таток фосфорной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3927240" y="328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4"/>
          <p:cNvSpPr/>
          <p:nvPr/>
        </p:nvSpPr>
        <p:spPr>
          <a:xfrm flipH="1" flipV="1">
            <a:off x="4140360" y="2707920"/>
            <a:ext cx="1440" cy="576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5"/>
          <p:cNvSpPr/>
          <p:nvPr/>
        </p:nvSpPr>
        <p:spPr>
          <a:xfrm flipH="1" flipV="1">
            <a:off x="4067280" y="2707920"/>
            <a:ext cx="1440" cy="576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3854520" y="206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7"/>
          <p:cNvSpPr/>
          <p:nvPr/>
        </p:nvSpPr>
        <p:spPr>
          <a:xfrm>
            <a:off x="4357800" y="3645000"/>
            <a:ext cx="35856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9"/>
          <p:cNvSpPr/>
          <p:nvPr/>
        </p:nvSpPr>
        <p:spPr>
          <a:xfrm>
            <a:off x="3564000" y="3645000"/>
            <a:ext cx="35856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0"/>
          <p:cNvSpPr/>
          <p:nvPr/>
        </p:nvSpPr>
        <p:spPr>
          <a:xfrm>
            <a:off x="4788000" y="342900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1"/>
          <p:cNvSpPr/>
          <p:nvPr/>
        </p:nvSpPr>
        <p:spPr>
          <a:xfrm>
            <a:off x="2919240" y="3429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12"/>
          <p:cNvSpPr/>
          <p:nvPr/>
        </p:nvSpPr>
        <p:spPr>
          <a:xfrm flipV="1">
            <a:off x="4067280" y="3797280"/>
            <a:ext cx="7920" cy="495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9"/>
          <p:cNvSpPr/>
          <p:nvPr/>
        </p:nvSpPr>
        <p:spPr>
          <a:xfrm>
            <a:off x="3785040" y="429264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20"/>
          <p:cNvSpPr/>
          <p:nvPr/>
        </p:nvSpPr>
        <p:spPr>
          <a:xfrm>
            <a:off x="5219640" y="3645000"/>
            <a:ext cx="35892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1"/>
          <p:cNvSpPr/>
          <p:nvPr/>
        </p:nvSpPr>
        <p:spPr>
          <a:xfrm>
            <a:off x="971640" y="260280"/>
            <a:ext cx="76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Строение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нуклеиновых кисло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476360" y="2492280"/>
            <a:ext cx="1676520" cy="2514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инус 4"/>
          <p:cNvSpPr/>
          <p:nvPr/>
        </p:nvSpPr>
        <p:spPr>
          <a:xfrm>
            <a:off x="2843280" y="2924280"/>
            <a:ext cx="2160360" cy="1152360"/>
          </a:xfrm>
          <a:custGeom>
            <a:avLst/>
            <a:gdLst>
              <a:gd name="textAreaLeft" fmla="*/ 286200 w 2160360"/>
              <a:gd name="textAreaRight" fmla="*/ 1874160 w 2160360"/>
              <a:gd name="textAreaTop" fmla="*/ 440640 h 1152360"/>
              <a:gd name="textAreaBottom" fmla="*/ 711720 h 1152360"/>
            </a:gdLst>
            <a:ahLst/>
            <a:rect l="textAreaLeft" t="textAreaTop" r="textAreaRight" b="textAreaBottom"/>
            <a:pathLst>
              <a:path w="2160587" h="1152525">
                <a:moveTo>
                  <a:pt x="286386" y="440726"/>
                </a:moveTo>
                <a:lnTo>
                  <a:pt x="1874201" y="440726"/>
                </a:lnTo>
                <a:lnTo>
                  <a:pt x="1874201" y="711799"/>
                </a:lnTo>
                <a:lnTo>
                  <a:pt x="286386" y="711799"/>
                </a:lnTo>
                <a:close/>
              </a:path>
            </a:pathLst>
          </a:custGeom>
          <a:solidFill>
            <a:srgbClr val="3891a7"/>
          </a:solidFill>
          <a:ln w="1260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500720" y="2492280"/>
            <a:ext cx="3240000" cy="2376720"/>
          </a:xfrm>
          <a:prstGeom prst="pentagon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5"/>
          <p:cNvSpPr/>
          <p:nvPr/>
        </p:nvSpPr>
        <p:spPr>
          <a:xfrm>
            <a:off x="1625400" y="3284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зотист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6"/>
          <p:cNvSpPr/>
          <p:nvPr/>
        </p:nvSpPr>
        <p:spPr>
          <a:xfrm>
            <a:off x="5508720" y="3213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х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3146040" y="5373720"/>
            <a:ext cx="26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з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роение нуклеоти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отисто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ание                сахар пентоз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таток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сфорной кисло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90720" y="3505320"/>
            <a:ext cx="1676160" cy="2514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3352680" y="3657600"/>
            <a:ext cx="2819520" cy="2057400"/>
          </a:xfrm>
          <a:prstGeom prst="pentagon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7"/>
          <p:cNvSpPr/>
          <p:nvPr/>
        </p:nvSpPr>
        <p:spPr>
          <a:xfrm>
            <a:off x="6400800" y="3657600"/>
            <a:ext cx="2286000" cy="2362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1127160" y="308916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1264320" y="39625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де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1270800" y="44197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и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1277640" y="49528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1203120" y="54100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ито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7"/>
          <p:cNvSpPr/>
          <p:nvPr/>
        </p:nvSpPr>
        <p:spPr>
          <a:xfrm>
            <a:off x="365760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езокси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7086600" y="4343400"/>
            <a:ext cx="9478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стат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1"/>
          <p:cNvSpPr/>
          <p:nvPr/>
        </p:nvSpPr>
        <p:spPr>
          <a:xfrm rot="1648800">
            <a:off x="2644920" y="195588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2"/>
          <p:cNvSpPr/>
          <p:nvPr/>
        </p:nvSpPr>
        <p:spPr>
          <a:xfrm rot="1768200">
            <a:off x="6659280" y="220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1260000" y="35463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рац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7"/>
          <p:cNvSpPr/>
          <p:nvPr/>
        </p:nvSpPr>
        <p:spPr>
          <a:xfrm>
            <a:off x="250920" y="1844640"/>
            <a:ext cx="2286000" cy="2362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1"/>
          <p:cNvSpPr/>
          <p:nvPr/>
        </p:nvSpPr>
        <p:spPr>
          <a:xfrm flipV="1">
            <a:off x="2340000" y="2708280"/>
            <a:ext cx="1166760" cy="355680"/>
          </a:xfrm>
          <a:prstGeom prst="rightArrow">
            <a:avLst>
              <a:gd name="adj1" fmla="val 50000"/>
              <a:gd name="adj2" fmla="val 7476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3132000" y="1989000"/>
            <a:ext cx="2819520" cy="2057400"/>
          </a:xfrm>
          <a:prstGeom prst="pentagon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5802480" y="2728800"/>
            <a:ext cx="865080" cy="289080"/>
          </a:xfrm>
          <a:prstGeom prst="rightArrow">
            <a:avLst>
              <a:gd name="adj1" fmla="val 50000"/>
              <a:gd name="adj2" fmla="val 74813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443640" y="1916280"/>
            <a:ext cx="1676520" cy="2514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2771640" y="76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клеот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3671640" cy="4772160"/>
          </a:xfrm>
          <a:prstGeom prst="rect">
            <a:avLst/>
          </a:prstGeom>
          <a:ln w="0">
            <a:noFill/>
          </a:ln>
        </p:spPr>
      </p:pic>
      <p:cxnSp>
        <p:nvCxnSpPr>
          <p:cNvPr id="544" name="Прямая со стрелкой 5"/>
          <p:cNvCxnSpPr/>
          <p:nvPr/>
        </p:nvCxnSpPr>
        <p:spPr>
          <a:xfrm>
            <a:off x="3851280" y="1341360"/>
            <a:ext cx="2953440" cy="1224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45" name="Прямая со стрелкой 7"/>
          <p:cNvCxnSpPr/>
          <p:nvPr/>
        </p:nvCxnSpPr>
        <p:spPr>
          <a:xfrm>
            <a:off x="3347640" y="2205000"/>
            <a:ext cx="3312360" cy="2448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546" name="Прямая со стрелкой 9"/>
          <p:cNvCxnSpPr/>
          <p:nvPr/>
        </p:nvCxnSpPr>
        <p:spPr>
          <a:xfrm flipV="1">
            <a:off x="2124000" y="333000"/>
            <a:ext cx="3169440" cy="792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547" name="Прямоугольник 12"/>
          <p:cNvSpPr/>
          <p:nvPr/>
        </p:nvSpPr>
        <p:spPr>
          <a:xfrm>
            <a:off x="6875640" y="2349360"/>
            <a:ext cx="17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ист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3"/>
          <p:cNvSpPr/>
          <p:nvPr/>
        </p:nvSpPr>
        <p:spPr>
          <a:xfrm>
            <a:off x="6954840" y="4653000"/>
            <a:ext cx="15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14"/>
          <p:cNvSpPr/>
          <p:nvPr/>
        </p:nvSpPr>
        <p:spPr>
          <a:xfrm>
            <a:off x="4788000" y="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Прямоугольник 1" descr=""/>
          <p:cNvPicPr/>
          <p:nvPr/>
        </p:nvPicPr>
        <p:blipFill>
          <a:blip r:embed="rId1"/>
          <a:stretch/>
        </p:blipFill>
        <p:spPr>
          <a:xfrm>
            <a:off x="749160" y="158760"/>
            <a:ext cx="8218800" cy="1932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Фрагмент ДНК"/>
          <p:cNvPicPr/>
          <p:nvPr/>
        </p:nvPicPr>
        <p:blipFill>
          <a:blip r:embed="rId2"/>
          <a:stretch/>
        </p:blipFill>
        <p:spPr>
          <a:xfrm>
            <a:off x="2268360" y="1989000"/>
            <a:ext cx="5543640" cy="44024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Нуклеотид"/>
          <p:cNvPicPr/>
          <p:nvPr/>
        </p:nvPicPr>
        <p:blipFill>
          <a:blip r:embed="rId3"/>
          <a:stretch/>
        </p:blipFill>
        <p:spPr>
          <a:xfrm>
            <a:off x="1692360" y="2060640"/>
            <a:ext cx="6850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роение ДН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НК- биополимер, состоящий из полинуклеотидных цепей, соединенных друг с другом. ДНК- полимер с очень большой молекулярной масс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НК- полимер, состоящий из мономеров- нуклеотид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5" name="Picture 14" descr=""/>
          <p:cNvPicPr/>
          <p:nvPr/>
        </p:nvPicPr>
        <p:blipFill>
          <a:blip r:embed="rId1"/>
          <a:stretch/>
        </p:blipFill>
        <p:spPr>
          <a:xfrm>
            <a:off x="5002200" y="2362320"/>
            <a:ext cx="3902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1"/>
          <p:cNvSpPr/>
          <p:nvPr/>
        </p:nvSpPr>
        <p:spPr>
          <a:xfrm>
            <a:off x="1116000" y="476280"/>
            <a:ext cx="72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ный состав ДНК впервые ( 1950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проанализировал американский биохим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вин Чаргаф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1905 – 200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6804000" y="1052640"/>
            <a:ext cx="1871640" cy="2358720"/>
          </a:xfrm>
          <a:prstGeom prst="rect">
            <a:avLst/>
          </a:prstGeom>
          <a:ln w="0">
            <a:noFill/>
          </a:ln>
        </p:spPr>
      </p:pic>
      <p:sp>
        <p:nvSpPr>
          <p:cNvPr id="558" name="Прямоугольник 3"/>
          <p:cNvSpPr/>
          <p:nvPr/>
        </p:nvSpPr>
        <p:spPr>
          <a:xfrm>
            <a:off x="1042920" y="3500280"/>
            <a:ext cx="712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195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/>
              </a:rPr>
              <a:t>1953 года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 было показано, что общее количество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/>
              </a:rPr>
              <a:t>аденино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тков в каждой молекуле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5"/>
              </a:rPr>
              <a:t>ДН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количеству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6"/>
              </a:rPr>
              <a:t>тимино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тков, а количество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7"/>
              </a:rPr>
              <a:t>гуанино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тков — количеству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8"/>
              </a:rPr>
              <a:t>цитозинов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"/>
          <p:cNvSpPr/>
          <p:nvPr/>
        </p:nvSpPr>
        <p:spPr>
          <a:xfrm>
            <a:off x="0" y="1210320"/>
            <a:ext cx="899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аденина равно количеству тимина, а гуанина — цитозин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Т, Г=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</a:t>
            </a: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пурин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количеству </a:t>
            </a: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пиримидин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+Г=Т+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"/>
          <p:cNvSpPr/>
          <p:nvPr/>
        </p:nvSpPr>
        <p:spPr>
          <a:xfrm>
            <a:off x="1934280" y="692280"/>
            <a:ext cx="494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Правила   Чаргафф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уклеиновые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исл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НК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зоксирибонуклеиновая кислота)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НК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ибонуклеиновая кислота)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7" name="Picture 4" descr="Рисунок37"/>
          <p:cNvPicPr/>
          <p:nvPr/>
        </p:nvPicPr>
        <p:blipFill>
          <a:blip r:embed="rId1"/>
          <a:stretch/>
        </p:blipFill>
        <p:spPr>
          <a:xfrm>
            <a:off x="6804000" y="0"/>
            <a:ext cx="20192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2600" cy="27766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2"/>
          <p:cNvSpPr/>
          <p:nvPr/>
        </p:nvSpPr>
        <p:spPr>
          <a:xfrm>
            <a:off x="2987640" y="404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ис   Хью УИЛКИ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6 г. - 2004 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"/>
          <p:cNvSpPr/>
          <p:nvPr/>
        </p:nvSpPr>
        <p:spPr>
          <a:xfrm>
            <a:off x="2411280" y="1916280"/>
            <a:ext cx="62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г. – получил рентген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аллических волокон Д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2724120" cy="2752560"/>
          </a:xfrm>
          <a:prstGeom prst="rect">
            <a:avLst/>
          </a:prstGeom>
          <a:ln w="0">
            <a:noFill/>
          </a:ln>
        </p:spPr>
      </p:pic>
      <p:sp>
        <p:nvSpPr>
          <p:cNvPr id="565" name="TextBox 5"/>
          <p:cNvSpPr/>
          <p:nvPr/>
        </p:nvSpPr>
        <p:spPr>
          <a:xfrm>
            <a:off x="3063960" y="3500280"/>
            <a:ext cx="588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имеет определенную струк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ий крес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 двойной спир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ы располож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 от друга  на расстоя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4 н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ок – 10 нуклеот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504960" cy="58579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4535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7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3691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303720" cy="3529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3"/>
          <p:cNvSpPr/>
          <p:nvPr/>
        </p:nvSpPr>
        <p:spPr>
          <a:xfrm>
            <a:off x="0" y="4076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ОТСОН Джеймс Дьюи </a:t>
            </a: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1928 - н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4"/>
          <p:cNvSpPr/>
          <p:nvPr/>
        </p:nvSpPr>
        <p:spPr>
          <a:xfrm>
            <a:off x="4572000" y="4149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ИК Френсис Харри Компт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1916 - н.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900000" y="4941720"/>
            <a:ext cx="77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ахарофосфатный остов – на периферии Д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уриновые и пиримидиновые основания – в сере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денин может спариваться только с тимином, а гуанин с цитози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755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Прямоугольник 1"/>
          <p:cNvSpPr/>
          <p:nvPr/>
        </p:nvSpPr>
        <p:spPr>
          <a:xfrm>
            <a:off x="250920" y="333360"/>
            <a:ext cx="8677080" cy="576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р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ат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u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дополнение) — пространственная взаимодополняемость молекул или их частей, приводящая к образованию водородных свя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уклеиновых кислотах наблюдается комплементарность последовательностей оснований в противоположных цепях ДН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истые основания нуклеотидов способны вследствие образования водородных связей формировать парные комплек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Т, А = У; Г =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3"/>
          <p:cNvSpPr/>
          <p:nvPr/>
        </p:nvSpPr>
        <p:spPr>
          <a:xfrm flipH="1">
            <a:off x="5796000" y="566100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3788f"/>
                </a:solidFill>
                <a:latin typeface="Corbel"/>
              </a:rPr>
              <a:t>Вторичная структура нуклеиновых кислот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77" name="Picture 3" descr="Спираль ДН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765000"/>
            <a:ext cx="6624720" cy="36864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4508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Молекула ДНК – спиральная, состоит из двух полинуклеотидных цепей, закрученных вокруг общей оси – </a:t>
            </a:r>
            <a:r>
              <a:rPr b="1" lang="ru-RU" sz="2000" spc="-1" strike="noStrike">
                <a:solidFill>
                  <a:srgbClr val="5400a8"/>
                </a:solidFill>
                <a:latin typeface="Corbel"/>
              </a:rPr>
              <a:t>вторичная структура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 Пары оснований располагаются строго перпендикулярно оси двойной спирали, подобно перекладинам в перевитой веревочной лестнице. Эти пары имеют почти точно одинаковые размеры, поэтому в структуру двойной спирали «вписываются» любые последовательности пар оснований. Данное строение и отражае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модель Уотсона-Крика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73080" cy="264312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2"/>
          <p:cNvSpPr/>
          <p:nvPr/>
        </p:nvSpPr>
        <p:spPr>
          <a:xfrm>
            <a:off x="2771640" y="333360"/>
            <a:ext cx="459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ер ТОД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7 г. – 1997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3"/>
          <p:cNvSpPr/>
          <p:nvPr/>
        </p:nvSpPr>
        <p:spPr>
          <a:xfrm>
            <a:off x="2340000" y="1341360"/>
            <a:ext cx="624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50- х годов большая группа ученых под руководством английского ученого А. Тодда установила точную структуру связей, соединяющих нуклеотиды од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связи оказывались одинаковыми: углеродный атом в 5'- положении остатка дезоксирибозы одного нуклеотида соединяется через фосфатную группу с углеродным атомом в З'-положении соседнего нуклеоти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168560" y="333360"/>
            <a:ext cx="7975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1"/>
          <p:cNvSpPr/>
          <p:nvPr/>
        </p:nvSpPr>
        <p:spPr>
          <a:xfrm>
            <a:off x="1042920" y="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17b7c"/>
                </a:solidFill>
                <a:latin typeface="Times New Roman"/>
                <a:ea typeface="Times New Roman"/>
              </a:rPr>
              <a:t>Подведем итоги по строению ДН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исло полинуклеотидных цепей в молекуле ДНК равно дву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пи образуют спирали по 10 пар оснований в каждом витк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войные цепи закручены одна вокруг другой и вместе вокруг общей ос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сфатные группировки находятся снаружи спирали, а основания внутри и расположены с интервалом 0,34 нм под прямым углом к оси молекул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1"/>
          <p:cNvSpPr/>
          <p:nvPr/>
        </p:nvSpPr>
        <p:spPr>
          <a:xfrm>
            <a:off x="831960" y="1125360"/>
            <a:ext cx="76471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Нуклеиновые кислоты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высокомолекуляр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ческие  соединени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хранение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у наследствен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ых организ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Прямоугольник 1"/>
          <p:cNvSpPr/>
          <p:nvPr/>
        </p:nvSpPr>
        <p:spPr>
          <a:xfrm>
            <a:off x="324000" y="1052640"/>
            <a:ext cx="88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пи удерживаются вместе водородными связями между основани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ры, образуемые основаниями (А-Т и Г-Ц), в высшей степени специфичны: полинуклеотидные цепи комплементарны друг другу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структуре ДНК может происходить изменение в чередовании нуклеотидов ( мутации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2"/>
          <p:cNvSpPr/>
          <p:nvPr/>
        </p:nvSpPr>
        <p:spPr>
          <a:xfrm>
            <a:off x="1195560" y="189000"/>
            <a:ext cx="68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17b7c"/>
                </a:solidFill>
                <a:latin typeface="Times New Roman"/>
                <a:ea typeface="Times New Roman"/>
              </a:rPr>
              <a:t>Подведем итоги по строению ДН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2843280" y="4944960"/>
            <a:ext cx="33130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1"/>
          <p:cNvSpPr/>
          <p:nvPr/>
        </p:nvSpPr>
        <p:spPr>
          <a:xfrm>
            <a:off x="611280" y="333360"/>
            <a:ext cx="7921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лекуле ДНК обнаружено 880 гуаниновых нуклеотидов, которые составляют 22% от общего количества нуклеотидов этой ДНК. Определить:  сколько содержится других нуклеотидов (по отдельности) в этой молекуле ДНК?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1"/>
          <p:cNvSpPr/>
          <p:nvPr/>
        </p:nvSpPr>
        <p:spPr>
          <a:xfrm>
            <a:off x="179280" y="47628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                                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– 880 – 22%                  1) Исходя из правила Г=Ц, 880  -  2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                                2) Принцип комплементар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А + Т) + ( Г + Ц) = 100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?                                         А = Т = 100 –( 22+22) =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-?                                      3)  Вычислим количество нуклеот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-?                                          880 – 22%         х = 880 · 56  : 22= 2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56 %              А + Т = 2240 : 2 = 11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А =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бщее количество нуклеот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0+880+ 1120+ 1120+ =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й цепи  4000 : 2 = 2000 нуклео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А = Т = 1120, Г=Ц =8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2DCF-F7EB-45AD-AE1B-F6C5A94AA4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ши задачу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цепей фрагмента молекулы ДНК имеет следующее строение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-Г-Г-А-Т-А-А-Ц-А-Г-А-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строение противоположной цеп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оследовательность нуклеотидов в молекуле и-РНК, построенной на этом участке цепи ДН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B947-3451-4DDC-96AB-241EA019A4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ше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71280" y="144756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цепь ДНК Г-Г-Г-А-Т-А-А-Ц-А-Г-А-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-Ц-Ц-Т-А-Т-Т-Г-Т-Ц-Т-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о принципу комплементарност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-РНК       Г-Г-Г-А-У-А-А-Ц-А-Г-Ц-У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3635280" y="198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4140360" y="1989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6"/>
          <p:cNvSpPr/>
          <p:nvPr/>
        </p:nvSpPr>
        <p:spPr>
          <a:xfrm>
            <a:off x="450072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7"/>
          <p:cNvSpPr/>
          <p:nvPr/>
        </p:nvSpPr>
        <p:spPr>
          <a:xfrm>
            <a:off x="500364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8"/>
          <p:cNvSpPr/>
          <p:nvPr/>
        </p:nvSpPr>
        <p:spPr>
          <a:xfrm>
            <a:off x="5435640" y="198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9"/>
          <p:cNvSpPr/>
          <p:nvPr/>
        </p:nvSpPr>
        <p:spPr>
          <a:xfrm>
            <a:off x="5867280" y="19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0"/>
          <p:cNvSpPr/>
          <p:nvPr/>
        </p:nvSpPr>
        <p:spPr>
          <a:xfrm>
            <a:off x="6300720" y="1916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1"/>
          <p:cNvSpPr/>
          <p:nvPr/>
        </p:nvSpPr>
        <p:spPr>
          <a:xfrm>
            <a:off x="665964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2"/>
          <p:cNvSpPr/>
          <p:nvPr/>
        </p:nvSpPr>
        <p:spPr>
          <a:xfrm>
            <a:off x="709308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5"/>
          <p:cNvSpPr/>
          <p:nvPr/>
        </p:nvSpPr>
        <p:spPr>
          <a:xfrm>
            <a:off x="7451640" y="198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>
            <a:off x="7885080" y="1916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0"/>
          <p:cNvSpPr/>
          <p:nvPr/>
        </p:nvSpPr>
        <p:spPr>
          <a:xfrm>
            <a:off x="8388360" y="19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1" name="applaus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Репликация ДНК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двоение молекулы ДНК называют  </a:t>
            </a:r>
            <a:r>
              <a:rPr b="1" i="1" lang="ru-RU" sz="2000" spc="-1" strike="noStrike">
                <a:solidFill>
                  <a:srgbClr val="006600"/>
                </a:solidFill>
                <a:latin typeface="Corbel"/>
              </a:rPr>
              <a:t>репликацией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ли </a:t>
            </a:r>
            <a:r>
              <a:rPr b="1" i="1" lang="ru-RU" sz="2000" spc="-1" strike="noStrike">
                <a:solidFill>
                  <a:srgbClr val="006600"/>
                </a:solidFill>
                <a:latin typeface="Corbel"/>
              </a:rPr>
              <a:t>редупликацией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о время репликации часть молекулы «материнской» ДНК расплетается на две нити с помощью специального фермента , причем это достигается разрывом водородных связей между комплементарными азотистыми основаниями: аденином —тимином и гуанином – цитозином. Далее к каждому нуклеотиду разошедшихся нитей ДНК фермент ДНК-полимераза подстраивает комплементарный ему нуклеотид. Таким образом, образу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две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двуцепочечные молекулы ДНК, в состав каждой из которых входят одна цепочка «материнской» молекулы и одна новосинтезированная («дочерняя») цепочка. Эти две молекулы ДНК абсолют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идентичны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0" name="Picture 4" descr="Рисунок13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УОТСОН Джеймс Дьюи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(1928 - н.в.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643280" y="1052640"/>
            <a:ext cx="4321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 биофизик, биохимик, молекулярный биолог, предложил гипотезу о том, чт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имеет форму двойной спирал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л молекулярную структуру нуклеиновых кисло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ередачи наследственной информаци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 Нобелевской премии 1962 года по физиологии и медицине (вместе с Фрэнсис Харри Комптоном Криком и Морисом Уилкинсом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384120" y="1628640"/>
            <a:ext cx="4181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КРИК Френсис Харри Комптон (1916 - н.в.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физик, биофизик, специалист в области молекулярной биологии, выясни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ую структуру нуклеиновых кислот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 основные типы РНК, предложил теорию передачи генетического кода и показал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копирование молекул ДНК при делении клет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й является членом Лондонского королевского общества (1959), в 1962 году стал лауреатом Нобелевской премии по физиологии и медицине (вместе с Джеймсом Дьюи Уотсоном и Морисом Уилкинсом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6" name="Picture 1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249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3627360"/>
          </a:xfrm>
          <a:prstGeom prst="rect">
            <a:avLst/>
          </a:prstGeom>
          <a:ln w="0">
            <a:noFill/>
          </a:ln>
        </p:spPr>
      </p:pic>
      <p:sp>
        <p:nvSpPr>
          <p:cNvPr id="618" name="AutoShape 3"/>
          <p:cNvSpPr/>
          <p:nvPr/>
        </p:nvSpPr>
        <p:spPr>
          <a:xfrm>
            <a:off x="179280" y="907920"/>
            <a:ext cx="5761080" cy="1657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be2f3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Модель ДНК Уотсона и Крик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– 1953 г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5400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000" spc="-1" strike="noStrike">
                <a:solidFill>
                  <a:srgbClr val="0000cc"/>
                </a:solidFill>
                <a:latin typeface="Corbel"/>
              </a:rPr>
              <a:t>ДНК – двойная спираль, в которой 2 полинуклеотидные цепи удерживаются водородными связями между комплементарными основаниями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анная модель была основана на следующих фактах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анные химического анализа (ДНК – полинуклеотид)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бота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Эрвина Чаргафф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о равном соотношении в ДНК аденина и тимина,   цитозина и гуанин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ентгенограмма ДНК, полученная      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Розалиндой Франклин и Морисом        Уилкинсо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менно модель Уотсона-Крика позволила объяснить, каким образом при делении клетки в каждую дочернюю клетку попадает идентичная информация, содержащаяся в материнской клетке. Это происходит в результате удвоения молекулы ДНК, то есть в результате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епликаци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161D-936D-4C37-A403-4E71067504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572314"/>
                </a:solidFill>
                <a:latin typeface="Corbel"/>
              </a:rPr>
              <a:t>Сравнительная характеристика НК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95280" y="1197000"/>
          <a:ext cx="8280360" cy="5311800"/>
        </p:xfrm>
        <a:graphic>
          <a:graphicData uri="http://schemas.openxmlformats.org/drawingml/2006/table">
            <a:tbl>
              <a:tblPr/>
              <a:tblGrid>
                <a:gridCol w="2305080"/>
                <a:gridCol w="3166920"/>
                <a:gridCol w="280836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Нахожде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ро, митохондрии, рибосомы, хлороплас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р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хондрии, хлороплас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Нахождение в яд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ры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осо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остав нуклеот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ая полинуклеотидная цепочка, кроме виру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ая, свернутая правозакрученная спираль (Дж.Уотсон и Ф.Крик в 1953г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Рисунок16"/>
          <p:cNvPicPr/>
          <p:nvPr/>
        </p:nvPicPr>
        <p:blipFill>
          <a:blip r:embed="rId1"/>
          <a:stretch/>
        </p:blipFill>
        <p:spPr>
          <a:xfrm>
            <a:off x="6084720" y="2565360"/>
            <a:ext cx="2519640" cy="14400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9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7dec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3788f"/>
                </a:solidFill>
                <a:latin typeface="Corbel"/>
              </a:rPr>
              <a:t>Вехи истор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были описаны в 1869 г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йцарским биохимик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дрихом  Миш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 1844 – 1895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л веществ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еточных яд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коцитов. (Из  гнойног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,  в состав которого входил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клеином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– </a:t>
            </a:r>
            <a:r>
              <a:rPr b="1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уклеинов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слот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 «</a:t>
            </a:r>
            <a:r>
              <a:rPr b="0" i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nucleu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2" name="Picture 5" descr="Рисунок68"/>
          <p:cNvPicPr/>
          <p:nvPr/>
        </p:nvPicPr>
        <p:blipFill>
          <a:blip r:embed="rId2"/>
          <a:stretch/>
        </p:blipFill>
        <p:spPr>
          <a:xfrm>
            <a:off x="7534440" y="0"/>
            <a:ext cx="1609560" cy="1487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"/>
          <p:cNvPicPr/>
          <p:nvPr/>
        </p:nvPicPr>
        <p:blipFill>
          <a:blip r:embed="rId3"/>
          <a:stretch/>
        </p:blipFill>
        <p:spPr>
          <a:xfrm>
            <a:off x="6084720" y="2637000"/>
            <a:ext cx="266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876-B32B-42F5-9030-67390365A9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572314"/>
                </a:solidFill>
                <a:latin typeface="Corbel"/>
              </a:rPr>
              <a:t>Сравнительная характеристика НК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684360" y="1628640"/>
          <a:ext cx="8208720" cy="5160960"/>
        </p:xfrm>
        <a:graphic>
          <a:graphicData uri="http://schemas.openxmlformats.org/drawingml/2006/table">
            <a:tbl>
              <a:tblPr/>
              <a:tblGrid>
                <a:gridCol w="2217600"/>
                <a:gridCol w="2879640"/>
                <a:gridCol w="311148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остав нуклеот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зотистое ос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-аден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feb80a"/>
                          </a:solidFill>
                          <a:latin typeface="Arial"/>
                        </a:rPr>
                        <a:t>У-ураци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-гуанин,Ц-цитоз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Углевод риб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статок фосфорной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зотистое ос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-аден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feb80a"/>
                          </a:solidFill>
                          <a:latin typeface="Arial"/>
                        </a:rPr>
                        <a:t>Т-тим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-гуанин,Ц-цитози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Углевод дезоксирибоза 3.Остаток фосфорной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EBD2-1B42-4942-BA9F-7FB96ACB74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572314"/>
                </a:solidFill>
                <a:latin typeface="Corbel"/>
              </a:rPr>
              <a:t>Сравнительная характеристика НК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790560" y="1455840"/>
          <a:ext cx="8245440" cy="5288040"/>
        </p:xfrm>
        <a:graphic>
          <a:graphicData uri="http://schemas.openxmlformats.org/drawingml/2006/table">
            <a:tbl>
              <a:tblPr/>
              <a:tblGrid>
                <a:gridCol w="1857240"/>
                <a:gridCol w="3399120"/>
                <a:gridCol w="298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во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пособна к самоудво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иль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а к самоудвоению по принципу компли-ментарности:А-Т; Т-А; Г-Ц;Ц-Г. Стабиль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-РНК (или м-РНК)определяет порядок расположения АК в белк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-РНК- подносит АК к месту синтеза белка(к рибосомам);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НК определяет структуру рибос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 основа гена. Хранение и передача наследственной информации о структуре белк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EE29-8980-4B07-944D-7CC29776D0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ff"/>
                </a:solidFill>
                <a:latin typeface="Corbel"/>
              </a:rPr>
              <a:t>Запиш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ДНК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войная спирал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Ж.Уотсон, Ф. Крик-1953г.Нобелевская прем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А=Т, Г=Ц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мплиментар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Функции:</a:t>
            </a:r>
            <a:r>
              <a:rPr b="0" lang="ru-RU" sz="2000" spc="-1" strike="noStrike">
                <a:solidFill>
                  <a:srgbClr val="0000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.хран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.воспроизведе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.передач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следственной информац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РНК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диночная цеп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А,У,Ц,Г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уклеотид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иды РНК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И- РН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Т- РН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Р- РН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Функци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биосинтез бел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34" name="Picture 8" descr="MCj02171020000[1]"/>
          <p:cNvPicPr/>
          <p:nvPr/>
        </p:nvPicPr>
        <p:blipFill>
          <a:blip r:embed="rId1"/>
          <a:stretch/>
        </p:blipFill>
        <p:spPr>
          <a:xfrm>
            <a:off x="7236000" y="189000"/>
            <a:ext cx="16570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нение Н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На протяжении жизни человек болеет, попадает в неблагоприятные производственные или климатические условия. Следствие этого – учащение «сбоев» в отлаженном генетическом аппарате. До определенного времени «сбои» себя внешне не проявляют, и мы их не замечаем. Увы! Со временем изменения становятся очевидными. В первую очередь они проявляются на кож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В настоящее время результаты исследований биомакромолекул выходят из стен лабораторий, начиная все активнее помогать врачам и косметологам в повседневной работе. Еще в 1960-х гг. стало известно, что изолированные нити ДНК вызывают регенерацию клеток. Но только в самые последние годы XX столетия стало возможно использовать это свойство для восстановления клеток стареющей кож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1"/>
          <p:cNvSpPr/>
          <p:nvPr/>
        </p:nvSpPr>
        <p:spPr>
          <a:xfrm>
            <a:off x="539640" y="476280"/>
            <a:ext cx="806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стной хирургической больницы ему поставляли повязки, снятые со свежих гнойных ран. Мишер отмывал лейкоциты из ткани бинтов, а затем выделял из отмытых клеток молекулы белков. В процессе исследований, ему удалось установить, что кроме белка, в лейкоцитах содержится еще какое-то неизученное вещество. Оно выделялось в виде осадка нитевидной или хлопьеобразной структуры при создании кислой среды. При подщелачивании раствора, осадок растворялся. Исследуя препарат лейкоцитов под микроскопом, Мишер обнаружил, что в процессе отмывания лейкоцитов разбавленной соляной кислотой, от них остаются одни ядра. На основании этого, он сделал заключение о том, что в ядрах клеток содержится неизвестное вещество, и назвал его нуклеином, от латинского сл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в переводе означает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более подробном изучении, Мишер разработал целую систему выделения и очистки нуклеинов. Выделенное соединение он подверг обработке эфиром и другими органическими растворителями, и убедился, что это не жировое соединение, т. к. оно не растворялось в этих веществах. Не имели нуклеины и белковой природы, т.к. при обработке ферментами, разлагающими белки, они не претерпели никаких изме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1"/>
          <p:cNvSpPr/>
          <p:nvPr/>
        </p:nvSpPr>
        <p:spPr>
          <a:xfrm>
            <a:off x="934920" y="476280"/>
            <a:ext cx="820908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4 г. группа американских бактериологов из Рокфеллеровского института во главе с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Эвер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ала, что способность пневмококков вызывать болезнь передается от одних к другим при обмене ДНК (плазмидам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было доказано, что именно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НК</a:t>
            </a:r>
            <a:r>
              <a:rPr b="0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является</a:t>
            </a:r>
            <a:r>
              <a:rPr b="0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осителем наследственной информац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, объясняющей данный факт, еще не бы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1"/>
          <p:cNvSpPr/>
          <p:nvPr/>
        </p:nvSpPr>
        <p:spPr>
          <a:xfrm>
            <a:off x="2340000" y="33336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Строение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c58d01"/>
                </a:solidFill>
                <a:latin typeface="Times New Roman"/>
                <a:ea typeface="Times New Roman"/>
              </a:rPr>
              <a:t>нуклеиновых кисло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"/>
          <p:cNvSpPr/>
          <p:nvPr/>
        </p:nvSpPr>
        <p:spPr>
          <a:xfrm>
            <a:off x="1508040" y="2852640"/>
            <a:ext cx="628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 Азотистые осн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Углев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Остаток фосфорной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2064240" y="404640"/>
            <a:ext cx="56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отистые осн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Схема 2" descr=""/>
          <p:cNvPicPr/>
          <p:nvPr/>
        </p:nvPicPr>
        <p:blipFill>
          <a:blip r:embed="rId1"/>
          <a:stretch/>
        </p:blipFill>
        <p:spPr>
          <a:xfrm>
            <a:off x="1395360" y="1390680"/>
            <a:ext cx="6243840" cy="4076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Рисунок64"/>
          <p:cNvPicPr/>
          <p:nvPr/>
        </p:nvPicPr>
        <p:blipFill>
          <a:blip r:embed="rId2"/>
          <a:stretch/>
        </p:blipFill>
        <p:spPr>
          <a:xfrm>
            <a:off x="1619280" y="981000"/>
            <a:ext cx="6435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1"/>
          <p:cNvSpPr/>
          <p:nvPr/>
        </p:nvSpPr>
        <p:spPr>
          <a:xfrm>
            <a:off x="2659680" y="620640"/>
            <a:ext cx="32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Угле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60800" cy="3025440"/>
          </a:xfrm>
          <a:prstGeom prst="rect">
            <a:avLst/>
          </a:prstGeom>
          <a:ln w="0">
            <a:noFill/>
          </a:ln>
        </p:spPr>
      </p:pic>
      <p:sp>
        <p:nvSpPr>
          <p:cNvPr id="484" name="TextBox 7"/>
          <p:cNvSpPr/>
          <p:nvPr/>
        </p:nvSpPr>
        <p:spPr>
          <a:xfrm>
            <a:off x="1839240" y="486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5948280" y="501336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0:17:00Z</dcterms:created>
  <dc:creator>Unit</dc:creator>
  <dc:description/>
  <dc:language>en-US</dc:language>
  <cp:lastModifiedBy>Unit</cp:lastModifiedBy>
  <dcterms:modified xsi:type="dcterms:W3CDTF">2011-11-21T12:01:38Z</dcterms:modified>
  <cp:revision>31</cp:revision>
  <dc:subject/>
  <dc:title>Нуклеиновые кислоты.</dc:title>
</cp:coreProperties>
</file>