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9.png" ContentType="image/png"/>
  <Override PartName="/ppt/media/image30.png" ContentType="image/png"/>
  <Override PartName="/ppt/media/image8.jpeg" ContentType="image/jpeg"/>
  <Override PartName="/ppt/media/image29.jpeg" ContentType="image/jpeg"/>
  <Override PartName="/ppt/media/image31.png" ContentType="image/png"/>
  <Override PartName="/ppt/media/applause.wav" ContentType="audio/x-wav"/>
  <Override PartName="/ppt/media/image18.png" ContentType="image/png"/>
  <Override PartName="/ppt/media/image6.jpeg" ContentType="image/jpeg"/>
  <Override PartName="/ppt/media/image12.png" ContentType="image/png"/>
  <Override PartName="/ppt/media/image35.wmf" ContentType="image/x-wmf"/>
  <Override PartName="/ppt/media/image15.png" ContentType="image/png"/>
  <Override PartName="/ppt/media/image13.png" ContentType="image/png"/>
  <Override PartName="/ppt/media/chimes.wav" ContentType="audio/x-wav"/>
  <Override PartName="/ppt/media/image5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F54-716F-4DD0-92CA-54F2533F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C80-87A0-4482-A7FB-B64245B5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2667-B9F6-4756-9B0F-E1EFFD65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B392E-D9F9-4D98-8C79-584C52DC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C4BCC-DC18-46EF-8F62-E4BED57B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911B0-0179-4E73-8E29-5795888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10B1C-955F-4342-9E68-0DBD8D5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E2984-0AE3-41AB-B0C8-810C298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025B2-0A55-434B-855A-AF5B6DBA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57471-9EB4-42D4-8D77-1455CD67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DBB1A-DC1A-491A-BA86-3C966168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E7F43-A2E3-46D8-A251-1F6CDC1F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A65-7BBD-472C-809A-30A69F75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AC1ED-109A-4BEC-8BD9-DC6A2A9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392E8-5840-4D5C-A1F2-3BACFD9B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45DF3-9BD4-47DF-8C63-E82F4C2C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66B3C-641D-483E-8C10-3D5EACC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B4860-2D0F-43CF-A58E-E28115E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296C0-DF32-4AD0-B4F2-5260012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4B3C6-8A52-4489-84BA-7D25B20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60BA2-E5DE-4EE1-A841-BBCFDFF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7B021-E2C0-45AF-A654-37E981E9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E2717-458F-48C2-A34D-6970A42E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114-EF56-4554-92A2-D3357C2B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BF32E-6DC9-4617-9FE7-3D85DE4D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506D-6CEE-4C8C-A957-7312F1AD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ADF8-B7F5-4BE0-A786-5409E28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CAF-88E9-4CED-B315-DCE0EC76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3603-1B93-4AD6-90DB-32934991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5ED-805B-4E63-97D8-06FE35C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2DD4-F3C4-41D8-83E7-A0E5E95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D4DA-EA4E-4A2E-839C-A84AE27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F68-82CE-4258-936F-A733A10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D3D0-F7E3-4D8D-AEF3-CC46A32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CF76-988F-46F6-B353-9B534511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CE87-0105-432D-A59D-561BB41E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102C-3599-4C19-99EC-71138310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B7D6-A704-4EB7-B0E3-7B93FB42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E8C5-8BFB-441E-95A9-B5EC7D91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4480-C0DF-4AE6-B250-91137400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6AC1-587B-4F15-AF7C-26802C5A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1461-95CC-4674-903B-56178E2D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377B-74BF-46A5-866E-0E510997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984-28DA-4EE8-8A61-4CD54152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B0EF-AB51-4C67-9109-1EFEC84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615F-0C87-4AAC-9E39-C6B5AA7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E716-CAF1-47AA-8E3C-DCD5F332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65A4-4CED-433B-8408-A3AFFC84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FA1C-FA15-4987-8633-7699BF1D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82C5-A111-428B-A7FE-BEC89A03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6E58-B231-43A8-90FF-615F85BB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5EDA-68E9-44B8-A25E-8B5EA53E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689B-C2F5-4711-A424-716CEAE2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2041F-4681-4140-AB40-1B9977C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877-0013-4521-A6B3-074914B6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A281F-CC38-4799-9075-A30952E0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805A-EC2A-4A73-8477-C43EFE63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2FF99-93FB-4235-801E-192C26CC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DC13-1403-46A3-8880-2C7F3AE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A538-A47F-421D-B02B-C02689C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3AED-F8D3-4675-919A-57D297D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28F0-4324-4AF5-9847-5ED8143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39A1-D402-4E16-853B-E5DFE9D8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DC3A-70D1-483B-9989-F0412283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9247A-A472-4848-B275-E9F2CE2E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488-5AAE-45B1-859E-5DEA58C8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FD4BD-3CBD-426D-8438-FB09EC5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9FB1-E0CE-487E-A107-089F71B6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DDA5-6925-4C7D-A895-21B95658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FC72-1C7E-4294-A3E0-06B88427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D283-E85F-496B-AFC2-26BD2B36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224C-3195-4298-835A-BDB68AB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96DA-3372-4572-9632-F6E7863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0E60-71E5-4B9F-951B-588B166D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B88F-13E9-4AFF-ACE2-9B517679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BF417-7277-4EF8-BE82-81CAE957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5FF-1FE4-4741-B133-B7DFFF78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9BCDC-7081-4F4A-89C9-19448374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9354-F5DA-425A-9FCA-CE26B052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AB03-628F-44F2-93FC-A62C800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035A-8FA4-4C66-A009-1380A585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0EC86-9E49-411A-B12F-B97461F1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DF5B-2F12-422F-8BA3-53A6FC3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98F1-8D4D-4E83-85DF-63095F70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2EC4D-67B4-4961-AA99-D6ADAAB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E5125-FF28-41F9-A742-0A52B0C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E70E-1DD7-421F-8EE2-FAA9D06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1D4-01F7-4115-A55B-FA64E3F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877D-6D3A-47A3-B4AD-BBC9F47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2E26-066F-4D31-98FA-ED74A1D9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03589-9507-485E-B027-F98566DD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7850-E399-4937-A51A-E6355622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7025-800F-49AB-A2D7-406EAEAB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A46F-3911-4682-96CF-B939C97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C59D-71F2-4008-BDDE-F8771194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24FB0-2242-43AB-A4FE-525D3F3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C06C-F2E4-4C4C-885B-C1C1BE43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8E70-8719-4F94-893F-18A4E87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D4C-48C6-4FD2-AE4A-A9AD98ED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4E680-5A23-4CFC-8A79-5DEF2644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6747-0829-45EB-AB6B-F02906C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C455-0406-4E0C-A0C0-B70F7BD0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21C2-3454-4C1C-B39C-10A06B6B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9E5F-E89A-48AC-B73D-D6EF3C8E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C998-DD92-4D88-9DCA-F424CBB1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955C-F1DD-4277-A39F-A58EFB3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EC10-918A-4C61-932D-67D3000E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73F07-5A80-44DB-93F7-85667540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3337-7E9E-4724-BBC9-707DA397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958-52CC-46B0-BA3F-208954E7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F72C-1B89-496E-859D-F634A6A8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DC6B6-7D5E-44F0-9837-846A8FC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CD856-92FA-4E50-9175-3EB990B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943D-3F0A-4991-B45C-70F7536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BD33E-607B-4307-AECE-7CEE51B2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8BE34-E33B-4CD2-9032-2745A31E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09CD-FF59-4B0E-A3AC-939AD8BF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1AD67-941C-4EA9-B116-8D599642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AB31B-0292-4E97-8DCE-EB55982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3C1B7-325F-4CF3-B87C-BBFA8301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8CC8-ADFB-488D-88AB-3AF0DDBBC0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972D-72ED-4CD1-AABC-390AFBFB2B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4412-ABE7-4983-86EF-33255D72CA4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09B-FFDB-475A-B606-33E1363D4C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3D2C-6E80-4A4B-9E7B-F5E58F976C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CFD-E0B4-47D8-879F-1DDCCF483B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651E-648A-4C3E-920D-99B3A78FF7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9650-BC8C-41A7-9D38-26AB7DC083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7107-5C59-457B-882A-306AABD745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0A8F-95AD-4A3B-A19F-1BDE15F6BE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ru.wikipedia.org/wiki/1950" TargetMode="External"/><Relationship Id="rId3" Type="http://schemas.openxmlformats.org/officeDocument/2006/relationships/hyperlink" Target="http://ru.wikipedia.org/wiki/1953_&#1075;&#1086;&#1076;" TargetMode="External"/><Relationship Id="rId4" Type="http://schemas.openxmlformats.org/officeDocument/2006/relationships/hyperlink" Target="http://ru.wikipedia.org/wiki/&#1040;&#1076;&#1077;&#1085;&#1080;&#1085;" TargetMode="External"/><Relationship Id="rId5" Type="http://schemas.openxmlformats.org/officeDocument/2006/relationships/hyperlink" Target="http://ru.wikipedia.org/wiki/&#1044;&#1053;&#1050;" TargetMode="External"/><Relationship Id="rId6" Type="http://schemas.openxmlformats.org/officeDocument/2006/relationships/hyperlink" Target="http://ru.wikipedia.org/wiki/&#1058;&#1080;&#1084;&#1080;&#1085;" TargetMode="External"/><Relationship Id="rId7" Type="http://schemas.openxmlformats.org/officeDocument/2006/relationships/hyperlink" Target="http://ru.wikipedia.org/wiki/&#1043;&#1091;&#1072;&#1085;&#1080;&#1085;" TargetMode="External"/><Relationship Id="rId8" Type="http://schemas.openxmlformats.org/officeDocument/2006/relationships/hyperlink" Target="http://ru.wikipedia.org/wiki/&#1062;&#1080;&#1090;&#1086;&#1079;&#1080;&#1085;" TargetMode="External"/><Relationship Id="rId9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91;&#1088;&#1080;&#1085;" TargetMode="External"/><Relationship Id="rId2" Type="http://schemas.openxmlformats.org/officeDocument/2006/relationships/hyperlink" Target="http://ru.wikipedia.org/wiki/&#1055;&#1080;&#1088;&#1080;&#1084;&#1080;&#1076;&#1080;&#1085;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920" y="141264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Нуклеиновые кислоты.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Н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Н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4" name="Picture 4" descr="Рисунок15"/>
          <p:cNvPicPr/>
          <p:nvPr/>
        </p:nvPicPr>
        <p:blipFill>
          <a:blip r:embed="rId1"/>
          <a:stretch/>
        </p:blipFill>
        <p:spPr>
          <a:xfrm rot="20790000">
            <a:off x="611280" y="2492280"/>
            <a:ext cx="2714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3788f"/>
                </a:solidFill>
                <a:latin typeface="Corbel"/>
              </a:rPr>
              <a:t>Химическое строение </a:t>
            </a:r>
            <a:br>
              <a:rPr sz="2900"/>
            </a:br>
            <a:r>
              <a:rPr b="1" lang="ru-RU" sz="2900" spc="-1" strike="noStrike">
                <a:solidFill>
                  <a:srgbClr val="03788f"/>
                </a:solidFill>
                <a:latin typeface="Corbel"/>
              </a:rPr>
              <a:t>азотистых оснований и углеводов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7" name="Picture 7" descr="Рисунок64"/>
          <p:cNvPicPr/>
          <p:nvPr/>
        </p:nvPicPr>
        <p:blipFill>
          <a:blip r:embed="rId1"/>
          <a:stretch/>
        </p:blipFill>
        <p:spPr>
          <a:xfrm>
            <a:off x="0" y="1700280"/>
            <a:ext cx="4643280" cy="3673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Рисунок65"/>
          <p:cNvPicPr/>
          <p:nvPr/>
        </p:nvPicPr>
        <p:blipFill>
          <a:blip r:embed="rId2"/>
          <a:srcRect l="-113" t="1058" r="2046" b="2923"/>
          <a:stretch/>
        </p:blipFill>
        <p:spPr>
          <a:xfrm>
            <a:off x="4716360" y="1628640"/>
            <a:ext cx="4249800" cy="3862440"/>
          </a:xfrm>
          <a:prstGeom prst="rect">
            <a:avLst/>
          </a:prstGeom>
          <a:ln w="0">
            <a:noFill/>
          </a:ln>
        </p:spPr>
      </p:pic>
      <p:sp>
        <p:nvSpPr>
          <p:cNvPr id="489" name="Oval 9"/>
          <p:cNvSpPr/>
          <p:nvPr/>
        </p:nvSpPr>
        <p:spPr>
          <a:xfrm>
            <a:off x="4067280" y="2349360"/>
            <a:ext cx="431640" cy="432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5867280" y="4869000"/>
            <a:ext cx="216000" cy="358560"/>
          </a:xfrm>
          <a:prstGeom prst="ellipse">
            <a:avLst/>
          </a:prstGeom>
          <a:noFill/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1"/>
          <p:cNvSpPr/>
          <p:nvPr/>
        </p:nvSpPr>
        <p:spPr>
          <a:xfrm>
            <a:off x="5724360" y="3068640"/>
            <a:ext cx="216000" cy="358920"/>
          </a:xfrm>
          <a:prstGeom prst="ellipse">
            <a:avLst/>
          </a:prstGeom>
          <a:noFill/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5294520" y="54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 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7506360" y="5465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4"/>
          <p:cNvSpPr/>
          <p:nvPr/>
        </p:nvSpPr>
        <p:spPr>
          <a:xfrm>
            <a:off x="2413080" y="3284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"/>
          <p:cNvSpPr/>
          <p:nvPr/>
        </p:nvSpPr>
        <p:spPr>
          <a:xfrm>
            <a:off x="3853440" y="3284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Д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5435640" y="5445000"/>
            <a:ext cx="5047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7"/>
          <p:cNvSpPr/>
          <p:nvPr/>
        </p:nvSpPr>
        <p:spPr>
          <a:xfrm>
            <a:off x="7596360" y="544500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8"/>
          <p:cNvSpPr/>
          <p:nvPr/>
        </p:nvSpPr>
        <p:spPr>
          <a:xfrm>
            <a:off x="1979640" y="3573360"/>
            <a:ext cx="5047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3419640" y="3573360"/>
            <a:ext cx="50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"/>
          <p:cNvSpPr/>
          <p:nvPr/>
        </p:nvSpPr>
        <p:spPr>
          <a:xfrm>
            <a:off x="1187280" y="1989000"/>
            <a:ext cx="2160720" cy="0"/>
          </a:xfrm>
          <a:prstGeom prst="line">
            <a:avLst/>
          </a:prstGeom>
          <a:ln w="25560">
            <a:solidFill>
              <a:srgbClr val="0378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1"/>
          <p:cNvSpPr/>
          <p:nvPr/>
        </p:nvSpPr>
        <p:spPr>
          <a:xfrm>
            <a:off x="1332000" y="3860640"/>
            <a:ext cx="2016000" cy="0"/>
          </a:xfrm>
          <a:prstGeom prst="line">
            <a:avLst/>
          </a:prstGeom>
          <a:ln w="25560">
            <a:solidFill>
              <a:srgbClr val="0378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2"/>
          <p:cNvSpPr/>
          <p:nvPr/>
        </p:nvSpPr>
        <p:spPr>
          <a:xfrm>
            <a:off x="6084720" y="2060640"/>
            <a:ext cx="1511640" cy="0"/>
          </a:xfrm>
          <a:prstGeom prst="line">
            <a:avLst/>
          </a:prstGeom>
          <a:ln w="25560">
            <a:solidFill>
              <a:srgbClr val="0378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1"/>
          <p:cNvSpPr/>
          <p:nvPr/>
        </p:nvSpPr>
        <p:spPr>
          <a:xfrm>
            <a:off x="1566720" y="549360"/>
            <a:ext cx="62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аток фосфо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3927240" y="32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4"/>
          <p:cNvSpPr/>
          <p:nvPr/>
        </p:nvSpPr>
        <p:spPr>
          <a:xfrm flipH="1" flipV="1">
            <a:off x="4140360" y="2707920"/>
            <a:ext cx="1440" cy="576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5"/>
          <p:cNvSpPr/>
          <p:nvPr/>
        </p:nvSpPr>
        <p:spPr>
          <a:xfrm flipH="1" flipV="1">
            <a:off x="4067280" y="2707920"/>
            <a:ext cx="1440" cy="576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3854520" y="206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7"/>
          <p:cNvSpPr/>
          <p:nvPr/>
        </p:nvSpPr>
        <p:spPr>
          <a:xfrm>
            <a:off x="4357800" y="3645000"/>
            <a:ext cx="35856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9"/>
          <p:cNvSpPr/>
          <p:nvPr/>
        </p:nvSpPr>
        <p:spPr>
          <a:xfrm>
            <a:off x="3564000" y="3645000"/>
            <a:ext cx="35856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0"/>
          <p:cNvSpPr/>
          <p:nvPr/>
        </p:nvSpPr>
        <p:spPr>
          <a:xfrm>
            <a:off x="4788000" y="342900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1"/>
          <p:cNvSpPr/>
          <p:nvPr/>
        </p:nvSpPr>
        <p:spPr>
          <a:xfrm>
            <a:off x="2919240" y="3429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12"/>
          <p:cNvSpPr/>
          <p:nvPr/>
        </p:nvSpPr>
        <p:spPr>
          <a:xfrm flipV="1">
            <a:off x="4067280" y="3797280"/>
            <a:ext cx="7920" cy="495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9"/>
          <p:cNvSpPr/>
          <p:nvPr/>
        </p:nvSpPr>
        <p:spPr>
          <a:xfrm>
            <a:off x="3785040" y="42926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20"/>
          <p:cNvSpPr/>
          <p:nvPr/>
        </p:nvSpPr>
        <p:spPr>
          <a:xfrm>
            <a:off x="5219640" y="3645000"/>
            <a:ext cx="35892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1"/>
          <p:cNvSpPr/>
          <p:nvPr/>
        </p:nvSpPr>
        <p:spPr>
          <a:xfrm>
            <a:off x="971640" y="260280"/>
            <a:ext cx="76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Строение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нуклеиновых кисло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476360" y="2492280"/>
            <a:ext cx="1676520" cy="2514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инус 4"/>
          <p:cNvSpPr/>
          <p:nvPr/>
        </p:nvSpPr>
        <p:spPr>
          <a:xfrm>
            <a:off x="2843280" y="2924280"/>
            <a:ext cx="2160360" cy="1152360"/>
          </a:xfrm>
          <a:custGeom>
            <a:avLst/>
            <a:gdLst>
              <a:gd name="textAreaLeft" fmla="*/ 286200 w 2160360"/>
              <a:gd name="textAreaRight" fmla="*/ 1874160 w 2160360"/>
              <a:gd name="textAreaTop" fmla="*/ 440640 h 1152360"/>
              <a:gd name="textAreaBottom" fmla="*/ 711720 h 1152360"/>
            </a:gdLst>
            <a:ahLst/>
            <a:rect l="textAreaLeft" t="textAreaTop" r="textAreaRight" b="textAreaBottom"/>
            <a:pathLst>
              <a:path w="2160587" h="1152525">
                <a:moveTo>
                  <a:pt x="286386" y="440726"/>
                </a:moveTo>
                <a:lnTo>
                  <a:pt x="1874201" y="440726"/>
                </a:lnTo>
                <a:lnTo>
                  <a:pt x="1874201" y="711799"/>
                </a:lnTo>
                <a:lnTo>
                  <a:pt x="286386" y="711799"/>
                </a:lnTo>
                <a:close/>
              </a:path>
            </a:pathLst>
          </a:custGeom>
          <a:solidFill>
            <a:srgbClr val="3891a7"/>
          </a:solidFill>
          <a:ln w="1260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500720" y="2492280"/>
            <a:ext cx="3240000" cy="2376720"/>
          </a:xfrm>
          <a:prstGeom prst="pentagon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5"/>
          <p:cNvSpPr/>
          <p:nvPr/>
        </p:nvSpPr>
        <p:spPr>
          <a:xfrm>
            <a:off x="1625400" y="3284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зотист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"/>
          <p:cNvSpPr/>
          <p:nvPr/>
        </p:nvSpPr>
        <p:spPr>
          <a:xfrm>
            <a:off x="5508720" y="3213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х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146040" y="5373720"/>
            <a:ext cx="26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з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роение нуклеоти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отисто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ание                сахар пентоз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тато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сфорной кисло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90720" y="3505320"/>
            <a:ext cx="1676160" cy="2514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3352680" y="3657600"/>
            <a:ext cx="2819520" cy="2057400"/>
          </a:xfrm>
          <a:prstGeom prst="pentagon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7"/>
          <p:cNvSpPr/>
          <p:nvPr/>
        </p:nvSpPr>
        <p:spPr>
          <a:xfrm>
            <a:off x="6400800" y="3657600"/>
            <a:ext cx="2286000" cy="2362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1127160" y="308916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1264320" y="39625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де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1270800" y="44197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и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1277640" y="49528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1203120" y="54100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ито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7"/>
          <p:cNvSpPr/>
          <p:nvPr/>
        </p:nvSpPr>
        <p:spPr>
          <a:xfrm>
            <a:off x="365760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зокси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7086600" y="4343400"/>
            <a:ext cx="9478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стат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1"/>
          <p:cNvSpPr/>
          <p:nvPr/>
        </p:nvSpPr>
        <p:spPr>
          <a:xfrm rot="1648800">
            <a:off x="2644920" y="195588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2"/>
          <p:cNvSpPr/>
          <p:nvPr/>
        </p:nvSpPr>
        <p:spPr>
          <a:xfrm rot="1768200">
            <a:off x="6659280" y="220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1260000" y="35463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рац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7"/>
          <p:cNvSpPr/>
          <p:nvPr/>
        </p:nvSpPr>
        <p:spPr>
          <a:xfrm>
            <a:off x="250920" y="1844640"/>
            <a:ext cx="2286000" cy="2362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1"/>
          <p:cNvSpPr/>
          <p:nvPr/>
        </p:nvSpPr>
        <p:spPr>
          <a:xfrm flipV="1">
            <a:off x="2340000" y="2708280"/>
            <a:ext cx="1166760" cy="355680"/>
          </a:xfrm>
          <a:prstGeom prst="rightArrow">
            <a:avLst>
              <a:gd name="adj1" fmla="val 50000"/>
              <a:gd name="adj2" fmla="val 7476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3132000" y="1989000"/>
            <a:ext cx="2819520" cy="2057400"/>
          </a:xfrm>
          <a:prstGeom prst="pentagon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5802480" y="2728800"/>
            <a:ext cx="865080" cy="289080"/>
          </a:xfrm>
          <a:prstGeom prst="rightArrow">
            <a:avLst>
              <a:gd name="adj1" fmla="val 50000"/>
              <a:gd name="adj2" fmla="val 74813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443640" y="1916280"/>
            <a:ext cx="1676520" cy="2514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2771640" y="76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клеот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3671640" cy="4772160"/>
          </a:xfrm>
          <a:prstGeom prst="rect">
            <a:avLst/>
          </a:prstGeom>
          <a:ln w="0">
            <a:noFill/>
          </a:ln>
        </p:spPr>
      </p:pic>
      <p:cxnSp>
        <p:nvCxnSpPr>
          <p:cNvPr id="544" name="Прямая со стрелкой 5"/>
          <p:cNvCxnSpPr/>
          <p:nvPr/>
        </p:nvCxnSpPr>
        <p:spPr>
          <a:xfrm>
            <a:off x="3851280" y="1341360"/>
            <a:ext cx="2953440" cy="1224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45" name="Прямая со стрелкой 7"/>
          <p:cNvCxnSpPr/>
          <p:nvPr/>
        </p:nvCxnSpPr>
        <p:spPr>
          <a:xfrm>
            <a:off x="3347640" y="2205000"/>
            <a:ext cx="3312360" cy="2448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46" name="Прямая со стрелкой 9"/>
          <p:cNvCxnSpPr/>
          <p:nvPr/>
        </p:nvCxnSpPr>
        <p:spPr>
          <a:xfrm flipV="1">
            <a:off x="2124000" y="333000"/>
            <a:ext cx="3169440" cy="792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547" name="Прямоугольник 12"/>
          <p:cNvSpPr/>
          <p:nvPr/>
        </p:nvSpPr>
        <p:spPr>
          <a:xfrm>
            <a:off x="6875640" y="2349360"/>
            <a:ext cx="17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3"/>
          <p:cNvSpPr/>
          <p:nvPr/>
        </p:nvSpPr>
        <p:spPr>
          <a:xfrm>
            <a:off x="6954840" y="4653000"/>
            <a:ext cx="15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14"/>
          <p:cNvSpPr/>
          <p:nvPr/>
        </p:nvSpPr>
        <p:spPr>
          <a:xfrm>
            <a:off x="4788000" y="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Прямоугольник 1" descr=""/>
          <p:cNvPicPr/>
          <p:nvPr/>
        </p:nvPicPr>
        <p:blipFill>
          <a:blip r:embed="rId1"/>
          <a:stretch/>
        </p:blipFill>
        <p:spPr>
          <a:xfrm>
            <a:off x="749160" y="158760"/>
            <a:ext cx="8218800" cy="1932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Фрагмент ДНК"/>
          <p:cNvPicPr/>
          <p:nvPr/>
        </p:nvPicPr>
        <p:blipFill>
          <a:blip r:embed="rId2"/>
          <a:stretch/>
        </p:blipFill>
        <p:spPr>
          <a:xfrm>
            <a:off x="2268360" y="1989000"/>
            <a:ext cx="5543640" cy="4402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Нуклеотид"/>
          <p:cNvPicPr/>
          <p:nvPr/>
        </p:nvPicPr>
        <p:blipFill>
          <a:blip r:embed="rId3"/>
          <a:stretch/>
        </p:blipFill>
        <p:spPr>
          <a:xfrm>
            <a:off x="1692360" y="2060640"/>
            <a:ext cx="6850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роение ДН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НК- биополимер, состоящий из полинуклеотидных цепей, соединенных друг с другом. ДНК- полимер с очень большой молекулярной масс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НК- полимер, состоящий из мономеров- нуклеотид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5" name="Picture 14" descr=""/>
          <p:cNvPicPr/>
          <p:nvPr/>
        </p:nvPicPr>
        <p:blipFill>
          <a:blip r:embed="rId1"/>
          <a:stretch/>
        </p:blipFill>
        <p:spPr>
          <a:xfrm>
            <a:off x="5002200" y="2362320"/>
            <a:ext cx="3902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1"/>
          <p:cNvSpPr/>
          <p:nvPr/>
        </p:nvSpPr>
        <p:spPr>
          <a:xfrm>
            <a:off x="1116000" y="476280"/>
            <a:ext cx="72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ный состав ДНК впервые ( 1950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проанализировал американский биохим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вин Чаргаф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1905 – 200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6804000" y="1052640"/>
            <a:ext cx="1871640" cy="235872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3"/>
          <p:cNvSpPr/>
          <p:nvPr/>
        </p:nvSpPr>
        <p:spPr>
          <a:xfrm>
            <a:off x="1042920" y="3500280"/>
            <a:ext cx="712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195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1953 года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 было показано, что общее количество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/>
              </a:rPr>
              <a:t>аден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тков в каждой молекуле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5"/>
              </a:rPr>
              <a:t>ДН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количеству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6"/>
              </a:rPr>
              <a:t>тим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тков, а количество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7"/>
              </a:rPr>
              <a:t>гуан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тков — количеству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8"/>
              </a:rPr>
              <a:t>цитоз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"/>
          <p:cNvSpPr/>
          <p:nvPr/>
        </p:nvSpPr>
        <p:spPr>
          <a:xfrm>
            <a:off x="0" y="1210320"/>
            <a:ext cx="899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аденина равно количеству тимина, а гуанина — цитозин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, Г=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</a:t>
            </a: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пурин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количеству </a:t>
            </a: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пиримидин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+Г=Т+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"/>
          <p:cNvSpPr/>
          <p:nvPr/>
        </p:nvSpPr>
        <p:spPr>
          <a:xfrm>
            <a:off x="1934280" y="692280"/>
            <a:ext cx="494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равила   Чаргафф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уклеиновые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исл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НК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зоксирибонуклеиновая кислота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НК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ибонуклеиновая кислота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7" name="Picture 4" descr="Рисунок37"/>
          <p:cNvPicPr/>
          <p:nvPr/>
        </p:nvPicPr>
        <p:blipFill>
          <a:blip r:embed="rId1"/>
          <a:stretch/>
        </p:blipFill>
        <p:spPr>
          <a:xfrm>
            <a:off x="6804000" y="0"/>
            <a:ext cx="20192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2600" cy="27766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2"/>
          <p:cNvSpPr/>
          <p:nvPr/>
        </p:nvSpPr>
        <p:spPr>
          <a:xfrm>
            <a:off x="2987640" y="404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ис   Хью УИЛКИ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6 г. - 2004 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2411280" y="1916280"/>
            <a:ext cx="62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г. – получил рентген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лических волокон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724120" cy="2752560"/>
          </a:xfrm>
          <a:prstGeom prst="rect">
            <a:avLst/>
          </a:prstGeom>
          <a:ln w="0">
            <a:noFill/>
          </a:ln>
        </p:spPr>
      </p:pic>
      <p:sp>
        <p:nvSpPr>
          <p:cNvPr id="565" name="TextBox 5"/>
          <p:cNvSpPr/>
          <p:nvPr/>
        </p:nvSpPr>
        <p:spPr>
          <a:xfrm>
            <a:off x="3063960" y="3500280"/>
            <a:ext cx="588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имеет определенную струк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ий крес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 двойной 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ы располож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от друга  на рас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4 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ок – 10 нуклеот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504960" cy="58579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4535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7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691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303720" cy="3529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3"/>
          <p:cNvSpPr/>
          <p:nvPr/>
        </p:nvSpPr>
        <p:spPr>
          <a:xfrm>
            <a:off x="0" y="4076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ОТСОН Джеймс Дьюи 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1928 - н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4"/>
          <p:cNvSpPr/>
          <p:nvPr/>
        </p:nvSpPr>
        <p:spPr>
          <a:xfrm>
            <a:off x="4572000" y="414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ИК Френсис Харри Компт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1916 - н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900000" y="4941720"/>
            <a:ext cx="77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харофосфатный остов – на периферии Д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уриновые и пиримидиновые основания – в сере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денин может спариваться только с тимином, а гуанин с цитози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755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Прямоугольник 1"/>
          <p:cNvSpPr/>
          <p:nvPr/>
        </p:nvSpPr>
        <p:spPr>
          <a:xfrm>
            <a:off x="250920" y="333360"/>
            <a:ext cx="8677080" cy="576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р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ат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u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дополнение) — пространственная взаимодополняемость молекул или их частей, приводящая к образованию водородных 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уклеиновых кислотах наблюдается комплементарность последовательностей оснований в противоположных цепях ДН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ые основания нуклеотидов способны вследствие образования водородных связей формировать парные комплек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Т, А = У; Г =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3"/>
          <p:cNvSpPr/>
          <p:nvPr/>
        </p:nvSpPr>
        <p:spPr>
          <a:xfrm flipH="1">
            <a:off x="5796000" y="566100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3788f"/>
                </a:solidFill>
                <a:latin typeface="Corbel"/>
              </a:rPr>
              <a:t>Вторичная структура нуклеиновых кислот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77" name="Picture 3" descr="Спираль ДН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765000"/>
            <a:ext cx="6624720" cy="3686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Молекула ДНК – спиральная, состоит из двух полинуклеотидных цепей, закрученных вокруг общей оси – </a:t>
            </a:r>
            <a:r>
              <a:rPr b="1" lang="ru-RU" sz="2000" spc="-1" strike="noStrike">
                <a:solidFill>
                  <a:srgbClr val="5400a8"/>
                </a:solidFill>
                <a:latin typeface="Corbel"/>
              </a:rPr>
              <a:t>вторичная структур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 Пары оснований располагаются строго перпендикулярно оси двойной спирали, подобно перекладинам в перевитой веревочной лестнице. Эти пары имеют почти точно одинаковые размеры, поэтому в структуру двойной спирали «вписываются» любые последовательности пар оснований. Данное строение и отража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модель Уотсона-Крик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73080" cy="264312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2"/>
          <p:cNvSpPr/>
          <p:nvPr/>
        </p:nvSpPr>
        <p:spPr>
          <a:xfrm>
            <a:off x="2771640" y="333360"/>
            <a:ext cx="459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ер ТОД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7 г. – 1997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3"/>
          <p:cNvSpPr/>
          <p:nvPr/>
        </p:nvSpPr>
        <p:spPr>
          <a:xfrm>
            <a:off x="2340000" y="1341360"/>
            <a:ext cx="624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50- х годов большая группа ученых под руководством английского ученого А. Тодда установила точную структуру связей, соединяющих нуклеотиды од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связи оказывались одинаковыми: углеродный атом в 5'- положении остатка дезоксирибозы одного нуклеотида соединяется через фосфатную группу с углеродным атомом в З'-положении соседнего нуклеоти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168560" y="333360"/>
            <a:ext cx="7975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1"/>
          <p:cNvSpPr/>
          <p:nvPr/>
        </p:nvSpPr>
        <p:spPr>
          <a:xfrm>
            <a:off x="1042920" y="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17b7c"/>
                </a:solidFill>
                <a:latin typeface="Times New Roman"/>
                <a:ea typeface="Times New Roman"/>
              </a:rPr>
              <a:t>Подведем итоги по строению ДН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сло полинуклеотидных цепей в молекуле ДНК равно дву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пи образуют спирали по 10 пар оснований в каждом вит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войные цепи закручены одна вокруг другой и вместе вокруг общей ос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сфатные группировки находятся снаружи спирали, а основания внутри и расположены с интервалом 0,34 нм под прямым углом к оси молекул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831960" y="1125360"/>
            <a:ext cx="76471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Нуклеиновые кислоты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высокомолекуляр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ие  соедин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хранение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у наследствен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ых организ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рямоугольник 1"/>
          <p:cNvSpPr/>
          <p:nvPr/>
        </p:nvSpPr>
        <p:spPr>
          <a:xfrm>
            <a:off x="324000" y="105264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пи удерживаются вместе водородными связями между основани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ры, образуемые основаниями (А-Т и Г-Ц), в высшей степени специфичны: полинуклеотидные цепи комплементарны друг другу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структуре ДНК может происходить изменение в чередовании нуклеотидов ( мутации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2"/>
          <p:cNvSpPr/>
          <p:nvPr/>
        </p:nvSpPr>
        <p:spPr>
          <a:xfrm>
            <a:off x="1195560" y="189000"/>
            <a:ext cx="68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17b7c"/>
                </a:solidFill>
                <a:latin typeface="Times New Roman"/>
                <a:ea typeface="Times New Roman"/>
              </a:rPr>
              <a:t>Подведем итоги по строению ДН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2843280" y="4944960"/>
            <a:ext cx="33130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1"/>
          <p:cNvSpPr/>
          <p:nvPr/>
        </p:nvSpPr>
        <p:spPr>
          <a:xfrm>
            <a:off x="611280" y="333360"/>
            <a:ext cx="7921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лекуле ДНК обнаружено 880 гуаниновых нуклеотидов, которые составляют 22% от общего количества нуклеотидов этой ДНК. Определить:  сколько содержится других нуклеотидов (по отдельности) в этой молекуле ДНК?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1"/>
          <p:cNvSpPr/>
          <p:nvPr/>
        </p:nvSpPr>
        <p:spPr>
          <a:xfrm>
            <a:off x="179280" y="47628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                                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– 880 – 22%                  1) Исходя из правила Г=Ц, 880  -  2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                                2) Принцип комплементар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 + Т) + ( Г + Ц) = 10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?                                         А = Т = 100 –( 22+22) =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-?                                      3)  Вычислим количество нуклеот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-?                                          880 – 22%         х = 880 · 56  : 22= 2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56 %              А + Т = 2240 : 2 = 11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 =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бщее количество нуклеот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0+880+ 1120+ 1120+ =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й цепи  4000 : 2 = 2000 нуклео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А = Т = 1120, Г=Ц =8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3A90-D7A3-4E33-B3BD-8DFA16D033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и задачу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цепей фрагмента молекулы ДНК имеет следующее строе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-Г-Г-А-Т-А-А-Ц-А-Г-А-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строение противоположной цеп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оследовательность нуклеотидов в молекуле и-РНК, построенной на этом участке цепи ДН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B1C-0128-4105-9351-E48D476DEF1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е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71280" y="144756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цепь ДНК Г-Г-Г-А-Т-А-А-Ц-А-Г-А-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-Ц-Ц-Т-А-Т-Т-Г-Т-Ц-Т-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о принципу комплементарност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-РНК       Г-Г-Г-А-У-А-А-Ц-А-Г-Ц-У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3635280" y="198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4140360" y="1989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6"/>
          <p:cNvSpPr/>
          <p:nvPr/>
        </p:nvSpPr>
        <p:spPr>
          <a:xfrm>
            <a:off x="450072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7"/>
          <p:cNvSpPr/>
          <p:nvPr/>
        </p:nvSpPr>
        <p:spPr>
          <a:xfrm>
            <a:off x="500364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8"/>
          <p:cNvSpPr/>
          <p:nvPr/>
        </p:nvSpPr>
        <p:spPr>
          <a:xfrm>
            <a:off x="5435640" y="198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5867280" y="19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630072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665964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709308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5"/>
          <p:cNvSpPr/>
          <p:nvPr/>
        </p:nvSpPr>
        <p:spPr>
          <a:xfrm>
            <a:off x="7451640" y="198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>
            <a:off x="7885080" y="1916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0"/>
          <p:cNvSpPr/>
          <p:nvPr/>
        </p:nvSpPr>
        <p:spPr>
          <a:xfrm>
            <a:off x="8388360" y="19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1" name="applaus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Репликация ДН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двоение молекулы ДНК называют  </a:t>
            </a:r>
            <a:r>
              <a:rPr b="1" i="1" lang="ru-RU" sz="2000" spc="-1" strike="noStrike">
                <a:solidFill>
                  <a:srgbClr val="006600"/>
                </a:solidFill>
                <a:latin typeface="Corbel"/>
              </a:rPr>
              <a:t>ре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ли </a:t>
            </a:r>
            <a:r>
              <a:rPr b="1" i="1" lang="ru-RU" sz="2000" spc="-1" strike="noStrike">
                <a:solidFill>
                  <a:srgbClr val="006600"/>
                </a:solidFill>
                <a:latin typeface="Corbel"/>
              </a:rPr>
              <a:t>реду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о время репликации часть молекулы «материнской» ДНК расплетается на две нити с помощью специального фермента , причем это достигается разрывом водородных связей между комплементарными азотистыми основаниями: аденином —тимином и гуанином – цитозином. Далее к каждому нуклеотиду разошедшихся нитей ДНК фермент ДНК-полимераза подстраивает комплементарный ему нуклеотид. Таким образом, образу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две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двуцепочечные молекулы ДНК, в состав каждой из которых входят одна цепочка «материнской» молекулы и одна новосинтезированная («дочерняя») цепочка. Эти две молекулы ДНК абсолют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идентичны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0" name="Picture 4" descr="Рисунок13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УОТСОН Джеймс Дьюи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(1928 - н.в.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643280" y="1052640"/>
            <a:ext cx="4321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 биофизик, биохимик, молекулярный биолог, предложил гипотезу о том, чт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имеет форму двойной спирал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л молекулярную структуру нуклеиновых кисло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ередачи наследственной информаци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 Нобелевской премии 1962 года по физиологии и медицине (вместе с Фрэнсис Харри Комптоном Криком и Морисом Уилкинсом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384120" y="1628640"/>
            <a:ext cx="4181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КРИК Френсис Харри Комптон (1916 - н.в.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физик, биофизик, специалист в области молекулярной биологии, выясни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ую структуру нуклеиновых кислот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 основные типы РНК, предложил теорию передачи генетического кода и показал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копирование молекул ДНК при делении клет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 является членом Лондонского королевского общества (1959), в 1962 году стал лауреатом Нобелевской премии по физиологии и медицине (вместе с Джеймсом Дьюи Уотсоном и Морисом Уилкинсом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6" name="Picture 1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249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3627360"/>
          </a:xfrm>
          <a:prstGeom prst="rect">
            <a:avLst/>
          </a:prstGeom>
          <a:ln w="0">
            <a:noFill/>
          </a:ln>
        </p:spPr>
      </p:pic>
      <p:sp>
        <p:nvSpPr>
          <p:cNvPr id="618" name="AutoShape 3"/>
          <p:cNvSpPr/>
          <p:nvPr/>
        </p:nvSpPr>
        <p:spPr>
          <a:xfrm>
            <a:off x="179280" y="907920"/>
            <a:ext cx="5761080" cy="1657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be2f3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Модель ДНК Уотсона и Крик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– 1953 г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400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cc"/>
                </a:solidFill>
                <a:latin typeface="Corbel"/>
              </a:rPr>
              <a:t>ДНК – двойная спираль, в которой 2 полинуклеотидные цепи удерживаются водородными связями между комплементарными основаниями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анная модель была основана на следующих фактах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анные химического анализа (ДНК – полинуклеотид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бота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Эрвина Чаргафф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о равном соотношении в ДНК аденина и тимина,   цитозина и гуанин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нтгенограмма ДНК, полученная    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Розалиндой Франклин и Морисом        Уилкинсо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менно модель Уотсона-Крика позволила объяснить, каким образом при делении клетки в каждую дочернюю клетку попадает идентичная информация, содержащаяся в материнской клетке. Это происходит в результате удвоения молекулы ДНК, то есть в результате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пликаци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74E6-7941-421B-8EB4-C62BB764CE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2314"/>
                </a:solidFill>
                <a:latin typeface="Corbel"/>
              </a:rPr>
              <a:t>Сравнительная характеристика НК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95280" y="1197000"/>
          <a:ext cx="8280360" cy="5311800"/>
        </p:xfrm>
        <a:graphic>
          <a:graphicData uri="http://schemas.openxmlformats.org/drawingml/2006/table">
            <a:tbl>
              <a:tblPr/>
              <a:tblGrid>
                <a:gridCol w="2305080"/>
                <a:gridCol w="3166920"/>
                <a:gridCol w="280836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Нахожде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ро, митохондрии, рибосомы, хлороплас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р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хондрии, хлороплас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Нахождение в яд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ры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осо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остав нуклеот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ая полинуклеотидная цепочка, кроме вир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ая, свернутая правозакрученная спираль (Дж.Уотсон и Ф.Крик в 1953г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Рисунок16"/>
          <p:cNvPicPr/>
          <p:nvPr/>
        </p:nvPicPr>
        <p:blipFill>
          <a:blip r:embed="rId1"/>
          <a:stretch/>
        </p:blipFill>
        <p:spPr>
          <a:xfrm>
            <a:off x="6084720" y="2565360"/>
            <a:ext cx="2519640" cy="14400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9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dec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3788f"/>
                </a:solidFill>
                <a:latin typeface="Corbel"/>
              </a:rPr>
              <a:t>Вехи истор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были описаны в 1869 г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йцарским биохимик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дрихом  Миш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 1844 – 1895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 веществ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еточных яд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коцитов. (Из  гнойног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 в состав которого входил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клеином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–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уклеинов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слот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 «</a:t>
            </a:r>
            <a:r>
              <a:rPr b="0" i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ucleu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2" name="Picture 5" descr="Рисунок68"/>
          <p:cNvPicPr/>
          <p:nvPr/>
        </p:nvPicPr>
        <p:blipFill>
          <a:blip r:embed="rId2"/>
          <a:stretch/>
        </p:blipFill>
        <p:spPr>
          <a:xfrm>
            <a:off x="7534440" y="0"/>
            <a:ext cx="1609560" cy="1487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"/>
          <p:cNvPicPr/>
          <p:nvPr/>
        </p:nvPicPr>
        <p:blipFill>
          <a:blip r:embed="rId3"/>
          <a:stretch/>
        </p:blipFill>
        <p:spPr>
          <a:xfrm>
            <a:off x="6084720" y="2637000"/>
            <a:ext cx="266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78F-3C62-4991-BC34-B1B81AA297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2314"/>
                </a:solidFill>
                <a:latin typeface="Corbel"/>
              </a:rPr>
              <a:t>Сравнительная характеристика НК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684360" y="1628640"/>
          <a:ext cx="8208720" cy="5160960"/>
        </p:xfrm>
        <a:graphic>
          <a:graphicData uri="http://schemas.openxmlformats.org/drawingml/2006/table">
            <a:tbl>
              <a:tblPr/>
              <a:tblGrid>
                <a:gridCol w="2217600"/>
                <a:gridCol w="2879640"/>
                <a:gridCol w="311148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остав нуклеот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зотистое ос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-аден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feb80a"/>
                          </a:solidFill>
                          <a:latin typeface="Arial"/>
                        </a:rPr>
                        <a:t>У-ураци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-гуанин,Ц-цитоз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глевод риб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статок фосфорной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зотистое ос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-аден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feb80a"/>
                          </a:solidFill>
                          <a:latin typeface="Arial"/>
                        </a:rPr>
                        <a:t>Т-тим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-гуанин,Ц-цитоз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глевод дезоксирибоза 3.Остаток фосфорной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E86-5B00-4682-95AB-C48B800B42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2314"/>
                </a:solidFill>
                <a:latin typeface="Corbel"/>
              </a:rPr>
              <a:t>Сравнительная характеристика НК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90560" y="1455840"/>
          <a:ext cx="8245440" cy="5288040"/>
        </p:xfrm>
        <a:graphic>
          <a:graphicData uri="http://schemas.openxmlformats.org/drawingml/2006/table">
            <a:tbl>
              <a:tblPr/>
              <a:tblGrid>
                <a:gridCol w="1857240"/>
                <a:gridCol w="3399120"/>
                <a:gridCol w="298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в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особна к самоудво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иль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а к самоудвоению по принципу компли-ментарности:А-Т; Т-А; Г-Ц;Ц-Г. Стабиль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-РНК (или м-РНК)определяет порядок расположения АК в белк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-РНК- подносит АК к месту синтеза белка(к рибосомам);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НК определяет структуру рибос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 основа гена. Хранение и передача наследственной информации о структуре белк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BB8-53DD-4BE8-B5D5-35336B9540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ff"/>
                </a:solidFill>
                <a:latin typeface="Corbel"/>
              </a:rPr>
              <a:t>Запиш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ДНК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войная спира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Ж.Уотсон, Ф. Крик-1953г.Нобелевская прем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А=Т, Г=Ц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мплиментар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Функции: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хран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.воспроизвед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.передач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следственной информ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РНК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диночная цеп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А,У,Ц,Г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уклеоти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иды РНК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И- РН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Т- РН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Р- РН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Функци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биосинтез бел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34" name="Picture 8" descr="MCj02171020000[1]"/>
          <p:cNvPicPr/>
          <p:nvPr/>
        </p:nvPicPr>
        <p:blipFill>
          <a:blip r:embed="rId1"/>
          <a:stretch/>
        </p:blipFill>
        <p:spPr>
          <a:xfrm>
            <a:off x="7236000" y="189000"/>
            <a:ext cx="16570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нение Н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На протяжении жизни человек болеет, попадает в неблагоприятные производственные или климатические условия. Следствие этого – учащение «сбоев» в отлаженном генетическом аппарате. До определенного времени «сбои» себя внешне не проявляют, и мы их не замечаем. Увы! Со временем изменения становятся очевидными. В первую очередь они проявляются на кож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В настоящее время результаты исследований биомакромолекул выходят из стен лабораторий, начиная все активнее помогать врачам и косметологам в повседневной работе. Еще в 1960-х гг. стало известно, что изолированные нити ДНК вызывают регенерацию клеток. Но только в самые последние годы XX столетия стало возможно использовать это свойство для восстановления клеток стареющей кож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1"/>
          <p:cNvSpPr/>
          <p:nvPr/>
        </p:nvSpPr>
        <p:spPr>
          <a:xfrm>
            <a:off x="539640" y="476280"/>
            <a:ext cx="806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стной хирургической больницы ему поставляли повязки, снятые со свежих гнойных ран. Мишер отмывал лейкоциты из ткани бинтов, а затем выделял из отмытых клеток молекулы белков. В процессе исследований, ему удалось установить, что кроме белка, в лейкоцитах содержится еще какое-то неизученное вещество. Оно выделялось в виде осадка нитевидной или хлопьеобразной структуры при создании кислой среды. При подщелачивании раствора, осадок растворялся. Исследуя препарат лейкоцитов под микроскопом, Мишер обнаружил, что в процессе отмывания лейкоцитов разбавленной соляной кислотой, от них остаются одни ядра. На основании этого, он сделал заключение о том, что в ядрах клеток содержится неизвестное вещество, и назвал его нуклеином, от латинского сл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в переводе означает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более подробном изучении, Мишер разработал целую систему выделения и очистки нуклеинов. Выделенное соединение он подверг обработке эфиром и другими органическими растворителями, и убедился, что это не жировое соединение, т. к. оно не растворялось в этих веществах. Не имели нуклеины и белковой природы, т.к. при обработке ферментами, разлагающими белки, они не претерпели никаких изме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1"/>
          <p:cNvSpPr/>
          <p:nvPr/>
        </p:nvSpPr>
        <p:spPr>
          <a:xfrm>
            <a:off x="934920" y="476280"/>
            <a:ext cx="820908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4 г. группа американских бактериологов из Рокфеллеровского института во главе с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Эвер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ала, что способность пневмококков вызывать болезнь передается от одних к другим при обмене ДНК (плазмидам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было доказано, что именно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НК</a:t>
            </a:r>
            <a:r>
              <a:rPr b="0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является</a:t>
            </a:r>
            <a:r>
              <a:rPr b="0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осителем наследственной информац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, объясняющей данный факт, еще не бы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2340000" y="3333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Строение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нуклеиновых кисло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1508040" y="2852640"/>
            <a:ext cx="628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 Азотистые осн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Углев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статок фосфо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2064240" y="404640"/>
            <a:ext cx="56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отистые осн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Схема 2" descr=""/>
          <p:cNvPicPr/>
          <p:nvPr/>
        </p:nvPicPr>
        <p:blipFill>
          <a:blip r:embed="rId1"/>
          <a:stretch/>
        </p:blipFill>
        <p:spPr>
          <a:xfrm>
            <a:off x="1395360" y="1390680"/>
            <a:ext cx="6243840" cy="4076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Рисунок64"/>
          <p:cNvPicPr/>
          <p:nvPr/>
        </p:nvPicPr>
        <p:blipFill>
          <a:blip r:embed="rId2"/>
          <a:stretch/>
        </p:blipFill>
        <p:spPr>
          <a:xfrm>
            <a:off x="1619280" y="981000"/>
            <a:ext cx="6435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1"/>
          <p:cNvSpPr/>
          <p:nvPr/>
        </p:nvSpPr>
        <p:spPr>
          <a:xfrm>
            <a:off x="2659680" y="620640"/>
            <a:ext cx="32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Угле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60800" cy="3025440"/>
          </a:xfrm>
          <a:prstGeom prst="rect">
            <a:avLst/>
          </a:prstGeom>
          <a:ln w="0">
            <a:noFill/>
          </a:ln>
        </p:spPr>
      </p:pic>
      <p:sp>
        <p:nvSpPr>
          <p:cNvPr id="484" name="TextBox 7"/>
          <p:cNvSpPr/>
          <p:nvPr/>
        </p:nvSpPr>
        <p:spPr>
          <a:xfrm>
            <a:off x="1839240" y="486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5948280" y="501336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0:17:00Z</dcterms:created>
  <dc:creator>Unit</dc:creator>
  <dc:description/>
  <dc:language>en-US</dc:language>
  <cp:lastModifiedBy>Unit</cp:lastModifiedBy>
  <dcterms:modified xsi:type="dcterms:W3CDTF">2011-11-21T12:01:38Z</dcterms:modified>
  <cp:revision>31</cp:revision>
  <dc:subject/>
  <dc:title>Нуклеиновые кислоты.</dc:title>
</cp:coreProperties>
</file>