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249-31E2-42DE-9E9E-BC6C0C36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1BB-D160-41F7-BC61-99611810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E9C-66E4-433A-8761-4EEDBD42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BCB-2A64-41D8-A8C2-661F8500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D61-29A3-476B-AB94-135D19E3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A7B-6B4E-43CE-8C2D-E48894D9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A73-7742-492D-884B-80F89736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41A-7721-4B11-BB3D-4D53C3DE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E04-12A9-4DF7-B1E8-3183BAC0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F2B-2F1F-43DF-9FE4-166A23E4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FC4-0904-444E-9E75-79266E13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566-E119-4C8E-9007-3C992773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A45E-00A8-4EA5-9A45-53728612EF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home\Desktop\ba08dd946dcd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home\Desktop\0733474.jpg"/>
          <p:cNvPicPr/>
          <p:nvPr/>
        </p:nvPicPr>
        <p:blipFill>
          <a:blip r:embed="rId3"/>
          <a:srcRect l="0" t="0" r="0" b="4914"/>
          <a:stretch/>
        </p:blipFill>
        <p:spPr>
          <a:xfrm>
            <a:off x="0" y="981000"/>
            <a:ext cx="4052880" cy="587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87440" y="469800"/>
            <a:ext cx="8265960" cy="1663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3924360" y="593424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У СОШ №105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диенко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6-конечная звезда 7">
            <a:hlinkClick r:id="" action="ppaction://hlinkshowjump?jump=nextslide"/>
          </p:cNvPr>
          <p:cNvSpPr/>
          <p:nvPr/>
        </p:nvSpPr>
        <p:spPr>
          <a:xfrm>
            <a:off x="7667640" y="5373720"/>
            <a:ext cx="1476360" cy="14842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37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40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43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16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н: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i035.radikal.ru/0911/fa/ba08dd946dcd.gif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воч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0" y="2924280"/>
            <a:ext cx="9144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http://subscribe.ru/archive/culture.mystery.masterhappy/201101/04090525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зы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"/>
          <p:cNvSpPr/>
          <p:nvPr/>
        </p:nvSpPr>
        <p:spPr>
          <a:xfrm>
            <a:off x="835200" y="365040"/>
            <a:ext cx="208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6"/>
          <p:cNvSpPr/>
          <p:nvPr/>
        </p:nvSpPr>
        <p:spPr>
          <a:xfrm>
            <a:off x="179280" y="4508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http://poiskm.ru/song/336602-Sviridov-Metel-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49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52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оугольник 7"/>
            <p:cNvSpPr/>
            <p:nvPr/>
          </p:nvSpPr>
          <p:spPr>
            <a:xfrm>
              <a:off x="630684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55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оугольник 8"/>
            <p:cNvSpPr/>
            <p:nvPr/>
          </p:nvSpPr>
          <p:spPr>
            <a:xfrm>
              <a:off x="774720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60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63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66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71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74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77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0.0206 C 0.04844 0.00718 0.04879 -0.00625 0.04757 -0.01968 C 0.04722 -0.02407 0.04618 -0.02824 0.04444 -0.03195 C 0.04184 -0.03727 0.03681 -0.04792 0.03681 -0.04769 C 0.03264 -0.07801 0.0125 -0.1044 -0.01007 -0.11065 C -0.02066 -0.11736 -0.03212 -0.1169 -0.0434 -0.12083 C -0.06302 -0.12014 -0.08281 -0.12014 -0.10243 -0.11875 C -0.11024 -0.11829 -0.12049 -0.11389 -0.1283 -0.11273 C -0.13594 -0.11019 -0.1434 -0.10695 -0.15104 -0.10463 C -0.15208 -0.10324 -0.15278 -0.10139 -0.15399 -0.10046 C -0.15694 -0.09861 -0.16319 -0.09653 -0.16319 -0.0963 C -0.16944 -0.08773 -0.17639 -0.08148 -0.18437 -0.07639 C -0.19028 -0.06574 -0.19549 -0.05532 -0.20243 -0.04607 C -0.20538 -0.03403 -0.20174 -0.04468 -0.20851 -0.03588 C -0.21545 -0.02685 -0.20851 -0.0331 -0.21319 -0.02384 C -0.21632 -0.01759 -0.2224 -0.01366 -0.22674 -0.00972 C -0.23073 0.00301 -0.23542 0.01597 -0.24184 0.02685 C -0.24358 0.02986 -0.24618 0.03171 -0.24792 0.03472 C -0.25608 0.04884 -0.26319 0.06319 -0.2691 0.07917 C -0.27014 0.08171 -0.2724 0.0831 -0.27378 0.08542 C -0.27917 0.09375 -0.28368 0.10301 -0.28889 0.11157 C -0.29288 0.11782 -0.29271 0.1243 -0.29496 0.13171 C -0.29566 0.13403 -0.29722 0.13542 -0.29792 0.13773 C -0.29913 0.1419 -0.3 0.14583 -0.30104 0.15 C -0.3026 0.15648 -0.30851 0.16805 -0.30851 0.16805 C -0.31007 0.18218 -0.31215 0.19653 -0.31458 0.21065 C -0.31753 0.25903 -0.31319 0.30764 -0.31319 0.35602 E">
                                      <p:cBhvr>
                                        <p:cTn id="59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82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85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88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C 0.00052 -0.01482 0.00138 -0.02963 0.00138 -0.04445 C 0.00138 -0.07477 0.00138 -0.10509 3.33333E-006 -0.13519 C 3.33333E-006 -0.13542 -0.00382 -0.15023 -0.00469 -0.15347 C -0.01094 -0.17778 -0.01945 -0.19329 -0.03039 -0.21412 C -0.04046 -0.2331 -0.05 -0.2537 -0.06667 -0.2625 C -0.0816 -0.28171 -0.1066 -0.28264 -0.12587 -0.28681 C -0.13681 -0.28912 -0.14653 -0.29306 -0.15764 -0.29491 C -0.22813 -0.29329 -0.22292 -0.30556 -0.25921 -0.28681 C -0.26737 -0.27014 -0.2566 -0.28935 -0.26667 -0.2787 C -0.26806 -0.27708 -0.26841 -0.27431 -0.2698 -0.27269 C -0.27153 -0.27037 -0.27379 -0.26875 -0.27587 -0.26667 C -0.28525 -0.24653 -0.27032 -0.27685 -0.2849 -0.2544 C -0.28646 -0.25208 -0.28664 -0.24861 -0.28803 -0.2463 C -0.28976 -0.24329 -0.29202 -0.24097 -0.2941 -0.2382 C -0.29671 -0.22662 -0.29341 -0.23704 -0.30157 -0.22616 C -0.3033 -0.22384 -0.30452 -0.2206 -0.30608 -0.21806 C -0.30695 -0.21667 -0.30816 -0.21551 -0.30921 -0.21412 C -0.31164 -0.20509 -0.31789 -0.2007 -0.32275 -0.19375 C -0.32587 -0.18195 -0.33091 -0.17477 -0.33803 -0.16759 C -0.34445 -0.15324 -0.35 -0.1456 -0.35921 -0.13333 C -0.36233 -0.1294 -0.36355 -0.12338 -0.36667 -0.11921 C -0.37535 -0.10764 -0.39237 -0.09537 -0.40313 -0.08472 C -0.41007 -0.07778 -0.41441 -0.06782 -0.42136 -0.06042 C -0.42292 -0.05718 -0.42379 -0.05324 -0.42587 -0.05046 C -0.43785 -0.03449 -0.43004 -0.05764 -0.44254 -0.03218 C -0.44566 -0.0257 -0.45018 -0.02083 -0.45313 -0.01412 C -0.45712 -0.00463 -0.46059 0.00509 -0.46528 0.01412 C -0.4658 0.0169 -0.4658 0.01968 -0.46667 0.02222 C -0.46737 0.02454 -0.4691 0.02616 -0.4698 0.02847 C -0.4757 0.04884 -0.46719 0.02986 -0.47431 0.04444 C -0.47726 0.05949 -0.48108 0.07523 -0.48646 0.08889 C -0.48785 0.10046 -0.48907 0.11157 -0.4941 0.1213 C -0.49584 0.1287 -0.4948 0.12546 -0.49705 0.13148 E">
                                      <p:cBhvr>
                                        <p:cTn id="8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+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93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96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99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оугольник 8"/>
            <p:cNvSpPr/>
            <p:nvPr/>
          </p:nvSpPr>
          <p:spPr>
            <a:xfrm>
              <a:off x="7602120" y="2349360"/>
              <a:ext cx="109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0.0206 C 0.04844 0.00718 0.04879 -0.00625 0.04757 -0.01968 C 0.04722 -0.02407 0.04618 -0.02824 0.04444 -0.03195 C 0.04184 -0.03727 0.03681 -0.04792 0.03681 -0.04769 C 0.03264 -0.07801 0.0125 -0.1044 -0.01007 -0.11065 C -0.02066 -0.11736 -0.03212 -0.1169 -0.0434 -0.12083 C -0.06302 -0.12014 -0.08281 -0.12014 -0.10243 -0.11875 C -0.11024 -0.11829 -0.12049 -0.11389 -0.1283 -0.11273 C -0.13594 -0.11019 -0.1434 -0.10695 -0.15104 -0.10463 C -0.15208 -0.10324 -0.15278 -0.10139 -0.15399 -0.10046 C -0.15694 -0.09861 -0.16319 -0.09653 -0.16319 -0.0963 C -0.16944 -0.08773 -0.17639 -0.08148 -0.18437 -0.07639 C -0.19028 -0.06574 -0.19549 -0.05532 -0.20243 -0.04607 C -0.20538 -0.03403 -0.20174 -0.04468 -0.20851 -0.03588 C -0.21545 -0.02685 -0.20851 -0.0331 -0.21319 -0.02384 C -0.21632 -0.01759 -0.2224 -0.01366 -0.22674 -0.00972 C -0.23073 0.00301 -0.23542 0.01597 -0.24184 0.02685 C -0.24358 0.02986 -0.24618 0.03171 -0.24792 0.03472 C -0.25608 0.04884 -0.26319 0.06319 -0.2691 0.07917 C -0.27014 0.08171 -0.2724 0.0831 -0.27378 0.08542 C -0.27917 0.09375 -0.28368 0.10301 -0.28889 0.11157 C -0.29288 0.11782 -0.29271 0.1243 -0.29496 0.13171 C -0.29566 0.13403 -0.29722 0.13542 -0.29792 0.13773 C -0.29913 0.1419 -0.3 0.14583 -0.30104 0.15 C -0.3026 0.15648 -0.30851 0.16805 -0.30851 0.16805 C -0.31007 0.18218 -0.31215 0.19653 -0.31458 0.21065 C -0.31753 0.25903 -0.31319 0.30764 -0.31319 0.35602 E">
                                      <p:cBhvr>
                                        <p:cTn id="9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04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07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10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10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15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18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21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8"/>
            <p:cNvSpPr/>
            <p:nvPr/>
          </p:nvSpPr>
          <p:spPr>
            <a:xfrm>
              <a:off x="7602120" y="2349360"/>
              <a:ext cx="109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0.0206 C 0.04844 0.00718 0.04879 -0.00625 0.04757 -0.01968 C 0.04722 -0.02407 0.04618 -0.02824 0.04444 -0.03195 C 0.04184 -0.03727 0.03681 -0.04792 0.03681 -0.04769 C 0.03264 -0.07801 0.0125 -0.1044 -0.01007 -0.11065 C -0.02066 -0.11736 -0.03212 -0.1169 -0.0434 -0.12083 C -0.06302 -0.12014 -0.08281 -0.12014 -0.10243 -0.11875 C -0.11024 -0.11829 -0.12049 -0.11389 -0.1283 -0.11273 C -0.13594 -0.11019 -0.1434 -0.10695 -0.15104 -0.10463 C -0.15208 -0.10324 -0.15278 -0.10139 -0.15399 -0.10046 C -0.15694 -0.09861 -0.16319 -0.09653 -0.16319 -0.0963 C -0.16944 -0.08773 -0.17639 -0.08148 -0.18437 -0.07639 C -0.19028 -0.06574 -0.19549 -0.05532 -0.20243 -0.04607 C -0.20538 -0.03403 -0.20174 -0.04468 -0.20851 -0.03588 C -0.21545 -0.02685 -0.20851 -0.0331 -0.21319 -0.02384 C -0.21632 -0.01759 -0.2224 -0.01366 -0.22674 -0.00972 C -0.23073 0.00301 -0.23542 0.01597 -0.24184 0.02685 C -0.24358 0.02986 -0.24618 0.03171 -0.24792 0.03472 C -0.25608 0.04884 -0.26319 0.06319 -0.2691 0.07917 C -0.27014 0.08171 -0.2724 0.0831 -0.27378 0.08542 C -0.27917 0.09375 -0.28368 0.10301 -0.28889 0.11157 C -0.29288 0.11782 -0.29271 0.1243 -0.29496 0.13171 C -0.29566 0.13403 -0.29722 0.13542 -0.29792 0.13773 C -0.29913 0.1419 -0.3 0.14583 -0.30104 0.15 C -0.3026 0.15648 -0.30851 0.16805 -0.30851 0.16805 C -0.31007 0.18218 -0.31215 0.19653 -0.31458 0.21065 C -0.31753 0.25903 -0.31319 0.30764 -0.31319 0.35602 E">
                                      <p:cBhvr>
                                        <p:cTn id="13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26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29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32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C 0.00052 -0.01482 0.00138 -0.02963 0.00138 -0.04445 C 0.00138 -0.07477 0.00138 -0.10509 3.33333E-006 -0.13519 C 3.33333E-006 -0.13542 -0.00382 -0.15023 -0.00469 -0.15347 C -0.01094 -0.17778 -0.01945 -0.19329 -0.03039 -0.21412 C -0.04046 -0.2331 -0.05 -0.2537 -0.06667 -0.2625 C -0.0816 -0.28171 -0.1066 -0.28264 -0.12587 -0.28681 C -0.13681 -0.28912 -0.14653 -0.29306 -0.15764 -0.29491 C -0.22813 -0.29329 -0.22292 -0.30556 -0.25921 -0.28681 C -0.26737 -0.27014 -0.2566 -0.28935 -0.26667 -0.2787 C -0.26806 -0.27708 -0.26841 -0.27431 -0.2698 -0.27269 C -0.27153 -0.27037 -0.27379 -0.26875 -0.27587 -0.26667 C -0.28525 -0.24653 -0.27032 -0.27685 -0.2849 -0.2544 C -0.28646 -0.25208 -0.28664 -0.24861 -0.28803 -0.2463 C -0.28976 -0.24329 -0.29202 -0.24097 -0.2941 -0.2382 C -0.29671 -0.22662 -0.29341 -0.23704 -0.30157 -0.22616 C -0.3033 -0.22384 -0.30452 -0.2206 -0.30608 -0.21806 C -0.30695 -0.21667 -0.30816 -0.21551 -0.30921 -0.21412 C -0.31164 -0.20509 -0.31789 -0.2007 -0.32275 -0.19375 C -0.32587 -0.18195 -0.33091 -0.17477 -0.33803 -0.16759 C -0.34445 -0.15324 -0.35 -0.1456 -0.35921 -0.13333 C -0.36233 -0.1294 -0.36355 -0.12338 -0.36667 -0.11921 C -0.37535 -0.10764 -0.39237 -0.09537 -0.40313 -0.08472 C -0.41007 -0.07778 -0.41441 -0.06782 -0.42136 -0.06042 C -0.42292 -0.05718 -0.42379 -0.05324 -0.42587 -0.05046 C -0.43785 -0.03449 -0.43004 -0.05764 -0.44254 -0.03218 C -0.44566 -0.0257 -0.45018 -0.02083 -0.45313 -0.01412 C -0.45712 -0.00463 -0.46059 0.00509 -0.46528 0.01412 C -0.4658 0.0169 -0.4658 0.01968 -0.46667 0.02222 C -0.46737 0.02454 -0.4691 0.02616 -0.4698 0.02847 C -0.4757 0.04884 -0.46719 0.02986 -0.47431 0.04444 C -0.47726 0.05949 -0.48108 0.07523 -0.48646 0.08889 C -0.48785 0.10046 -0.48907 0.11157 -0.4941 0.1213 C -0.49584 0.1287 -0.4948 0.12546 -0.49705 0.13148 E">
                                      <p:cBhvr>
                                        <p:cTn id="15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3:56:58Z</dcterms:created>
  <dc:creator>home</dc:creator>
  <dc:description/>
  <dc:language>en-US</dc:language>
  <cp:lastModifiedBy>home</cp:lastModifiedBy>
  <dcterms:modified xsi:type="dcterms:W3CDTF">2011-11-26T16:42:26Z</dcterms:modified>
  <cp:revision>12</cp:revision>
  <dc:subject/>
  <dc:title>Поймай снежинку</dc:title>
</cp:coreProperties>
</file>