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50EF-D9E7-49EE-9B76-7919CFC84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A832-924E-4CE0-901B-45DEACBF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5AB9-0160-4A40-86EB-2D8E0BD01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9DAC-34D2-4128-8B94-5A441292F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EF72-D2A8-49B0-A7B7-FF40D7A7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A279-18F2-4394-9E52-10E2750B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DF36-29C2-4C6F-80DB-FB7DEA64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F0E1-88A3-4448-80E9-FCB55AA0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928F-2B38-4977-811A-F199DCD7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C5DC-FF84-4BBB-A86F-1E7DA29E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C480-3A37-4BBF-90A4-5758DBF5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77E1-A9CE-4A6E-90CC-284C72A9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A1B8-BC77-4FB2-9D42-F032AB0C5E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C:\Users\home\Desktop\ba08dd946dcd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C:\Users\home\Desktop\0733474.jpg"/>
          <p:cNvPicPr/>
          <p:nvPr/>
        </p:nvPicPr>
        <p:blipFill>
          <a:blip r:embed="rId3"/>
          <a:srcRect l="0" t="0" r="0" b="4914"/>
          <a:stretch/>
        </p:blipFill>
        <p:spPr>
          <a:xfrm>
            <a:off x="0" y="981000"/>
            <a:ext cx="4052880" cy="587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1"/>
          <a:stretch/>
        </p:blipFill>
        <p:spPr>
          <a:xfrm>
            <a:off x="487440" y="469800"/>
            <a:ext cx="8265960" cy="1663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5" name="Прямоугольник 6"/>
          <p:cNvSpPr/>
          <p:nvPr/>
        </p:nvSpPr>
        <p:spPr>
          <a:xfrm>
            <a:off x="3924360" y="5934240"/>
            <a:ext cx="35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У СОШ №105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рдиенко Еле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6-конечная звезда 7">
            <a:hlinkClick r:id="" action="ppaction://hlinkshowjump?jump=nextslide"/>
          </p:cNvPr>
          <p:cNvSpPr/>
          <p:nvPr/>
        </p:nvSpPr>
        <p:spPr>
          <a:xfrm>
            <a:off x="7667640" y="5373720"/>
            <a:ext cx="1476360" cy="148428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4  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" name="Группа 9"/>
          <p:cNvGrpSpPr/>
          <p:nvPr/>
        </p:nvGrpSpPr>
        <p:grpSpPr>
          <a:xfrm>
            <a:off x="4643280" y="2349360"/>
            <a:ext cx="1563840" cy="1633680"/>
            <a:chOff x="4643280" y="2349360"/>
            <a:chExt cx="1563840" cy="1633680"/>
          </a:xfrm>
        </p:grpSpPr>
        <p:sp>
          <p:nvSpPr>
            <p:cNvPr id="137" name="4-конечная звезда 3"/>
            <p:cNvSpPr/>
            <p:nvPr/>
          </p:nvSpPr>
          <p:spPr>
            <a:xfrm>
              <a:off x="4643280" y="2349360"/>
              <a:ext cx="1563840" cy="1633680"/>
            </a:xfrm>
            <a:custGeom>
              <a:avLst/>
              <a:gdLst>
                <a:gd name="textAreaLeft" fmla="*/ 644400 w 1563840"/>
                <a:gd name="textAreaRight" fmla="*/ 919440 w 1563840"/>
                <a:gd name="textAreaTop" fmla="*/ 673200 h 1633680"/>
                <a:gd name="textAreaBottom" fmla="*/ 960480 h 16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Прямоугольник 6"/>
            <p:cNvSpPr/>
            <p:nvPr/>
          </p:nvSpPr>
          <p:spPr>
            <a:xfrm>
              <a:off x="5079960" y="256500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Группа 10"/>
          <p:cNvGrpSpPr/>
          <p:nvPr/>
        </p:nvGrpSpPr>
        <p:grpSpPr>
          <a:xfrm>
            <a:off x="5651640" y="620640"/>
            <a:ext cx="1922400" cy="1800360"/>
            <a:chOff x="5651640" y="620640"/>
            <a:chExt cx="1922400" cy="1800360"/>
          </a:xfrm>
        </p:grpSpPr>
        <p:sp>
          <p:nvSpPr>
            <p:cNvPr id="140" name="4-конечная звезда 5"/>
            <p:cNvSpPr/>
            <p:nvPr/>
          </p:nvSpPr>
          <p:spPr>
            <a:xfrm>
              <a:off x="5651640" y="620640"/>
              <a:ext cx="1922400" cy="1800360"/>
            </a:xfrm>
            <a:custGeom>
              <a:avLst/>
              <a:gdLst>
                <a:gd name="textAreaLeft" fmla="*/ 792000 w 1922400"/>
                <a:gd name="textAreaRight" fmla="*/ 1130400 w 1922400"/>
                <a:gd name="textAreaTop" fmla="*/ 741960 h 1800360"/>
                <a:gd name="textAreaBottom" fmla="*/ 1058400 h 18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Прямоугольник 7"/>
            <p:cNvSpPr/>
            <p:nvPr/>
          </p:nvSpPr>
          <p:spPr>
            <a:xfrm>
              <a:off x="6303600" y="98064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Группа 11"/>
          <p:cNvGrpSpPr/>
          <p:nvPr/>
        </p:nvGrpSpPr>
        <p:grpSpPr>
          <a:xfrm>
            <a:off x="7451640" y="2133720"/>
            <a:ext cx="1274760" cy="1633320"/>
            <a:chOff x="7451640" y="2133720"/>
            <a:chExt cx="1274760" cy="1633320"/>
          </a:xfrm>
        </p:grpSpPr>
        <p:sp>
          <p:nvSpPr>
            <p:cNvPr id="143" name="4-конечная звезда 4"/>
            <p:cNvSpPr/>
            <p:nvPr/>
          </p:nvSpPr>
          <p:spPr>
            <a:xfrm>
              <a:off x="7451640" y="2133720"/>
              <a:ext cx="1274760" cy="1633320"/>
            </a:xfrm>
            <a:custGeom>
              <a:avLst/>
              <a:gdLst>
                <a:gd name="textAreaLeft" fmla="*/ 525240 w 1274760"/>
                <a:gd name="textAreaRight" fmla="*/ 749520 w 1274760"/>
                <a:gd name="textAreaTop" fmla="*/ 672840 h 1633320"/>
                <a:gd name="textAreaBottom" fmla="*/ 960480 h 16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Прямоугольник 8"/>
            <p:cNvSpPr/>
            <p:nvPr/>
          </p:nvSpPr>
          <p:spPr>
            <a:xfrm>
              <a:off x="7743960" y="234936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101080" y="6292800"/>
            <a:ext cx="1042920" cy="565200"/>
          </a:xfrm>
          <a:custGeom>
            <a:avLst/>
            <a:gdLst>
              <a:gd name="textAreaLeft" fmla="*/ 36360 w 1042920"/>
              <a:gd name="textAreaRight" fmla="*/ 1006560 w 1042920"/>
              <a:gd name="textAreaTop" fmla="*/ 36360 h 565200"/>
              <a:gd name="textAreaBottom" fmla="*/ 528840 h 565200"/>
            </a:gdLst>
            <a:ahLst/>
            <a:rect l="textAreaLeft" t="textAreaTop" r="textAreaRight" b="textAreaBottom"/>
            <a:pathLst>
              <a:path w="39845" h="21600">
                <a:moveTo>
                  <a:pt x="0" y="0"/>
                </a:moveTo>
                <a:lnTo>
                  <a:pt x="39845" y="0"/>
                </a:lnTo>
                <a:lnTo>
                  <a:pt x="39845" y="21600"/>
                </a:lnTo>
                <a:lnTo>
                  <a:pt x="0" y="21600"/>
                </a:lnTo>
                <a:close/>
              </a:path>
              <a:path fill="lightenLess" w="39845" h="21600">
                <a:moveTo>
                  <a:pt x="0" y="0"/>
                </a:moveTo>
                <a:lnTo>
                  <a:pt x="39845" y="0"/>
                </a:lnTo>
                <a:lnTo>
                  <a:pt x="38445" y="1400"/>
                </a:lnTo>
                <a:lnTo>
                  <a:pt x="1400" y="1400"/>
                </a:lnTo>
                <a:close/>
              </a:path>
              <a:path fill="darken" w="39845" h="21600">
                <a:moveTo>
                  <a:pt x="39845" y="0"/>
                </a:moveTo>
                <a:lnTo>
                  <a:pt x="39845" y="21600"/>
                </a:lnTo>
                <a:lnTo>
                  <a:pt x="38445" y="20200"/>
                </a:lnTo>
                <a:lnTo>
                  <a:pt x="38445" y="1400"/>
                </a:lnTo>
                <a:close/>
              </a:path>
              <a:path fill="darkenLess" w="39845" h="21600">
                <a:moveTo>
                  <a:pt x="39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45" y="20200"/>
                </a:lnTo>
                <a:close/>
              </a:path>
              <a:path fill="lighten" w="39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45" h="21600">
                <a:moveTo>
                  <a:pt x="12916" y="3794"/>
                </a:moveTo>
                <a:lnTo>
                  <a:pt x="26929" y="10800"/>
                </a:lnTo>
                <a:lnTo>
                  <a:pt x="1291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33 0.01042 C 0.07378 -0.00509 0.0691 -0.02824 0.06545 -0.04814 C 0.06285 -0.06203 0.05538 -0.07476 0.05174 -0.08865 C 0.04201 -0.12638 0.03038 -0.1625 0.01684 -0.19768 C 0.01632 -0.20115 0.01649 -0.20463 0.01545 -0.20787 C 0.01371 -0.21319 0.00972 -0.21689 0.00781 -0.22199 C 0.0066 -0.22523 0.00642 -0.22893 0.00486 -0.23194 C 0.00382 -0.23402 0.00174 -0.23472 0.00017 -0.23611 C -0.00226 -0.24282 -0.01111 -0.26064 -0.01649 -0.26435 C -0.02292 -0.26875 -0.03073 -0.27013 -0.03767 -0.27245 C -0.05122 -0.27152 -0.06632 -0.27662 -0.07847 -0.26851 C -0.07986 -0.26759 -0.08038 -0.26527 -0.0816 -0.26435 C -0.08611 -0.26064 -0.09201 -0.25926 -0.0967 -0.25625 C -0.10504 -0.25069 -0.11493 -0.23819 -0.12257 -0.23009 C -0.13108 -0.22106 -0.1375 -0.20601 -0.14514 -0.1956 C -0.15104 -0.17291 -0.1559 -0.14953 -0.16493 -0.12893 C -0.16736 -0.11365 -0.1724 -0.09791 -0.17847 -0.08449 C -0.18056 -0.07384 -0.18229 -0.06273 -0.18455 -0.05231 C -0.18542 -0.04814 -0.18767 -0.04004 -0.18767 -0.03981 C -0.18854 -0.02129 -0.18889 -0.00694 -0.19219 0.01042 C -0.19271 0.01829 -0.19375 0.02662 -0.19375 0.03473 C -0.19375 0.10741 -0.19566 0.06135 -0.19063 0.08519 C -0.18976 0.08959 -0.1875 0.10926 -0.18455 0.10926 E">
                                      <p:cBhvr>
                                        <p:cTn id="161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он:</a:t>
            </a:r>
            <a:br>
              <a:rPr sz="4000"/>
            </a:br>
            <a:r>
              <a:rPr b="0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http://i035.radikal.ru/0911/fa/ba08dd946dcd.gif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евочк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3"/>
          <p:cNvSpPr/>
          <p:nvPr/>
        </p:nvSpPr>
        <p:spPr>
          <a:xfrm>
            <a:off x="0" y="2924280"/>
            <a:ext cx="9144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http://subscribe.ru/archive/culture.mystery.masterhappy/201101/04090525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узы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5"/>
          <p:cNvSpPr/>
          <p:nvPr/>
        </p:nvSpPr>
        <p:spPr>
          <a:xfrm>
            <a:off x="835200" y="365040"/>
            <a:ext cx="208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сыл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6"/>
          <p:cNvSpPr/>
          <p:nvPr/>
        </p:nvSpPr>
        <p:spPr>
          <a:xfrm>
            <a:off x="179280" y="450864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http://poiskm.ru/song/336602-Sviridov-Metel-V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-3  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Группа 9"/>
          <p:cNvGrpSpPr/>
          <p:nvPr/>
        </p:nvGrpSpPr>
        <p:grpSpPr>
          <a:xfrm>
            <a:off x="4643280" y="2349360"/>
            <a:ext cx="1563840" cy="1633680"/>
            <a:chOff x="4643280" y="2349360"/>
            <a:chExt cx="1563840" cy="1633680"/>
          </a:xfrm>
        </p:grpSpPr>
        <p:sp>
          <p:nvSpPr>
            <p:cNvPr id="49" name="4-конечная звезда 3"/>
            <p:cNvSpPr/>
            <p:nvPr/>
          </p:nvSpPr>
          <p:spPr>
            <a:xfrm>
              <a:off x="4643280" y="2349360"/>
              <a:ext cx="1563840" cy="1633680"/>
            </a:xfrm>
            <a:custGeom>
              <a:avLst/>
              <a:gdLst>
                <a:gd name="textAreaLeft" fmla="*/ 644400 w 1563840"/>
                <a:gd name="textAreaRight" fmla="*/ 919440 w 1563840"/>
                <a:gd name="textAreaTop" fmla="*/ 673200 h 1633680"/>
                <a:gd name="textAreaBottom" fmla="*/ 960480 h 16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рямоугольник 6"/>
            <p:cNvSpPr/>
            <p:nvPr/>
          </p:nvSpPr>
          <p:spPr>
            <a:xfrm>
              <a:off x="5079960" y="256500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Группа 10"/>
          <p:cNvGrpSpPr/>
          <p:nvPr/>
        </p:nvGrpSpPr>
        <p:grpSpPr>
          <a:xfrm>
            <a:off x="5651640" y="620640"/>
            <a:ext cx="1922400" cy="1800360"/>
            <a:chOff x="5651640" y="620640"/>
            <a:chExt cx="1922400" cy="1800360"/>
          </a:xfrm>
        </p:grpSpPr>
        <p:sp>
          <p:nvSpPr>
            <p:cNvPr id="52" name="4-конечная звезда 5"/>
            <p:cNvSpPr/>
            <p:nvPr/>
          </p:nvSpPr>
          <p:spPr>
            <a:xfrm>
              <a:off x="5651640" y="620640"/>
              <a:ext cx="1922400" cy="1800360"/>
            </a:xfrm>
            <a:custGeom>
              <a:avLst/>
              <a:gdLst>
                <a:gd name="textAreaLeft" fmla="*/ 792000 w 1922400"/>
                <a:gd name="textAreaRight" fmla="*/ 1130400 w 1922400"/>
                <a:gd name="textAreaTop" fmla="*/ 741960 h 1800360"/>
                <a:gd name="textAreaBottom" fmla="*/ 1058400 h 18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Прямоугольник 7"/>
            <p:cNvSpPr/>
            <p:nvPr/>
          </p:nvSpPr>
          <p:spPr>
            <a:xfrm>
              <a:off x="6306840" y="98064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Группа 11"/>
          <p:cNvGrpSpPr/>
          <p:nvPr/>
        </p:nvGrpSpPr>
        <p:grpSpPr>
          <a:xfrm>
            <a:off x="7451640" y="2133720"/>
            <a:ext cx="1274760" cy="1633320"/>
            <a:chOff x="7451640" y="2133720"/>
            <a:chExt cx="1274760" cy="1633320"/>
          </a:xfrm>
        </p:grpSpPr>
        <p:sp>
          <p:nvSpPr>
            <p:cNvPr id="55" name="4-конечная звезда 4"/>
            <p:cNvSpPr/>
            <p:nvPr/>
          </p:nvSpPr>
          <p:spPr>
            <a:xfrm>
              <a:off x="7451640" y="2133720"/>
              <a:ext cx="1274760" cy="1633320"/>
            </a:xfrm>
            <a:custGeom>
              <a:avLst/>
              <a:gdLst>
                <a:gd name="textAreaLeft" fmla="*/ 525240 w 1274760"/>
                <a:gd name="textAreaRight" fmla="*/ 749520 w 1274760"/>
                <a:gd name="textAreaTop" fmla="*/ 672840 h 1633320"/>
                <a:gd name="textAreaBottom" fmla="*/ 960480 h 16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Прямоугольник 8"/>
            <p:cNvSpPr/>
            <p:nvPr/>
          </p:nvSpPr>
          <p:spPr>
            <a:xfrm>
              <a:off x="7747200" y="234936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101080" y="6292800"/>
            <a:ext cx="1042920" cy="565200"/>
          </a:xfrm>
          <a:custGeom>
            <a:avLst/>
            <a:gdLst>
              <a:gd name="textAreaLeft" fmla="*/ 36360 w 1042920"/>
              <a:gd name="textAreaRight" fmla="*/ 1006560 w 1042920"/>
              <a:gd name="textAreaTop" fmla="*/ 36360 h 565200"/>
              <a:gd name="textAreaBottom" fmla="*/ 528840 h 565200"/>
            </a:gdLst>
            <a:ahLst/>
            <a:rect l="textAreaLeft" t="textAreaTop" r="textAreaRight" b="textAreaBottom"/>
            <a:pathLst>
              <a:path w="39845" h="21600">
                <a:moveTo>
                  <a:pt x="0" y="0"/>
                </a:moveTo>
                <a:lnTo>
                  <a:pt x="39845" y="0"/>
                </a:lnTo>
                <a:lnTo>
                  <a:pt x="39845" y="21600"/>
                </a:lnTo>
                <a:lnTo>
                  <a:pt x="0" y="21600"/>
                </a:lnTo>
                <a:close/>
              </a:path>
              <a:path fill="lightenLess" w="39845" h="21600">
                <a:moveTo>
                  <a:pt x="0" y="0"/>
                </a:moveTo>
                <a:lnTo>
                  <a:pt x="39845" y="0"/>
                </a:lnTo>
                <a:lnTo>
                  <a:pt x="38445" y="1400"/>
                </a:lnTo>
                <a:lnTo>
                  <a:pt x="1400" y="1400"/>
                </a:lnTo>
                <a:close/>
              </a:path>
              <a:path fill="darken" w="39845" h="21600">
                <a:moveTo>
                  <a:pt x="39845" y="0"/>
                </a:moveTo>
                <a:lnTo>
                  <a:pt x="39845" y="21600"/>
                </a:lnTo>
                <a:lnTo>
                  <a:pt x="38445" y="20200"/>
                </a:lnTo>
                <a:lnTo>
                  <a:pt x="38445" y="1400"/>
                </a:lnTo>
                <a:close/>
              </a:path>
              <a:path fill="darkenLess" w="39845" h="21600">
                <a:moveTo>
                  <a:pt x="39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45" y="20200"/>
                </a:lnTo>
                <a:close/>
              </a:path>
              <a:path fill="lighten" w="39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45" h="21600">
                <a:moveTo>
                  <a:pt x="12916" y="3794"/>
                </a:moveTo>
                <a:lnTo>
                  <a:pt x="26929" y="10800"/>
                </a:lnTo>
                <a:lnTo>
                  <a:pt x="1291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33 0.01042 C 0.07378 -0.00509 0.0691 -0.02824 0.06545 -0.04814 C 0.06285 -0.06203 0.05538 -0.07476 0.05174 -0.08865 C 0.04201 -0.12638 0.03038 -0.1625 0.01684 -0.19768 C 0.01632 -0.20115 0.01649 -0.20463 0.01545 -0.20787 C 0.01371 -0.21319 0.00972 -0.21689 0.00781 -0.22199 C 0.0066 -0.22523 0.00642 -0.22893 0.00486 -0.23194 C 0.00382 -0.23402 0.00174 -0.23472 0.00017 -0.23611 C -0.00226 -0.24282 -0.01111 -0.26064 -0.01649 -0.26435 C -0.02292 -0.26875 -0.03073 -0.27013 -0.03767 -0.27245 C -0.05122 -0.27152 -0.06632 -0.27662 -0.07847 -0.26851 C -0.07986 -0.26759 -0.08038 -0.26527 -0.0816 -0.26435 C -0.08611 -0.26064 -0.09201 -0.25926 -0.0967 -0.25625 C -0.10504 -0.25069 -0.11493 -0.23819 -0.12257 -0.23009 C -0.13108 -0.22106 -0.1375 -0.20601 -0.14514 -0.1956 C -0.15104 -0.17291 -0.1559 -0.14953 -0.16493 -0.12893 C -0.16736 -0.11365 -0.1724 -0.09791 -0.17847 -0.08449 C -0.18056 -0.07384 -0.18229 -0.06273 -0.18455 -0.05231 C -0.18542 -0.04814 -0.18767 -0.04004 -0.18767 -0.03981 C -0.18854 -0.02129 -0.18889 -0.00694 -0.19219 0.01042 C -0.19271 0.01829 -0.19375 0.02662 -0.19375 0.03473 C -0.19375 0.10741 -0.19566 0.06135 -0.19063 0.08519 C -0.18976 0.08959 -0.1875 0.10926 -0.18455 0.10926 E">
                                      <p:cBhvr>
                                        <p:cTn id="17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4  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Группа 9"/>
          <p:cNvGrpSpPr/>
          <p:nvPr/>
        </p:nvGrpSpPr>
        <p:grpSpPr>
          <a:xfrm>
            <a:off x="4643280" y="2349360"/>
            <a:ext cx="1563840" cy="1633680"/>
            <a:chOff x="4643280" y="2349360"/>
            <a:chExt cx="1563840" cy="1633680"/>
          </a:xfrm>
        </p:grpSpPr>
        <p:sp>
          <p:nvSpPr>
            <p:cNvPr id="60" name="4-конечная звезда 3"/>
            <p:cNvSpPr/>
            <p:nvPr/>
          </p:nvSpPr>
          <p:spPr>
            <a:xfrm>
              <a:off x="4643280" y="2349360"/>
              <a:ext cx="1563840" cy="1633680"/>
            </a:xfrm>
            <a:custGeom>
              <a:avLst/>
              <a:gdLst>
                <a:gd name="textAreaLeft" fmla="*/ 644400 w 1563840"/>
                <a:gd name="textAreaRight" fmla="*/ 919440 w 1563840"/>
                <a:gd name="textAreaTop" fmla="*/ 673200 h 1633680"/>
                <a:gd name="textAreaBottom" fmla="*/ 960480 h 16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Прямоугольник 6"/>
            <p:cNvSpPr/>
            <p:nvPr/>
          </p:nvSpPr>
          <p:spPr>
            <a:xfrm>
              <a:off x="5079960" y="256500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Группа 10"/>
          <p:cNvGrpSpPr/>
          <p:nvPr/>
        </p:nvGrpSpPr>
        <p:grpSpPr>
          <a:xfrm>
            <a:off x="5651640" y="620640"/>
            <a:ext cx="1922400" cy="1800360"/>
            <a:chOff x="5651640" y="620640"/>
            <a:chExt cx="1922400" cy="1800360"/>
          </a:xfrm>
        </p:grpSpPr>
        <p:sp>
          <p:nvSpPr>
            <p:cNvPr id="63" name="4-конечная звезда 5"/>
            <p:cNvSpPr/>
            <p:nvPr/>
          </p:nvSpPr>
          <p:spPr>
            <a:xfrm>
              <a:off x="5651640" y="620640"/>
              <a:ext cx="1922400" cy="1800360"/>
            </a:xfrm>
            <a:custGeom>
              <a:avLst/>
              <a:gdLst>
                <a:gd name="textAreaLeft" fmla="*/ 792000 w 1922400"/>
                <a:gd name="textAreaRight" fmla="*/ 1130400 w 1922400"/>
                <a:gd name="textAreaTop" fmla="*/ 741960 h 1800360"/>
                <a:gd name="textAreaBottom" fmla="*/ 1058400 h 18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Прямоугольник 7"/>
            <p:cNvSpPr/>
            <p:nvPr/>
          </p:nvSpPr>
          <p:spPr>
            <a:xfrm>
              <a:off x="6303600" y="98064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Группа 11"/>
          <p:cNvGrpSpPr/>
          <p:nvPr/>
        </p:nvGrpSpPr>
        <p:grpSpPr>
          <a:xfrm>
            <a:off x="7451640" y="2133720"/>
            <a:ext cx="1274760" cy="1633320"/>
            <a:chOff x="7451640" y="2133720"/>
            <a:chExt cx="1274760" cy="1633320"/>
          </a:xfrm>
        </p:grpSpPr>
        <p:sp>
          <p:nvSpPr>
            <p:cNvPr id="66" name="4-конечная звезда 4"/>
            <p:cNvSpPr/>
            <p:nvPr/>
          </p:nvSpPr>
          <p:spPr>
            <a:xfrm>
              <a:off x="7451640" y="2133720"/>
              <a:ext cx="1274760" cy="1633320"/>
            </a:xfrm>
            <a:custGeom>
              <a:avLst/>
              <a:gdLst>
                <a:gd name="textAreaLeft" fmla="*/ 525240 w 1274760"/>
                <a:gd name="textAreaRight" fmla="*/ 749520 w 1274760"/>
                <a:gd name="textAreaTop" fmla="*/ 672840 h 1633320"/>
                <a:gd name="textAreaBottom" fmla="*/ 960480 h 16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Прямоугольник 8"/>
            <p:cNvSpPr/>
            <p:nvPr/>
          </p:nvSpPr>
          <p:spPr>
            <a:xfrm>
              <a:off x="7743960" y="234936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101080" y="6292800"/>
            <a:ext cx="1042920" cy="565200"/>
          </a:xfrm>
          <a:custGeom>
            <a:avLst/>
            <a:gdLst>
              <a:gd name="textAreaLeft" fmla="*/ 36360 w 1042920"/>
              <a:gd name="textAreaRight" fmla="*/ 1006560 w 1042920"/>
              <a:gd name="textAreaTop" fmla="*/ 36360 h 565200"/>
              <a:gd name="textAreaBottom" fmla="*/ 528840 h 565200"/>
            </a:gdLst>
            <a:ahLst/>
            <a:rect l="textAreaLeft" t="textAreaTop" r="textAreaRight" b="textAreaBottom"/>
            <a:pathLst>
              <a:path w="39845" h="21600">
                <a:moveTo>
                  <a:pt x="0" y="0"/>
                </a:moveTo>
                <a:lnTo>
                  <a:pt x="39845" y="0"/>
                </a:lnTo>
                <a:lnTo>
                  <a:pt x="39845" y="21600"/>
                </a:lnTo>
                <a:lnTo>
                  <a:pt x="0" y="21600"/>
                </a:lnTo>
                <a:close/>
              </a:path>
              <a:path fill="lightenLess" w="39845" h="21600">
                <a:moveTo>
                  <a:pt x="0" y="0"/>
                </a:moveTo>
                <a:lnTo>
                  <a:pt x="39845" y="0"/>
                </a:lnTo>
                <a:lnTo>
                  <a:pt x="38445" y="1400"/>
                </a:lnTo>
                <a:lnTo>
                  <a:pt x="1400" y="1400"/>
                </a:lnTo>
                <a:close/>
              </a:path>
              <a:path fill="darken" w="39845" h="21600">
                <a:moveTo>
                  <a:pt x="39845" y="0"/>
                </a:moveTo>
                <a:lnTo>
                  <a:pt x="39845" y="21600"/>
                </a:lnTo>
                <a:lnTo>
                  <a:pt x="38445" y="20200"/>
                </a:lnTo>
                <a:lnTo>
                  <a:pt x="38445" y="1400"/>
                </a:lnTo>
                <a:close/>
              </a:path>
              <a:path fill="darkenLess" w="39845" h="21600">
                <a:moveTo>
                  <a:pt x="39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45" y="20200"/>
                </a:lnTo>
                <a:close/>
              </a:path>
              <a:path fill="lighten" w="39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45" h="21600">
                <a:moveTo>
                  <a:pt x="12916" y="3794"/>
                </a:moveTo>
                <a:lnTo>
                  <a:pt x="26929" y="10800"/>
                </a:lnTo>
                <a:lnTo>
                  <a:pt x="1291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33 0.01042 C 0.07378 -0.00509 0.0691 -0.02824 0.06545 -0.04814 C 0.06285 -0.06203 0.05538 -0.07476 0.05174 -0.08865 C 0.04201 -0.12638 0.03038 -0.1625 0.01684 -0.19768 C 0.01632 -0.20115 0.01649 -0.20463 0.01545 -0.20787 C 0.01371 -0.21319 0.00972 -0.21689 0.00781 -0.22199 C 0.0066 -0.22523 0.00642 -0.22893 0.00486 -0.23194 C 0.00382 -0.23402 0.00174 -0.23472 0.00017 -0.23611 C -0.00226 -0.24282 -0.01111 -0.26064 -0.01649 -0.26435 C -0.02292 -0.26875 -0.03073 -0.27013 -0.03767 -0.27245 C -0.05122 -0.27152 -0.06632 -0.27662 -0.07847 -0.26851 C -0.07986 -0.26759 -0.08038 -0.26527 -0.0816 -0.26435 C -0.08611 -0.26064 -0.09201 -0.25926 -0.0967 -0.25625 C -0.10504 -0.25069 -0.11493 -0.23819 -0.12257 -0.23009 C -0.13108 -0.22106 -0.1375 -0.20601 -0.14514 -0.1956 C -0.15104 -0.17291 -0.1559 -0.14953 -0.16493 -0.12893 C -0.16736 -0.11365 -0.1724 -0.09791 -0.17847 -0.08449 C -0.18056 -0.07384 -0.18229 -0.06273 -0.18455 -0.05231 C -0.18542 -0.04814 -0.18767 -0.04004 -0.18767 -0.03981 C -0.18854 -0.02129 -0.18889 -0.00694 -0.19219 0.01042 C -0.19271 0.01829 -0.19375 0.02662 -0.19375 0.03473 C -0.19375 0.10741 -0.19566 0.06135 -0.19063 0.08519 C -0.18976 0.08959 -0.1875 0.10926 -0.18455 0.10926 E">
                                      <p:cBhvr>
                                        <p:cTn id="35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+4  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Группа 9"/>
          <p:cNvGrpSpPr/>
          <p:nvPr/>
        </p:nvGrpSpPr>
        <p:grpSpPr>
          <a:xfrm>
            <a:off x="4643280" y="2349360"/>
            <a:ext cx="1563840" cy="1633680"/>
            <a:chOff x="4643280" y="2349360"/>
            <a:chExt cx="1563840" cy="1633680"/>
          </a:xfrm>
        </p:grpSpPr>
        <p:sp>
          <p:nvSpPr>
            <p:cNvPr id="71" name="4-конечная звезда 3"/>
            <p:cNvSpPr/>
            <p:nvPr/>
          </p:nvSpPr>
          <p:spPr>
            <a:xfrm>
              <a:off x="4643280" y="2349360"/>
              <a:ext cx="1563840" cy="1633680"/>
            </a:xfrm>
            <a:custGeom>
              <a:avLst/>
              <a:gdLst>
                <a:gd name="textAreaLeft" fmla="*/ 644400 w 1563840"/>
                <a:gd name="textAreaRight" fmla="*/ 919440 w 1563840"/>
                <a:gd name="textAreaTop" fmla="*/ 673200 h 1633680"/>
                <a:gd name="textAreaBottom" fmla="*/ 960480 h 16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Прямоугольник 6"/>
            <p:cNvSpPr/>
            <p:nvPr/>
          </p:nvSpPr>
          <p:spPr>
            <a:xfrm>
              <a:off x="5079960" y="256500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Группа 10"/>
          <p:cNvGrpSpPr/>
          <p:nvPr/>
        </p:nvGrpSpPr>
        <p:grpSpPr>
          <a:xfrm>
            <a:off x="5651640" y="620640"/>
            <a:ext cx="1922400" cy="1800360"/>
            <a:chOff x="5651640" y="620640"/>
            <a:chExt cx="1922400" cy="1800360"/>
          </a:xfrm>
        </p:grpSpPr>
        <p:sp>
          <p:nvSpPr>
            <p:cNvPr id="74" name="4-конечная звезда 5"/>
            <p:cNvSpPr/>
            <p:nvPr/>
          </p:nvSpPr>
          <p:spPr>
            <a:xfrm>
              <a:off x="5651640" y="620640"/>
              <a:ext cx="1922400" cy="1800360"/>
            </a:xfrm>
            <a:custGeom>
              <a:avLst/>
              <a:gdLst>
                <a:gd name="textAreaLeft" fmla="*/ 792000 w 1922400"/>
                <a:gd name="textAreaRight" fmla="*/ 1130400 w 1922400"/>
                <a:gd name="textAreaTop" fmla="*/ 741960 h 1800360"/>
                <a:gd name="textAreaBottom" fmla="*/ 1058400 h 18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Прямоугольник 7"/>
            <p:cNvSpPr/>
            <p:nvPr/>
          </p:nvSpPr>
          <p:spPr>
            <a:xfrm>
              <a:off x="6303600" y="98064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Группа 11"/>
          <p:cNvGrpSpPr/>
          <p:nvPr/>
        </p:nvGrpSpPr>
        <p:grpSpPr>
          <a:xfrm>
            <a:off x="7451640" y="2133720"/>
            <a:ext cx="1274760" cy="1633320"/>
            <a:chOff x="7451640" y="2133720"/>
            <a:chExt cx="1274760" cy="1633320"/>
          </a:xfrm>
        </p:grpSpPr>
        <p:sp>
          <p:nvSpPr>
            <p:cNvPr id="77" name="4-конечная звезда 4"/>
            <p:cNvSpPr/>
            <p:nvPr/>
          </p:nvSpPr>
          <p:spPr>
            <a:xfrm>
              <a:off x="7451640" y="2133720"/>
              <a:ext cx="1274760" cy="1633320"/>
            </a:xfrm>
            <a:custGeom>
              <a:avLst/>
              <a:gdLst>
                <a:gd name="textAreaLeft" fmla="*/ 525240 w 1274760"/>
                <a:gd name="textAreaRight" fmla="*/ 749520 w 1274760"/>
                <a:gd name="textAreaTop" fmla="*/ 672840 h 1633320"/>
                <a:gd name="textAreaBottom" fmla="*/ 960480 h 16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Прямоугольник 8"/>
            <p:cNvSpPr/>
            <p:nvPr/>
          </p:nvSpPr>
          <p:spPr>
            <a:xfrm>
              <a:off x="7743960" y="234936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101080" y="6292800"/>
            <a:ext cx="1042920" cy="565200"/>
          </a:xfrm>
          <a:custGeom>
            <a:avLst/>
            <a:gdLst>
              <a:gd name="textAreaLeft" fmla="*/ 36360 w 1042920"/>
              <a:gd name="textAreaRight" fmla="*/ 1006560 w 1042920"/>
              <a:gd name="textAreaTop" fmla="*/ 36360 h 565200"/>
              <a:gd name="textAreaBottom" fmla="*/ 528840 h 565200"/>
            </a:gdLst>
            <a:ahLst/>
            <a:rect l="textAreaLeft" t="textAreaTop" r="textAreaRight" b="textAreaBottom"/>
            <a:pathLst>
              <a:path w="39845" h="21600">
                <a:moveTo>
                  <a:pt x="0" y="0"/>
                </a:moveTo>
                <a:lnTo>
                  <a:pt x="39845" y="0"/>
                </a:lnTo>
                <a:lnTo>
                  <a:pt x="39845" y="21600"/>
                </a:lnTo>
                <a:lnTo>
                  <a:pt x="0" y="21600"/>
                </a:lnTo>
                <a:close/>
              </a:path>
              <a:path fill="lightenLess" w="39845" h="21600">
                <a:moveTo>
                  <a:pt x="0" y="0"/>
                </a:moveTo>
                <a:lnTo>
                  <a:pt x="39845" y="0"/>
                </a:lnTo>
                <a:lnTo>
                  <a:pt x="38445" y="1400"/>
                </a:lnTo>
                <a:lnTo>
                  <a:pt x="1400" y="1400"/>
                </a:lnTo>
                <a:close/>
              </a:path>
              <a:path fill="darken" w="39845" h="21600">
                <a:moveTo>
                  <a:pt x="39845" y="0"/>
                </a:moveTo>
                <a:lnTo>
                  <a:pt x="39845" y="21600"/>
                </a:lnTo>
                <a:lnTo>
                  <a:pt x="38445" y="20200"/>
                </a:lnTo>
                <a:lnTo>
                  <a:pt x="38445" y="1400"/>
                </a:lnTo>
                <a:close/>
              </a:path>
              <a:path fill="darkenLess" w="39845" h="21600">
                <a:moveTo>
                  <a:pt x="39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45" y="20200"/>
                </a:lnTo>
                <a:close/>
              </a:path>
              <a:path fill="lighten" w="39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45" h="21600">
                <a:moveTo>
                  <a:pt x="12916" y="3794"/>
                </a:moveTo>
                <a:lnTo>
                  <a:pt x="26929" y="10800"/>
                </a:lnTo>
                <a:lnTo>
                  <a:pt x="1291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896 0.0206 C 0.04844 0.00718 0.04879 -0.00625 0.04757 -0.01968 C 0.04722 -0.02407 0.04618 -0.02824 0.04444 -0.03195 C 0.04184 -0.03727 0.03681 -0.04792 0.03681 -0.04769 C 0.03264 -0.07801 0.0125 -0.1044 -0.01007 -0.11065 C -0.02066 -0.11736 -0.03212 -0.1169 -0.0434 -0.12083 C -0.06302 -0.12014 -0.08281 -0.12014 -0.10243 -0.11875 C -0.11024 -0.11829 -0.12049 -0.11389 -0.1283 -0.11273 C -0.13594 -0.11019 -0.1434 -0.10695 -0.15104 -0.10463 C -0.15208 -0.10324 -0.15278 -0.10139 -0.15399 -0.10046 C -0.15694 -0.09861 -0.16319 -0.09653 -0.16319 -0.0963 C -0.16944 -0.08773 -0.17639 -0.08148 -0.18437 -0.07639 C -0.19028 -0.06574 -0.19549 -0.05532 -0.20243 -0.04607 C -0.20538 -0.03403 -0.20174 -0.04468 -0.20851 -0.03588 C -0.21545 -0.02685 -0.20851 -0.0331 -0.21319 -0.02384 C -0.21632 -0.01759 -0.2224 -0.01366 -0.22674 -0.00972 C -0.23073 0.00301 -0.23542 0.01597 -0.24184 0.02685 C -0.24358 0.02986 -0.24618 0.03171 -0.24792 0.03472 C -0.25608 0.04884 -0.26319 0.06319 -0.2691 0.07917 C -0.27014 0.08171 -0.2724 0.0831 -0.27378 0.08542 C -0.27917 0.09375 -0.28368 0.10301 -0.28889 0.11157 C -0.29288 0.11782 -0.29271 0.1243 -0.29496 0.13171 C -0.29566 0.13403 -0.29722 0.13542 -0.29792 0.13773 C -0.29913 0.1419 -0.3 0.14583 -0.30104 0.15 C -0.3026 0.15648 -0.30851 0.16805 -0.30851 0.16805 C -0.31007 0.18218 -0.31215 0.19653 -0.31458 0.21065 C -0.31753 0.25903 -0.31319 0.30764 -0.31319 0.35602 E">
                                      <p:cBhvr>
                                        <p:cTn id="59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-4  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Группа 9"/>
          <p:cNvGrpSpPr/>
          <p:nvPr/>
        </p:nvGrpSpPr>
        <p:grpSpPr>
          <a:xfrm>
            <a:off x="4643280" y="2349360"/>
            <a:ext cx="1563840" cy="1633680"/>
            <a:chOff x="4643280" y="2349360"/>
            <a:chExt cx="1563840" cy="1633680"/>
          </a:xfrm>
        </p:grpSpPr>
        <p:sp>
          <p:nvSpPr>
            <p:cNvPr id="82" name="4-конечная звезда 3"/>
            <p:cNvSpPr/>
            <p:nvPr/>
          </p:nvSpPr>
          <p:spPr>
            <a:xfrm>
              <a:off x="4643280" y="2349360"/>
              <a:ext cx="1563840" cy="1633680"/>
            </a:xfrm>
            <a:custGeom>
              <a:avLst/>
              <a:gdLst>
                <a:gd name="textAreaLeft" fmla="*/ 644400 w 1563840"/>
                <a:gd name="textAreaRight" fmla="*/ 919440 w 1563840"/>
                <a:gd name="textAreaTop" fmla="*/ 673200 h 1633680"/>
                <a:gd name="textAreaBottom" fmla="*/ 960480 h 16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Прямоугольник 6"/>
            <p:cNvSpPr/>
            <p:nvPr/>
          </p:nvSpPr>
          <p:spPr>
            <a:xfrm>
              <a:off x="5079960" y="256500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Группа 10"/>
          <p:cNvGrpSpPr/>
          <p:nvPr/>
        </p:nvGrpSpPr>
        <p:grpSpPr>
          <a:xfrm>
            <a:off x="5651640" y="620640"/>
            <a:ext cx="1922400" cy="1800360"/>
            <a:chOff x="5651640" y="620640"/>
            <a:chExt cx="1922400" cy="1800360"/>
          </a:xfrm>
        </p:grpSpPr>
        <p:sp>
          <p:nvSpPr>
            <p:cNvPr id="85" name="4-конечная звезда 5"/>
            <p:cNvSpPr/>
            <p:nvPr/>
          </p:nvSpPr>
          <p:spPr>
            <a:xfrm>
              <a:off x="5651640" y="620640"/>
              <a:ext cx="1922400" cy="1800360"/>
            </a:xfrm>
            <a:custGeom>
              <a:avLst/>
              <a:gdLst>
                <a:gd name="textAreaLeft" fmla="*/ 792000 w 1922400"/>
                <a:gd name="textAreaRight" fmla="*/ 1130400 w 1922400"/>
                <a:gd name="textAreaTop" fmla="*/ 741960 h 1800360"/>
                <a:gd name="textAreaBottom" fmla="*/ 1058400 h 18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Прямоугольник 7"/>
            <p:cNvSpPr/>
            <p:nvPr/>
          </p:nvSpPr>
          <p:spPr>
            <a:xfrm>
              <a:off x="6303600" y="98064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11"/>
          <p:cNvGrpSpPr/>
          <p:nvPr/>
        </p:nvGrpSpPr>
        <p:grpSpPr>
          <a:xfrm>
            <a:off x="7451640" y="2133720"/>
            <a:ext cx="1274760" cy="1633320"/>
            <a:chOff x="7451640" y="2133720"/>
            <a:chExt cx="1274760" cy="1633320"/>
          </a:xfrm>
        </p:grpSpPr>
        <p:sp>
          <p:nvSpPr>
            <p:cNvPr id="88" name="4-конечная звезда 4"/>
            <p:cNvSpPr/>
            <p:nvPr/>
          </p:nvSpPr>
          <p:spPr>
            <a:xfrm>
              <a:off x="7451640" y="2133720"/>
              <a:ext cx="1274760" cy="1633320"/>
            </a:xfrm>
            <a:custGeom>
              <a:avLst/>
              <a:gdLst>
                <a:gd name="textAreaLeft" fmla="*/ 525240 w 1274760"/>
                <a:gd name="textAreaRight" fmla="*/ 749520 w 1274760"/>
                <a:gd name="textAreaTop" fmla="*/ 672840 h 1633320"/>
                <a:gd name="textAreaBottom" fmla="*/ 960480 h 16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Прямоугольник 8"/>
            <p:cNvSpPr/>
            <p:nvPr/>
          </p:nvSpPr>
          <p:spPr>
            <a:xfrm>
              <a:off x="7743960" y="234936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101080" y="6292800"/>
            <a:ext cx="1042920" cy="565200"/>
          </a:xfrm>
          <a:custGeom>
            <a:avLst/>
            <a:gdLst>
              <a:gd name="textAreaLeft" fmla="*/ 36360 w 1042920"/>
              <a:gd name="textAreaRight" fmla="*/ 1006560 w 1042920"/>
              <a:gd name="textAreaTop" fmla="*/ 36360 h 565200"/>
              <a:gd name="textAreaBottom" fmla="*/ 528840 h 565200"/>
            </a:gdLst>
            <a:ahLst/>
            <a:rect l="textAreaLeft" t="textAreaTop" r="textAreaRight" b="textAreaBottom"/>
            <a:pathLst>
              <a:path w="39845" h="21600">
                <a:moveTo>
                  <a:pt x="0" y="0"/>
                </a:moveTo>
                <a:lnTo>
                  <a:pt x="39845" y="0"/>
                </a:lnTo>
                <a:lnTo>
                  <a:pt x="39845" y="21600"/>
                </a:lnTo>
                <a:lnTo>
                  <a:pt x="0" y="21600"/>
                </a:lnTo>
                <a:close/>
              </a:path>
              <a:path fill="lightenLess" w="39845" h="21600">
                <a:moveTo>
                  <a:pt x="0" y="0"/>
                </a:moveTo>
                <a:lnTo>
                  <a:pt x="39845" y="0"/>
                </a:lnTo>
                <a:lnTo>
                  <a:pt x="38445" y="1400"/>
                </a:lnTo>
                <a:lnTo>
                  <a:pt x="1400" y="1400"/>
                </a:lnTo>
                <a:close/>
              </a:path>
              <a:path fill="darken" w="39845" h="21600">
                <a:moveTo>
                  <a:pt x="39845" y="0"/>
                </a:moveTo>
                <a:lnTo>
                  <a:pt x="39845" y="21600"/>
                </a:lnTo>
                <a:lnTo>
                  <a:pt x="38445" y="20200"/>
                </a:lnTo>
                <a:lnTo>
                  <a:pt x="38445" y="1400"/>
                </a:lnTo>
                <a:close/>
              </a:path>
              <a:path fill="darkenLess" w="39845" h="21600">
                <a:moveTo>
                  <a:pt x="39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45" y="20200"/>
                </a:lnTo>
                <a:close/>
              </a:path>
              <a:path fill="lighten" w="39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45" h="21600">
                <a:moveTo>
                  <a:pt x="12916" y="3794"/>
                </a:moveTo>
                <a:lnTo>
                  <a:pt x="26929" y="10800"/>
                </a:lnTo>
                <a:lnTo>
                  <a:pt x="1291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C 0.00052 -0.01482 0.00138 -0.02963 0.00138 -0.04445 C 0.00138 -0.07477 0.00138 -0.10509 3.33333E-006 -0.13519 C 3.33333E-006 -0.13542 -0.00382 -0.15023 -0.00469 -0.15347 C -0.01094 -0.17778 -0.01945 -0.19329 -0.03039 -0.21412 C -0.04046 -0.2331 -0.05 -0.2537 -0.06667 -0.2625 C -0.0816 -0.28171 -0.1066 -0.28264 -0.12587 -0.28681 C -0.13681 -0.28912 -0.14653 -0.29306 -0.15764 -0.29491 C -0.22813 -0.29329 -0.22292 -0.30556 -0.25921 -0.28681 C -0.26737 -0.27014 -0.2566 -0.28935 -0.26667 -0.2787 C -0.26806 -0.27708 -0.26841 -0.27431 -0.2698 -0.27269 C -0.27153 -0.27037 -0.27379 -0.26875 -0.27587 -0.26667 C -0.28525 -0.24653 -0.27032 -0.27685 -0.2849 -0.2544 C -0.28646 -0.25208 -0.28664 -0.24861 -0.28803 -0.2463 C -0.28976 -0.24329 -0.29202 -0.24097 -0.2941 -0.2382 C -0.29671 -0.22662 -0.29341 -0.23704 -0.30157 -0.22616 C -0.3033 -0.22384 -0.30452 -0.2206 -0.30608 -0.21806 C -0.30695 -0.21667 -0.30816 -0.21551 -0.30921 -0.21412 C -0.31164 -0.20509 -0.31789 -0.2007 -0.32275 -0.19375 C -0.32587 -0.18195 -0.33091 -0.17477 -0.33803 -0.16759 C -0.34445 -0.15324 -0.35 -0.1456 -0.35921 -0.13333 C -0.36233 -0.1294 -0.36355 -0.12338 -0.36667 -0.11921 C -0.37535 -0.10764 -0.39237 -0.09537 -0.40313 -0.08472 C -0.41007 -0.07778 -0.41441 -0.06782 -0.42136 -0.06042 C -0.42292 -0.05718 -0.42379 -0.05324 -0.42587 -0.05046 C -0.43785 -0.03449 -0.43004 -0.05764 -0.44254 -0.03218 C -0.44566 -0.0257 -0.45018 -0.02083 -0.45313 -0.01412 C -0.45712 -0.00463 -0.46059 0.00509 -0.46528 0.01412 C -0.4658 0.0169 -0.4658 0.01968 -0.46667 0.02222 C -0.46737 0.02454 -0.4691 0.02616 -0.4698 0.02847 C -0.4757 0.04884 -0.46719 0.02986 -0.47431 0.04444 C -0.47726 0.05949 -0.48108 0.07523 -0.48646 0.08889 C -0.48785 0.10046 -0.48907 0.11157 -0.4941 0.1213 C -0.49584 0.1287 -0.4948 0.12546 -0.49705 0.13148 E">
                                      <p:cBhvr>
                                        <p:cTn id="83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+3  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Группа 9"/>
          <p:cNvGrpSpPr/>
          <p:nvPr/>
        </p:nvGrpSpPr>
        <p:grpSpPr>
          <a:xfrm>
            <a:off x="4643280" y="2349360"/>
            <a:ext cx="1563840" cy="1633680"/>
            <a:chOff x="4643280" y="2349360"/>
            <a:chExt cx="1563840" cy="1633680"/>
          </a:xfrm>
        </p:grpSpPr>
        <p:sp>
          <p:nvSpPr>
            <p:cNvPr id="93" name="4-конечная звезда 3"/>
            <p:cNvSpPr/>
            <p:nvPr/>
          </p:nvSpPr>
          <p:spPr>
            <a:xfrm>
              <a:off x="4643280" y="2349360"/>
              <a:ext cx="1563840" cy="1633680"/>
            </a:xfrm>
            <a:custGeom>
              <a:avLst/>
              <a:gdLst>
                <a:gd name="textAreaLeft" fmla="*/ 644400 w 1563840"/>
                <a:gd name="textAreaRight" fmla="*/ 919440 w 1563840"/>
                <a:gd name="textAreaTop" fmla="*/ 673200 h 1633680"/>
                <a:gd name="textAreaBottom" fmla="*/ 960480 h 16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Прямоугольник 6"/>
            <p:cNvSpPr/>
            <p:nvPr/>
          </p:nvSpPr>
          <p:spPr>
            <a:xfrm>
              <a:off x="5079960" y="256500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Группа 10"/>
          <p:cNvGrpSpPr/>
          <p:nvPr/>
        </p:nvGrpSpPr>
        <p:grpSpPr>
          <a:xfrm>
            <a:off x="5651640" y="620640"/>
            <a:ext cx="1922400" cy="1800360"/>
            <a:chOff x="5651640" y="620640"/>
            <a:chExt cx="1922400" cy="1800360"/>
          </a:xfrm>
        </p:grpSpPr>
        <p:sp>
          <p:nvSpPr>
            <p:cNvPr id="96" name="4-конечная звезда 5"/>
            <p:cNvSpPr/>
            <p:nvPr/>
          </p:nvSpPr>
          <p:spPr>
            <a:xfrm>
              <a:off x="5651640" y="620640"/>
              <a:ext cx="1922400" cy="1800360"/>
            </a:xfrm>
            <a:custGeom>
              <a:avLst/>
              <a:gdLst>
                <a:gd name="textAreaLeft" fmla="*/ 792000 w 1922400"/>
                <a:gd name="textAreaRight" fmla="*/ 1130400 w 1922400"/>
                <a:gd name="textAreaTop" fmla="*/ 741960 h 1800360"/>
                <a:gd name="textAreaBottom" fmla="*/ 1058400 h 18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Прямоугольник 7"/>
            <p:cNvSpPr/>
            <p:nvPr/>
          </p:nvSpPr>
          <p:spPr>
            <a:xfrm>
              <a:off x="6303600" y="98064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Группа 11"/>
          <p:cNvGrpSpPr/>
          <p:nvPr/>
        </p:nvGrpSpPr>
        <p:grpSpPr>
          <a:xfrm>
            <a:off x="7451640" y="2133720"/>
            <a:ext cx="1274760" cy="1633320"/>
            <a:chOff x="7451640" y="2133720"/>
            <a:chExt cx="1274760" cy="1633320"/>
          </a:xfrm>
        </p:grpSpPr>
        <p:sp>
          <p:nvSpPr>
            <p:cNvPr id="99" name="4-конечная звезда 4"/>
            <p:cNvSpPr/>
            <p:nvPr/>
          </p:nvSpPr>
          <p:spPr>
            <a:xfrm>
              <a:off x="7451640" y="2133720"/>
              <a:ext cx="1274760" cy="1633320"/>
            </a:xfrm>
            <a:custGeom>
              <a:avLst/>
              <a:gdLst>
                <a:gd name="textAreaLeft" fmla="*/ 525240 w 1274760"/>
                <a:gd name="textAreaRight" fmla="*/ 749520 w 1274760"/>
                <a:gd name="textAreaTop" fmla="*/ 672840 h 1633320"/>
                <a:gd name="textAreaBottom" fmla="*/ 960480 h 16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Прямоугольник 8"/>
            <p:cNvSpPr/>
            <p:nvPr/>
          </p:nvSpPr>
          <p:spPr>
            <a:xfrm>
              <a:off x="7602120" y="2349360"/>
              <a:ext cx="1095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101080" y="6292800"/>
            <a:ext cx="1042920" cy="565200"/>
          </a:xfrm>
          <a:custGeom>
            <a:avLst/>
            <a:gdLst>
              <a:gd name="textAreaLeft" fmla="*/ 36360 w 1042920"/>
              <a:gd name="textAreaRight" fmla="*/ 1006560 w 1042920"/>
              <a:gd name="textAreaTop" fmla="*/ 36360 h 565200"/>
              <a:gd name="textAreaBottom" fmla="*/ 528840 h 565200"/>
            </a:gdLst>
            <a:ahLst/>
            <a:rect l="textAreaLeft" t="textAreaTop" r="textAreaRight" b="textAreaBottom"/>
            <a:pathLst>
              <a:path w="39845" h="21600">
                <a:moveTo>
                  <a:pt x="0" y="0"/>
                </a:moveTo>
                <a:lnTo>
                  <a:pt x="39845" y="0"/>
                </a:lnTo>
                <a:lnTo>
                  <a:pt x="39845" y="21600"/>
                </a:lnTo>
                <a:lnTo>
                  <a:pt x="0" y="21600"/>
                </a:lnTo>
                <a:close/>
              </a:path>
              <a:path fill="lightenLess" w="39845" h="21600">
                <a:moveTo>
                  <a:pt x="0" y="0"/>
                </a:moveTo>
                <a:lnTo>
                  <a:pt x="39845" y="0"/>
                </a:lnTo>
                <a:lnTo>
                  <a:pt x="38445" y="1400"/>
                </a:lnTo>
                <a:lnTo>
                  <a:pt x="1400" y="1400"/>
                </a:lnTo>
                <a:close/>
              </a:path>
              <a:path fill="darken" w="39845" h="21600">
                <a:moveTo>
                  <a:pt x="39845" y="0"/>
                </a:moveTo>
                <a:lnTo>
                  <a:pt x="39845" y="21600"/>
                </a:lnTo>
                <a:lnTo>
                  <a:pt x="38445" y="20200"/>
                </a:lnTo>
                <a:lnTo>
                  <a:pt x="38445" y="1400"/>
                </a:lnTo>
                <a:close/>
              </a:path>
              <a:path fill="darkenLess" w="39845" h="21600">
                <a:moveTo>
                  <a:pt x="39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45" y="20200"/>
                </a:lnTo>
                <a:close/>
              </a:path>
              <a:path fill="lighten" w="39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45" h="21600">
                <a:moveTo>
                  <a:pt x="12916" y="3794"/>
                </a:moveTo>
                <a:lnTo>
                  <a:pt x="26929" y="10800"/>
                </a:lnTo>
                <a:lnTo>
                  <a:pt x="1291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896 0.0206 C 0.04844 0.00718 0.04879 -0.00625 0.04757 -0.01968 C 0.04722 -0.02407 0.04618 -0.02824 0.04444 -0.03195 C 0.04184 -0.03727 0.03681 -0.04792 0.03681 -0.04769 C 0.03264 -0.07801 0.0125 -0.1044 -0.01007 -0.11065 C -0.02066 -0.11736 -0.03212 -0.1169 -0.0434 -0.12083 C -0.06302 -0.12014 -0.08281 -0.12014 -0.10243 -0.11875 C -0.11024 -0.11829 -0.12049 -0.11389 -0.1283 -0.11273 C -0.13594 -0.11019 -0.1434 -0.10695 -0.15104 -0.10463 C -0.15208 -0.10324 -0.15278 -0.10139 -0.15399 -0.10046 C -0.15694 -0.09861 -0.16319 -0.09653 -0.16319 -0.0963 C -0.16944 -0.08773 -0.17639 -0.08148 -0.18437 -0.07639 C -0.19028 -0.06574 -0.19549 -0.05532 -0.20243 -0.04607 C -0.20538 -0.03403 -0.20174 -0.04468 -0.20851 -0.03588 C -0.21545 -0.02685 -0.20851 -0.0331 -0.21319 -0.02384 C -0.21632 -0.01759 -0.2224 -0.01366 -0.22674 -0.00972 C -0.23073 0.00301 -0.23542 0.01597 -0.24184 0.02685 C -0.24358 0.02986 -0.24618 0.03171 -0.24792 0.03472 C -0.25608 0.04884 -0.26319 0.06319 -0.2691 0.07917 C -0.27014 0.08171 -0.2724 0.0831 -0.27378 0.08542 C -0.27917 0.09375 -0.28368 0.10301 -0.28889 0.11157 C -0.29288 0.11782 -0.29271 0.1243 -0.29496 0.13171 C -0.29566 0.13403 -0.29722 0.13542 -0.29792 0.13773 C -0.29913 0.1419 -0.3 0.14583 -0.30104 0.15 C -0.3026 0.15648 -0.30851 0.16805 -0.30851 0.16805 C -0.31007 0.18218 -0.31215 0.19653 -0.31458 0.21065 C -0.31753 0.25903 -0.31319 0.30764 -0.31319 0.35602 E">
                                      <p:cBhvr>
                                        <p:cTn id="95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3  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Группа 9"/>
          <p:cNvGrpSpPr/>
          <p:nvPr/>
        </p:nvGrpSpPr>
        <p:grpSpPr>
          <a:xfrm>
            <a:off x="4643280" y="2349360"/>
            <a:ext cx="1563840" cy="1633680"/>
            <a:chOff x="4643280" y="2349360"/>
            <a:chExt cx="1563840" cy="1633680"/>
          </a:xfrm>
        </p:grpSpPr>
        <p:sp>
          <p:nvSpPr>
            <p:cNvPr id="104" name="4-конечная звезда 3"/>
            <p:cNvSpPr/>
            <p:nvPr/>
          </p:nvSpPr>
          <p:spPr>
            <a:xfrm>
              <a:off x="4643280" y="2349360"/>
              <a:ext cx="1563840" cy="1633680"/>
            </a:xfrm>
            <a:custGeom>
              <a:avLst/>
              <a:gdLst>
                <a:gd name="textAreaLeft" fmla="*/ 644400 w 1563840"/>
                <a:gd name="textAreaRight" fmla="*/ 919440 w 1563840"/>
                <a:gd name="textAreaTop" fmla="*/ 673200 h 1633680"/>
                <a:gd name="textAreaBottom" fmla="*/ 960480 h 16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Прямоугольник 6"/>
            <p:cNvSpPr/>
            <p:nvPr/>
          </p:nvSpPr>
          <p:spPr>
            <a:xfrm>
              <a:off x="5079960" y="256500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Группа 10"/>
          <p:cNvGrpSpPr/>
          <p:nvPr/>
        </p:nvGrpSpPr>
        <p:grpSpPr>
          <a:xfrm>
            <a:off x="5651640" y="620640"/>
            <a:ext cx="1922400" cy="1800360"/>
            <a:chOff x="5651640" y="620640"/>
            <a:chExt cx="1922400" cy="1800360"/>
          </a:xfrm>
        </p:grpSpPr>
        <p:sp>
          <p:nvSpPr>
            <p:cNvPr id="107" name="4-конечная звезда 5"/>
            <p:cNvSpPr/>
            <p:nvPr/>
          </p:nvSpPr>
          <p:spPr>
            <a:xfrm>
              <a:off x="5651640" y="620640"/>
              <a:ext cx="1922400" cy="1800360"/>
            </a:xfrm>
            <a:custGeom>
              <a:avLst/>
              <a:gdLst>
                <a:gd name="textAreaLeft" fmla="*/ 792000 w 1922400"/>
                <a:gd name="textAreaRight" fmla="*/ 1130400 w 1922400"/>
                <a:gd name="textAreaTop" fmla="*/ 741960 h 1800360"/>
                <a:gd name="textAreaBottom" fmla="*/ 1058400 h 18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Прямоугольник 7"/>
            <p:cNvSpPr/>
            <p:nvPr/>
          </p:nvSpPr>
          <p:spPr>
            <a:xfrm>
              <a:off x="6303600" y="98064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Группа 11"/>
          <p:cNvGrpSpPr/>
          <p:nvPr/>
        </p:nvGrpSpPr>
        <p:grpSpPr>
          <a:xfrm>
            <a:off x="7451640" y="2133720"/>
            <a:ext cx="1274760" cy="1633320"/>
            <a:chOff x="7451640" y="2133720"/>
            <a:chExt cx="1274760" cy="1633320"/>
          </a:xfrm>
        </p:grpSpPr>
        <p:sp>
          <p:nvSpPr>
            <p:cNvPr id="110" name="4-конечная звезда 4"/>
            <p:cNvSpPr/>
            <p:nvPr/>
          </p:nvSpPr>
          <p:spPr>
            <a:xfrm>
              <a:off x="7451640" y="2133720"/>
              <a:ext cx="1274760" cy="1633320"/>
            </a:xfrm>
            <a:custGeom>
              <a:avLst/>
              <a:gdLst>
                <a:gd name="textAreaLeft" fmla="*/ 525240 w 1274760"/>
                <a:gd name="textAreaRight" fmla="*/ 749520 w 1274760"/>
                <a:gd name="textAreaTop" fmla="*/ 672840 h 1633320"/>
                <a:gd name="textAreaBottom" fmla="*/ 960480 h 16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Прямоугольник 8"/>
            <p:cNvSpPr/>
            <p:nvPr/>
          </p:nvSpPr>
          <p:spPr>
            <a:xfrm>
              <a:off x="7743960" y="234936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101080" y="6292800"/>
            <a:ext cx="1042920" cy="565200"/>
          </a:xfrm>
          <a:custGeom>
            <a:avLst/>
            <a:gdLst>
              <a:gd name="textAreaLeft" fmla="*/ 36360 w 1042920"/>
              <a:gd name="textAreaRight" fmla="*/ 1006560 w 1042920"/>
              <a:gd name="textAreaTop" fmla="*/ 36360 h 565200"/>
              <a:gd name="textAreaBottom" fmla="*/ 528840 h 565200"/>
            </a:gdLst>
            <a:ahLst/>
            <a:rect l="textAreaLeft" t="textAreaTop" r="textAreaRight" b="textAreaBottom"/>
            <a:pathLst>
              <a:path w="39845" h="21600">
                <a:moveTo>
                  <a:pt x="0" y="0"/>
                </a:moveTo>
                <a:lnTo>
                  <a:pt x="39845" y="0"/>
                </a:lnTo>
                <a:lnTo>
                  <a:pt x="39845" y="21600"/>
                </a:lnTo>
                <a:lnTo>
                  <a:pt x="0" y="21600"/>
                </a:lnTo>
                <a:close/>
              </a:path>
              <a:path fill="lightenLess" w="39845" h="21600">
                <a:moveTo>
                  <a:pt x="0" y="0"/>
                </a:moveTo>
                <a:lnTo>
                  <a:pt x="39845" y="0"/>
                </a:lnTo>
                <a:lnTo>
                  <a:pt x="38445" y="1400"/>
                </a:lnTo>
                <a:lnTo>
                  <a:pt x="1400" y="1400"/>
                </a:lnTo>
                <a:close/>
              </a:path>
              <a:path fill="darken" w="39845" h="21600">
                <a:moveTo>
                  <a:pt x="39845" y="0"/>
                </a:moveTo>
                <a:lnTo>
                  <a:pt x="39845" y="21600"/>
                </a:lnTo>
                <a:lnTo>
                  <a:pt x="38445" y="20200"/>
                </a:lnTo>
                <a:lnTo>
                  <a:pt x="38445" y="1400"/>
                </a:lnTo>
                <a:close/>
              </a:path>
              <a:path fill="darkenLess" w="39845" h="21600">
                <a:moveTo>
                  <a:pt x="39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45" y="20200"/>
                </a:lnTo>
                <a:close/>
              </a:path>
              <a:path fill="lighten" w="39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45" h="21600">
                <a:moveTo>
                  <a:pt x="12916" y="3794"/>
                </a:moveTo>
                <a:lnTo>
                  <a:pt x="26929" y="10800"/>
                </a:lnTo>
                <a:lnTo>
                  <a:pt x="1291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33 0.01042 C 0.07378 -0.00509 0.0691 -0.02824 0.06545 -0.04814 C 0.06285 -0.06203 0.05538 -0.07476 0.05174 -0.08865 C 0.04201 -0.12638 0.03038 -0.1625 0.01684 -0.19768 C 0.01632 -0.20115 0.01649 -0.20463 0.01545 -0.20787 C 0.01371 -0.21319 0.00972 -0.21689 0.00781 -0.22199 C 0.0066 -0.22523 0.00642 -0.22893 0.00486 -0.23194 C 0.00382 -0.23402 0.00174 -0.23472 0.00017 -0.23611 C -0.00226 -0.24282 -0.01111 -0.26064 -0.01649 -0.26435 C -0.02292 -0.26875 -0.03073 -0.27013 -0.03767 -0.27245 C -0.05122 -0.27152 -0.06632 -0.27662 -0.07847 -0.26851 C -0.07986 -0.26759 -0.08038 -0.26527 -0.0816 -0.26435 C -0.08611 -0.26064 -0.09201 -0.25926 -0.0967 -0.25625 C -0.10504 -0.25069 -0.11493 -0.23819 -0.12257 -0.23009 C -0.13108 -0.22106 -0.1375 -0.20601 -0.14514 -0.1956 C -0.15104 -0.17291 -0.1559 -0.14953 -0.16493 -0.12893 C -0.16736 -0.11365 -0.1724 -0.09791 -0.17847 -0.08449 C -0.18056 -0.07384 -0.18229 -0.06273 -0.18455 -0.05231 C -0.18542 -0.04814 -0.18767 -0.04004 -0.18767 -0.03981 C -0.18854 -0.02129 -0.18889 -0.00694 -0.19219 0.01042 C -0.19271 0.01829 -0.19375 0.02662 -0.19375 0.03473 C -0.19375 0.10741 -0.19566 0.06135 -0.19063 0.08519 C -0.18976 0.08959 -0.1875 0.10926 -0.18455 0.10926 E">
                                      <p:cBhvr>
                                        <p:cTn id="107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+4  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Группа 9"/>
          <p:cNvGrpSpPr/>
          <p:nvPr/>
        </p:nvGrpSpPr>
        <p:grpSpPr>
          <a:xfrm>
            <a:off x="4643280" y="2349360"/>
            <a:ext cx="1563840" cy="1633680"/>
            <a:chOff x="4643280" y="2349360"/>
            <a:chExt cx="1563840" cy="1633680"/>
          </a:xfrm>
        </p:grpSpPr>
        <p:sp>
          <p:nvSpPr>
            <p:cNvPr id="115" name="4-конечная звезда 3"/>
            <p:cNvSpPr/>
            <p:nvPr/>
          </p:nvSpPr>
          <p:spPr>
            <a:xfrm>
              <a:off x="4643280" y="2349360"/>
              <a:ext cx="1563840" cy="1633680"/>
            </a:xfrm>
            <a:custGeom>
              <a:avLst/>
              <a:gdLst>
                <a:gd name="textAreaLeft" fmla="*/ 644400 w 1563840"/>
                <a:gd name="textAreaRight" fmla="*/ 919440 w 1563840"/>
                <a:gd name="textAreaTop" fmla="*/ 673200 h 1633680"/>
                <a:gd name="textAreaBottom" fmla="*/ 960480 h 16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Прямоугольник 6"/>
            <p:cNvSpPr/>
            <p:nvPr/>
          </p:nvSpPr>
          <p:spPr>
            <a:xfrm>
              <a:off x="5079960" y="256500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Группа 10"/>
          <p:cNvGrpSpPr/>
          <p:nvPr/>
        </p:nvGrpSpPr>
        <p:grpSpPr>
          <a:xfrm>
            <a:off x="5651640" y="620640"/>
            <a:ext cx="1922400" cy="1800360"/>
            <a:chOff x="5651640" y="620640"/>
            <a:chExt cx="1922400" cy="1800360"/>
          </a:xfrm>
        </p:grpSpPr>
        <p:sp>
          <p:nvSpPr>
            <p:cNvPr id="118" name="4-конечная звезда 5"/>
            <p:cNvSpPr/>
            <p:nvPr/>
          </p:nvSpPr>
          <p:spPr>
            <a:xfrm>
              <a:off x="5651640" y="620640"/>
              <a:ext cx="1922400" cy="1800360"/>
            </a:xfrm>
            <a:custGeom>
              <a:avLst/>
              <a:gdLst>
                <a:gd name="textAreaLeft" fmla="*/ 792000 w 1922400"/>
                <a:gd name="textAreaRight" fmla="*/ 1130400 w 1922400"/>
                <a:gd name="textAreaTop" fmla="*/ 741960 h 1800360"/>
                <a:gd name="textAreaBottom" fmla="*/ 1058400 h 18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Прямоугольник 7"/>
            <p:cNvSpPr/>
            <p:nvPr/>
          </p:nvSpPr>
          <p:spPr>
            <a:xfrm>
              <a:off x="6303600" y="98064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Группа 11"/>
          <p:cNvGrpSpPr/>
          <p:nvPr/>
        </p:nvGrpSpPr>
        <p:grpSpPr>
          <a:xfrm>
            <a:off x="7451640" y="2133720"/>
            <a:ext cx="1274760" cy="1633320"/>
            <a:chOff x="7451640" y="2133720"/>
            <a:chExt cx="1274760" cy="1633320"/>
          </a:xfrm>
        </p:grpSpPr>
        <p:sp>
          <p:nvSpPr>
            <p:cNvPr id="121" name="4-конечная звезда 4"/>
            <p:cNvSpPr/>
            <p:nvPr/>
          </p:nvSpPr>
          <p:spPr>
            <a:xfrm>
              <a:off x="7451640" y="2133720"/>
              <a:ext cx="1274760" cy="1633320"/>
            </a:xfrm>
            <a:custGeom>
              <a:avLst/>
              <a:gdLst>
                <a:gd name="textAreaLeft" fmla="*/ 525240 w 1274760"/>
                <a:gd name="textAreaRight" fmla="*/ 749520 w 1274760"/>
                <a:gd name="textAreaTop" fmla="*/ 672840 h 1633320"/>
                <a:gd name="textAreaBottom" fmla="*/ 960480 h 16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Прямоугольник 8"/>
            <p:cNvSpPr/>
            <p:nvPr/>
          </p:nvSpPr>
          <p:spPr>
            <a:xfrm>
              <a:off x="7602120" y="2349360"/>
              <a:ext cx="1095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101080" y="6292800"/>
            <a:ext cx="1042920" cy="565200"/>
          </a:xfrm>
          <a:custGeom>
            <a:avLst/>
            <a:gdLst>
              <a:gd name="textAreaLeft" fmla="*/ 36360 w 1042920"/>
              <a:gd name="textAreaRight" fmla="*/ 1006560 w 1042920"/>
              <a:gd name="textAreaTop" fmla="*/ 36360 h 565200"/>
              <a:gd name="textAreaBottom" fmla="*/ 528840 h 565200"/>
            </a:gdLst>
            <a:ahLst/>
            <a:rect l="textAreaLeft" t="textAreaTop" r="textAreaRight" b="textAreaBottom"/>
            <a:pathLst>
              <a:path w="39845" h="21600">
                <a:moveTo>
                  <a:pt x="0" y="0"/>
                </a:moveTo>
                <a:lnTo>
                  <a:pt x="39845" y="0"/>
                </a:lnTo>
                <a:lnTo>
                  <a:pt x="39845" y="21600"/>
                </a:lnTo>
                <a:lnTo>
                  <a:pt x="0" y="21600"/>
                </a:lnTo>
                <a:close/>
              </a:path>
              <a:path fill="lightenLess" w="39845" h="21600">
                <a:moveTo>
                  <a:pt x="0" y="0"/>
                </a:moveTo>
                <a:lnTo>
                  <a:pt x="39845" y="0"/>
                </a:lnTo>
                <a:lnTo>
                  <a:pt x="38445" y="1400"/>
                </a:lnTo>
                <a:lnTo>
                  <a:pt x="1400" y="1400"/>
                </a:lnTo>
                <a:close/>
              </a:path>
              <a:path fill="darken" w="39845" h="21600">
                <a:moveTo>
                  <a:pt x="39845" y="0"/>
                </a:moveTo>
                <a:lnTo>
                  <a:pt x="39845" y="21600"/>
                </a:lnTo>
                <a:lnTo>
                  <a:pt x="38445" y="20200"/>
                </a:lnTo>
                <a:lnTo>
                  <a:pt x="38445" y="1400"/>
                </a:lnTo>
                <a:close/>
              </a:path>
              <a:path fill="darkenLess" w="39845" h="21600">
                <a:moveTo>
                  <a:pt x="39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45" y="20200"/>
                </a:lnTo>
                <a:close/>
              </a:path>
              <a:path fill="lighten" w="39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45" h="21600">
                <a:moveTo>
                  <a:pt x="12916" y="3794"/>
                </a:moveTo>
                <a:lnTo>
                  <a:pt x="26929" y="10800"/>
                </a:lnTo>
                <a:lnTo>
                  <a:pt x="1291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896 0.0206 C 0.04844 0.00718 0.04879 -0.00625 0.04757 -0.01968 C 0.04722 -0.02407 0.04618 -0.02824 0.04444 -0.03195 C 0.04184 -0.03727 0.03681 -0.04792 0.03681 -0.04769 C 0.03264 -0.07801 0.0125 -0.1044 -0.01007 -0.11065 C -0.02066 -0.11736 -0.03212 -0.1169 -0.0434 -0.12083 C -0.06302 -0.12014 -0.08281 -0.12014 -0.10243 -0.11875 C -0.11024 -0.11829 -0.12049 -0.11389 -0.1283 -0.11273 C -0.13594 -0.11019 -0.1434 -0.10695 -0.15104 -0.10463 C -0.15208 -0.10324 -0.15278 -0.10139 -0.15399 -0.10046 C -0.15694 -0.09861 -0.16319 -0.09653 -0.16319 -0.0963 C -0.16944 -0.08773 -0.17639 -0.08148 -0.18437 -0.07639 C -0.19028 -0.06574 -0.19549 -0.05532 -0.20243 -0.04607 C -0.20538 -0.03403 -0.20174 -0.04468 -0.20851 -0.03588 C -0.21545 -0.02685 -0.20851 -0.0331 -0.21319 -0.02384 C -0.21632 -0.01759 -0.2224 -0.01366 -0.22674 -0.00972 C -0.23073 0.00301 -0.23542 0.01597 -0.24184 0.02685 C -0.24358 0.02986 -0.24618 0.03171 -0.24792 0.03472 C -0.25608 0.04884 -0.26319 0.06319 -0.2691 0.07917 C -0.27014 0.08171 -0.2724 0.0831 -0.27378 0.08542 C -0.27917 0.09375 -0.28368 0.10301 -0.28889 0.11157 C -0.29288 0.11782 -0.29271 0.1243 -0.29496 0.13171 C -0.29566 0.13403 -0.29722 0.13542 -0.29792 0.13773 C -0.29913 0.1419 -0.3 0.14583 -0.30104 0.15 C -0.3026 0.15648 -0.30851 0.16805 -0.30851 0.16805 C -0.31007 0.18218 -0.31215 0.19653 -0.31458 0.21065 C -0.31753 0.25903 -0.31319 0.30764 -0.31319 0.35602 E">
                                      <p:cBhvr>
                                        <p:cTn id="131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3  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Группа 9"/>
          <p:cNvGrpSpPr/>
          <p:nvPr/>
        </p:nvGrpSpPr>
        <p:grpSpPr>
          <a:xfrm>
            <a:off x="4643280" y="2349360"/>
            <a:ext cx="1563840" cy="1633680"/>
            <a:chOff x="4643280" y="2349360"/>
            <a:chExt cx="1563840" cy="1633680"/>
          </a:xfrm>
        </p:grpSpPr>
        <p:sp>
          <p:nvSpPr>
            <p:cNvPr id="126" name="4-конечная звезда 3"/>
            <p:cNvSpPr/>
            <p:nvPr/>
          </p:nvSpPr>
          <p:spPr>
            <a:xfrm>
              <a:off x="4643280" y="2349360"/>
              <a:ext cx="1563840" cy="1633680"/>
            </a:xfrm>
            <a:custGeom>
              <a:avLst/>
              <a:gdLst>
                <a:gd name="textAreaLeft" fmla="*/ 644400 w 1563840"/>
                <a:gd name="textAreaRight" fmla="*/ 919440 w 1563840"/>
                <a:gd name="textAreaTop" fmla="*/ 673200 h 1633680"/>
                <a:gd name="textAreaBottom" fmla="*/ 960480 h 16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Прямоугольник 6"/>
            <p:cNvSpPr/>
            <p:nvPr/>
          </p:nvSpPr>
          <p:spPr>
            <a:xfrm>
              <a:off x="5079960" y="256500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Группа 10"/>
          <p:cNvGrpSpPr/>
          <p:nvPr/>
        </p:nvGrpSpPr>
        <p:grpSpPr>
          <a:xfrm>
            <a:off x="5651640" y="620640"/>
            <a:ext cx="1922400" cy="1800360"/>
            <a:chOff x="5651640" y="620640"/>
            <a:chExt cx="1922400" cy="1800360"/>
          </a:xfrm>
        </p:grpSpPr>
        <p:sp>
          <p:nvSpPr>
            <p:cNvPr id="129" name="4-конечная звезда 5"/>
            <p:cNvSpPr/>
            <p:nvPr/>
          </p:nvSpPr>
          <p:spPr>
            <a:xfrm>
              <a:off x="5651640" y="620640"/>
              <a:ext cx="1922400" cy="1800360"/>
            </a:xfrm>
            <a:custGeom>
              <a:avLst/>
              <a:gdLst>
                <a:gd name="textAreaLeft" fmla="*/ 792000 w 1922400"/>
                <a:gd name="textAreaRight" fmla="*/ 1130400 w 1922400"/>
                <a:gd name="textAreaTop" fmla="*/ 741960 h 1800360"/>
                <a:gd name="textAreaBottom" fmla="*/ 1058400 h 18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Прямоугольник 7"/>
            <p:cNvSpPr/>
            <p:nvPr/>
          </p:nvSpPr>
          <p:spPr>
            <a:xfrm>
              <a:off x="6303600" y="98064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Группа 11"/>
          <p:cNvGrpSpPr/>
          <p:nvPr/>
        </p:nvGrpSpPr>
        <p:grpSpPr>
          <a:xfrm>
            <a:off x="7451640" y="2133720"/>
            <a:ext cx="1274760" cy="1633320"/>
            <a:chOff x="7451640" y="2133720"/>
            <a:chExt cx="1274760" cy="1633320"/>
          </a:xfrm>
        </p:grpSpPr>
        <p:sp>
          <p:nvSpPr>
            <p:cNvPr id="132" name="4-конечная звезда 4"/>
            <p:cNvSpPr/>
            <p:nvPr/>
          </p:nvSpPr>
          <p:spPr>
            <a:xfrm>
              <a:off x="7451640" y="2133720"/>
              <a:ext cx="1274760" cy="1633320"/>
            </a:xfrm>
            <a:custGeom>
              <a:avLst/>
              <a:gdLst>
                <a:gd name="textAreaLeft" fmla="*/ 525240 w 1274760"/>
                <a:gd name="textAreaRight" fmla="*/ 749520 w 1274760"/>
                <a:gd name="textAreaTop" fmla="*/ 672840 h 1633320"/>
                <a:gd name="textAreaBottom" fmla="*/ 960480 h 16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Прямоугольник 8"/>
            <p:cNvSpPr/>
            <p:nvPr/>
          </p:nvSpPr>
          <p:spPr>
            <a:xfrm>
              <a:off x="7743960" y="234936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101080" y="6292800"/>
            <a:ext cx="1042920" cy="565200"/>
          </a:xfrm>
          <a:custGeom>
            <a:avLst/>
            <a:gdLst>
              <a:gd name="textAreaLeft" fmla="*/ 36360 w 1042920"/>
              <a:gd name="textAreaRight" fmla="*/ 1006560 w 1042920"/>
              <a:gd name="textAreaTop" fmla="*/ 36360 h 565200"/>
              <a:gd name="textAreaBottom" fmla="*/ 528840 h 565200"/>
            </a:gdLst>
            <a:ahLst/>
            <a:rect l="textAreaLeft" t="textAreaTop" r="textAreaRight" b="textAreaBottom"/>
            <a:pathLst>
              <a:path w="39845" h="21600">
                <a:moveTo>
                  <a:pt x="0" y="0"/>
                </a:moveTo>
                <a:lnTo>
                  <a:pt x="39845" y="0"/>
                </a:lnTo>
                <a:lnTo>
                  <a:pt x="39845" y="21600"/>
                </a:lnTo>
                <a:lnTo>
                  <a:pt x="0" y="21600"/>
                </a:lnTo>
                <a:close/>
              </a:path>
              <a:path fill="lightenLess" w="39845" h="21600">
                <a:moveTo>
                  <a:pt x="0" y="0"/>
                </a:moveTo>
                <a:lnTo>
                  <a:pt x="39845" y="0"/>
                </a:lnTo>
                <a:lnTo>
                  <a:pt x="38445" y="1400"/>
                </a:lnTo>
                <a:lnTo>
                  <a:pt x="1400" y="1400"/>
                </a:lnTo>
                <a:close/>
              </a:path>
              <a:path fill="darken" w="39845" h="21600">
                <a:moveTo>
                  <a:pt x="39845" y="0"/>
                </a:moveTo>
                <a:lnTo>
                  <a:pt x="39845" y="21600"/>
                </a:lnTo>
                <a:lnTo>
                  <a:pt x="38445" y="20200"/>
                </a:lnTo>
                <a:lnTo>
                  <a:pt x="38445" y="1400"/>
                </a:lnTo>
                <a:close/>
              </a:path>
              <a:path fill="darkenLess" w="39845" h="21600">
                <a:moveTo>
                  <a:pt x="39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45" y="20200"/>
                </a:lnTo>
                <a:close/>
              </a:path>
              <a:path fill="lighten" w="39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45" h="21600">
                <a:moveTo>
                  <a:pt x="12916" y="3794"/>
                </a:moveTo>
                <a:lnTo>
                  <a:pt x="26929" y="10800"/>
                </a:lnTo>
                <a:lnTo>
                  <a:pt x="1291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C 0.00052 -0.01482 0.00138 -0.02963 0.00138 -0.04445 C 0.00138 -0.07477 0.00138 -0.10509 3.33333E-006 -0.13519 C 3.33333E-006 -0.13542 -0.00382 -0.15023 -0.00469 -0.15347 C -0.01094 -0.17778 -0.01945 -0.19329 -0.03039 -0.21412 C -0.04046 -0.2331 -0.05 -0.2537 -0.06667 -0.2625 C -0.0816 -0.28171 -0.1066 -0.28264 -0.12587 -0.28681 C -0.13681 -0.28912 -0.14653 -0.29306 -0.15764 -0.29491 C -0.22813 -0.29329 -0.22292 -0.30556 -0.25921 -0.28681 C -0.26737 -0.27014 -0.2566 -0.28935 -0.26667 -0.2787 C -0.26806 -0.27708 -0.26841 -0.27431 -0.2698 -0.27269 C -0.27153 -0.27037 -0.27379 -0.26875 -0.27587 -0.26667 C -0.28525 -0.24653 -0.27032 -0.27685 -0.2849 -0.2544 C -0.28646 -0.25208 -0.28664 -0.24861 -0.28803 -0.2463 C -0.28976 -0.24329 -0.29202 -0.24097 -0.2941 -0.2382 C -0.29671 -0.22662 -0.29341 -0.23704 -0.30157 -0.22616 C -0.3033 -0.22384 -0.30452 -0.2206 -0.30608 -0.21806 C -0.30695 -0.21667 -0.30816 -0.21551 -0.30921 -0.21412 C -0.31164 -0.20509 -0.31789 -0.2007 -0.32275 -0.19375 C -0.32587 -0.18195 -0.33091 -0.17477 -0.33803 -0.16759 C -0.34445 -0.15324 -0.35 -0.1456 -0.35921 -0.13333 C -0.36233 -0.1294 -0.36355 -0.12338 -0.36667 -0.11921 C -0.37535 -0.10764 -0.39237 -0.09537 -0.40313 -0.08472 C -0.41007 -0.07778 -0.41441 -0.06782 -0.42136 -0.06042 C -0.42292 -0.05718 -0.42379 -0.05324 -0.42587 -0.05046 C -0.43785 -0.03449 -0.43004 -0.05764 -0.44254 -0.03218 C -0.44566 -0.0257 -0.45018 -0.02083 -0.45313 -0.01412 C -0.45712 -0.00463 -0.46059 0.00509 -0.46528 0.01412 C -0.4658 0.0169 -0.4658 0.01968 -0.46667 0.02222 C -0.46737 0.02454 -0.4691 0.02616 -0.4698 0.02847 C -0.4757 0.04884 -0.46719 0.02986 -0.47431 0.04444 C -0.47726 0.05949 -0.48108 0.07523 -0.48646 0.08889 C -0.48785 0.10046 -0.48907 0.11157 -0.4941 0.1213 C -0.49584 0.1287 -0.4948 0.12546 -0.49705 0.13148 E">
                                      <p:cBhvr>
                                        <p:cTn id="155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6T13:56:58Z</dcterms:created>
  <dc:creator>home</dc:creator>
  <dc:description/>
  <dc:language>en-US</dc:language>
  <cp:lastModifiedBy>home</cp:lastModifiedBy>
  <dcterms:modified xsi:type="dcterms:W3CDTF">2011-11-26T16:42:26Z</dcterms:modified>
  <cp:revision>12</cp:revision>
  <dc:subject/>
  <dc:title>Поймай снежинку</dc:title>
</cp:coreProperties>
</file>