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725-B16D-4191-8675-001F847E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E66-7F66-4183-8A00-72F4305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4C9-194C-4B3E-A9C3-7BD2AC9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397-F71E-4F64-AC65-2115AEED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D31-79DE-482D-9330-814988B8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9242-5888-4D24-8CA5-5575D36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8D2-5A07-4321-BD10-1B25422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2E17-A564-4F5B-8A02-C9F9EE8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4635-EEF4-43D2-9F30-771BC4D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1CDA-6843-468E-B023-DC443D48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C969-B548-44FA-A32E-1D3FF3D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F2D-EE10-4C0B-A4B7-FA7C6E7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838F-6214-488D-A28D-642845A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74E2-102E-43C6-A791-D1252F4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31A-6F05-4027-97F0-8C0F596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E0A8-FD50-4994-AE18-8E5D84AD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7CF5-5401-47F0-9D80-143D9C3B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97D49-1DC2-485E-9CC1-C273A38D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E5F76-42C6-43F9-BC58-44A38C5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B1276-6A31-4F4A-9488-017E5B9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48094-B64F-42BE-B12C-AE8A468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5058E-4F86-4626-BCED-A02FE357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92D-252F-4E02-92A1-9B5479F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3BF6C-818B-4FB9-BFBD-CCBAD9D1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07FA2-64DB-4922-AEAC-65475F0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D8A84-70A2-4C22-8B74-537FD49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85956-8473-4219-9929-7D5A9C29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6EC6A-DBC3-40B1-8DAF-8833758B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98428-0507-44D3-93E1-C6ABC0D7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B5610-F8E9-483B-B9C6-AA2704D8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0BF4-3F84-4C9F-B4B5-BFB2FAD1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129B-0DD4-44C5-A5D3-242CA3F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5459-3F2D-4FE5-9BCA-FA18B4B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D7E-5E0B-4E03-9FBD-2F824DF5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9E98-DBC0-44FC-A372-BDB399E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456E-814D-4A98-92A9-89B0A9F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39A0-CB74-4352-8DD7-CABB124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7866-3CD6-48F9-A3E7-8BBA592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B276-475C-404D-8975-47D7252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B534-8EC0-4F68-A2B0-8FFB195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58E2-624D-44C9-9FB2-8E3FE85D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D0F9-FF07-4FDC-B697-26206EEC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AC81-97F2-40E4-A98A-FD128022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4EB-0E96-4C85-BC39-79BD2502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B36-7448-4680-8DF3-BC76BBC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EEA-3206-4F03-9AF0-E745D99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8BA-659E-433D-8D0E-BC03072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2C5-FD09-4127-BDC2-512E20B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F71-102E-498F-9D7A-512B2F6479C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D11-05BA-4BFB-9D6B-C1892F89737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91B-99AD-43F2-B350-01938DA9731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DD3-6D0D-4922-A1A9-CC57BBF75BB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1292400" y="-208080"/>
            <a:ext cx="6535440" cy="197028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5" descr=""/>
          <p:cNvPicPr/>
          <p:nvPr/>
        </p:nvPicPr>
        <p:blipFill>
          <a:blip r:embed="rId2"/>
          <a:stretch/>
        </p:blipFill>
        <p:spPr>
          <a:xfrm>
            <a:off x="225360" y="1700280"/>
            <a:ext cx="89424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6" descr=""/>
          <p:cNvPicPr/>
          <p:nvPr/>
        </p:nvPicPr>
        <p:blipFill>
          <a:blip r:embed="rId3"/>
          <a:stretch/>
        </p:blipFill>
        <p:spPr>
          <a:xfrm>
            <a:off x="1743120" y="3852720"/>
            <a:ext cx="5413320" cy="2395800"/>
          </a:xfrm>
          <a:prstGeom prst="rect">
            <a:avLst/>
          </a:prstGeom>
          <a:ln w="0">
            <a:noFill/>
          </a:ln>
        </p:spPr>
      </p:pic>
      <p:sp>
        <p:nvSpPr>
          <p:cNvPr id="218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0" y="549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следние два десятилетия злоупотребление наркотическими средствами распространилось в широчайших масштабах, в настоящее время оно затрагивает все страны и угрожает всем слоям общества, включая даже 7-8-летних детей. В настоящее время в мире более 200 миллионов людей, страдающих наркоманией, - это целая армия инвалидов в физическом и моральном смысл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258920" y="4947480"/>
            <a:ext cx="64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Ты хотел быть похожим на очень кру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ы не думал, что это для жизни уг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А теперь в словаре твоём только три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Шприц, наркотик и доз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194436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в конец 6">
            <a:hlinkClick r:id="" action="ppaction://hlinkshowjump?jump=nextslide"/>
          </p:cNvPr>
          <p:cNvSpPr/>
          <p:nvPr/>
        </p:nvSpPr>
        <p:spPr>
          <a:xfrm>
            <a:off x="795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ятно 1 7"/>
          <p:cNvSpPr/>
          <p:nvPr/>
        </p:nvSpPr>
        <p:spPr>
          <a:xfrm>
            <a:off x="0" y="5943600"/>
            <a:ext cx="914400" cy="9144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ятно 1 8"/>
          <p:cNvSpPr/>
          <p:nvPr/>
        </p:nvSpPr>
        <p:spPr>
          <a:xfrm>
            <a:off x="7956720" y="3068640"/>
            <a:ext cx="914400" cy="9144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129240" y="273240"/>
            <a:ext cx="89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предложенных определений выберите то, котор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ашему мнению, наиболее точно отражает сущность явления нарком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Багетная рамка 3"/>
          <p:cNvSpPr/>
          <p:nvPr/>
        </p:nvSpPr>
        <p:spPr>
          <a:xfrm>
            <a:off x="0" y="4149720"/>
            <a:ext cx="5003640" cy="223200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болевание, возникающее в результате употребления наркотических средств (способны в малых дозах вызывать состояние эйфо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Багетная рамка 4"/>
          <p:cNvSpPr/>
          <p:nvPr/>
        </p:nvSpPr>
        <p:spPr>
          <a:xfrm>
            <a:off x="5364000" y="1268280"/>
            <a:ext cx="3600720" cy="187344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ид отклоняющегося поведен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агетная рамка 5"/>
          <p:cNvSpPr/>
          <p:nvPr/>
        </p:nvSpPr>
        <p:spPr>
          <a:xfrm>
            <a:off x="5364000" y="4221000"/>
            <a:ext cx="3780000" cy="226728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левание, обусловленное изменением процесса обмена веществ под влиянием наркотических пре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Багетная рамка 6"/>
          <p:cNvSpPr/>
          <p:nvPr/>
        </p:nvSpPr>
        <p:spPr>
          <a:xfrm>
            <a:off x="0" y="1268280"/>
            <a:ext cx="4500720" cy="198936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болезненное пристрастие к наркотикам, связанное с развитием психологической и физиологической зависимости к этим веществ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9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1871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11280" cy="15843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1" descr=""/>
          <p:cNvPicPr/>
          <p:nvPr/>
        </p:nvPicPr>
        <p:blipFill>
          <a:blip r:embed="rId3"/>
          <a:stretch/>
        </p:blipFill>
        <p:spPr>
          <a:xfrm>
            <a:off x="179280" y="4365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2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3313080" cy="172872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в конец 13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21758" y="10800"/>
                </a:moveTo>
                <a:lnTo>
                  <a:pt x="11253" y="17806"/>
                </a:lnTo>
                <a:lnTo>
                  <a:pt x="11253" y="3794"/>
                </a:lnTo>
                <a:close/>
              </a:path>
              <a:path fill="darken" w="36518" h="21600">
                <a:moveTo>
                  <a:pt x="23603" y="3794"/>
                </a:moveTo>
                <a:lnTo>
                  <a:pt x="23603" y="17806"/>
                </a:lnTo>
                <a:lnTo>
                  <a:pt x="25266" y="17806"/>
                </a:lnTo>
                <a:lnTo>
                  <a:pt x="2526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"/>
          <p:cNvSpPr/>
          <p:nvPr/>
        </p:nvSpPr>
        <p:spPr>
          <a:xfrm>
            <a:off x="2484360" y="189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фы и факты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ятно 1 3"/>
          <p:cNvSpPr/>
          <p:nvPr/>
        </p:nvSpPr>
        <p:spPr>
          <a:xfrm>
            <a:off x="250920" y="549360"/>
            <a:ext cx="3241440" cy="3024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 очередного употребления наркотика всегда можно отказ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ятно 1 4"/>
          <p:cNvSpPr/>
          <p:nvPr/>
        </p:nvSpPr>
        <p:spPr>
          <a:xfrm>
            <a:off x="6156360" y="620640"/>
            <a:ext cx="2987640" cy="2232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ятно 1 5"/>
          <p:cNvSpPr/>
          <p:nvPr/>
        </p:nvSpPr>
        <p:spPr>
          <a:xfrm>
            <a:off x="250920" y="4149720"/>
            <a:ext cx="2881080" cy="2448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ркотик веселит, поднимает на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но 1 6"/>
          <p:cNvSpPr/>
          <p:nvPr/>
        </p:nvSpPr>
        <p:spPr>
          <a:xfrm>
            <a:off x="6622920" y="3473280"/>
            <a:ext cx="2521080" cy="338472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ятно 1 7"/>
          <p:cNvSpPr/>
          <p:nvPr/>
        </p:nvSpPr>
        <p:spPr>
          <a:xfrm>
            <a:off x="3419640" y="3573360"/>
            <a:ext cx="3097080" cy="295128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780000" y="43333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авка-«легкий»     наркотик,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зывающий привык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020000" y="444132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команами станов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ько сла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безво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443640" y="1062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наркотики не вводить в вену, привыкания не 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3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250920" y="444420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Отказаться можно только один раз -первый. Даже однократное потребление наркотика приводит к завис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24000" y="859320"/>
            <a:ext cx="316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Напротив, тошнота, рвота, головокружение ,  в дальнейшем наркотики принимают, чтобы снять мучительное, болезненное ощущение (ломк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419640" y="422712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Все наркотики вызывают привыкание. Любой наркотик убивает, это только вопрос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804000" y="394344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Зависимость от наркотиков - это заболевание и, как и любое заболевание, оно не имеет отношения к силе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6264360" y="549360"/>
            <a:ext cx="28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: Любой способ потребления наркотиков приводит к зависимости. Существует закон дозы: с меньших доз человек переходит на большие, с менее сильных веществ - на более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Горизонтальный свиток 8"/>
          <p:cNvSpPr/>
          <p:nvPr/>
        </p:nvSpPr>
        <p:spPr>
          <a:xfrm>
            <a:off x="684360" y="1773360"/>
            <a:ext cx="2447640" cy="158436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Отрицательное влияние на процесс зачатия и берем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ризонтальный свиток 9"/>
          <p:cNvSpPr/>
          <p:nvPr/>
        </p:nvSpPr>
        <p:spPr>
          <a:xfrm>
            <a:off x="179280" y="3860640"/>
            <a:ext cx="2880000" cy="273708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ти наркоманов рождаются или мёртвыми, или с физическими уродствами, или с отставанием в умственном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оризонтальный свиток 10"/>
          <p:cNvSpPr/>
          <p:nvPr/>
        </p:nvSpPr>
        <p:spPr>
          <a:xfrm>
            <a:off x="3635280" y="3645000"/>
            <a:ext cx="2665440" cy="252072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 рожденных детей  уже есть зависимость от наркотиков, то есть, они уже являются наркома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Горизонтальный свиток 11"/>
          <p:cNvSpPr/>
          <p:nvPr/>
        </p:nvSpPr>
        <p:spPr>
          <a:xfrm>
            <a:off x="6659640" y="3716280"/>
            <a:ext cx="2233440" cy="244944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ркоман, по статистике, живет не более 10 лет со дня начала употребления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Горизонтальный свиток 12"/>
          <p:cNvSpPr/>
          <p:nvPr/>
        </p:nvSpPr>
        <p:spPr>
          <a:xfrm>
            <a:off x="6012000" y="1557360"/>
            <a:ext cx="2808000" cy="223200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13" descr=""/>
          <p:cNvPicPr/>
          <p:nvPr/>
        </p:nvPicPr>
        <p:blipFill>
          <a:blip r:embed="rId1"/>
          <a:stretch/>
        </p:blipFill>
        <p:spPr>
          <a:xfrm>
            <a:off x="1908000" y="646200"/>
            <a:ext cx="4834080" cy="884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4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159280" cy="163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6156360" y="192240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Последствием употребления наркотиков может стать заболевание СП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C:\Users\Пользователь\Documents\интерпрезентации\смайлы\1233748925_11376864872636.jpg"/>
          <p:cNvPicPr/>
          <p:nvPr/>
        </p:nvPicPr>
        <p:blipFill>
          <a:blip r:embed="rId3"/>
          <a:stretch/>
        </p:blipFill>
        <p:spPr>
          <a:xfrm>
            <a:off x="611280" y="1628640"/>
            <a:ext cx="2558880" cy="213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C:\Users\Пользователь\Documents\интерпрезентации\смайлы\1233748925_11376864872636.jpg"/>
          <p:cNvPicPr/>
          <p:nvPr/>
        </p:nvPicPr>
        <p:blipFill>
          <a:blip r:embed="rId4"/>
          <a:stretch/>
        </p:blipFill>
        <p:spPr>
          <a:xfrm>
            <a:off x="468360" y="4149720"/>
            <a:ext cx="250200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C:\Users\Пользователь\Documents\интерпрезентации\смайлы\1233748925_11376864872636.jpg"/>
          <p:cNvPicPr/>
          <p:nvPr/>
        </p:nvPicPr>
        <p:blipFill>
          <a:blip r:embed="rId5"/>
          <a:stretch/>
        </p:blipFill>
        <p:spPr>
          <a:xfrm>
            <a:off x="6012000" y="1700280"/>
            <a:ext cx="2574720" cy="2146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C:\Users\Пользователь\Documents\интерпрезентации\смайлы\1233748925_11376864872636.jpg"/>
          <p:cNvPicPr/>
          <p:nvPr/>
        </p:nvPicPr>
        <p:blipFill>
          <a:blip r:embed="rId6"/>
          <a:stretch/>
        </p:blipFill>
        <p:spPr>
          <a:xfrm>
            <a:off x="3564000" y="3860640"/>
            <a:ext cx="2663640" cy="2221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C:\Users\Пользователь\Documents\интерпрезентации\смайлы\1233748925_11376864872636.jpg"/>
          <p:cNvPicPr/>
          <p:nvPr/>
        </p:nvPicPr>
        <p:blipFill>
          <a:blip r:embed="rId7"/>
          <a:stretch/>
        </p:blipFill>
        <p:spPr>
          <a:xfrm>
            <a:off x="6713640" y="3933720"/>
            <a:ext cx="243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Прямоугольник 3" descr=""/>
          <p:cNvPicPr/>
          <p:nvPr/>
        </p:nvPicPr>
        <p:blipFill>
          <a:blip r:embed="rId1"/>
          <a:stretch/>
        </p:blipFill>
        <p:spPr>
          <a:xfrm>
            <a:off x="3322800" y="396720"/>
            <a:ext cx="2309760" cy="6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250920" y="1052640"/>
          <a:ext cx="8569080" cy="5856120"/>
        </p:xfrm>
        <a:graphic>
          <a:graphicData uri="http://schemas.openxmlformats.org/drawingml/2006/table">
            <a:tbl>
              <a:tblPr/>
              <a:tblGrid>
                <a:gridCol w="4248000"/>
                <a:gridCol w="432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591f4d"/>
                          </a:solidFill>
                          <a:latin typeface="Georgia"/>
                        </a:rPr>
                        <a:t>Здоровый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591f4d"/>
                          </a:solidFill>
                          <a:latin typeface="Georgia"/>
                        </a:rPr>
                        <a:t>Нарко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Естественными свойствами здоровья и молодости являются оптимизм, энергия, энтузиазм, интерес к жизн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коман – беззащитный человек, полный противоречий и страх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Здоровый человек получает удовольствие  от занятий спортом, танцами, любимым делом, а самое главное, от общения друг с друг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Наркоман лишён сопротивляемости к стрессам. У него бессвязная речь, ответы невпопад на самые обычные вопросы. А главное, полное безразличие к происходящему вокруг, отсутствие интереса к жизн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Здоровый человек полон жизни, с интересом учится и работает, увлечен каким-либо де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Наркоман презираемый близкими и обществ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Здоровый человек ценит свою жизнь, думает о здоровом потомств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Наркоман потерянный и безвольны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Здоровый человек имеет много друзей, единомышлен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рузья наркомана – шприц и иг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"/>
          <p:cNvPicPr/>
          <p:nvPr/>
        </p:nvPicPr>
        <p:blipFill>
          <a:blip r:embed="rId3"/>
          <a:stretch/>
        </p:blipFill>
        <p:spPr>
          <a:xfrm>
            <a:off x="7775640" y="0"/>
            <a:ext cx="136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RWT</cp:lastModifiedBy>
  <dcterms:modified xsi:type="dcterms:W3CDTF">2011-03-15T13:29:42Z</dcterms:modified>
  <cp:revision>43</cp:revision>
  <dc:subject/>
  <dc:title>Слайд 1</dc:title>
</cp:coreProperties>
</file>