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C8B-5152-4251-A8BA-1F24DE99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B87-AFD2-4BE0-8BA4-3D54CE32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AC2-74B2-444E-AB50-70A3DB10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05B-E395-4ACF-8FF9-7FDA6E34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A279-9C09-4858-9328-0536FD94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CA6C-DA04-4FB0-B836-48D1BD48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A3A6-8E6F-4FAA-8893-6E5065AC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0C51-8D87-4EDB-9871-D312E34B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B193-24E9-43DA-B396-0F7A2F38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471D-43EA-4F80-A964-A5264D4C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D3E1-6734-45F1-9B39-9256F2DE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316-4E88-45D9-8D8B-7A3CA742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B8F7-4221-41CC-AD23-087C6D7D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846D-851E-4C59-B3F4-4B62F22A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C2DA-48D7-414C-AC35-C9ED1602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8349-15C7-40FA-8927-B9AF802B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43F1-C95F-400D-B661-6DC0C28D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11D52-8E72-4A1D-8E6A-A13BFDB8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540CA-0340-4762-A3C6-90902281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3209A-6DBC-4D5D-8E4A-4AFA20CE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565A2-5C50-4C4C-AC75-A229285D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FA91F-D374-4402-9FC8-5E861E82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889-1CC1-4B53-B015-2310794D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9B41B-527E-43A8-B96C-F4C86144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2451E-D522-415A-BA1B-1BC4772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5B781-2A5E-4CA5-9B58-F4021679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5A1AC-3B21-425B-87FC-88069A93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8B1A0-A155-418A-99FA-2932A915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EC9B2-645B-4E69-A1B6-2936913A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A0C75-F7BD-4068-90F1-5C260B50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5C50D-29B1-4DD4-83B8-73FA9ECC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4268E-BCED-455C-97B8-E096D79C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CE1D-9B4A-487B-9843-B3C1F340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426-B4D0-4BC1-BF2E-02FB931B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35C0-AE8B-4E99-89FA-E998D0C8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7D2C1-1672-4563-85CE-BFF6CCF6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BD63-0ACB-4109-BFDF-7B82609D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91647-D320-45BD-9056-CA9A5DEC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61A3-702E-47B2-BF9D-CB5F53B2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1DCB-832F-4A93-9C78-709DB70D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892BB-658B-43E9-AA64-CEBEE54C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75810-7117-4CE8-AEA5-23C51470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57DFD-41CC-4B79-A3A5-C987253E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05C-51C6-4480-86B7-2F1EB8DC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6C3-E2FA-4DF0-9177-A3D0AE5C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FDE-5305-422C-8EF2-3490A686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023-2A00-40AB-9EE0-6EACA610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289-91E1-45D3-B7E0-0E68077B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9672-5CDF-48DF-A656-934B7D27FAA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BBD1-B154-4CAE-A14E-0639E6D9A23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7C0C-C91E-4F47-B63A-7F3DDF7F6DA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7550-BAB8-456C-AF08-550BCA93E75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042920" y="6308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 презентация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4" descr=""/>
          <p:cNvPicPr/>
          <p:nvPr/>
        </p:nvPicPr>
        <p:blipFill>
          <a:blip r:embed="rId1"/>
          <a:stretch/>
        </p:blipFill>
        <p:spPr>
          <a:xfrm>
            <a:off x="1292400" y="-208080"/>
            <a:ext cx="6535440" cy="197028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5" descr=""/>
          <p:cNvPicPr/>
          <p:nvPr/>
        </p:nvPicPr>
        <p:blipFill>
          <a:blip r:embed="rId2"/>
          <a:stretch/>
        </p:blipFill>
        <p:spPr>
          <a:xfrm>
            <a:off x="225360" y="1700280"/>
            <a:ext cx="8942400" cy="115884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6" descr=""/>
          <p:cNvPicPr/>
          <p:nvPr/>
        </p:nvPicPr>
        <p:blipFill>
          <a:blip r:embed="rId3"/>
          <a:stretch/>
        </p:blipFill>
        <p:spPr>
          <a:xfrm>
            <a:off x="1743120" y="3852720"/>
            <a:ext cx="5413320" cy="2395800"/>
          </a:xfrm>
          <a:prstGeom prst="rect">
            <a:avLst/>
          </a:prstGeom>
          <a:ln w="0">
            <a:noFill/>
          </a:ln>
        </p:spPr>
      </p:pic>
      <p:sp>
        <p:nvSpPr>
          <p:cNvPr id="218" name="Управляющая кнопка: в конец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0" y="549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последние два десятилетия злоупотребление наркотическими средствами распространилось в широчайших масштабах, в настоящее время оно затрагивает все страны и угрожает всем слоям общества, включая даже 7-8-летних детей. В настоящее время в мире более 200 миллионов людей, страдающих наркоманией, - это целая армия инвалидов в физическом и моральном смысл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258920" y="4947480"/>
            <a:ext cx="64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Ты хотел быть похожим на очень кру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Ты не думал, что это для жизни уг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А теперь в словаре твоём только три сл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Шприц, наркотик и доз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1944360" cy="266400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в конец 6">
            <a:hlinkClick r:id="" action="ppaction://hlinkshowjump?jump=nextslide"/>
          </p:cNvPr>
          <p:cNvSpPr/>
          <p:nvPr/>
        </p:nvSpPr>
        <p:spPr>
          <a:xfrm>
            <a:off x="7956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ятно 1 7"/>
          <p:cNvSpPr/>
          <p:nvPr/>
        </p:nvSpPr>
        <p:spPr>
          <a:xfrm>
            <a:off x="0" y="5943600"/>
            <a:ext cx="914400" cy="91440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ятно 1 8"/>
          <p:cNvSpPr/>
          <p:nvPr/>
        </p:nvSpPr>
        <p:spPr>
          <a:xfrm>
            <a:off x="7956720" y="3068640"/>
            <a:ext cx="914400" cy="91440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129240" y="273240"/>
            <a:ext cx="89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предложенных определений выберите то, котор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вашему мнению, наиболее точно отражает сущность явления нарком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Багетная рамка 3"/>
          <p:cNvSpPr/>
          <p:nvPr/>
        </p:nvSpPr>
        <p:spPr>
          <a:xfrm>
            <a:off x="0" y="4149720"/>
            <a:ext cx="5003640" cy="2232000"/>
          </a:xfrm>
          <a:prstGeom prst="beve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заболевание, возникающее в результате употребления наркотических средств (способны в малых дозах вызывать состояние эйфор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Багетная рамка 4"/>
          <p:cNvSpPr/>
          <p:nvPr/>
        </p:nvSpPr>
        <p:spPr>
          <a:xfrm>
            <a:off x="5364000" y="1268280"/>
            <a:ext cx="3600720" cy="1873440"/>
          </a:xfrm>
          <a:prstGeom prst="beve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вид отклоняющегося поведения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Багетная рамка 5"/>
          <p:cNvSpPr/>
          <p:nvPr/>
        </p:nvSpPr>
        <p:spPr>
          <a:xfrm>
            <a:off x="5364000" y="4221000"/>
            <a:ext cx="3780000" cy="2267280"/>
          </a:xfrm>
          <a:prstGeom prst="beve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левание, обусловленное изменением процесса обмена веществ под влиянием наркотических препа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Багетная рамка 6"/>
          <p:cNvSpPr/>
          <p:nvPr/>
        </p:nvSpPr>
        <p:spPr>
          <a:xfrm>
            <a:off x="0" y="1268280"/>
            <a:ext cx="4500720" cy="1989360"/>
          </a:xfrm>
          <a:prstGeom prst="beve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болезненное пристрастие к наркотикам, связанное с развитием психологической и физиологической зависимости к этим веществ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9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48360" cy="18716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0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311280" cy="15843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1" descr=""/>
          <p:cNvPicPr/>
          <p:nvPr/>
        </p:nvPicPr>
        <p:blipFill>
          <a:blip r:embed="rId3"/>
          <a:stretch/>
        </p:blipFill>
        <p:spPr>
          <a:xfrm>
            <a:off x="179280" y="4365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2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3313080" cy="172872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в конец 13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21758" y="10800"/>
                </a:moveTo>
                <a:lnTo>
                  <a:pt x="11253" y="17806"/>
                </a:lnTo>
                <a:lnTo>
                  <a:pt x="11253" y="3794"/>
                </a:lnTo>
                <a:close/>
              </a:path>
              <a:path fill="darken" w="36518" h="21600">
                <a:moveTo>
                  <a:pt x="23603" y="3794"/>
                </a:moveTo>
                <a:lnTo>
                  <a:pt x="23603" y="17806"/>
                </a:lnTo>
                <a:lnTo>
                  <a:pt x="25266" y="17806"/>
                </a:lnTo>
                <a:lnTo>
                  <a:pt x="25266" y="3794"/>
                </a:lnTo>
                <a:close/>
              </a:path>
            </a:pathLst>
          </a:cu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2"/>
          <p:cNvSpPr/>
          <p:nvPr/>
        </p:nvSpPr>
        <p:spPr>
          <a:xfrm>
            <a:off x="2484360" y="18900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фы и факты соврем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ятно 1 3"/>
          <p:cNvSpPr/>
          <p:nvPr/>
        </p:nvSpPr>
        <p:spPr>
          <a:xfrm>
            <a:off x="250920" y="549360"/>
            <a:ext cx="3241440" cy="302400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eorgia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т очередного употребления наркотика всегда можно отказ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ятно 1 4"/>
          <p:cNvSpPr/>
          <p:nvPr/>
        </p:nvSpPr>
        <p:spPr>
          <a:xfrm>
            <a:off x="6156360" y="620640"/>
            <a:ext cx="2987640" cy="223200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ятно 1 5"/>
          <p:cNvSpPr/>
          <p:nvPr/>
        </p:nvSpPr>
        <p:spPr>
          <a:xfrm>
            <a:off x="250920" y="4149720"/>
            <a:ext cx="2881080" cy="244800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Наркотик веселит, поднимает на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ятно 1 6"/>
          <p:cNvSpPr/>
          <p:nvPr/>
        </p:nvSpPr>
        <p:spPr>
          <a:xfrm>
            <a:off x="6622920" y="3473280"/>
            <a:ext cx="2521080" cy="338472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ятно 1 7"/>
          <p:cNvSpPr/>
          <p:nvPr/>
        </p:nvSpPr>
        <p:spPr>
          <a:xfrm>
            <a:off x="3419640" y="3573360"/>
            <a:ext cx="3097080" cy="2951280"/>
          </a:xfrm>
          <a:prstGeom prst="irregularSeal1">
            <a:avLst/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780000" y="433332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авка-«легкий»     наркотик,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ызывающий привык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7020000" y="444132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ркоманами станов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олько слаб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 безво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6443640" y="106272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наркотики не вводить в вену, привыкания не бу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3" descr=""/>
          <p:cNvPicPr/>
          <p:nvPr/>
        </p:nvPicPr>
        <p:blipFill>
          <a:blip r:embed="rId1"/>
          <a:stretch/>
        </p:blipFill>
        <p:spPr>
          <a:xfrm>
            <a:off x="3348000" y="1125360"/>
            <a:ext cx="2592360" cy="2448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250920" y="444420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: Отказаться можно только один раз -первый. Даже однократное потребление наркотика приводит к завис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24000" y="859320"/>
            <a:ext cx="316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:Напротив, тошнота, рвота, головокружение ,  в дальнейшем наркотики принимают, чтобы снять мучительное, болезненное ощущение (ломк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3419640" y="422712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: Все наркотики вызывают привыкание. Любой наркотик убивает, это только вопрос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804000" y="3943440"/>
            <a:ext cx="25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: Зависимость от наркотиков - это заболевание и, как и любое заболевание, оно не имеет отношения к силе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8"/>
          <p:cNvSpPr/>
          <p:nvPr/>
        </p:nvSpPr>
        <p:spPr>
          <a:xfrm>
            <a:off x="6264360" y="549360"/>
            <a:ext cx="287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: Любой способ потребления наркотиков приводит к зависимости. Существует закон дозы: с меньших доз человек переходит на большие, с менее сильных веществ - на более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1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1042920" y="6308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 презентация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Управляющая кнопка: в конец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Горизонтальный свиток 8"/>
          <p:cNvSpPr/>
          <p:nvPr/>
        </p:nvSpPr>
        <p:spPr>
          <a:xfrm>
            <a:off x="684360" y="1773360"/>
            <a:ext cx="2447640" cy="158436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Отрицательное влияние на процесс зачатия и берем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ризонтальный свиток 9"/>
          <p:cNvSpPr/>
          <p:nvPr/>
        </p:nvSpPr>
        <p:spPr>
          <a:xfrm>
            <a:off x="179280" y="3860640"/>
            <a:ext cx="2880000" cy="273708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Дети наркоманов рождаются или мёртвыми, или с физическими уродствами, или с отставанием в умственном разви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оризонтальный свиток 10"/>
          <p:cNvSpPr/>
          <p:nvPr/>
        </p:nvSpPr>
        <p:spPr>
          <a:xfrm>
            <a:off x="3635280" y="3645000"/>
            <a:ext cx="2665440" cy="252072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У рожденных детей  уже есть зависимость от наркотиков, то есть, они уже являются наркома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Горизонтальный свиток 11"/>
          <p:cNvSpPr/>
          <p:nvPr/>
        </p:nvSpPr>
        <p:spPr>
          <a:xfrm>
            <a:off x="6659640" y="3716280"/>
            <a:ext cx="2233440" cy="244944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Наркоман, по статистике, живет не более 10 лет со дня начала употребления наркот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Горизонтальный свиток 12"/>
          <p:cNvSpPr/>
          <p:nvPr/>
        </p:nvSpPr>
        <p:spPr>
          <a:xfrm>
            <a:off x="6012000" y="1557360"/>
            <a:ext cx="2808000" cy="2232000"/>
          </a:xfrm>
          <a:prstGeom prst="horizontalScroll">
            <a:avLst>
              <a:gd name="adj" fmla="val 12500"/>
            </a:avLst>
          </a:pr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Прямоугольник 13" descr=""/>
          <p:cNvPicPr/>
          <p:nvPr/>
        </p:nvPicPr>
        <p:blipFill>
          <a:blip r:embed="rId1"/>
          <a:stretch/>
        </p:blipFill>
        <p:spPr>
          <a:xfrm>
            <a:off x="1908000" y="646200"/>
            <a:ext cx="4834080" cy="8841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4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2159280" cy="163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"/>
          <p:cNvSpPr/>
          <p:nvPr/>
        </p:nvSpPr>
        <p:spPr>
          <a:xfrm>
            <a:off x="6156360" y="1922400"/>
            <a:ext cx="26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Последствием употребления наркотиков может стать заболевание СПИ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2" descr="C:\Users\Пользователь\Documents\интерпрезентации\смайлы\1233748925_11376864872636.jpg"/>
          <p:cNvPicPr/>
          <p:nvPr/>
        </p:nvPicPr>
        <p:blipFill>
          <a:blip r:embed="rId3"/>
          <a:stretch/>
        </p:blipFill>
        <p:spPr>
          <a:xfrm>
            <a:off x="611280" y="1628640"/>
            <a:ext cx="2558880" cy="213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C:\Users\Пользователь\Documents\интерпрезентации\смайлы\1233748925_11376864872636.jpg"/>
          <p:cNvPicPr/>
          <p:nvPr/>
        </p:nvPicPr>
        <p:blipFill>
          <a:blip r:embed="rId4"/>
          <a:stretch/>
        </p:blipFill>
        <p:spPr>
          <a:xfrm>
            <a:off x="468360" y="4149720"/>
            <a:ext cx="2502000" cy="223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C:\Users\Пользователь\Documents\интерпрезентации\смайлы\1233748925_11376864872636.jpg"/>
          <p:cNvPicPr/>
          <p:nvPr/>
        </p:nvPicPr>
        <p:blipFill>
          <a:blip r:embed="rId5"/>
          <a:stretch/>
        </p:blipFill>
        <p:spPr>
          <a:xfrm>
            <a:off x="6012000" y="1700280"/>
            <a:ext cx="2574720" cy="2146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C:\Users\Пользователь\Documents\интерпрезентации\смайлы\1233748925_11376864872636.jpg"/>
          <p:cNvPicPr/>
          <p:nvPr/>
        </p:nvPicPr>
        <p:blipFill>
          <a:blip r:embed="rId6"/>
          <a:stretch/>
        </p:blipFill>
        <p:spPr>
          <a:xfrm>
            <a:off x="3564000" y="3860640"/>
            <a:ext cx="2663640" cy="2221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C:\Users\Пользователь\Documents\интерпрезентации\смайлы\1233748925_11376864872636.jpg"/>
          <p:cNvPicPr/>
          <p:nvPr/>
        </p:nvPicPr>
        <p:blipFill>
          <a:blip r:embed="rId7"/>
          <a:stretch/>
        </p:blipFill>
        <p:spPr>
          <a:xfrm>
            <a:off x="6713640" y="3933720"/>
            <a:ext cx="24303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042920" y="6308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 презентация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Управляющая кнопка: в конец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83d68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Прямоугольник 3" descr=""/>
          <p:cNvPicPr/>
          <p:nvPr/>
        </p:nvPicPr>
        <p:blipFill>
          <a:blip r:embed="rId1"/>
          <a:stretch/>
        </p:blipFill>
        <p:spPr>
          <a:xfrm>
            <a:off x="3322800" y="396720"/>
            <a:ext cx="2309760" cy="6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250920" y="1052640"/>
          <a:ext cx="8569080" cy="5856120"/>
        </p:xfrm>
        <a:graphic>
          <a:graphicData uri="http://schemas.openxmlformats.org/drawingml/2006/table">
            <a:tbl>
              <a:tblPr/>
              <a:tblGrid>
                <a:gridCol w="4248000"/>
                <a:gridCol w="432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591f4d"/>
                          </a:solidFill>
                          <a:latin typeface="Georgia"/>
                        </a:rPr>
                        <a:t>Здоровый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591f4d"/>
                          </a:solidFill>
                          <a:latin typeface="Georgia"/>
                        </a:rPr>
                        <a:t>Нарко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Естественными свойствами здоровья и молодости являются оптимизм, энергия, энтузиазм, интерес к жизн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коман – беззащитный человек, полный противоречий и страх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Здоровый человек получает удовольствие  от занятий спортом, танцами, любимым делом, а самое главное, от общения друг с друг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Наркоман лишён сопротивляемости к стрессам. У него бессвязная речь, ответы невпопад на самые обычные вопросы. А главное, полное безразличие к происходящему вокруг, отсутствие интереса к жизн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Здоровый человек полон жизни, с интересом учится и работает, увлечен каким-либо дел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Наркоман презираемый близкими и обществ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 Здоровый человек ценит свою жизнь, думает о здоровом потомств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 Наркоман потерянный и безвольный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 Здоровый человек имеет много друзей, единомышлен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 Друзья наркомана – шприц и иг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pic>
        <p:nvPicPr>
          <p:cNvPr id="270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"/>
          <p:cNvPicPr/>
          <p:nvPr/>
        </p:nvPicPr>
        <p:blipFill>
          <a:blip r:embed="rId3"/>
          <a:stretch/>
        </p:blipFill>
        <p:spPr>
          <a:xfrm>
            <a:off x="7775640" y="0"/>
            <a:ext cx="1368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RWT</cp:lastModifiedBy>
  <dcterms:modified xsi:type="dcterms:W3CDTF">2011-03-15T13:29:42Z</dcterms:modified>
  <cp:revision>43</cp:revision>
  <dc:subject/>
  <dc:title>Слайд 1</dc:title>
</cp:coreProperties>
</file>