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D44-8BAD-4EBB-940F-82A1164A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433-7992-4B9A-B4C8-732BB7AA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5B6-7440-455A-B27D-635E74B5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687-C82C-43F2-80EB-80E8CB1A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F299-36C8-43A6-92D4-D93BE75F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256-44F3-4448-83F4-87A1F8E0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F1ED-E603-4E33-85FC-2F722E75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8013-8B4F-4D6A-B411-1AF4E843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6339-7160-4C10-A8E3-892F0A3B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E4BB-6C94-44FF-AC1F-E3E73D10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0B06-0000-49DC-8768-B42F8E01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C50-097B-4690-825A-54FCF11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4FE6-BD2C-42ED-951B-FBAF47CD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E30C-BB61-466A-8209-A9215420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66BD-2438-44CC-968A-8708F316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84AE-2529-40A8-BD18-2C7A6EFB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734C-1A2F-4968-A8DF-45E29800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D38-A40C-487C-8D5C-4A5C1D43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31E-0031-4DE8-89AC-CC018D83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4A0-5533-4C5F-A5B6-59BD529A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DAF-FB1C-461A-B8C6-740B01F2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BAA-FD0F-4ED5-80C8-C841110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19D-D767-4EA1-9345-902FF196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FC9-A8B5-4DE3-81B1-4DF0916A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EA8-9691-407F-A277-C3E888C33E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6AE-2289-4A54-A1DF-03BE945CB2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Georgia"/>
              </a:rPr>
              <a:t>«Коллаж</a:t>
            </a:r>
            <a:r>
              <a:rPr b="0" lang="ru-RU" sz="4400" spc="-1" strike="noStrike">
                <a:solidFill>
                  <a:srgbClr val="ccecff"/>
                </a:solidFill>
                <a:latin typeface="Georgia"/>
              </a:rPr>
              <a:t> – как средство развития индивидуальных творческих способностей у детей среднего и старшего возраста через коллективные формы работ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Georgia"/>
              </a:rPr>
              <a:t>Тема</a:t>
            </a: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Georgia"/>
              </a:rPr>
              <a:t>Цел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Помочь ребенку стать творческой личностью, проявить свои художественные способности в различных видах изобразительной и прикладной деятельности, развить коммуникативные навыки и ум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9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Georgia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258920" y="2637000"/>
            <a:ext cx="7056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Формировать художественно-творческие способност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Наполнить жизнь детей интересным содержанием, создавать атмосферу эмоционального благополуч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Систематизировать и дифференцировать традиционные и разработать новые методы и приемы передачи детям художественного опы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Georgia"/>
              </a:rPr>
              <a:t>Этапы работы с коллаж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2" descr="IMG_0322.JPG"/>
          <p:cNvPicPr/>
          <p:nvPr/>
        </p:nvPicPr>
        <p:blipFill>
          <a:blip r:embed="rId1"/>
          <a:stretch/>
        </p:blipFill>
        <p:spPr>
          <a:xfrm>
            <a:off x="1785960" y="1143000"/>
            <a:ext cx="52862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85520" y="356760"/>
            <a:ext cx="76438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1 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здание коллективных работ из этих обра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2 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здание отдельных образов (цветы, деревья, птиц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857160" y="2857680"/>
            <a:ext cx="721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150000"/>
              </a:lnSpc>
              <a:buClr>
                <a:srgbClr val="ffffff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Технические пробы художественных материалов, декоративных элементов  (рисование тычком, примакивание, дуги, различные линии) для работ с шаблонами и трафарет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864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ополнение незавершенных детских работ вырезками из газет, журн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Рисунок 4" descr="Image2_1 copy.bmp.jpg"/>
          <p:cNvPicPr/>
          <p:nvPr/>
        </p:nvPicPr>
        <p:blipFill>
          <a:blip r:embed="rId1"/>
          <a:stretch/>
        </p:blipFill>
        <p:spPr>
          <a:xfrm>
            <a:off x="357120" y="1500120"/>
            <a:ext cx="5907240" cy="4110120"/>
          </a:xfrm>
          <a:prstGeom prst="rect">
            <a:avLst/>
          </a:prstGeom>
          <a:ln w="0">
            <a:noFill/>
          </a:ln>
        </p:spPr>
      </p:pic>
      <p:sp>
        <p:nvSpPr>
          <p:cNvPr id="222" name="Подзаголовок 8"/>
          <p:cNvSpPr/>
          <p:nvPr/>
        </p:nvSpPr>
        <p:spPr>
          <a:xfrm>
            <a:off x="6072120" y="4429080"/>
            <a:ext cx="27860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28760" y="356760"/>
            <a:ext cx="79293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ставление сюжетных картин (по мультфильмам и прочитанным книг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3" descr="Image8_1 copy.bmp.jpg"/>
          <p:cNvPicPr/>
          <p:nvPr/>
        </p:nvPicPr>
        <p:blipFill>
          <a:blip r:embed="rId1"/>
          <a:stretch/>
        </p:blipFill>
        <p:spPr>
          <a:xfrm>
            <a:off x="285840" y="1500120"/>
            <a:ext cx="5715000" cy="4100760"/>
          </a:xfrm>
          <a:prstGeom prst="rect">
            <a:avLst/>
          </a:prstGeom>
          <a:ln w="0">
            <a:noFill/>
          </a:ln>
        </p:spPr>
      </p:pic>
      <p:sp>
        <p:nvSpPr>
          <p:cNvPr id="225" name="Подзаголовок 8"/>
          <p:cNvSpPr/>
          <p:nvPr/>
        </p:nvSpPr>
        <p:spPr>
          <a:xfrm>
            <a:off x="6072120" y="3857760"/>
            <a:ext cx="271476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Georgia"/>
              </a:rPr>
              <a:t>Результаты диагнос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38163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Характер речевых обращений детей к взрослому в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716360" y="1773360"/>
            <a:ext cx="40388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Object 57"/>
          <p:cNvGraphicFramePr/>
          <p:nvPr/>
        </p:nvGraphicFramePr>
        <p:xfrm>
          <a:off x="0" y="2276640"/>
          <a:ext cx="452124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452124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58"/>
          <p:cNvGraphicFramePr/>
          <p:nvPr/>
        </p:nvGraphicFramePr>
        <p:xfrm>
          <a:off x="4572000" y="2205000"/>
          <a:ext cx="4172040" cy="23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17204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61"/>
          <p:cNvSpPr/>
          <p:nvPr/>
        </p:nvSpPr>
        <p:spPr>
          <a:xfrm>
            <a:off x="4572000" y="1484280"/>
            <a:ext cx="41767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Типы мотивировок и их возрастная динамика в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684360" y="4581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Безадресная р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Поиск практического сов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Поиск взаимопонимания и сопережи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4859280" y="4581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Внешни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Качества, обеспечивающие успешность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Georgia"/>
              </a:rPr>
              <a:t>Нравствен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46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46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46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7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09:04:12Z</dcterms:created>
  <dc:creator>none</dc:creator>
  <dc:description/>
  <dc:language>en-US</dc:language>
  <cp:lastModifiedBy>User</cp:lastModifiedBy>
  <dcterms:modified xsi:type="dcterms:W3CDTF">2011-11-27T15:33:45Z</dcterms:modified>
  <cp:revision>72</cp:revision>
  <dc:subject/>
  <dc:title>Коллаж – как средство развития индивидуальных творческих способностей у детей среднего и старшего возраста через коллективные формы работы</dc:title>
</cp:coreProperties>
</file>