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8A9-7CF5-45B0-BC9F-83146421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687-2DEC-467D-842F-C75FF88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E17-DE95-4E69-8CCE-0A7D254E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DCE-BD1C-4689-929E-ED6A9D54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52A4-A5E2-4DDD-9D4A-DEDC8106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F2CC-B803-41F8-833C-B76408F6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897D-B6C3-4F61-9A82-75CDE27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3D0-BD15-440B-ACFA-4929EE6A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221E-BD97-4C26-A01C-3806CDFE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E16F-FB52-4376-98A5-64F30F09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12EB-56CE-4BF9-A5EC-6FB626C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1A2-7FC4-4F63-9FEB-C8D0FBC3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F2C1-AB99-4853-AE14-8790F99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C21D-191A-4351-AA66-DF2AFA2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D03D-A62C-4555-A381-40ED7FA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6C8-1097-40D0-8A92-5194869C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DDA1-7A03-42BA-B355-857B29B9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72A-1710-4276-B82B-11472A1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54E-0F1A-46B0-9066-C456B86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38E-3293-4418-B58E-437F2D30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80D-2297-43B9-8EFB-5AB16B4E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95C-7BF6-4186-AE8B-1C0C44E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724-9114-41AA-B7DC-9F1B89A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5A0-4FAC-4E73-896B-F5E1348F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BDE-4399-4EB6-A56D-ADED9650DB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955A-4DDF-4CED-9ED1-1F6B768EBB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Georgia"/>
              </a:rPr>
              <a:t>«Коллаж</a:t>
            </a:r>
            <a:r>
              <a:rPr b="0" lang="ru-RU" sz="4400" spc="-1" strike="noStrike">
                <a:solidFill>
                  <a:srgbClr val="ccecff"/>
                </a:solidFill>
                <a:latin typeface="Georgia"/>
              </a:rPr>
              <a:t> – как средство развития индивидуальных творческих способностей у детей среднего и старшего возраста через коллективные формы работ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Georgia"/>
              </a:rPr>
              <a:t>Тема</a:t>
            </a: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Georgia"/>
              </a:rPr>
              <a:t>Цел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Помочь ребенку стать творческой личностью, проявить свои художественные способности в различных видах изобразительной и прикладной деятельности, развить коммуникативные навыки и ум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9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Georgia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58920" y="2637000"/>
            <a:ext cx="7056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Формировать художественно-творческие способност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полнить жизнь детей интересным содержанием, создавать атмосферу эмоционального благополуч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Систематизировать и дифференцировать традиционные и разработать новые методы и приемы передачи детям художественного оп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Georgia"/>
              </a:rPr>
              <a:t>Этапы работы с коллаж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2" descr="IMG_0322.JPG"/>
          <p:cNvPicPr/>
          <p:nvPr/>
        </p:nvPicPr>
        <p:blipFill>
          <a:blip r:embed="rId1"/>
          <a:stretch/>
        </p:blipFill>
        <p:spPr>
          <a:xfrm>
            <a:off x="1785960" y="1143000"/>
            <a:ext cx="52862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85520" y="356760"/>
            <a:ext cx="76438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1 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здание коллективных работ из этих обра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2 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здание отдельных образов (цветы, деревья, птиц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857160" y="2857680"/>
            <a:ext cx="721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50000"/>
              </a:lnSpc>
              <a:buClr>
                <a:srgbClr val="ffffff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Технические пробы художественных материалов, декоративных элементов  (рисование тычком, примакивание, дуги, различные линии) для работ с шаблонами и трафарет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864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ение незавершенных детских работ вырезками из газет, жур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4" descr="Image2_1 copy.bmp.jpg"/>
          <p:cNvPicPr/>
          <p:nvPr/>
        </p:nvPicPr>
        <p:blipFill>
          <a:blip r:embed="rId1"/>
          <a:stretch/>
        </p:blipFill>
        <p:spPr>
          <a:xfrm>
            <a:off x="357120" y="1500120"/>
            <a:ext cx="5907240" cy="4110120"/>
          </a:xfrm>
          <a:prstGeom prst="rect">
            <a:avLst/>
          </a:prstGeom>
          <a:ln w="0">
            <a:noFill/>
          </a:ln>
        </p:spPr>
      </p:pic>
      <p:sp>
        <p:nvSpPr>
          <p:cNvPr id="222" name="Подзаголовок 8"/>
          <p:cNvSpPr/>
          <p:nvPr/>
        </p:nvSpPr>
        <p:spPr>
          <a:xfrm>
            <a:off x="6072120" y="4429080"/>
            <a:ext cx="2786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79293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ставление сюжетных картин (по мультфильмам и прочитанным книг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3" descr="Image8_1 copy.bmp.jpg"/>
          <p:cNvPicPr/>
          <p:nvPr/>
        </p:nvPicPr>
        <p:blipFill>
          <a:blip r:embed="rId1"/>
          <a:stretch/>
        </p:blipFill>
        <p:spPr>
          <a:xfrm>
            <a:off x="285840" y="1500120"/>
            <a:ext cx="5715000" cy="4100760"/>
          </a:xfrm>
          <a:prstGeom prst="rect">
            <a:avLst/>
          </a:prstGeom>
          <a:ln w="0">
            <a:noFill/>
          </a:ln>
        </p:spPr>
      </p:pic>
      <p:sp>
        <p:nvSpPr>
          <p:cNvPr id="225" name="Подзаголовок 8"/>
          <p:cNvSpPr/>
          <p:nvPr/>
        </p:nvSpPr>
        <p:spPr>
          <a:xfrm>
            <a:off x="6072120" y="3857760"/>
            <a:ext cx="27147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Georgia"/>
              </a:rPr>
              <a:t>Результаты диагно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38163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Характер речевых обращений детей к взрослому в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716360" y="1773360"/>
            <a:ext cx="40388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Object 57"/>
          <p:cNvGraphicFramePr/>
          <p:nvPr/>
        </p:nvGraphicFramePr>
        <p:xfrm>
          <a:off x="0" y="2276640"/>
          <a:ext cx="452124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452124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58"/>
          <p:cNvGraphicFramePr/>
          <p:nvPr/>
        </p:nvGraphicFramePr>
        <p:xfrm>
          <a:off x="4572000" y="2205000"/>
          <a:ext cx="4172040" cy="23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1720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61"/>
          <p:cNvSpPr/>
          <p:nvPr/>
        </p:nvSpPr>
        <p:spPr>
          <a:xfrm>
            <a:off x="4572000" y="1484280"/>
            <a:ext cx="4176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Типы мотивировок и их возрастная динамика в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684360" y="4581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Безадресная 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Поиск практического со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Поиск взаимопонимания и сопережи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4859280" y="4581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Внешни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Качества, обеспечивающие успешность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Нравствен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46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46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46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9:04:12Z</dcterms:created>
  <dc:creator>none</dc:creator>
  <dc:description/>
  <dc:language>en-US</dc:language>
  <cp:lastModifiedBy>User</cp:lastModifiedBy>
  <dcterms:modified xsi:type="dcterms:W3CDTF">2011-11-27T15:33:45Z</dcterms:modified>
  <cp:revision>72</cp:revision>
  <dc:subject/>
  <dc:title>Коллаж – как средство развития индивидуальных творческих способностей у детей среднего и старшего возраста через коллективные формы работы</dc:title>
</cp:coreProperties>
</file>