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E22-B690-4719-8F9E-8742F7EF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37F-B119-4BB1-B57D-C2257CC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94F-3F45-4137-B674-F5AC9B43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3F1-62CF-4E14-8726-86FE5AA6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E9E-D0F1-48DD-AB83-780BE05E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34B-E550-4202-8CB6-ACA6A447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725-0720-49BD-9F28-0D525BA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4AD-723F-42D1-A9E1-29BEC95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862-0119-4D41-BF48-539C3DB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F5E-1C37-4BC4-9973-C860B1C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BF7-A6E2-4C68-AA8A-670A5D8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4AF-0BF9-4590-8E00-A7BA336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BA0-7FDB-461E-A0CF-6E80B37D7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extreferat.com/images/referats/6037/image0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images.google.ru/imgres?imgurl=http://fio.novgorod.ru/projects/Project191/sti1.gif&amp;imgrefurl=http://fio.novgorod.ru/projects/Project191/stix.htm&amp;h=439&amp;w=372&amp;sz=49&amp;hl=ru&amp;start=7&amp;tbnid=bOOr48ptOIs05M:&amp;tbnh=127&amp;tbnw=108&amp;prev=/images%3Fq%3D%25D0%259B%25D0%25B8%25D1%2586%25D0%25B5%25D0%25B9%25D1%2581%25D0%25BA%25D0%25B8%25D0%25B5%2B%25D0%25B3%25D0%25BE%25D0%25B4%25D1%258B%2B%25D0%259F%25D1%2583%25D1%2589%25D0%25B8%25D0%25BD%26hl%3Dru%26newwindow%3D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itertravel.narod.ru/imag/push_pa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okrugsveta.ru/encyclopedia/images/c/c7/Pushkin_exam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inkrus.ch/bilder/9789010507600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hyperlink" Target="http://web-gcdtt.narod.ru/Images/Kuh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4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Вильгельм был прямодушен и неколебим во внушенных с детства и укрепленных чтением принципах добра, справедливости, самоотвержения в любви и дружбе. Он лучше других лицеистов знал литературу, историю, философию и необычайно щедр был в своей готовности делиться знаниями. Когда в статье о Дельвиге Пушкин вспоминает, как много почерпнул тот из совместных чтений с одним из товарищей -&lt;&lt;живым лексиконом и вдохновенным комментарием &gt;&gt;- он, разумеется, имеет в виду Кюхельбекера.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Златые дни! Уроки и заб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  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И чёрный стол, и бунты вече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И наш словарь, и плески мирной сл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И критики лицейских мудрецов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юхля писал стихи (вначале неумелые и косноязычные), но при этом преклонялся перед стихами звучными и тонкими по мысли. Талант Пушкина был для него поразительным откровение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81168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ван Пущин –лучший лицейский                                  друг поэ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40200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92280" y="3257640"/>
            <a:ext cx="2594160" cy="30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5840" y="-429696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 Иванович Пущин  вошел в историю России как близкий друг Пушкина и известный деятель декабристского движения. В августе 1811 г. Мальчика привезли в Петербург для определения в только что открывшийся Царскосельский лицей. Для этой же цели сюда привезли и А.С.Пушкина. Мальчики познакомились и подружились. Пушкину досталась комната №14,а Пущину №13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3532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 окончании лицея Пущин был определён офицером в гвардию но в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1823 году он подал в отставку и поступил в Московский надворный суд. Последний раз друзья виделись 11 января 1825 г., когда, Пущин посетил поэта в селе Михайловском, куда Пушкин был сослан за стихи с призывами к борьбе за свободу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3070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ушкин посвятил Пущину четыре стихотво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к Пущину, Воспоминание, В альбом Пущину, И. И Пущину ). Стихотворение (И. И. Пущину) попало в руки адресату только 5 января 1825г,когда тот уже был осужден.Когда А. Г. Муравьева отдала Пущину листок бумаги, на котором неизвестною рукою было написано:(Мой первый друг, мой друг бесценный!) Отрадно отозвался в нем голос Пушк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мятник А.С. Пушкину в Лицейском са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9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41300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шки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цейск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экзамене в Царском Сел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8 января 181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ТО А.С. Пушк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цейск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4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-606600"/>
            <a:ext cx="78138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Лицейское шестилетие делилось на три резко отличающихся друг от друга период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иректорство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Малиновского- около2,5 лет,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междуцар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(т. е. управление профессоров: их сменяли после каждого ненормального события)-2 года и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иректорство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Энгельгардта» менее полутора л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ух лицейских труба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490760"/>
            <a:ext cx="82090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цейская ли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74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413000"/>
            <a:ext cx="5073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384720" cy="47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4 из 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83160" y="1889280"/>
            <a:ext cx="456084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йские друзья, будущие декабристы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ильгельм Кюхельбекер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он Дельвиг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37192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ервое стихотворение Пушкина, появившееся в печати, — «К другу-стихотворцу» (1814), посвящено Кюхельбек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ЛЬГЕЛЬМ  КЮХЕЛЬБЕК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4 из 27"/>
          <p:cNvPicPr/>
          <p:nvPr/>
        </p:nvPicPr>
        <p:blipFill>
          <a:blip r:embed="rId1"/>
          <a:stretch/>
        </p:blipFill>
        <p:spPr>
          <a:xfrm>
            <a:off x="539640" y="1341360"/>
            <a:ext cx="1114560" cy="160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1262880"/>
            <a:ext cx="684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В Лицее Кюхельбекеру на первых порах пришлось нелегко. Неуклюжий,вечно занятый своими мыслями, а потому- рассеянный, готовый взорваться ,как поро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при малейшей обиде, ему нанесённой; вдобавок глуховатый (не всег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а припадками, которые наступали неожиданно). Кюхля  был поначалу предметом ежедневных насмешек товарищей, подчас вовсе не беззлоб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Он даже с горя пытался утопиться в пру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но ничего не получилось: его благополучно вытащили, а в лицейском журн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появилась смешная карикатура.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3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3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5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Arial"/>
              </a:rPr>
              <a:t>Чего только не вытворяли с бедным Кюхлей- дразнили, мучили, даже суп на голову выливали, а уж эпиграмм насочиняли- не сче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ушкин тоже посмеивался иногда над Виленькой- &lt;&lt;уродом пресовершенным &gt;&gt;, так звали его в Лицее, но очень скоро разглядел и оценил те свойства Кюхельбекера, которые заслуживали не иронии, а самого высокого уважения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1:41:51Z</dcterms:created>
  <dc:creator>Вика</dc:creator>
  <dc:description/>
  <dc:language>en-US</dc:language>
  <cp:lastModifiedBy>елена владимировна</cp:lastModifiedBy>
  <dcterms:modified xsi:type="dcterms:W3CDTF">2009-05-10T09:28:25Z</dcterms:modified>
  <cp:revision>17</cp:revision>
  <dc:subject/>
  <dc:title>Слайд 1</dc:title>
</cp:coreProperties>
</file>