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830-9803-4622-88EA-19AC82BE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E4F-21B5-4F50-850F-2A6E1110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A36-E293-4584-B5CC-9E9CA3B5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940-3FF1-41FF-9C84-4A162848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F71-2B0D-477B-B61F-27539D89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5F1-024B-4D41-9D33-CA71082A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B7C-D0BC-4E40-9CFC-76B1F66F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0B9-BD6A-481C-9A91-4D695327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660-46C7-4A90-AFE4-DE901934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B99-D68C-4ECE-A2F3-8FF1CED1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145-F1D8-44CF-AEC8-EEC1F54C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7F6-4F92-425A-ABD0-E0E9A5C6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23B3-C329-4C8F-98C2-9BF839956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extreferat.com/images/referats/6037/image00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images.google.ru/imgres?imgurl=http://fio.novgorod.ru/projects/Project191/sti1.gif&amp;imgrefurl=http://fio.novgorod.ru/projects/Project191/stix.htm&amp;h=439&amp;w=372&amp;sz=49&amp;hl=ru&amp;start=7&amp;tbnid=bOOr48ptOIs05M:&amp;tbnh=127&amp;tbnw=108&amp;prev=/images%3Fq%3D%25D0%259B%25D0%25B8%25D1%2586%25D0%25B5%25D0%25B9%25D1%2581%25D0%25BA%25D0%25B8%25D0%25B5%2B%25D0%25B3%25D0%25BE%25D0%25B4%25D1%258B%2B%25D0%259F%25D1%2583%25D1%2589%25D0%25B8%25D0%25BD%26hl%3Dru%26newwindow%3D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itertravel.narod.ru/imag/push_pam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vokrugsveta.ru/encyclopedia/images/c/c7/Pushkin_exam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inkrus.ch/bilder/9789010507600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hyperlink" Target="http://web-gcdtt.narod.ru/Images/Kuh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4 из 2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Вильгельм был прямодушен и неколебим во внушенных с детства и укрепленных чтением принципах добра, справедливости, самоотвержения в любви и дружбе. Он лучше других лицеистов знал литературу, историю, философию и необычайно щедр был в своей готовности делиться знаниями. Когда в статье о Дельвиге Пушкин вспоминает, как много почерпнул тот из совместных чтений с одним из товарищей -&lt;&lt;живым лексиконом и вдохновенным комментарием &gt;&gt;- он, разумеется, имеет в виду Кюхельбекера.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Златые дни! Уроки и заба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           </a:t>
            </a: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И чёрный стол, и бунты вечер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И наш словарь, и плески мирной сла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8dc6ff"/>
                </a:solidFill>
                <a:latin typeface="Arial"/>
              </a:rPr>
              <a:t>И критики лицейских мудрецов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юхля писал стихи (вначале неумелые и косноязычные), но при этом преклонялся перед стихами звучными и тонкими по мысли. Талант Пушкина был для него поразительным откровение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81168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ван Пущин –лучший лицейский                                  друг поэ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402000" cy="46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92280" y="3257640"/>
            <a:ext cx="2594160" cy="30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5840" y="-429696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572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н Иванович Пущин  вошел в историю России как близкий друг Пушкина и известный деятель декабристского движения. В августе 1811 г. Мальчика привезли в Петербург для определения в только что открывшийся Царскосельский лицей. Для этой же цели сюда привезли и А.С.Пушкина. Мальчики познакомились и подружились. Пушкину досталась комната №14,а Пущину №13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3532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 окончании лицея Пущин был определён офицером в гвардию но в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1823 году он подал в отставку и поступил в Московский надворный суд. Последний раз друзья виделись 11 января 1825 г., когда, Пущин посетил поэта в селе Михайловском, куда Пушкин был сослан за стихи с призывами к борьбе за свободу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30704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86064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ушкин посвятил Пущину четыре стихотво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к Пущину, Воспоминание, В альбом Пущину, И. И Пущину ). Стихотворение (И. И. Пущину) попало в руки адресату только 5 января 1825г,когда тот уже был осужден.Когда А. Г. Муравьева отдала Пущину листок бумаги, на котором неизвестною рукою было написано:(Мой первый друг, мой друг бесценный!) Отрадно отозвался в нем голос Пушк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мятник А.С. Пушкину в Лицейском са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19 из 2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41300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ушки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цейско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экзамене в Царском Сел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8 января 181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 из 2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ТО А.С. Пушки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цейск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ери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4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5640" y="-606600"/>
            <a:ext cx="781380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Лицейское шестилетие делилось на три резко отличающихся друг от друга период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директорство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  Малиновского- около2,5 лет,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междуцар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(т. е. управление профессоров: их сменяли после каждого ненормального события)-2 года и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директорство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Энгельгардта» менее полутора л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ух лицейских трубаду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490760"/>
            <a:ext cx="820908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цейская лир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74 из 2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1413000"/>
            <a:ext cx="5073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384720" cy="4751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4 из 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83160" y="1889280"/>
            <a:ext cx="4560840" cy="4968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ейские друзья, будущие декабристы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ильгельм Кюхельбекер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он Дельвиг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в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537192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Первое стихотворение Пушкина, появившееся в печати, — «К другу-стихотворцу» (1814), посвящено Кюхельбек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ЛЬГЕЛЬМ  КЮХЕЛЬБЕК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4 из 27"/>
          <p:cNvPicPr/>
          <p:nvPr/>
        </p:nvPicPr>
        <p:blipFill>
          <a:blip r:embed="rId1"/>
          <a:stretch/>
        </p:blipFill>
        <p:spPr>
          <a:xfrm>
            <a:off x="539640" y="1341360"/>
            <a:ext cx="1114560" cy="160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63640" y="1262880"/>
            <a:ext cx="6843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В Лицее Кюхельбекеру на первых порах пришлось нелегко. Неуклюжий,вечно занятый своими мыслями, а потому- рассеянный, готовый взорваться ,как поро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при малейшей обиде, ему нанесённой; вдобавок глуховатый (не всег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а припадками, которые наступали неожиданно). Кюхля  был поначалу предметом ежедневных насмешек товарищей, подчас вовсе не беззлоб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Он даже с горя пытался утопиться в пру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но ничего не получилось: его благополучно вытащили, а в лицейском журна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ff"/>
                </a:solidFill>
                <a:latin typeface="Arial"/>
              </a:rPr>
              <a:t>появилась смешная карикатура.</a:t>
            </a: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3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3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5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" nodeType="afterEffect" fill="hold" presetClass="entr" presetID="1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cc"/>
                </a:solidFill>
                <a:latin typeface="Arial"/>
              </a:rPr>
              <a:t>Чего только не вытворяли с бедным Кюхлей- дразнили, мучили, даже суп на голову выливали, а уж эпиграмм насочиняли- не сче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Пушкин тоже посмеивался иногда над Виленькой- &lt;&lt;уродом пресовершенным &gt;&gt;, так звали его в Лицее, но очень скоро разглядел и оценил те свойства Кюхельбекера, которые заслуживали не иронии, а самого высокого уважения.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1:41:51Z</dcterms:created>
  <dc:creator>Вика</dc:creator>
  <dc:description/>
  <dc:language>en-US</dc:language>
  <cp:lastModifiedBy>елена владимировна</cp:lastModifiedBy>
  <dcterms:modified xsi:type="dcterms:W3CDTF">2009-05-10T09:28:25Z</dcterms:modified>
  <cp:revision>17</cp:revision>
  <dc:subject/>
  <dc:title>Слайд 1</dc:title>
</cp:coreProperties>
</file>