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DE0-B3F7-4217-9D9F-EA2B0E5A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2EA-DEFF-48C2-86F3-839F359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8B0-7D5A-4F47-A022-EB1CBAB5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B01-F62E-4DF5-86CD-B7EF85F9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9D7D-7897-4B9C-88DF-15B2BEAC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2717-4844-42EE-B341-A1D78E1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31A-9051-4E72-95ED-F45F2D3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084-129C-4A05-9A0D-694087F2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A147-5242-443A-A6E4-F8DD1509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37F3-0A7D-44E3-ADEC-E85D45CA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2FC-6706-49C3-89AE-63CDF67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578-4E48-4D3C-80AF-2FFAB8AB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400E-CD11-4718-B72E-EB369344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638-0872-43F3-AABF-2C051C9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2ADB-435C-4A98-BF23-6C014F8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734-F44C-4D7D-92A2-C0C1D10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B55E-79DF-48AB-8860-FF73FF9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445-AE01-490B-BA6E-77680E3A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6BD-4FA0-456A-A26C-F45ECBF5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748-31A4-40EE-80C6-472C8C8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EEC-F8A5-4A7D-8A44-5393D4A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271-199C-4644-B1C3-230EEA1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EDF-DF03-47A7-A1AD-89F68E4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315-59D1-44AC-A6AC-360614E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144C-44A8-47EE-BEB0-F70A31522D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A98-DE15-44E7-905C-9663D53F029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38b57"/>
                </a:solidFill>
                <a:latin typeface="Arial"/>
              </a:rPr>
              <a:t>Памятники литературным                 героям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Андерсеновская Русалочка в порту Копенгаген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7" descr="русалка"/>
          <p:cNvPicPr/>
          <p:nvPr/>
        </p:nvPicPr>
        <p:blipFill>
          <a:blip r:embed="rId2"/>
          <a:stretch/>
        </p:blipFill>
        <p:spPr>
          <a:xfrm>
            <a:off x="1547640" y="1700280"/>
            <a:ext cx="4248360" cy="47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Скульптура Царевны-Лягуш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7" descr="лягушка"/>
          <p:cNvPicPr/>
          <p:nvPr/>
        </p:nvPicPr>
        <p:blipFill>
          <a:blip r:embed="rId2"/>
          <a:stretch/>
        </p:blipFill>
        <p:spPr>
          <a:xfrm>
            <a:off x="2195640" y="1341360"/>
            <a:ext cx="3270240" cy="482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амятник Бременским музыкантам в городе Бремен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9" descr="бремен"/>
          <p:cNvPicPr/>
          <p:nvPr/>
        </p:nvPicPr>
        <p:blipFill>
          <a:blip r:embed="rId2"/>
          <a:stretch/>
        </p:blipFill>
        <p:spPr>
          <a:xfrm>
            <a:off x="1547640" y="1413000"/>
            <a:ext cx="44136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амятник Чебураш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7" descr="чебур"/>
          <p:cNvPicPr/>
          <p:nvPr/>
        </p:nvPicPr>
        <p:blipFill>
          <a:blip r:embed="rId2"/>
          <a:stretch/>
        </p:blipFill>
        <p:spPr>
          <a:xfrm>
            <a:off x="1692360" y="2048040"/>
            <a:ext cx="4464000" cy="37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амятник отцу Федору, добывавшему кипяток и отправлявшему письмо на вокзал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7" descr="20051216_26118-s"/>
          <p:cNvPicPr/>
          <p:nvPr/>
        </p:nvPicPr>
        <p:blipFill>
          <a:blip r:embed="rId2"/>
          <a:stretch/>
        </p:blipFill>
        <p:spPr>
          <a:xfrm>
            <a:off x="2341440" y="2200320"/>
            <a:ext cx="3426120" cy="37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Му-му увековечена на площади Тургене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8" descr="му му"/>
          <p:cNvPicPr/>
          <p:nvPr/>
        </p:nvPicPr>
        <p:blipFill>
          <a:blip r:embed="rId2"/>
          <a:stretch/>
        </p:blipFill>
        <p:spPr>
          <a:xfrm>
            <a:off x="1692360" y="2060640"/>
            <a:ext cx="4464000" cy="370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Тот самый Мюнхгаузен находится в Москв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7" descr="мюнхгаузен"/>
          <p:cNvPicPr/>
          <p:nvPr/>
        </p:nvPicPr>
        <p:blipFill>
          <a:blip r:embed="rId2"/>
          <a:stretch/>
        </p:blipFill>
        <p:spPr>
          <a:xfrm>
            <a:off x="2411280" y="1484280"/>
            <a:ext cx="3230640" cy="48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амятник героям басен Ивана Крылов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7" descr="басни"/>
          <p:cNvPicPr/>
          <p:nvPr/>
        </p:nvPicPr>
        <p:blipFill>
          <a:blip r:embed="rId2"/>
          <a:stretch/>
        </p:blipFill>
        <p:spPr>
          <a:xfrm>
            <a:off x="1332000" y="1700280"/>
            <a:ext cx="511308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Скульптура Остапа Бендера на Итальянской улице в Питер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7" descr="getfull"/>
          <p:cNvPicPr/>
          <p:nvPr/>
        </p:nvPicPr>
        <p:blipFill>
          <a:blip r:embed="rId2"/>
          <a:stretch/>
        </p:blipFill>
        <p:spPr>
          <a:xfrm>
            <a:off x="2195640" y="1700280"/>
            <a:ext cx="3168360" cy="4600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равая ступня - Шабурова, левая - Касимо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7" descr="невидимка"/>
          <p:cNvPicPr/>
          <p:nvPr/>
        </p:nvPicPr>
        <p:blipFill>
          <a:blip r:embed="rId2"/>
          <a:stretch/>
        </p:blipFill>
        <p:spPr>
          <a:xfrm>
            <a:off x="1763640" y="2016000"/>
            <a:ext cx="43927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Величественно скачет на</a:t>
            </a:r>
            <a:r>
              <a:rPr b="0" lang="ru-RU" sz="40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своем Росинанте Дон Кихот, рядом шагает Санчо Панса на площади в Мадриде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7" descr="дон ких"/>
          <p:cNvPicPr/>
          <p:nvPr/>
        </p:nvPicPr>
        <p:blipFill>
          <a:blip r:embed="rId1"/>
          <a:stretch/>
        </p:blipFill>
        <p:spPr>
          <a:xfrm>
            <a:off x="2195640" y="1844640"/>
            <a:ext cx="3539880" cy="400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ервый в Москве памятник литературному герою Мальчишу - Кибальчиш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7" descr="P040825_12"/>
          <p:cNvPicPr/>
          <p:nvPr/>
        </p:nvPicPr>
        <p:blipFill>
          <a:blip r:embed="rId2"/>
          <a:stretch/>
        </p:blipFill>
        <p:spPr>
          <a:xfrm>
            <a:off x="1631880" y="2200320"/>
            <a:ext cx="4910040" cy="361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Comic Sans MS"/>
              </a:rPr>
              <a:t>Чижик-Пыж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7" descr="chijik-pijik[1]"/>
          <p:cNvPicPr/>
          <p:nvPr/>
        </p:nvPicPr>
        <p:blipFill>
          <a:blip r:embed="rId2"/>
          <a:stretch/>
        </p:blipFill>
        <p:spPr>
          <a:xfrm>
            <a:off x="1042920" y="205092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1:01:14Z</dcterms:created>
  <dc:creator>user</dc:creator>
  <dc:description/>
  <dc:language>en-US</dc:language>
  <cp:lastModifiedBy>Programmer</cp:lastModifiedBy>
  <dcterms:modified xsi:type="dcterms:W3CDTF">2011-11-25T17:17:41Z</dcterms:modified>
  <cp:revision>4</cp:revision>
  <dc:subject/>
  <dc:title>Памятник героям басен Ивана Крылова</dc:title>
</cp:coreProperties>
</file>