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5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2DC-4443-4661-91A9-C873EA26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0E0-B073-4C2F-9C0D-6D92E03D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592-C181-48E3-8E34-E3484BFE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8BD-540B-42FF-A1CC-3657B8F2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47C9-78FA-4C7D-AFFE-1F620D2E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01D3-740E-437C-B3E8-49E85E3F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AF2D-4958-4872-86EA-EA48F22E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816F-8C69-4271-B260-FC3A0D02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3145-5292-4FB7-AC2F-F070A276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4909-90F4-447D-A957-6B21A88A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514E-C44B-4793-B507-C3F3159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D50-C55C-499B-805E-65B646C8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20C2-0594-4027-B1AC-63A48BB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5163-322F-4963-9D4A-34F7A954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B985-F937-4CD1-9119-79630E84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63A-A65A-477A-A785-50BE6604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4F6A-82F6-4D89-A4CF-25D3A5FA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E62-E096-4E58-9087-C74AD428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A64-B476-44F8-A76D-12B52807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AFA-58A5-4F71-BEA3-410AA8EB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B8B-327F-4655-9B3E-60CA8DDB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FAF-AC04-445C-9336-685E04F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392-3F57-4EEE-BEF6-06753FE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2CB-C80F-421D-818D-B5854E40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7050-E3F2-464D-8090-2C9F47DB12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7532-A975-48E0-8B1B-BFAC1462A98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38b57"/>
                </a:solidFill>
                <a:latin typeface="Arial"/>
              </a:rPr>
              <a:t>Памятники литературным                 героям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Андерсеновская Русалочка в порту Копенгаген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7" descr="русалка"/>
          <p:cNvPicPr/>
          <p:nvPr/>
        </p:nvPicPr>
        <p:blipFill>
          <a:blip r:embed="rId2"/>
          <a:stretch/>
        </p:blipFill>
        <p:spPr>
          <a:xfrm>
            <a:off x="1547640" y="1700280"/>
            <a:ext cx="4248360" cy="474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Скульптура Царевны-Лягуш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7" descr="лягушка"/>
          <p:cNvPicPr/>
          <p:nvPr/>
        </p:nvPicPr>
        <p:blipFill>
          <a:blip r:embed="rId2"/>
          <a:stretch/>
        </p:blipFill>
        <p:spPr>
          <a:xfrm>
            <a:off x="2195640" y="1341360"/>
            <a:ext cx="3270240" cy="482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Памятник Бременским музыкантам в городе Бремен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9" descr="бремен"/>
          <p:cNvPicPr/>
          <p:nvPr/>
        </p:nvPicPr>
        <p:blipFill>
          <a:blip r:embed="rId2"/>
          <a:stretch/>
        </p:blipFill>
        <p:spPr>
          <a:xfrm>
            <a:off x="1547640" y="1413000"/>
            <a:ext cx="44136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амятник Чебурашк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7" descr="чебур"/>
          <p:cNvPicPr/>
          <p:nvPr/>
        </p:nvPicPr>
        <p:blipFill>
          <a:blip r:embed="rId2"/>
          <a:stretch/>
        </p:blipFill>
        <p:spPr>
          <a:xfrm>
            <a:off x="1692360" y="2048040"/>
            <a:ext cx="4464000" cy="37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Памятник отцу Федору, добывавшему кипяток и отправлявшему письмо на вокзале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7" descr="20051216_26118-s"/>
          <p:cNvPicPr/>
          <p:nvPr/>
        </p:nvPicPr>
        <p:blipFill>
          <a:blip r:embed="rId2"/>
          <a:stretch/>
        </p:blipFill>
        <p:spPr>
          <a:xfrm>
            <a:off x="2341440" y="2200320"/>
            <a:ext cx="3426120" cy="37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Му-му увековечена на площади Тургене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8" descr="му му"/>
          <p:cNvPicPr/>
          <p:nvPr/>
        </p:nvPicPr>
        <p:blipFill>
          <a:blip r:embed="rId2"/>
          <a:stretch/>
        </p:blipFill>
        <p:spPr>
          <a:xfrm>
            <a:off x="1692360" y="2060640"/>
            <a:ext cx="4464000" cy="370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Тот самый Мюнхгаузен находится в Москв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7" descr="мюнхгаузен"/>
          <p:cNvPicPr/>
          <p:nvPr/>
        </p:nvPicPr>
        <p:blipFill>
          <a:blip r:embed="rId2"/>
          <a:stretch/>
        </p:blipFill>
        <p:spPr>
          <a:xfrm>
            <a:off x="2411280" y="1484280"/>
            <a:ext cx="3230640" cy="48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Comic Sans MS"/>
              </a:rPr>
              <a:t>Памятник героям басен Ивана Крылов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7" descr="басни"/>
          <p:cNvPicPr/>
          <p:nvPr/>
        </p:nvPicPr>
        <p:blipFill>
          <a:blip r:embed="rId2"/>
          <a:stretch/>
        </p:blipFill>
        <p:spPr>
          <a:xfrm>
            <a:off x="1332000" y="1700280"/>
            <a:ext cx="5113080" cy="43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Скульптура Остапа Бендера на Итальянской улице в Питер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7" descr="getfull"/>
          <p:cNvPicPr/>
          <p:nvPr/>
        </p:nvPicPr>
        <p:blipFill>
          <a:blip r:embed="rId2"/>
          <a:stretch/>
        </p:blipFill>
        <p:spPr>
          <a:xfrm>
            <a:off x="2195640" y="1700280"/>
            <a:ext cx="3168360" cy="4600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Правая ступня - Шабурова, левая - Касимо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7" descr="невидимка"/>
          <p:cNvPicPr/>
          <p:nvPr/>
        </p:nvPicPr>
        <p:blipFill>
          <a:blip r:embed="rId2"/>
          <a:stretch/>
        </p:blipFill>
        <p:spPr>
          <a:xfrm>
            <a:off x="1763640" y="2016000"/>
            <a:ext cx="439272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Величественно скачет на</a:t>
            </a:r>
            <a:r>
              <a:rPr b="0" lang="ru-RU" sz="40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Comic Sans MS"/>
              </a:rPr>
              <a:t>своем Росинанте Дон Кихот, рядом шагает Санчо Панса на площади в Мадриде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7" descr="дон ких"/>
          <p:cNvPicPr/>
          <p:nvPr/>
        </p:nvPicPr>
        <p:blipFill>
          <a:blip r:embed="rId1"/>
          <a:stretch/>
        </p:blipFill>
        <p:spPr>
          <a:xfrm>
            <a:off x="2195640" y="1844640"/>
            <a:ext cx="3539880" cy="400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Comic Sans MS"/>
              </a:rPr>
              <a:t>Первый в Москве памятник литературному герою Мальчишу - Кибальчишу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7" descr="P040825_12"/>
          <p:cNvPicPr/>
          <p:nvPr/>
        </p:nvPicPr>
        <p:blipFill>
          <a:blip r:embed="rId2"/>
          <a:stretch/>
        </p:blipFill>
        <p:spPr>
          <a:xfrm>
            <a:off x="1631880" y="2200320"/>
            <a:ext cx="4910040" cy="361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Comic Sans MS"/>
              </a:rPr>
              <a:t>Чижик-Пыж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7" descr="chijik-pijik[1]"/>
          <p:cNvPicPr/>
          <p:nvPr/>
        </p:nvPicPr>
        <p:blipFill>
          <a:blip r:embed="rId2"/>
          <a:stretch/>
        </p:blipFill>
        <p:spPr>
          <a:xfrm>
            <a:off x="1042920" y="2050920"/>
            <a:ext cx="5473800" cy="3776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1:01:14Z</dcterms:created>
  <dc:creator>user</dc:creator>
  <dc:description/>
  <dc:language>en-US</dc:language>
  <cp:lastModifiedBy>Programmer</cp:lastModifiedBy>
  <dcterms:modified xsi:type="dcterms:W3CDTF">2011-11-25T17:17:41Z</dcterms:modified>
  <cp:revision>4</cp:revision>
  <dc:subject/>
  <dc:title>Памятник героям басен Ивана Крылова</dc:title>
</cp:coreProperties>
</file>