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gif" ContentType="image/gif"/>
  <Override PartName="/ppt/media/image18.jpeg" ContentType="image/jpeg"/>
  <Override PartName="/ppt/media/image14.png" ContentType="image/pn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D081-FE9A-4E0B-88C5-ACA754B6AD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28C9-29E1-43CC-BDB8-08B85A9948FF}" type="slidenum">
              <a:rPr b="0" lang="ru-RU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251E-1F1D-40DB-91E2-AAD7CD76E42D}" type="slidenum">
              <a:rPr b="0" lang="ru-RU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304-7327-4BF0-80F4-EBA28716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804-77B2-4F3D-BF7E-22E28BA1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23A-943A-41C7-86B7-57DFDF14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C57-0F95-4628-A916-7246261E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ED3C-7645-4467-8984-B9CFEA7D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244A-46C9-4488-B837-B9A1E260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1037-CC93-4C7A-85B1-7274173D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6714-E41E-4458-96A6-E0B5A680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24BF-8EE2-4E58-97C5-618AAB78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9FD9-A194-409F-9D75-2384DF8E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6E73-ED32-4020-81A6-825D899C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C07-F9BC-4213-B61F-8FADEC00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0E2E-EA82-4057-9A79-0883A2D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F8B8-8843-4765-938E-C80A745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0CFA-07CB-4629-88A7-B4578E76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319D-B3FB-4356-A875-B6D4C4B8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CB0-7D88-4913-A78D-9C58F555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F77-02CF-43D2-8F0F-F894B8CB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B0F-3B67-457F-B5E8-027A47C5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338-914E-4A4B-A665-06695662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766-98A1-4046-92F5-27527379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32C-EBCF-4011-BAE1-D8DCB90F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13C-DD5F-4919-B9C4-21212CEC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C65-949F-4995-A2FD-05D1912D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7430-4356-49DA-8953-B9C36B418213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CA22-ABF4-49AF-BBB0-415661F9F58D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023840" y="184320"/>
            <a:ext cx="8077320" cy="5205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рольно-измерительные материалы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38240" y="184320"/>
            <a:ext cx="8077320" cy="519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1" name="Picture 13" descr="20m"/>
          <p:cNvPicPr/>
          <p:nvPr/>
        </p:nvPicPr>
        <p:blipFill>
          <a:blip r:embed="rId1"/>
          <a:stretch/>
        </p:blipFill>
        <p:spPr>
          <a:xfrm>
            <a:off x="0" y="127080"/>
            <a:ext cx="8964720" cy="6730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4"/>
          <p:cNvSpPr/>
          <p:nvPr/>
        </p:nvSpPr>
        <p:spPr>
          <a:xfrm>
            <a:off x="3276720" y="189000"/>
            <a:ext cx="45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«Разработка компетентностно-ориентированных заданий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по учебным предметам»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3" name="Picture 15" descr="20m"/>
          <p:cNvPicPr/>
          <p:nvPr/>
        </p:nvPicPr>
        <p:blipFill>
          <a:blip r:embed="rId2"/>
          <a:stretch/>
        </p:blipFill>
        <p:spPr>
          <a:xfrm>
            <a:off x="0" y="0"/>
            <a:ext cx="8964720" cy="6730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928800" y="57168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cb9"/>
                </a:solidFill>
                <a:latin typeface="Times New Roman"/>
              </a:rPr>
              <a:t>Добрый день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1093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Стимул</a:t>
            </a: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264c"/>
                </a:solidFill>
                <a:latin typeface="Times New Roman"/>
              </a:rPr>
              <a:t>(проблемная ситуация) – погружает в контекст задания и мотивирует на его выполнение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7" name="Picture 4" descr="57"/>
          <p:cNvPicPr/>
          <p:nvPr/>
        </p:nvPicPr>
        <p:blipFill>
          <a:blip r:embed="rId2"/>
          <a:srcRect l="10928" t="35999" r="0" b="0"/>
          <a:stretch/>
        </p:blipFill>
        <p:spPr>
          <a:xfrm>
            <a:off x="468360" y="4797360"/>
            <a:ext cx="3816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3680" y="404640"/>
            <a:ext cx="7772400" cy="1022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Задачная формулировка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 (инструкция) – содержит указания учащемуся на его действия по выполнению задания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Простая структура: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A) прочитай текст и составь памятку, инструкцию, таблицу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Б) прослушай задачу и ответь на вопрос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B) внимательно прочитай и найди 2 главных принципа…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Г) бегло просмотри текст и выбери непонятные слова, объясни их при помощи ...(а,б,в - задачные формулировки простой структуры, но их можно перестроить в сложные структуры)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e9"/>
                </a:solidFill>
                <a:uFillTx/>
                <a:latin typeface="Times New Roman"/>
              </a:rPr>
              <a:t>Задачная формулировка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Сложная структура: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A) прочитай текст и составь памятку, инструкцию, таблицу..., подготовь выступление перед одноклассниками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Б) прослушай задачу и ответь на вопрос..., найди недостающие данные и введи их в условие задачи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B) внимательно прочитай и найди три главных принципа..., составь памятку для..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475920"/>
            <a:ext cx="7772400" cy="95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8496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Источник информации</a:t>
            </a:r>
            <a:r>
              <a:rPr b="0" lang="ru-RU" sz="3600" spc="-1" strike="noStrike">
                <a:solidFill>
                  <a:srgbClr val="00264c"/>
                </a:solidFill>
                <a:latin typeface="Times New Roman"/>
              </a:rPr>
              <a:t> содержит информацию, необходимую для успешной деятельности учащегося по выполнению задания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4" name="Picture 4" descr="20"/>
          <p:cNvPicPr/>
          <p:nvPr/>
        </p:nvPicPr>
        <p:blipFill>
          <a:blip r:embed="rId2"/>
          <a:stretch/>
        </p:blipFill>
        <p:spPr>
          <a:xfrm>
            <a:off x="179280" y="414972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Инструмент проверки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64c"/>
                </a:solidFill>
                <a:uFillTx/>
                <a:latin typeface="Times New Roman"/>
              </a:rPr>
              <a:t>Бланк</a:t>
            </a:r>
            <a:r>
              <a:rPr b="1" i="1" lang="ru-RU" sz="36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7" name="Picture 4" descr="52897604_3"/>
          <p:cNvPicPr/>
          <p:nvPr/>
        </p:nvPicPr>
        <p:blipFill>
          <a:blip r:embed="rId3"/>
          <a:stretch/>
        </p:blipFill>
        <p:spPr>
          <a:xfrm>
            <a:off x="250920" y="3821040"/>
            <a:ext cx="3456000" cy="3036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755640" y="5950080"/>
            <a:ext cx="2521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475920"/>
            <a:ext cx="7772400" cy="950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e9"/>
                </a:solidFill>
                <a:uFillTx/>
                <a:latin typeface="Times New Roman"/>
              </a:rPr>
              <a:t>Практикум №1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«Определение структурных элементов компетентностно-ориентированного задания»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344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ffffe9"/>
                </a:solidFill>
                <a:uFillTx/>
                <a:latin typeface="Times New Roman"/>
              </a:rPr>
              <a:t>Практикум </a:t>
            </a: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«Корректируем задания учебника»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8960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очитайте параграф учебника, посвященный Пугачевскому восстанию,  и заполните таблицу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4360" y="3860640"/>
          <a:ext cx="6095880" cy="21607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Этап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События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82316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История, 7 клас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информационна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первичная обработка информаци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коммуникативна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 публичное выступление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мпетентность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самоменеджмен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: </a:t>
            </a:r>
            <a:r>
              <a:rPr b="0" i="1" lang="ru-RU" sz="3200" spc="-1" strike="noStrike">
                <a:solidFill>
                  <a:srgbClr val="00264c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Уровень: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Ваш товарищ был болен,  поэтому не присутствовал  на уроках, посвященных Пугачевскому восстанию. 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1. Прочитай текст параграфа. Запиши основные этапы, годы и события в виде таблицы.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2. Подготовь краткое выступление, используя средства логической связи для выделения смысловых блоков своего выступления. Будь готов ответить на вопросы.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3. Назови трудности, с которыми ты столкнулся  при выполнении задания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орректируем задания учебник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Выбор задания. (УМК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64c"/>
                </a:solidFill>
                <a:uFillTx/>
                <a:latin typeface="Times New Roman"/>
              </a:rPr>
              <a:t>Характеристика задания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Предмет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Класс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Формируемая компетентность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Аспект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64c"/>
                </a:solidFill>
                <a:latin typeface="Times New Roman"/>
              </a:rPr>
              <a:t>Уровень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765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Настоящий урок – 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это совместный поиск истины учителем и учеником. Где этого нет, там скука…”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38240" y="184320"/>
            <a:ext cx="8077320" cy="457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Picture 4" descr="0_b8e4_f137b848_XL"/>
          <p:cNvPicPr/>
          <p:nvPr/>
        </p:nvPicPr>
        <p:blipFill>
          <a:blip r:embed="rId1"/>
          <a:stretch/>
        </p:blipFill>
        <p:spPr>
          <a:xfrm>
            <a:off x="108000" y="3357720"/>
            <a:ext cx="57546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одумать стимул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Сформулировать задачную формулировку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инести учебник(по выбору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0a15d1e65643464a78fd44d41c1ba812"/>
          <p:cNvPicPr/>
          <p:nvPr/>
        </p:nvPicPr>
        <p:blipFill>
          <a:blip r:embed="rId1"/>
          <a:stretch/>
        </p:blipFill>
        <p:spPr>
          <a:xfrm>
            <a:off x="0" y="-861840"/>
            <a:ext cx="9144000" cy="87580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7"/>
          <p:cNvSpPr txBox="1"/>
          <p:nvPr/>
        </p:nvSpPr>
        <p:spPr>
          <a:xfrm>
            <a:off x="684360" y="5877000"/>
            <a:ext cx="7991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работ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55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едмет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Ознакомление с окружающим миром. 1 клас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Тема: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Как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правильно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хаживать за кошкой и собакой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Групповая работа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4149720"/>
          <a:ext cx="7991280" cy="2075040"/>
        </p:xfrm>
        <a:graphic>
          <a:graphicData uri="http://schemas.openxmlformats.org/drawingml/2006/table">
            <a:tbl>
              <a:tblPr/>
              <a:tblGrid>
                <a:gridCol w="2879640"/>
                <a:gridCol w="2448000"/>
                <a:gridCol w="266364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компетентность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аспект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урове</a:t>
                      </a:r>
                      <a:r>
                        <a:rPr b="1" lang="en-US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нь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родуктив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Групповая коммуникаци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убличное выступление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информационная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Планирование информационного поиска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720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518508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«Здравствуйте, ребята!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Я очень хочу завести собаку или кошку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Это моя самая заветная мечта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Но мама говорит, что я к этому ещё не готов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Помогите мне, пожалуйста, доказать маме, что я могу ухаживать за ними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С уважением дядя Фёдор»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9129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4520"/>
          </a:xfrm>
          <a:prstGeom prst="rect">
            <a:avLst/>
          </a:prstGeom>
          <a:solidFill>
            <a:srgbClr val="ffffe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Внимательно рассмотрите картинки в таблице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одумайте, чего не хватает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риклейте недостающие предметы на свои места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Подготовьте выступление на тему «Как правильно ухаживать за кошкой и собакой»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Будьте готовы ответить на вопросы одноклассников.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905120"/>
          <a:ext cx="7415280" cy="4190760"/>
        </p:xfrm>
        <a:graphic>
          <a:graphicData uri="http://schemas.openxmlformats.org/drawingml/2006/table">
            <a:tbl>
              <a:tblPr/>
              <a:tblGrid>
                <a:gridCol w="2419200"/>
                <a:gridCol w="2573640"/>
                <a:gridCol w="242244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Picture 20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1714320" cy="128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2038320" cy="1533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"/>
          <p:cNvPicPr/>
          <p:nvPr/>
        </p:nvPicPr>
        <p:blipFill>
          <a:blip r:embed="rId3"/>
          <a:stretch/>
        </p:blipFill>
        <p:spPr>
          <a:xfrm>
            <a:off x="5796000" y="2349360"/>
            <a:ext cx="1714320" cy="130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201636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"/>
          <p:cNvPicPr/>
          <p:nvPr/>
        </p:nvPicPr>
        <p:blipFill>
          <a:blip r:embed="rId5"/>
          <a:stretch/>
        </p:blipFill>
        <p:spPr>
          <a:xfrm>
            <a:off x="3419640" y="4221000"/>
            <a:ext cx="201600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5" descr=""/>
          <p:cNvPicPr/>
          <p:nvPr/>
        </p:nvPicPr>
        <p:blipFill>
          <a:blip r:embed="rId6"/>
          <a:stretch/>
        </p:blipFill>
        <p:spPr>
          <a:xfrm>
            <a:off x="5580000" y="4221000"/>
            <a:ext cx="1943280" cy="1571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6"/>
          <p:cNvSpPr/>
          <p:nvPr/>
        </p:nvSpPr>
        <p:spPr>
          <a:xfrm>
            <a:off x="1258920" y="3068640"/>
            <a:ext cx="16574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3492360" y="2276640"/>
            <a:ext cx="648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4140360" y="3141720"/>
            <a:ext cx="1368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5003640" y="2276640"/>
            <a:ext cx="5050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5796000" y="321300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6300720" y="3213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2124000" y="4221000"/>
            <a:ext cx="792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4427640" y="5084640"/>
            <a:ext cx="792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6804000" y="486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e9"/>
                </a:solidFill>
                <a:latin typeface="Times New Roman"/>
              </a:rPr>
              <a:t>Компетентностно-ориентированное задание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1905120"/>
          <a:ext cx="7772400" cy="41907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55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1714320" cy="1285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6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2038320" cy="1533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7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714680" cy="1304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8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2276640" cy="1571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" descr=""/>
          <p:cNvPicPr/>
          <p:nvPr/>
        </p:nvPicPr>
        <p:blipFill>
          <a:blip r:embed="rId5"/>
          <a:stretch/>
        </p:blipFill>
        <p:spPr>
          <a:xfrm>
            <a:off x="3419640" y="4221000"/>
            <a:ext cx="2286000" cy="164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" descr=""/>
          <p:cNvPicPr/>
          <p:nvPr/>
        </p:nvPicPr>
        <p:blipFill>
          <a:blip r:embed="rId6"/>
          <a:stretch/>
        </p:blipFill>
        <p:spPr>
          <a:xfrm>
            <a:off x="6227640" y="4292640"/>
            <a:ext cx="1943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Инструмент проверки:</a:t>
            </a:r>
            <a:r>
              <a:rPr b="0" lang="ru-RU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За каждый правильный выбор 1 балл.                                        Максимум: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балл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ов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2" name="Picture 4" descr="107042"/>
          <p:cNvPicPr/>
          <p:nvPr/>
        </p:nvPicPr>
        <p:blipFill>
          <a:blip r:embed="rId2"/>
          <a:stretch/>
        </p:blipFill>
        <p:spPr>
          <a:xfrm>
            <a:off x="108000" y="3075120"/>
            <a:ext cx="518472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Структура КОЗ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456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   </a:t>
            </a:r>
            <a:r>
              <a:rPr b="1" i="1" lang="ru-RU" sz="4000" spc="-1" strike="noStrike" u="sng">
                <a:solidFill>
                  <a:srgbClr val="00264c"/>
                </a:solidFill>
                <a:uFillTx/>
                <a:latin typeface="Times New Roman"/>
              </a:rPr>
              <a:t>Характеристика задания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Название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едме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Класс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Формируемая компетент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спек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Уровен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6:55:57Z</dcterms:created>
  <dc:creator>USER</dc:creator>
  <dc:description/>
  <dc:language>en-US</dc:language>
  <cp:lastModifiedBy>Admin</cp:lastModifiedBy>
  <dcterms:modified xsi:type="dcterms:W3CDTF">2011-11-15T15:57:41Z</dcterms:modified>
  <cp:revision>88</cp:revision>
  <dc:subject/>
  <dc:title>Презентация PowerPoint</dc:title>
</cp:coreProperties>
</file>