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gif" ContentType="image/gif"/>
  <Override PartName="/ppt/media/image9.gif" ContentType="image/gif"/>
  <Override PartName="/ppt/media/image12.gif" ContentType="image/gif"/>
  <Override PartName="/ppt/media/image7.gif" ContentType="image/gif"/>
  <Override PartName="/ppt/media/image5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gif" ContentType="image/gif"/>
  <Override PartName="/ppt/media/image18.jpeg" ContentType="image/jpeg"/>
  <Override PartName="/ppt/media/image14.png" ContentType="image/pn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3080-6E2E-437A-97A4-EAF090F20A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44C3-7E56-4E16-B6D9-78CB77962FA0}" type="slidenum">
              <a:rPr b="0" lang="ru-RU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F9C0-7D90-456B-A692-7B033F6394E9}" type="slidenum">
              <a:rPr b="0" lang="ru-RU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9F7-CBB9-4ED8-AA1F-A5291111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B5A-90FA-402F-8140-1BB276C9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6D8D-3665-414E-B762-CFCFAFFC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685-4DA8-4118-9DCE-E8578021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675B-3805-4E94-B83E-12511324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A3B1-4F04-43BA-B0D8-3AE08C51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5703-81CA-43ED-A267-EE0B9359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5450-D3FA-4554-97F5-019469E9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E0DB-66B8-4A05-996C-9DEA0A32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EEE2-AC78-4058-BC25-993F40A6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AAA1-1D19-45B5-9946-E96604BB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0725-7361-441E-911F-51046DA2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5387-C315-4965-A132-DAF2E6C5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A8CD-2B31-4158-A63A-6B2DF62C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717B-8887-4F04-9B85-DC028C1A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D0F9-5C10-41B3-85DD-393425D0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B6BF-4BE7-41BF-95E6-B947CD99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D3AA-40F7-44A3-8E33-A4CD7D90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EB82-309C-47C5-8397-E77F8B04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9896-49E1-4E12-B3DC-30BE7049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EAE-6BCE-471E-8720-81C97614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99DA-2B26-41AF-8515-D5BC18BA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A48-E733-435A-8B83-438ED16C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C336-61A7-4211-84AD-702B9BC3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1030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1032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AA6D-5FBD-4B1D-AFD4-D932AD927F2B}" type="slidenum">
              <a:rPr b="0" lang="ru-RU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3FD5-2FC5-4150-A01F-837A9F713746}" type="slidenum"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023840" y="184320"/>
            <a:ext cx="8077320" cy="5205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трольно-измерительные материалы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038240" y="184320"/>
            <a:ext cx="8077320" cy="519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1" name="Picture 13" descr="20m"/>
          <p:cNvPicPr/>
          <p:nvPr/>
        </p:nvPicPr>
        <p:blipFill>
          <a:blip r:embed="rId1"/>
          <a:stretch/>
        </p:blipFill>
        <p:spPr>
          <a:xfrm>
            <a:off x="0" y="127080"/>
            <a:ext cx="8964720" cy="67309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4"/>
          <p:cNvSpPr/>
          <p:nvPr/>
        </p:nvSpPr>
        <p:spPr>
          <a:xfrm>
            <a:off x="3276720" y="189000"/>
            <a:ext cx="457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«Разработка компетентностно-ориентированных заданий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по учебным предметам»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3" name="Picture 15" descr="20m"/>
          <p:cNvPicPr/>
          <p:nvPr/>
        </p:nvPicPr>
        <p:blipFill>
          <a:blip r:embed="rId2"/>
          <a:stretch/>
        </p:blipFill>
        <p:spPr>
          <a:xfrm>
            <a:off x="0" y="0"/>
            <a:ext cx="8964720" cy="67309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928800" y="571680"/>
            <a:ext cx="46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cb9"/>
                </a:solidFill>
                <a:latin typeface="Times New Roman"/>
              </a:rPr>
              <a:t>Добрый день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10936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Структура КОЗ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69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64c"/>
                </a:solidFill>
                <a:uFillTx/>
                <a:latin typeface="Times New Roman"/>
              </a:rPr>
              <a:t> </a:t>
            </a:r>
            <a:r>
              <a:rPr b="1" i="1" lang="ru-RU" sz="4000" spc="-1" strike="noStrike" u="sng">
                <a:solidFill>
                  <a:srgbClr val="00264c"/>
                </a:solidFill>
                <a:uFillTx/>
                <a:latin typeface="Times New Roman"/>
              </a:rPr>
              <a:t>Стимул</a:t>
            </a: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264c"/>
                </a:solidFill>
                <a:latin typeface="Times New Roman"/>
              </a:rPr>
              <a:t>(проблемная ситуация) – погружает в контекст задания и мотивирует на его выполнение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7" name="Picture 4" descr="57"/>
          <p:cNvPicPr/>
          <p:nvPr/>
        </p:nvPicPr>
        <p:blipFill>
          <a:blip r:embed="rId2"/>
          <a:srcRect l="10928" t="35999" r="0" b="0"/>
          <a:stretch/>
        </p:blipFill>
        <p:spPr>
          <a:xfrm>
            <a:off x="468360" y="4797360"/>
            <a:ext cx="3816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3680" y="404640"/>
            <a:ext cx="7772400" cy="1022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cc"/>
                </a:solidFill>
                <a:uFillTx/>
                <a:latin typeface="Times New Roman"/>
              </a:rPr>
              <a:t>Структура КОЗ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 </a:t>
            </a: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Задачная формулировка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 (инструкция) – содержит указания учащемуся на его действия по выполнению задания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Простая структура: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A) прочитай текст и составь памятку, инструкцию, таблицу…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Б) прослушай задачу и ответь на вопрос…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B) внимательно прочитай и найди 2 главных принципа…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Г) бегло просмотри текст и выбери непонятные слова, объясни их при помощи ...(а,б,в - задачные формулировки простой структуры, но их можно перестроить в сложные структуры).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ffe9"/>
                </a:solidFill>
                <a:uFillTx/>
                <a:latin typeface="Times New Roman"/>
              </a:rPr>
              <a:t>Задачная формулировка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Сложная структура: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A) прочитай текст и составь памятку, инструкцию, таблицу..., подготовь выступление перед одноклассниками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Б) прослушай задачу и ответь на вопрос..., найди недостающие данные и введи их в условие задачи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B) внимательно прочитай и найди три главных принципа..., составь памятку для..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3680" y="475920"/>
            <a:ext cx="7772400" cy="950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cc"/>
                </a:solidFill>
                <a:uFillTx/>
                <a:latin typeface="Times New Roman"/>
              </a:rPr>
              <a:t>Структура КОЗ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84960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Источник информации</a:t>
            </a:r>
            <a:r>
              <a:rPr b="0" lang="ru-RU" sz="3600" spc="-1" strike="noStrike">
                <a:solidFill>
                  <a:srgbClr val="00264c"/>
                </a:solidFill>
                <a:latin typeface="Times New Roman"/>
              </a:rPr>
              <a:t> содержит информацию, необходимую для успешной деятельности учащегося по выполнению задания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4" name="Picture 4" descr="20"/>
          <p:cNvPicPr/>
          <p:nvPr/>
        </p:nvPicPr>
        <p:blipFill>
          <a:blip r:embed="rId2"/>
          <a:stretch/>
        </p:blipFill>
        <p:spPr>
          <a:xfrm>
            <a:off x="179280" y="4149720"/>
            <a:ext cx="33577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cc"/>
                </a:solidFill>
                <a:uFillTx/>
                <a:latin typeface="Times New Roman"/>
              </a:rPr>
              <a:t>Структура КОЗ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Инструмент проверки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Бланк</a:t>
            </a:r>
            <a:r>
              <a:rPr b="1" i="1" lang="ru-RU" sz="36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7" name="Picture 4" descr="52897604_3"/>
          <p:cNvPicPr/>
          <p:nvPr/>
        </p:nvPicPr>
        <p:blipFill>
          <a:blip r:embed="rId3"/>
          <a:stretch/>
        </p:blipFill>
        <p:spPr>
          <a:xfrm>
            <a:off x="250920" y="3821040"/>
            <a:ext cx="3456000" cy="3036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755640" y="5950080"/>
            <a:ext cx="25210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93680" y="475920"/>
            <a:ext cx="7772400" cy="950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e9"/>
                </a:solidFill>
                <a:uFillTx/>
                <a:latin typeface="Times New Roman"/>
              </a:rPr>
              <a:t>Практикум №1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«Определение структурных элементов компетентностно-ориентированного задания»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344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ffffe9"/>
                </a:solidFill>
                <a:uFillTx/>
                <a:latin typeface="Times New Roman"/>
              </a:rPr>
              <a:t>Практикум </a:t>
            </a:r>
            <a:r>
              <a:rPr b="1" lang="ru-RU" sz="3600" spc="-1" strike="noStrike">
                <a:solidFill>
                  <a:srgbClr val="ffffe9"/>
                </a:solidFill>
                <a:latin typeface="Times New Roman"/>
              </a:rPr>
              <a:t>«Корректируем задания учебника»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489600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Прочитайте параграф учебника, посвященный Пугачевскому восстанию,  и заполните таблицу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84360" y="3860640"/>
          <a:ext cx="6095880" cy="216072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Этап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События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82316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История, 7 класс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Компетентность: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информационная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спект: 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первичная обработка информации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Компетентность: 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коммуникативная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спект: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 публичное выступление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Компетентность: 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самоменеджмен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спект: 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рефлексия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Уровень: 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Ваш товарищ был болен,  поэтому не присутствовал  на уроках, посвященных Пугачевскому восстанию. </a:t>
            </a:r>
            <a:br>
              <a:rPr sz="2800"/>
            </a:b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1. Прочитай текст параграфа. Запиши основные этапы, годы и события в виде таблицы.</a:t>
            </a:r>
            <a:br>
              <a:rPr sz="2800"/>
            </a:b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2. Подготовь краткое выступление, используя средства логической связи для выделения смысловых блоков своего выступления. Будь готов ответить на вопросы.</a:t>
            </a:r>
            <a:br>
              <a:rPr sz="2800"/>
            </a:b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3. Назови трудности, с которыми ты столкнулся  при выполнении задания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Корректируем задания учебника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Выбор задания. (УМК)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64c"/>
                </a:solidFill>
                <a:uFillTx/>
                <a:latin typeface="Times New Roman"/>
              </a:rPr>
              <a:t>Характеристика задания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Название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Предмет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Класс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Формируемая компетентность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Аспект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Уровень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765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Настоящий урок –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это совместный поиск истины учителем и учеником. Где этого нет, там скука…”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38240" y="184320"/>
            <a:ext cx="8077320" cy="457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7" name="Picture 4" descr="0_b8e4_f137b848_XL"/>
          <p:cNvPicPr/>
          <p:nvPr/>
        </p:nvPicPr>
        <p:blipFill>
          <a:blip r:embed="rId1"/>
          <a:stretch/>
        </p:blipFill>
        <p:spPr>
          <a:xfrm>
            <a:off x="108000" y="3357720"/>
            <a:ext cx="57546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Продумать стимул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Сформулировать задачную формулировку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Принести учебник(по выбору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0a15d1e65643464a78fd44d41c1ba812"/>
          <p:cNvPicPr/>
          <p:nvPr/>
        </p:nvPicPr>
        <p:blipFill>
          <a:blip r:embed="rId1"/>
          <a:stretch/>
        </p:blipFill>
        <p:spPr>
          <a:xfrm>
            <a:off x="0" y="-861840"/>
            <a:ext cx="9144000" cy="8758080"/>
          </a:xfrm>
          <a:prstGeom prst="rect">
            <a:avLst/>
          </a:prstGeom>
          <a:ln w="0">
            <a:noFill/>
          </a:ln>
        </p:spPr>
      </p:pic>
      <p:sp>
        <p:nvSpPr>
          <p:cNvPr id="173" name="WordArt 7"/>
          <p:cNvSpPr txBox="1"/>
          <p:nvPr/>
        </p:nvSpPr>
        <p:spPr>
          <a:xfrm>
            <a:off x="684360" y="5877000"/>
            <a:ext cx="79912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работу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552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Предмет: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Ознакомление с окружающим миром. 1 класс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Тема: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Как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правильно 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ухаживать за кошкой и собакой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Групповая работа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11280" y="4149720"/>
          <a:ext cx="7991280" cy="2075040"/>
        </p:xfrm>
        <a:graphic>
          <a:graphicData uri="http://schemas.openxmlformats.org/drawingml/2006/table">
            <a:tbl>
              <a:tblPr/>
              <a:tblGrid>
                <a:gridCol w="2879640"/>
                <a:gridCol w="2448000"/>
                <a:gridCol w="2663640"/>
              </a:tblGrid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компетентность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аспект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урове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нь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коммуникативная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Продуктивная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Групповая коммуникация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Публичное выступление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информационная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Планирование информационного поиска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720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69440" cy="518508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«Здравствуйте, ребята!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Я очень хочу завести собаку или кошку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Это моя самая заветная мечта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Но мама говорит, что я к этому ещё не готов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Помогите мне, пожалуйста, доказать маме, что я могу ухаживать за ними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С уважением дядя Фёдор»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912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75452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Внимательно рассмотрите картинки в таблице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Подумайте, чего не хватает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Приклейте недостающие предметы на свои места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Подготовьте выступление на тему «Как правильно ухаживать за кошкой и собакой»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Будьте готовы ответить на вопросы одноклассников.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1905120"/>
          <a:ext cx="7415280" cy="4190760"/>
        </p:xfrm>
        <a:graphic>
          <a:graphicData uri="http://schemas.openxmlformats.org/drawingml/2006/table">
            <a:tbl>
              <a:tblPr/>
              <a:tblGrid>
                <a:gridCol w="2419200"/>
                <a:gridCol w="2573640"/>
                <a:gridCol w="2422440"/>
              </a:tblGrid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20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7" name="Picture 20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1714320" cy="1285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1" descr=""/>
          <p:cNvPicPr/>
          <p:nvPr/>
        </p:nvPicPr>
        <p:blipFill>
          <a:blip r:embed="rId2"/>
          <a:stretch/>
        </p:blipFill>
        <p:spPr>
          <a:xfrm>
            <a:off x="3492360" y="2276640"/>
            <a:ext cx="2038320" cy="1533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2" descr=""/>
          <p:cNvPicPr/>
          <p:nvPr/>
        </p:nvPicPr>
        <p:blipFill>
          <a:blip r:embed="rId3"/>
          <a:stretch/>
        </p:blipFill>
        <p:spPr>
          <a:xfrm>
            <a:off x="5796000" y="2349360"/>
            <a:ext cx="1714320" cy="130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3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2016360" cy="1571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4" descr=""/>
          <p:cNvPicPr/>
          <p:nvPr/>
        </p:nvPicPr>
        <p:blipFill>
          <a:blip r:embed="rId5"/>
          <a:stretch/>
        </p:blipFill>
        <p:spPr>
          <a:xfrm>
            <a:off x="3419640" y="4221000"/>
            <a:ext cx="2016000" cy="16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5" descr=""/>
          <p:cNvPicPr/>
          <p:nvPr/>
        </p:nvPicPr>
        <p:blipFill>
          <a:blip r:embed="rId6"/>
          <a:stretch/>
        </p:blipFill>
        <p:spPr>
          <a:xfrm>
            <a:off x="5580000" y="4221000"/>
            <a:ext cx="1943280" cy="15717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6"/>
          <p:cNvSpPr/>
          <p:nvPr/>
        </p:nvSpPr>
        <p:spPr>
          <a:xfrm>
            <a:off x="1258920" y="3068640"/>
            <a:ext cx="16574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Rectangle 27"/>
          <p:cNvSpPr/>
          <p:nvPr/>
        </p:nvSpPr>
        <p:spPr>
          <a:xfrm>
            <a:off x="3492360" y="2276640"/>
            <a:ext cx="64800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Rectangle 28"/>
          <p:cNvSpPr/>
          <p:nvPr/>
        </p:nvSpPr>
        <p:spPr>
          <a:xfrm>
            <a:off x="4140360" y="3141720"/>
            <a:ext cx="1368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Rectangle 29"/>
          <p:cNvSpPr/>
          <p:nvPr/>
        </p:nvSpPr>
        <p:spPr>
          <a:xfrm>
            <a:off x="5003640" y="2276640"/>
            <a:ext cx="5050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5796000" y="321300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8" name="Rectangle 31"/>
          <p:cNvSpPr/>
          <p:nvPr/>
        </p:nvSpPr>
        <p:spPr>
          <a:xfrm>
            <a:off x="6300720" y="3213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Rectangle 32"/>
          <p:cNvSpPr/>
          <p:nvPr/>
        </p:nvSpPr>
        <p:spPr>
          <a:xfrm>
            <a:off x="2124000" y="4221000"/>
            <a:ext cx="79236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Rectangle 33"/>
          <p:cNvSpPr/>
          <p:nvPr/>
        </p:nvSpPr>
        <p:spPr>
          <a:xfrm>
            <a:off x="4427640" y="5084640"/>
            <a:ext cx="792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6804000" y="486900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1905120"/>
          <a:ext cx="7772400" cy="41907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20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Picture 55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1714320" cy="1285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6" descr=""/>
          <p:cNvPicPr/>
          <p:nvPr/>
        </p:nvPicPr>
        <p:blipFill>
          <a:blip r:embed="rId2"/>
          <a:stretch/>
        </p:blipFill>
        <p:spPr>
          <a:xfrm>
            <a:off x="3492360" y="2276640"/>
            <a:ext cx="2038320" cy="1533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7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1714680" cy="1304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8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2276640" cy="1571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9" descr=""/>
          <p:cNvPicPr/>
          <p:nvPr/>
        </p:nvPicPr>
        <p:blipFill>
          <a:blip r:embed="rId5"/>
          <a:stretch/>
        </p:blipFill>
        <p:spPr>
          <a:xfrm>
            <a:off x="3419640" y="4221000"/>
            <a:ext cx="2286000" cy="1648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0" descr=""/>
          <p:cNvPicPr/>
          <p:nvPr/>
        </p:nvPicPr>
        <p:blipFill>
          <a:blip r:embed="rId6"/>
          <a:stretch/>
        </p:blipFill>
        <p:spPr>
          <a:xfrm>
            <a:off x="6227640" y="4292640"/>
            <a:ext cx="19432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</a:rPr>
              <a:t>Инструмент проверки:</a:t>
            </a:r>
            <a:r>
              <a:rPr b="0" lang="ru-RU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За каждый правильный выбор 1 балл.                                        Максимум: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6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балл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ов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2" name="Picture 4" descr="107042"/>
          <p:cNvPicPr/>
          <p:nvPr/>
        </p:nvPicPr>
        <p:blipFill>
          <a:blip r:embed="rId2"/>
          <a:stretch/>
        </p:blipFill>
        <p:spPr>
          <a:xfrm>
            <a:off x="108000" y="3075120"/>
            <a:ext cx="518472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Структура КОЗ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94560" cy="46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64c"/>
                </a:solidFill>
                <a:uFillTx/>
                <a:latin typeface="Times New Roman"/>
              </a:rPr>
              <a:t>   </a:t>
            </a:r>
            <a:r>
              <a:rPr b="1" i="1" lang="ru-RU" sz="4000" spc="-1" strike="noStrike" u="sng">
                <a:solidFill>
                  <a:srgbClr val="00264c"/>
                </a:solidFill>
                <a:uFillTx/>
                <a:latin typeface="Times New Roman"/>
              </a:rPr>
              <a:t>Характеристика задания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Название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Предме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Класс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Формируемая компетентност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спек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Уровен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06:55:57Z</dcterms:created>
  <dc:creator>USER</dc:creator>
  <dc:description/>
  <dc:language>en-US</dc:language>
  <cp:lastModifiedBy>Admin</cp:lastModifiedBy>
  <dcterms:modified xsi:type="dcterms:W3CDTF">2011-11-15T15:57:41Z</dcterms:modified>
  <cp:revision>88</cp:revision>
  <dc:subject/>
  <dc:title>Презентация PowerPoint</dc:title>
</cp:coreProperties>
</file>