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9.wmf" ContentType="image/x-wmf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5AB-9F5A-490E-957E-F8ABCF45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C58-F45C-4FC1-B48B-672BF34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6DB-A52E-433F-B083-79039510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062-BB4C-44B3-A49E-0CA49496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5540-057E-4AB1-AE50-A6B79133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53B-3D98-4885-9618-1696BECE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A536-A5BC-4BA9-9184-5F10245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923B-C300-4647-A17A-18E116A5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E4D4-7296-46E7-A506-8C79140F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B24B-5DF4-4A05-9D4C-C89EE79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89F3-FC6C-456F-A200-6F41C72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4B7-46DD-42A4-A9B4-26374B5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5B7-C72D-464B-AF46-CEC4D19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F564-F1CF-442A-82FE-0DA9DDE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898-7EB4-4B32-B2BC-B1139A9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8C72-62F8-4E95-AD77-2C1AB0C6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21B-8A15-434C-8337-B9A08685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60F-2ACB-4303-AD13-980E5989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D6D-709F-4C1C-AC57-2A4372E1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ADB-05A1-4790-AFE1-5965AEC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E31-2963-4837-865F-E2CEF68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B88-6936-4B58-8541-690F369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BFB-6BB0-4907-BC2F-F534762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4E8-B742-47C8-A35F-7045955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191-95D4-4662-8002-D86CD0422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AF6F-3FAA-4E93-BEDF-BD98A1D523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okina.volsk-sch11.edusite.ru/DswMedia/rejimtrudaiotdyixasuraev.ppt" TargetMode="External"/><Relationship Id="rId2" Type="http://schemas.openxmlformats.org/officeDocument/2006/relationships/hyperlink" Target="http://erokina.volsk-sch11.edusite.ru/DswMedia/racional-noepitanie.ppt" TargetMode="External"/><Relationship Id="rId3" Type="http://schemas.openxmlformats.org/officeDocument/2006/relationships/hyperlink" Target="http://erokina.volsk-sch11.edusite.ru/DswMedia/zdorov-eibolezn-ubakaeva.ppt" TargetMode="External"/><Relationship Id="rId4" Type="http://schemas.openxmlformats.org/officeDocument/2006/relationships/hyperlink" Target="http://erokina.volsk-sch11.edusite.ru/DswMedia/zakalivanie.ppt" TargetMode="External"/><Relationship Id="rId5" Type="http://schemas.openxmlformats.org/officeDocument/2006/relationships/hyperlink" Target="http://erokina.volsk-sch11.edusite.ru/DswMedia/ovredekureniya.ppt" TargetMode="External"/><Relationship Id="rId6" Type="http://schemas.openxmlformats.org/officeDocument/2006/relationships/hyperlink" Target="http://erokina.volsk-sch11.edusite.ru/DswMedia/alkogol-.ppt" TargetMode="External"/><Relationship Id="rId7" Type="http://schemas.openxmlformats.org/officeDocument/2006/relationships/hyperlink" Target="http://erokina.volsk-sch11.edusite.ru/DswMedia/narkomaniya.ppt" TargetMode="External"/><Relationship Id="rId8" Type="http://schemas.openxmlformats.org/officeDocument/2006/relationships/hyperlink" Target="http://erokina.volsk-sch11.edusite.ru/DswMedia/narkomaniya.ppt" TargetMode="External"/><Relationship Id="rId9" Type="http://schemas.openxmlformats.org/officeDocument/2006/relationships/hyperlink" Target="http://erokina.volsk-sch11.edusite.ru/DswMedia/narkomaniya.ppt" TargetMode="Externa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6760" y="-36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качества здоровья воспитанников ЦППР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685800"/>
          <a:ext cx="8153280" cy="2666520"/>
        </p:xfrm>
        <a:graphic>
          <a:graphicData uri="http://schemas.openxmlformats.org/drawingml/2006/table">
            <a:tbl>
              <a:tblPr/>
              <a:tblGrid>
                <a:gridCol w="2121120"/>
                <a:gridCol w="1934280"/>
                <a:gridCol w="2048760"/>
                <a:gridCol w="204912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здоров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гр.-соматически здоровые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.-имеющие соматические заболе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. Имеющие хронические заболе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3124080"/>
          <a:ext cx="8381880" cy="390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838188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62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 какого возраста мы начали курит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возрасте 11-12 лет начали курить 37%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13-15 лет –   63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bezimeni-2"/>
          <p:cNvPicPr/>
          <p:nvPr/>
        </p:nvPicPr>
        <p:blipFill>
          <a:blip r:embed="rId1"/>
          <a:stretch/>
        </p:blipFill>
        <p:spPr>
          <a:xfrm>
            <a:off x="5059440" y="1600200"/>
            <a:ext cx="3216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00" y="171432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слушали взрослых ,но не слышали их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4857840" y="1389240"/>
            <a:ext cx="3857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рошка сын к отцу пришел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спросила крох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Что такое хорош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что такое плохо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делаешь зарядк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кушаешь сал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не любишь шоколадку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о найдешь здоровья кла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мыть не хочешь уш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в бассейн ты не идеш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 сигаретою ты дружишь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ак здоровья не найдеш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ужно, нужно заниматься по утрам и вечер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мываться, закаляться, спортом смело занимать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ыть здоровым постарать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Это только нужно нам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7"/>
          <p:cNvSpPr txBox="1"/>
          <p:nvPr/>
        </p:nvSpPr>
        <p:spPr>
          <a:xfrm>
            <a:off x="1143000" y="285840"/>
            <a:ext cx="6840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eorgia"/>
              </a:rPr>
              <a:t>"Курить - здоровью вредить«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eorgia"/>
              <a:ea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Мы задумались об этом в ЦППР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pic>
        <p:nvPicPr>
          <p:cNvPr id="189" name="Picture 6" descr="CASVABEJ"/>
          <p:cNvPicPr/>
          <p:nvPr/>
        </p:nvPicPr>
        <p:blipFill>
          <a:blip r:embed="rId6"/>
          <a:stretch/>
        </p:blipFill>
        <p:spPr>
          <a:xfrm>
            <a:off x="428760" y="1857240"/>
            <a:ext cx="3168360" cy="2724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Легкие"/>
          <p:cNvPicPr/>
          <p:nvPr/>
        </p:nvPicPr>
        <p:blipFill>
          <a:blip r:embed="rId7"/>
          <a:stretch/>
        </p:blipFill>
        <p:spPr>
          <a:xfrm>
            <a:off x="3357720" y="2928960"/>
            <a:ext cx="3138480" cy="317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Зубы курильщика"/>
          <p:cNvPicPr/>
          <p:nvPr/>
        </p:nvPicPr>
        <p:blipFill>
          <a:blip r:embed="rId8"/>
          <a:stretch/>
        </p:blipFill>
        <p:spPr>
          <a:xfrm>
            <a:off x="6429240" y="3286080"/>
            <a:ext cx="2121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"/>
          <p:cNvSpPr/>
          <p:nvPr/>
        </p:nvSpPr>
        <p:spPr>
          <a:xfrm>
            <a:off x="428760" y="357120"/>
            <a:ext cx="83581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Georgia"/>
              </a:rPr>
              <a:t>Никотин – один из самых опасных ядов растительного происхожд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Птицы (воробьи, голуби) погибают, если к их клюву всего лишь поднести стеклянную палочку, смоченную никотин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Кролик погибает от ¼ капли никотина, собака – от ½ кап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Для человека смертельная доза никотина составляет от 50 до         100 мг, или 2-3 кап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Именно такая доза поступает ежедневно в кровь после выкуривания 20-25 сигарет (в одной сигарете содержится примерно  6-8 мг никотина, из которых 3-4 мг попадает в кровь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42960" y="3000240"/>
            <a:ext cx="821520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Запомните, что  если человек курит в день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1 до 9 сигарет, то сокращает свою жизнь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н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- 4,6 года по сравнению с некурящи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10 до19 сигарет – на 5,5 лет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20 до 39 сигарет – на 6,2 год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лительно и много курящие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3 раз чаще страдают стенокарди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2 раз чаще – инфарктом миокард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0 раз чаще – язвой желудк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30 раз чаще – раком легк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0" descr="present107"/>
          <p:cNvPicPr/>
          <p:nvPr/>
        </p:nvPicPr>
        <p:blipFill>
          <a:blip r:embed="rId5"/>
          <a:stretch/>
        </p:blipFill>
        <p:spPr>
          <a:xfrm>
            <a:off x="1332000" y="49417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ше коллективное творчество на злобу дня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каждой пачке сигар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нздрав предупрежд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тех, кто курит – денег не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доровье убыв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жасный запах изо рт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вет кожи желтоват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грустны мутные глаз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згляд хитро вороваты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 нужно, дети, вам кури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нздрав предупреждает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стадион быстрей бег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н жизнь нам продлев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IMG_4885"/>
          <p:cNvPicPr/>
          <p:nvPr/>
        </p:nvPicPr>
        <p:blipFill>
          <a:blip r:embed="rId1"/>
          <a:stretch/>
        </p:blipFill>
        <p:spPr>
          <a:xfrm>
            <a:off x="4786200" y="192888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Влияние табакокурения на здоровье челове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685188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Мы провели эксперимент, чтобы  выявить физиологические последствия ку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ения и влияния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табачной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смо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187280" y="3500280"/>
            <a:ext cx="21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Опыт №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зяли прозрачную пластиковую бутылку, поместили туда ватные шарики. Бутылку закрыли пробкой с отверстием, в которую вставили трубку. Затем сжали бутылку, чтобы выдавить из неё воздух; в трубку вставили сигарету и зажгли её. Затем начали медленно ослаблять давление на бутылк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Получили следующие выводы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тенки бутылки и ватные шарики стали коричневыми, т.е. покрылись смолой. Так же как и при курении, легкие челове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9" descr="CAM_0185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04" name="Picture 10" descr="CAM_0215"/>
          <p:cNvPicPr/>
          <p:nvPr/>
        </p:nvPicPr>
        <p:blipFill>
          <a:blip r:embed="rId2"/>
          <a:stretch/>
        </p:blipFill>
        <p:spPr>
          <a:xfrm>
            <a:off x="5219640" y="3933720"/>
            <a:ext cx="2879640" cy="2583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пыт №2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ле опыта протерли ватным шариком стебель растения (герани) – он сморщился через сут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Вывод: табачная смола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«убивает»  ЖИВУ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ТКА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А значит она убивает и на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CAM_0188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08" name="Picture 16" descr="CAM_0223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амятка курящему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независимо от возраста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ждый раз, когда вы берете сигарету, задавайте себе вопрос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А хочу ли я  курить = побыстрее умереть?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 будете удивлены, как часто вы этого не хотит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Мы написали коллективное обращение к подросткам, употребляющим алкого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39640" y="1343520"/>
            <a:ext cx="81439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ты надеешься, что от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обидного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»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ва не может развиться алкоголизм – остынь!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любом опьяняющем напитке есть алкоголь – этиловый (или винный) спирт. Этиловый спирт – это наркотик. Если ты будешь заглатывать все новые и новые порции алкоголя, тебе не избежать зависимости. В твоем возрасте болезнь развивается в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а быстре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реклама покушается на твое здоровье и кошелек, превращая тебя в выпивоху. А потом та же реклама цинично предлагает стать клиентом многочисленных центров по избавлению от алкогольной зависимости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-нибудь ты можешь подвергнуться алкогольному давлению, если в твоей компании выпивают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ебе будут предлагать выпить. Почему?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ому, что пьяный человек похож на обезьяну, а никто не хочет, чтобы трезвый, чистый взгляд наблюдал за его обезьяним поведением  и воспринимал его пьяный бред.  Это будет твой экзамен на взрослость и самостоятельность. Сможешь и ты отказаться? Хватит ли у тебя  сил, достоинства и мужества? Ты должен уметь выбирать друзей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сь отказываться от того, что тебе не нуж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Если чувствуешь, что самому не справиться с бедой, подумай, кто бы мог тебе помочь. Трудно- приезжай в ЦППР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роектная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деятельность воспитанников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Организация режима дня школьни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Рациональное питан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Здоровье и болезн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Основы закаливан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абак – враг чело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Влияние алкоголя на здоровье чело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Наркомания – глобальная проблема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XXI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Вредные привычки и их влияние на здоровье человек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14200" y="1989000"/>
          <a:ext cx="5214960" cy="100512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ркотики употребляют сильные и талантливые люд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0" y="3357720"/>
          <a:ext cx="5214960" cy="93456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Все они если и были такими, то очень скоро деградировал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42960" y="1341360"/>
          <a:ext cx="5029200" cy="45576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Наркота – отстой, не класс…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651640" y="1844640"/>
          <a:ext cx="3348000" cy="1439640"/>
        </p:xfrm>
        <a:graphic>
          <a:graphicData uri="http://schemas.openxmlformats.org/drawingml/2006/table">
            <a:tbl>
              <a:tblPr/>
              <a:tblGrid>
                <a:gridCol w="3348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 наркотик   делает   человека свобод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435640" y="3714840"/>
          <a:ext cx="3562200" cy="1004760"/>
        </p:xfrm>
        <a:graphic>
          <a:graphicData uri="http://schemas.openxmlformats.org/drawingml/2006/table">
            <a:tbl>
              <a:tblPr/>
              <a:tblGrid>
                <a:gridCol w="356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Наркоманы абсолютно свободны от всех радостей жизн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0" y="5643720"/>
          <a:ext cx="4211640" cy="1006200"/>
        </p:xfrm>
        <a:graphic>
          <a:graphicData uri="http://schemas.openxmlformats.org/drawingml/2006/table">
            <a:tbl>
              <a:tblPr/>
              <a:tblGrid>
                <a:gridCol w="4211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 сожалению, часто вместе с жизнью. Отказаться можно только один раз -    перв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4941720"/>
          <a:ext cx="4213080" cy="1439640"/>
        </p:xfrm>
        <a:graphic>
          <a:graphicData uri="http://schemas.openxmlformats.org/drawingml/2006/table">
            <a:tbl>
              <a:tblPr/>
              <a:tblGrid>
                <a:gridCol w="421308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ркотики бывают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всерьез» и «не всерьез» - всегд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ожно отказать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042920" y="404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Страшнее алкоголя только наркотики. ПОМНИ ,ПОДРОСТО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!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так, вредные привычки оказывают отрицательное влияние на здоровь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состоянии алкогольного опьянения  человек становится буйным. В таком состоянии он способен обидеть родных и близких, друзей, совершить правонаруш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Мы все стоим на учете ОДН, КДН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И это портит нам жизнь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отличие  от алкоголя  табак  не вызывает сильных изменений в поведении человека.  НО курящие  люди  наносят  вред  окружающим.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Берегите близких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ПОМНИТЕ!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Бангкоке установлены гигантск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«часы смерти». Они отсчитывают каждую минуту  по  восемь  смертей . Именно  столько  людей  на  планете  гибнет ежеминутно от кур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 4 месяца в ЦППРиК мы многое поняли….Есть в жизни главное и не главное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лавное -это Здоровье и Честь и это зависит от нас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Сегодня в ЦППРиК в моде здоровый образ жизни!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411280" y="2357280"/>
            <a:ext cx="626436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годня в ЦППРиК в мод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й образ жизн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150920" y="214200"/>
            <a:ext cx="77929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14" descr="E:\1\050420112479.jpg"/>
          <p:cNvPicPr/>
          <p:nvPr/>
        </p:nvPicPr>
        <p:blipFill>
          <a:blip r:embed="rId1"/>
          <a:stretch/>
        </p:blipFill>
        <p:spPr>
          <a:xfrm>
            <a:off x="357120" y="0"/>
            <a:ext cx="230976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E:\1\050420112480.jpg"/>
          <p:cNvPicPr/>
          <p:nvPr/>
        </p:nvPicPr>
        <p:blipFill>
          <a:blip r:embed="rId2"/>
          <a:stretch/>
        </p:blipFill>
        <p:spPr>
          <a:xfrm>
            <a:off x="285840" y="4286160"/>
            <a:ext cx="295092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E:\1\050420112482.jpg"/>
          <p:cNvPicPr/>
          <p:nvPr/>
        </p:nvPicPr>
        <p:blipFill>
          <a:blip r:embed="rId3"/>
          <a:stretch/>
        </p:blipFill>
        <p:spPr>
          <a:xfrm>
            <a:off x="6500880" y="4071960"/>
            <a:ext cx="2340000" cy="242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E:\1\050420112484.jpg"/>
          <p:cNvPicPr/>
          <p:nvPr/>
        </p:nvPicPr>
        <p:blipFill>
          <a:blip r:embed="rId4"/>
          <a:stretch/>
        </p:blipFill>
        <p:spPr>
          <a:xfrm>
            <a:off x="6500880" y="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E:\1\050420112483.jpg"/>
          <p:cNvPicPr/>
          <p:nvPr/>
        </p:nvPicPr>
        <p:blipFill>
          <a:blip r:embed="rId5"/>
          <a:stretch/>
        </p:blipFill>
        <p:spPr>
          <a:xfrm>
            <a:off x="3357720" y="21420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E:\1\050420112481.jpg"/>
          <p:cNvPicPr/>
          <p:nvPr/>
        </p:nvPicPr>
        <p:blipFill>
          <a:blip r:embed="rId6"/>
          <a:stretch/>
        </p:blipFill>
        <p:spPr>
          <a:xfrm>
            <a:off x="3143160" y="446076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E:\1\050420112483.jpg"/>
          <p:cNvPicPr/>
          <p:nvPr/>
        </p:nvPicPr>
        <p:blipFill>
          <a:blip r:embed="rId7"/>
          <a:stretch/>
        </p:blipFill>
        <p:spPr>
          <a:xfrm>
            <a:off x="3357720" y="214200"/>
            <a:ext cx="26161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оциальный проект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Вредные привычки и их влияние на здоровье человека»</a:t>
            </a:r>
            <a:br>
              <a:rPr sz="6600"/>
            </a:b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втор: ученик 8 класса Юдин Роман    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и технической поддержке  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ченика 6  класса Эзепчика Серге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028000" y="1052640"/>
            <a:ext cx="1116000" cy="525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8000" y="2276640"/>
            <a:ext cx="1295280" cy="4464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292720" y="4221000"/>
            <a:ext cx="1655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4"/>
          <p:cNvSpPr/>
          <p:nvPr/>
        </p:nvSpPr>
        <p:spPr>
          <a:xfrm>
            <a:off x="1000080" y="85716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– бесценное благо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и поняли это мы только в ЦППР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Умение сохранить его в огромной мере зависит от самого челове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5" descr="b17"/>
          <p:cNvPicPr/>
          <p:nvPr/>
        </p:nvPicPr>
        <p:blipFill>
          <a:blip r:embed="rId1"/>
          <a:stretch/>
        </p:blipFill>
        <p:spPr>
          <a:xfrm>
            <a:off x="2627280" y="2637000"/>
            <a:ext cx="439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Я выбрал эту тему, так как считаю чт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человек ответственен за свое здоровье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из нас мечтает и хочет жить долго и счастливо, но не всякий может жить правиль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это не грустно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ы проходим реабилитацию…в ЦППР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я задача- предоставить другим воспитанникам, которые придут в ЦППРиК после нас ,возможность познакомиться  с информацией и статистикой по проблеме курения и алкоголизма. Показать пагубность для детского  организма употребления  ПА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деемс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они поймут это быстрее чем мы!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Цели и задачи моей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ель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казать пагубность  курения в  детском возрасте, сформировать у воспитанников представление об отрицательном влиянии курения, алкоголя и наркотиков на организ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Изучить предложенную воспитателем и найденную в интернете  литературу по данной тем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Показать нашим сверстникам, как вредные привычки влияют на здоровье и развитие их личн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Помочь курящим парням  избавиться от вредной привыч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8858160" cy="63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400"/>
            </a:br>
            <a:r>
              <a:rPr b="0" i="1" lang="ru-RU" sz="1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Современная медицина, и, прежде всего  гигиена, изучающая изменения здоровья человека под влиянием различных факторов, утверждает, что гармонично развитой личностью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(мужчина - умный и сильный, женщина - красивая и обаятельная) может быть только здоровый человек.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(Это  мы усвоили на занятиях по социально бытовой ориентировке и ЗОЖ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Мы усвоили, что уровень здоровья человека зависит от многих факторов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наследственных, социально-экономических, экологических,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системы здравоохранени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Но, по данным ВОЗ он лишь на 10-15 % связан с последним фактором, на 15-20 % обусловлен генетическими факторами, на 25 % его определяют экологические условия и на 50-55 % - условия и образ жизни человек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Таким образом, очевидно, что  главная роль в сохранении и формировании здоровья все же принадлежит самому человеку, его образу жизни, его ценностям, установкам, степени  его понимания. Вместе с тем современный человек в большинстве случаев перекладывает ответственность за свое здоровье на врачей, родител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Он фактически равнодушен по отношению к себе, не отвечает за силы и здоровье своего организм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В действительности же, укрепление и  сохранение здоровья должно стать потребностью и обязанностью каждого челове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У нас всех 2 и 3 группы здоровья . Это значит , что у всех есть свои хронические болезни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Что же  влияет на здоровье человека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ояние окружающей  природной сре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енетика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ледственност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равоохран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692680" y="1600200"/>
          <a:ext cx="1949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49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9"/>
          <p:cNvGraphicFramePr/>
          <p:nvPr/>
        </p:nvGraphicFramePr>
        <p:xfrm>
          <a:off x="4572000" y="1989000"/>
          <a:ext cx="4321080" cy="295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9000"/>
                    <a:ext cx="432108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говорим об образе жизни…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мы уже сделали для своего здоровья??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…Попробовали на себе все вредные привычки (курили, употребляли алкоголь, ПАВ…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22:34Z</dcterms:created>
  <dc:creator>uzer</dc:creator>
  <dc:description/>
  <dc:language>en-US</dc:language>
  <cp:lastModifiedBy>Работник</cp:lastModifiedBy>
  <dcterms:modified xsi:type="dcterms:W3CDTF">2011-05-19T11:07:28Z</dcterms:modified>
  <cp:revision>50</cp:revision>
  <dc:subject/>
  <dc:title>Вредные привычки и их влияние на здоровье человека. </dc:title>
</cp:coreProperties>
</file>