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7.gif" ContentType="image/gif"/>
  <Override PartName="/ppt/media/image5.jpeg" ContentType="image/jpeg"/>
  <Override PartName="/ppt/media/image26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9.wmf" ContentType="image/x-wmf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3.jpeg" ContentType="image/jpeg"/>
  <Override PartName="/ppt/media/image24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970-5A28-493B-ADEF-41CB5D6F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449-EBA6-4B74-A59F-273DAF09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C58-366A-4E63-8AEE-F3319A8D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379-D39F-4E4C-B801-2598DBA4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966A-FEB9-4EF6-AF77-0284F5D8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ED15-C58E-44DE-B51E-78969A6E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BC96-8257-4BA6-9CC1-FAFC6473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1579-7260-4976-812C-AE83305C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5C03-A96C-4855-BA68-050DBA1E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ABC0-F6E0-4E5B-B722-2B27F6EA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C67D-D6F8-4537-834C-BAFD461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743-4A6B-4F3D-BEF7-B1C522C7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6FCA-41CA-49FE-9FF2-7538583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D0AB-A6EF-4F91-89A8-F08D45E0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2E6C-D2E3-410A-A04A-5B326B3F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7D71-B190-4478-AD27-62BC5B51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D5A8-39D9-4A5E-B92B-65AF0758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598-FDB6-4574-99E9-7C420C85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3D0-C275-4196-A993-E2966A65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552-9519-4773-900B-64D6AA17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E9A-2F07-4B8A-AA50-ECA6A26D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ABF-A2E5-4E60-A669-DD705CC4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FDE-CEED-48FA-B1B1-C03CA6EE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FE1-605B-4DC2-A99F-07DC28F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33C8-632B-4C79-8FDB-9E57CEF91B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A808-536B-4A03-9C36-910B54E307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okina.volsk-sch11.edusite.ru/DswMedia/rejimtrudaiotdyixasuraev.ppt" TargetMode="External"/><Relationship Id="rId2" Type="http://schemas.openxmlformats.org/officeDocument/2006/relationships/hyperlink" Target="http://erokina.volsk-sch11.edusite.ru/DswMedia/racional-noepitanie.ppt" TargetMode="External"/><Relationship Id="rId3" Type="http://schemas.openxmlformats.org/officeDocument/2006/relationships/hyperlink" Target="http://erokina.volsk-sch11.edusite.ru/DswMedia/zdorov-eibolezn-ubakaeva.ppt" TargetMode="External"/><Relationship Id="rId4" Type="http://schemas.openxmlformats.org/officeDocument/2006/relationships/hyperlink" Target="http://erokina.volsk-sch11.edusite.ru/DswMedia/zakalivanie.ppt" TargetMode="External"/><Relationship Id="rId5" Type="http://schemas.openxmlformats.org/officeDocument/2006/relationships/hyperlink" Target="http://erokina.volsk-sch11.edusite.ru/DswMedia/ovredekureniya.ppt" TargetMode="External"/><Relationship Id="rId6" Type="http://schemas.openxmlformats.org/officeDocument/2006/relationships/hyperlink" Target="http://erokina.volsk-sch11.edusite.ru/DswMedia/alkogol-.ppt" TargetMode="External"/><Relationship Id="rId7" Type="http://schemas.openxmlformats.org/officeDocument/2006/relationships/hyperlink" Target="http://erokina.volsk-sch11.edusite.ru/DswMedia/narkomaniya.ppt" TargetMode="External"/><Relationship Id="rId8" Type="http://schemas.openxmlformats.org/officeDocument/2006/relationships/hyperlink" Target="http://erokina.volsk-sch11.edusite.ru/DswMedia/narkomaniya.ppt" TargetMode="External"/><Relationship Id="rId9" Type="http://schemas.openxmlformats.org/officeDocument/2006/relationships/hyperlink" Target="http://erokina.volsk-sch11.edusite.ru/DswMedia/narkomaniya.ppt" TargetMode="External"/><Relationship Id="rId10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6760" y="-36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качества здоровья воспитанников ЦППР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09480" y="685800"/>
          <a:ext cx="8153280" cy="2666520"/>
        </p:xfrm>
        <a:graphic>
          <a:graphicData uri="http://schemas.openxmlformats.org/drawingml/2006/table">
            <a:tbl>
              <a:tblPr/>
              <a:tblGrid>
                <a:gridCol w="2121120"/>
                <a:gridCol w="1934280"/>
                <a:gridCol w="2048760"/>
                <a:gridCol w="204912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здоров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гр.-соматически здоровые де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.-имеющие соматические заболе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р. Имеющие хронические заболе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3124080"/>
          <a:ext cx="8381880" cy="390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124080"/>
                    <a:ext cx="838188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628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 какого возраста мы начали курить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возрасте 11-12 лет начали курить 37%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13-15 лет –   63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bezimeni-2"/>
          <p:cNvPicPr/>
          <p:nvPr/>
        </p:nvPicPr>
        <p:blipFill>
          <a:blip r:embed="rId1"/>
          <a:stretch/>
        </p:blipFill>
        <p:spPr>
          <a:xfrm>
            <a:off x="5059440" y="1600200"/>
            <a:ext cx="3216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28400" y="1714320"/>
            <a:ext cx="4143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ы слушали взрослых ,но не слышали их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4857840" y="1389240"/>
            <a:ext cx="38574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рошка сын к отцу пришел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спросила крох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«Что такое хорош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что такое плохо?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сли делаешь зарядк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сли кушаешь сала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не любишь шоколадку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о найдешь здоровья кла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сли мыть не хочешь уш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 в бассейн ты не идеш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 сигаретою ты дружишь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ак здоровья не найдеш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ужно, нужно заниматься по утрам и вечера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мываться, закаляться, спортом смело заниматьс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Быть здоровым постарать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Это только нужно нам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7"/>
          <p:cNvSpPr txBox="1"/>
          <p:nvPr/>
        </p:nvSpPr>
        <p:spPr>
          <a:xfrm>
            <a:off x="1143000" y="285840"/>
            <a:ext cx="684036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Georgia"/>
              </a:rPr>
              <a:t>"Курить - здоровью вредить«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Georgia"/>
              <a:ea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eorgia"/>
              <a:ea typeface="Georg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Georgia"/>
              </a:rPr>
              <a:t>Мы задумались об этом в ЦППР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Georgia"/>
              <a:ea typeface="Georgia"/>
            </a:endParaRPr>
          </a:p>
        </p:txBody>
      </p:sp>
      <p:pic>
        <p:nvPicPr>
          <p:cNvPr id="189" name="Picture 6" descr="CASVABEJ"/>
          <p:cNvPicPr/>
          <p:nvPr/>
        </p:nvPicPr>
        <p:blipFill>
          <a:blip r:embed="rId6"/>
          <a:stretch/>
        </p:blipFill>
        <p:spPr>
          <a:xfrm>
            <a:off x="428760" y="1857240"/>
            <a:ext cx="3168360" cy="2724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Легкие"/>
          <p:cNvPicPr/>
          <p:nvPr/>
        </p:nvPicPr>
        <p:blipFill>
          <a:blip r:embed="rId7"/>
          <a:stretch/>
        </p:blipFill>
        <p:spPr>
          <a:xfrm>
            <a:off x="3357720" y="2928960"/>
            <a:ext cx="3138480" cy="317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Зубы курильщика"/>
          <p:cNvPicPr/>
          <p:nvPr/>
        </p:nvPicPr>
        <p:blipFill>
          <a:blip r:embed="rId8"/>
          <a:stretch/>
        </p:blipFill>
        <p:spPr>
          <a:xfrm>
            <a:off x="6429240" y="3286080"/>
            <a:ext cx="2121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2"/>
          <p:cNvSpPr/>
          <p:nvPr/>
        </p:nvSpPr>
        <p:spPr>
          <a:xfrm>
            <a:off x="428760" y="357120"/>
            <a:ext cx="83581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Georgia"/>
              </a:rPr>
              <a:t>Никотин – один из самых опасных ядов растительного происхожд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Птицы (воробьи, голуби) погибают, если к их клюву всего лишь поднести стеклянную палочку, смоченную никотин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Кролик погибает от ¼ капли никотина, собака – от ½ кап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Для человека смертельная доза никотина составляет от 50 до         100 мг, или 2-3 капл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Именно такая доза поступает ежедневно в кровь после выкуривания 20-25 сигарет (в одной сигарете содержится примерно  6-8 мг никотина, из которых 3-4 мг попадает в кровь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642960" y="3000240"/>
            <a:ext cx="8215200" cy="32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Запомните, что  если человек курит в день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т 1 до 9 сигарет, то сокращает свою жизнь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на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- 4,6 года по сравнению с некурящим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т 10 до19 сигарет – на 5,5 лет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от 20 до 39 сигарет – на 6,2 год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лительно и много курящие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в 13 раз чаще страдают стенокарди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в 12 раз чаще – инфарктом миокард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в 10 раз чаще – язвой желудк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в 30 раз чаще – раком легк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0" descr="present107"/>
          <p:cNvPicPr/>
          <p:nvPr/>
        </p:nvPicPr>
        <p:blipFill>
          <a:blip r:embed="rId5"/>
          <a:stretch/>
        </p:blipFill>
        <p:spPr>
          <a:xfrm>
            <a:off x="1332000" y="494172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ше коллективное творчество на злобу дня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 каждой пачке сигар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инздрав предупрежда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тех, кто курит – денег нет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Здоровье убыва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жасный запах изо рта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Цвет кожи желтоват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 грустны мутные глаза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згляд хитро вороваты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е нужно, дети, вам кури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инздрав предупреждает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 стадион быстрей бег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н жизнь нам продлевае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IMG_4885"/>
          <p:cNvPicPr/>
          <p:nvPr/>
        </p:nvPicPr>
        <p:blipFill>
          <a:blip r:embed="rId1"/>
          <a:stretch/>
        </p:blipFill>
        <p:spPr>
          <a:xfrm>
            <a:off x="4786200" y="1928880"/>
            <a:ext cx="3929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Влияние табакокурения на здоровье человек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2491920"/>
            <a:ext cx="6851880" cy="30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Мы провели эксперимент, чтобы  выявить физиологические последствия ку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ения и влияния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табачной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смол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187280" y="3500280"/>
            <a:ext cx="21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Опыт №1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зяли прозрачную пластиковую бутылку, поместили туда ватные шарики. Бутылку закрыли пробкой с отверстием, в которую вставили трубку. Затем сжали бутылку, чтобы выдавить из неё воздух; в трубку вставили сигарету и зажгли её. Затем начали медленно ослаблять давление на бутылк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Получили следующие выводы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тенки бутылки и ватные шарики стали коричневыми, т.е. покрылись смолой. Так же как и при курении, легкие челове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9" descr="CAM_0185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04" name="Picture 10" descr="CAM_0215"/>
          <p:cNvPicPr/>
          <p:nvPr/>
        </p:nvPicPr>
        <p:blipFill>
          <a:blip r:embed="rId2"/>
          <a:stretch/>
        </p:blipFill>
        <p:spPr>
          <a:xfrm>
            <a:off x="5219640" y="3933720"/>
            <a:ext cx="2879640" cy="2583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Опыт №2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сле опыта протерли ватным шариком стебель растения (герани) – он сморщился через сутк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Вывод: табачная смола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«убивает»  ЖИВУ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ТКАН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А значит она убивает и на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15" descr="CAM_0188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08" name="Picture 16" descr="CAM_0223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амятка курящему</a:t>
            </a:r>
            <a:br>
              <a:rPr sz="4400"/>
            </a:b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независимо от возраста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960" y="1928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аждый раз, когда вы берете сигарету, задавайте себе вопрос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А хочу ли я  курить = побыстрее умереть?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ы будете удивлены, как часто вы этого не хотит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 Cond"/>
              </a:rPr>
              <a:t>Мы написали коллективное обращение к подросткам, употребляющим алкого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539640" y="1343520"/>
            <a:ext cx="81439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ты надеешься, что от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обидного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»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ва не может развиться алкоголизм – остынь!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любом опьяняющем напитке есть алкоголь – этиловый (или винный) спирт. Этиловый спирт – это наркотик. Если ты будешь заглатывать все новые и новые порции алкоголя, тебе не избежать зависимости. В твоем возрасте болезнь развивается в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а быстре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чала реклама покушается на твое здоровье и кошелек, превращая тебя в выпивоху. А потом та же реклама цинично предлагает стать клиентом многочисленных центров по избавлению от алкогольной зависимости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-нибудь ты можешь подвергнуться алкогольному давлению, если в твоей компании выпивают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Тебе будут предлагать выпить. Почему?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ому, что пьяный человек похож на обезьяну, а никто не хочет, чтобы трезвый, чистый взгляд наблюдал за его обезьяним поведением  и воспринимал его пьяный бред.  Это будет твой экзамен на взрослость и самостоятельность. Сможешь и ты отказаться? Хватит ли у тебя  сил, достоинства и мужества? Ты должен уметь выбирать друзей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учись отказываться от того, что тебе не нужн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Если чувствуешь, что самому не справиться с бедой, подумай, кто бы мог тебе помочь. Трудно- приезжай в ЦППРи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роектная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деятельность воспитанников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Организация режима дня школьни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Рациональное питани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Здоровье и болезн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Основы закаливан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абак – враг челове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Влияние алкоголя на здоровье челове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Наркомания – глобальная проблема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XXI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 ве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«Вредные привычки и их влияние на здоровье человека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14200" y="1989000"/>
          <a:ext cx="5214960" cy="100512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оворят подросткам=Ложь: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ркотики употребляют сильные и талантливые люд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0000cc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0" y="3357720"/>
          <a:ext cx="5214960" cy="93456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РАВДА:</a:t>
                      </a: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Все они если и были такими, то очень скоро деградировал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0000cc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42960" y="1341360"/>
          <a:ext cx="5029200" cy="45576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«Наркота – отстой, не класс…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0000cc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651640" y="1844640"/>
          <a:ext cx="3348000" cy="1439640"/>
        </p:xfrm>
        <a:graphic>
          <a:graphicData uri="http://schemas.openxmlformats.org/drawingml/2006/table">
            <a:tbl>
              <a:tblPr/>
              <a:tblGrid>
                <a:gridCol w="33480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оворят подросткам=Ложь: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 наркотик   делает   человека свобод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cce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435640" y="3714840"/>
          <a:ext cx="3562200" cy="1004760"/>
        </p:xfrm>
        <a:graphic>
          <a:graphicData uri="http://schemas.openxmlformats.org/drawingml/2006/table">
            <a:tbl>
              <a:tblPr/>
              <a:tblGrid>
                <a:gridCol w="3562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РАВДА:</a:t>
                      </a:r>
                      <a:r>
                        <a:rPr b="1" lang="en-US" sz="2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Наркоманы абсолютно свободны от всех радостей жизн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cce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72000" y="5643720"/>
          <a:ext cx="4211640" cy="1006200"/>
        </p:xfrm>
        <a:graphic>
          <a:graphicData uri="http://schemas.openxmlformats.org/drawingml/2006/table">
            <a:tbl>
              <a:tblPr/>
              <a:tblGrid>
                <a:gridCol w="4211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РАВДА:</a:t>
                      </a:r>
                      <a:r>
                        <a:rPr b="1" lang="en-US" sz="2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 сожалению, часто вместе с жизнью. Отказаться можно только один раз -    первы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cce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4941720"/>
          <a:ext cx="4213080" cy="1439640"/>
        </p:xfrm>
        <a:graphic>
          <a:graphicData uri="http://schemas.openxmlformats.org/drawingml/2006/table">
            <a:tbl>
              <a:tblPr/>
              <a:tblGrid>
                <a:gridCol w="421308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Говорят подросткам=Ложь:</a:t>
                      </a: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ркотики бывают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всерьез» и «не всерьез» - всегд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ожно отказатьс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cce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042920" y="404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Страшнее алкоголя только наркотики. ПОМНИ ,ПОДРОСТОК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!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так, вредные привычки оказывают отрицательное влияние на здоровь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состоянии алкогольного опьянения  человек становится буйным. В таком состоянии он способен обидеть родных и близких, друзей, совершить правонаруше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Мы все стоим на учете ОДН, КДН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И это портит нам жизнь!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отличие  от алкоголя  табак  не вызывает сильных изменений в поведении человека.  НО курящие  люди  наносят  вред  окружающим.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Берегите близких!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ПОМНИТЕ!!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Бангкоке установлены гигантски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«часы смерти». Они отсчитывают каждую минуту  по  восемь  смертей . Именно  столько  людей  на  планете  гибнет ежеминутно от кур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 4 месяца в ЦППРиК мы многое поняли….Есть в жизни главное и не главное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лавное -это Здоровье и Честь и это зависит от нас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Сегодня в ЦППРиК в моде здоровый образ жизни!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5"/>
          <p:cNvSpPr txBox="1"/>
          <p:nvPr/>
        </p:nvSpPr>
        <p:spPr>
          <a:xfrm>
            <a:off x="2411280" y="2357280"/>
            <a:ext cx="6264360" cy="16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6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годня в ЦППРиК в мод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й образ жизни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150920" y="214200"/>
            <a:ext cx="77929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14" descr="E:\1\050420112479.jpg"/>
          <p:cNvPicPr/>
          <p:nvPr/>
        </p:nvPicPr>
        <p:blipFill>
          <a:blip r:embed="rId1"/>
          <a:stretch/>
        </p:blipFill>
        <p:spPr>
          <a:xfrm>
            <a:off x="357120" y="0"/>
            <a:ext cx="230976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E:\1\050420112480.jpg"/>
          <p:cNvPicPr/>
          <p:nvPr/>
        </p:nvPicPr>
        <p:blipFill>
          <a:blip r:embed="rId2"/>
          <a:stretch/>
        </p:blipFill>
        <p:spPr>
          <a:xfrm>
            <a:off x="285840" y="4286160"/>
            <a:ext cx="2950920" cy="221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E:\1\050420112482.jpg"/>
          <p:cNvPicPr/>
          <p:nvPr/>
        </p:nvPicPr>
        <p:blipFill>
          <a:blip r:embed="rId3"/>
          <a:stretch/>
        </p:blipFill>
        <p:spPr>
          <a:xfrm>
            <a:off x="6500880" y="4071960"/>
            <a:ext cx="2340000" cy="2428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E:\1\050420112484.jpg"/>
          <p:cNvPicPr/>
          <p:nvPr/>
        </p:nvPicPr>
        <p:blipFill>
          <a:blip r:embed="rId4"/>
          <a:stretch/>
        </p:blipFill>
        <p:spPr>
          <a:xfrm>
            <a:off x="6500880" y="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E:\1\050420112483.jpg"/>
          <p:cNvPicPr/>
          <p:nvPr/>
        </p:nvPicPr>
        <p:blipFill>
          <a:blip r:embed="rId5"/>
          <a:stretch/>
        </p:blipFill>
        <p:spPr>
          <a:xfrm>
            <a:off x="3357720" y="214200"/>
            <a:ext cx="2616120" cy="196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E:\1\050420112481.jpg"/>
          <p:cNvPicPr/>
          <p:nvPr/>
        </p:nvPicPr>
        <p:blipFill>
          <a:blip r:embed="rId6"/>
          <a:stretch/>
        </p:blipFill>
        <p:spPr>
          <a:xfrm>
            <a:off x="3143160" y="446076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" descr="E:\1\050420112483.jpg"/>
          <p:cNvPicPr/>
          <p:nvPr/>
        </p:nvPicPr>
        <p:blipFill>
          <a:blip r:embed="rId7"/>
          <a:stretch/>
        </p:blipFill>
        <p:spPr>
          <a:xfrm>
            <a:off x="3357720" y="214200"/>
            <a:ext cx="26161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оциальный проект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Вредные привычки и их влияние на здоровье человека»</a:t>
            </a:r>
            <a:br>
              <a:rPr sz="6600"/>
            </a:b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автор: ученик 8 класса Юдин Роман    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ри технической поддержке  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ченика 6  класса Эзепчика Серге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028000" y="1052640"/>
            <a:ext cx="1116000" cy="5256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8000" y="2276640"/>
            <a:ext cx="1295280" cy="4464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292720" y="4221000"/>
            <a:ext cx="1655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4"/>
          <p:cNvSpPr/>
          <p:nvPr/>
        </p:nvSpPr>
        <p:spPr>
          <a:xfrm>
            <a:off x="1000080" y="85716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ье – бесценное благо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и поняли это мы только в ЦППРи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Умение сохранить его в огромной мере зависит от самого челове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5" descr="b17"/>
          <p:cNvPicPr/>
          <p:nvPr/>
        </p:nvPicPr>
        <p:blipFill>
          <a:blip r:embed="rId1"/>
          <a:stretch/>
        </p:blipFill>
        <p:spPr>
          <a:xfrm>
            <a:off x="2627280" y="2637000"/>
            <a:ext cx="4392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Я выбрал эту тему, так как считаю чт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человек ответственен за свое здоровье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из нас мечтает и хочет жить долго и счастливо, но не всякий может жить правиль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это не грустно…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ы проходим реабилитацию…в ЦППРи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я задача- предоставить другим воспитанникам, которые придут в ЦППРиК после нас ,возможность познакомиться  с информацией и статистикой по проблеме курения и алкоголизма. Показать пагубность для детского  организма употребления  ПА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деемс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то они поймут это быстрее чем мы!!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Цели и задачи моей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Цель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казать пагубность  курения в  детском возрасте, сформировать у воспитанников представление об отрицательном влиянии курения, алкоголя и наркотиков на организ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дачи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Изучить предложенную воспитателем и найденную в интернете  литературу по данной тем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Показать нашим сверстникам, как вредные привычки влияют на здоровье и развитие их лично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Помочь курящим парням  избавиться от вредной привыч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285480"/>
            <a:ext cx="8858160" cy="63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br>
              <a:rPr sz="1400"/>
            </a:br>
            <a:r>
              <a:rPr b="0" i="1" lang="ru-RU" sz="1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ffcc66"/>
                </a:solidFill>
                <a:latin typeface="Verdana"/>
              </a:rPr>
              <a:t>Современная медицина, и, прежде всего  гигиена, изучающая изменения здоровья человека под влиянием различных факторов, утверждает, что гармонично развитой личностью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66"/>
                </a:solidFill>
                <a:latin typeface="Verdana"/>
              </a:rPr>
              <a:t>    </a:t>
            </a:r>
            <a:r>
              <a:rPr b="0" i="1" lang="ru-RU" sz="1600" spc="-1" strike="noStrike">
                <a:solidFill>
                  <a:srgbClr val="ffcc66"/>
                </a:solidFill>
                <a:latin typeface="Verdana"/>
              </a:rPr>
              <a:t>(мужчина - умный и сильный, женщина - красивая и обаятельная) может быть только здоровый человек.</a:t>
            </a: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 (Это  мы усвоили на занятиях по социально бытовой ориентировке и ЗОЖ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Мы усвоили, что уровень здоровья человека зависит от многих факторов: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наследственных, социально-экономических, экологических, деятельности</a:t>
            </a:r>
            <a:br>
              <a:rPr sz="1600"/>
            </a:b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системы здравоохранения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Но, по данным ВОЗ он лишь на 10-15 % связан с последним фактором, на 15-20 % обусловлен генетическими факторами, на 25 % его определяют экологические условия и на 50-55 % - условия и образ жизни человек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Таким образом, очевидно, что  главная роль в сохранении и формировании здоровья все же принадлежит самому человеку, его образу жизни, его ценностям, установкам, степени  его понимания. Вместе с тем современный человек в большинстве случаев перекладывает ответственность за свое здоровье на врачей, родителе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Verdana"/>
              </a:rPr>
              <a:t>Он фактически равнодушен по отношению к себе, не отвечает за силы и здоровье своего организма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В действительности же, укрепление и  сохранение здоровья должно стать потребностью и обязанностью каждого человек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i="1" lang="ru-RU" sz="1600" spc="-1" strike="noStrike">
                <a:solidFill>
                  <a:srgbClr val="ffcc66"/>
                </a:solidFill>
                <a:latin typeface="Verdana"/>
              </a:rPr>
              <a:t>У нас всех 2 и 3 группы здоровья . Это значит , что у всех есть свои хронические болезни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Что же  влияет на здоровье человека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ояние окружающей  природной сре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енетика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следственность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равоохран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раз жиз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692680" y="1600200"/>
          <a:ext cx="19494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600200"/>
                    <a:ext cx="1949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9"/>
          <p:cNvGraphicFramePr/>
          <p:nvPr/>
        </p:nvGraphicFramePr>
        <p:xfrm>
          <a:off x="4572000" y="1989000"/>
          <a:ext cx="4321080" cy="295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9000"/>
                    <a:ext cx="432108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говорим об образе жизни…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мы уже сделали для своего здоровья??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…Попробовали на себе все вредные привычки (курили, употребляли алкоголь, ПАВ…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22:34Z</dcterms:created>
  <dc:creator>uzer</dc:creator>
  <dc:description/>
  <dc:language>en-US</dc:language>
  <cp:lastModifiedBy>Работник</cp:lastModifiedBy>
  <dcterms:modified xsi:type="dcterms:W3CDTF">2011-05-19T11:07:28Z</dcterms:modified>
  <cp:revision>50</cp:revision>
  <dc:subject/>
  <dc:title>Вредные привычки и их влияние на здоровье человека. </dc:title>
</cp:coreProperties>
</file>