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C9E-E31F-4FB5-B9B4-8A14CD51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B2D-1F1B-40B7-9D8A-009CF2C3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75E-8990-4CCA-8B5F-E0703176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1C3-07D8-42F5-97E3-0890571D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C91-7F93-4292-8629-5E68D187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C63-C617-4B25-B8B3-C8297FFD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D68-3F6E-43E0-A262-5B879112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F55-909A-4976-80DE-1497F68E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514-1F81-4FCC-B646-289EE95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48F-ECC8-49F4-8828-2BE46FF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CEB-7B26-4E6D-A6C9-E722292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042-5C45-4DAE-9E65-FBF8E5C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C65-84C7-48C2-981B-4ACA6855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 в одном из самых удаленных уголков Вологодской области. Город имеет статус заповедника. Центр художественных ремёсел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ечное желез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цветная эмал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ь по серебр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ьба по берес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вка жесть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итьё бисером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ка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295272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f614"/>
                </a:solidFill>
                <a:latin typeface="Arial"/>
              </a:rPr>
              <a:t>Путешествие по</a:t>
            </a:r>
            <a:br>
              <a:rPr sz="4400"/>
            </a:br>
            <a:r>
              <a:rPr b="1" lang="en-US" sz="4400" spc="-1" strike="noStrike">
                <a:solidFill>
                  <a:srgbClr val="3af614"/>
                </a:solidFill>
                <a:latin typeface="Arial"/>
              </a:rPr>
              <a:t>тропе сказок</a:t>
            </a:r>
            <a:r>
              <a:rPr b="1" lang="en-US" sz="4000" spc="-1" strike="noStrike">
                <a:solidFill>
                  <a:srgbClr val="3af61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038480" cy="261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91200" y="1600200"/>
            <a:ext cx="29527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55640" y="4508640"/>
            <a:ext cx="381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Знакомство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русск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забав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404640"/>
            <a:ext cx="1081080" cy="115272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667200">
            <a:off x="8242200" y="1484280"/>
            <a:ext cx="830520" cy="936720"/>
          </a:xfrm>
          <a:custGeom>
            <a:avLst/>
            <a:gdLst>
              <a:gd name="textAreaLeft" fmla="*/ 342000 w 830520"/>
              <a:gd name="textAreaRight" fmla="*/ 488520 w 83052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019800">
            <a:off x="250920" y="189000"/>
            <a:ext cx="1081080" cy="115236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195800">
            <a:off x="1332000" y="404280"/>
            <a:ext cx="1081080" cy="115272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718600">
            <a:off x="323640" y="1412640"/>
            <a:ext cx="1081080" cy="115236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27280" y="260280"/>
            <a:ext cx="4172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тание в ресторан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25800" y="1052640"/>
            <a:ext cx="51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Устюг»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35280" y="2257560"/>
            <a:ext cx="5541840" cy="34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692280"/>
            <a:ext cx="863280" cy="1079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5300640"/>
            <a:ext cx="86364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960" y="5300640"/>
            <a:ext cx="86364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765000"/>
            <a:ext cx="86328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2544 C 0.01371 0.2259 0.0243 0.42659 -0.00486 0.49041 C -0.03403 0.55422 -0.06702 0.40717 -0.17153 0.40786 C -0.27604 0.40856 -0.55504 0.50058 -0.63177 0.49457 C -0.70851 0.48856 -0.65261 0.44185 -0.63177 0.37203 C -0.61094 0.3022 -0.56511 0.15214 -0.50643 0.07607 C -0.44775 -3.6994200000029E-006 -0.32483 -0.09896 -0.27934 -0.08462 C -0.23386 -0.07029 -0.2632 0.10035 -0.23334 0.16278 C -0.20347 0.22521 -0.12483 0.30497 -0.1 0.28948 C -0.07518 0.27399 -0.07222 0.12047 -0.0842 0.06983 C -0.09618 0.01919 -0.17656 0.00463 -0.17153 -0.01479 C -0.1665 -0.03422 -0.08264 -0.04901 -0.054 -0.04647 C -0.02535 -0.04393 -0.01268 -0.02196 2.22222E-006 -3.69942E-006 E">
                                      <p:cBhvr>
                                        <p:cTn id="25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56069E-006 L 0.36649 0.00416 L 0.6349 0.15838 L 0.78576 0.3889 L 0.76667 0.39098 L 0.74913 0.36555 L 0.59844 0.48624 L 0.6 0.56023 L 0.39045 0.73133 L 0.20469 0.69549 L 0.10799 0.5348 L 0.3158 0.52832 L 0.31424 0.26844 L -0.1 0.30636 L -0.01111 1.56069E-006 E">
                                      <p:cBhvr>
                                        <p:cTn id="26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28324E-006 C -0.02118 -0.04833 0.08854 -0.53804 0.13663 -0.62798 C 0.18472 -0.71793 0.2243 -0.51769 0.28889 -0.5392 C 0.35347 -0.5607 0.43975 -0.72047 0.52378 -0.757 C 0.60816 -0.79353 0.74566 -0.78035 0.79375 -0.75908 C 0.84184 -0.73781 0.81684 -0.71538 0.81284 -0.63006 C 0.80885 -0.54475 0.81441 -0.28532 0.76996 -0.24741 C 0.72552 -0.20949 0.56649 -0.3466 0.54618 -0.40186 C 0.52569 -0.45712 0.67344 -0.54498 0.64774 -0.57943 C 0.62205 -0.61388 0.41962 -0.68902 0.39219 -0.60902 C 0.36475 -0.52902 0.41232 -0.16879 0.48246 -0.09943 C 0.55295 -0.03006 0.76302 -0.20232 0.81441 -0.19238 C 0.8658 -0.18243 0.87656 -0.07307 0.79062 -0.04024 C 0.70469 -0.00741 0.38628 0.05387 0.29844 0.00415 C 0.21041 -0.04556 0.31215 -0.33781 0.26354 -0.33827 C 0.21475 -0.33874 0.02118 0.04832 -1.11111E-006 -7.28324E-006 Z">
                                      <p:cBhvr>
                                        <p:cTn id="2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-0.53177 0.0615 L -0.53976 -0.12463 L -0.6033 -0.12856 L -0.8033 -0.27445 L -0.75243 -0.56833 L -0.61285 -0.57249 L -0.53663 -0.72046 L -0.24305 -0.64231 L -0.32882 -0.75653 L -0.69687 -0.34636 L -0.48107 -0.39723 L -0.37621 -0.58729 L -0.32066 -0.61896 L -0.15399 -0.52393 L -0.05399 -0.77757 L 0.00781 -0.71838 L -0.35243 -0.19862 L -0.01285 -0.5133 L 0.02049 -0.50705 L 0.07292 -0.46497 L 0.04601 -0.44601 L -0.39531 -0.03168 L -0.01285 -0.30613 L 0.01424 -0.03168 E">
                                      <p:cBhvr>
                                        <p:cTn id="26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333360"/>
            <a:ext cx="914400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ду Вас в гости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1908000" y="2852640"/>
            <a:ext cx="1224000" cy="1162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1042920" y="3068640"/>
            <a:ext cx="720720" cy="873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ree"/>
          <p:cNvSpPr/>
          <p:nvPr/>
        </p:nvSpPr>
        <p:spPr>
          <a:xfrm>
            <a:off x="250920" y="2637000"/>
            <a:ext cx="720720" cy="9442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ree"/>
          <p:cNvSpPr/>
          <p:nvPr/>
        </p:nvSpPr>
        <p:spPr>
          <a:xfrm>
            <a:off x="3348000" y="2781360"/>
            <a:ext cx="115272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ree"/>
          <p:cNvSpPr/>
          <p:nvPr/>
        </p:nvSpPr>
        <p:spPr>
          <a:xfrm>
            <a:off x="4716360" y="2781360"/>
            <a:ext cx="122400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ree"/>
          <p:cNvSpPr/>
          <p:nvPr/>
        </p:nvSpPr>
        <p:spPr>
          <a:xfrm>
            <a:off x="6084720" y="2708280"/>
            <a:ext cx="1368720" cy="1305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ee"/>
          <p:cNvSpPr/>
          <p:nvPr/>
        </p:nvSpPr>
        <p:spPr>
          <a:xfrm>
            <a:off x="7667640" y="2781360"/>
            <a:ext cx="122400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7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9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249"/>
            </a:gs>
            <a:gs pos="100000">
              <a:srgbClr val="d5f9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42920" y="1268280"/>
            <a:ext cx="735660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508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осещение городской 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езиденции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Деда Мороза.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364360" cy="3384720"/>
          </a:xfrm>
          <a:prstGeom prst="rect">
            <a:avLst/>
          </a:prstGeom>
          <a:ln w="0">
            <a:noFill/>
          </a:ln>
        </p:spPr>
      </p:pic>
      <p:sp>
        <p:nvSpPr>
          <p:cNvPr id="45" name="Tree"/>
          <p:cNvSpPr/>
          <p:nvPr/>
        </p:nvSpPr>
        <p:spPr>
          <a:xfrm>
            <a:off x="0" y="4221000"/>
            <a:ext cx="180972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ree"/>
          <p:cNvSpPr/>
          <p:nvPr/>
        </p:nvSpPr>
        <p:spPr>
          <a:xfrm>
            <a:off x="7334280" y="429264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3603600" cy="55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475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63640" y="189000"/>
            <a:ext cx="43354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Мастерские</a:t>
            </a:r>
            <a:endParaRPr b="0" lang="en-US" sz="3200" spc="1" strike="noStrike">
              <a:ln w="0">
                <a:noFill/>
              </a:ln>
              <a:solidFill>
                <a:srgbClr val="00ccff"/>
              </a:solidFill>
              <a:effectLst>
                <a:outerShdw dist="107932" dir="81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445000"/>
            <a:ext cx="4608360" cy="11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венирная лав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3498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отправить открытки и письма родным и близким с автографом Деда Мо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пишут письма и просят подарки у Деда Мо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64040" y="3938760"/>
            <a:ext cx="340668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9640" y="333360"/>
            <a:ext cx="7920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та Деда Мороза.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00996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260280"/>
            <a:ext cx="84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ставка"Новогодняя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енская игруш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церкви Жен Миронос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4475160" cy="29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В тронном зале – встреча с Феей Добрых Дел. Можно сфотографироваться в новогодних костю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16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064040" cy="590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366264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280" y="3428640"/>
            <a:ext cx="80758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Встреча с добрым волшебником и его помощниками, чайная дегустация в Зимнем саду Деда Мороза. Знакомство с попугаем Кешей и оленем Лёш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95280" y="549360"/>
            <a:ext cx="813600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e82da"/>
                    </a:gs>
                    <a:gs pos="100000">
                      <a:srgbClr val="cc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Экскурсия по тере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e82da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e82da"/>
                    </a:gs>
                    <a:gs pos="100000">
                      <a:srgbClr val="cc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Деда Мороз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e82da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93080" y="1700280"/>
            <a:ext cx="1511280" cy="15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211800">
            <a:off x="539280" y="-242640"/>
            <a:ext cx="756288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ждественские традиции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ных стран.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971640" y="2060640"/>
            <a:ext cx="72723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36000" y="119700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209000">
            <a:off x="8028000" y="148428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415000">
            <a:off x="8100720" y="76464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8982200">
            <a:off x="395280" y="126828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229000">
            <a:off x="0" y="206064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8661800">
            <a:off x="8352360" y="6091560"/>
            <a:ext cx="79236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291600">
            <a:off x="35280" y="5588640"/>
            <a:ext cx="79236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0"/>
            <a:ext cx="64764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595000">
            <a:off x="360" y="407556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26800">
            <a:off x="8352000" y="4076280"/>
            <a:ext cx="541080" cy="4334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805 0.04393 L -0.46597 0.04393 L -0.42899 -0.00532 L -0.39305 0.04393 L -0.34097 0.04393 L -0.34097 0.11329 L -0.30503 0.16254 L -0.34097 0.2104 L -0.34097 0.27977 L -0.39305 0.27977 L -0.42899 0.32763 L -0.46597 0.27977 L -0.51805 0.27977 L -0.51805 0.2104 L -0.55503 0.16254 L -0.51805 0.11329 L -0.51805 0.04393 Z">
                                      <p:cBhvr>
                                        <p:cTn id="20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9:32:30Z</dcterms:created>
  <dc:creator>Михаил</dc:creator>
  <dc:description/>
  <dc:language>en-US</dc:language>
  <cp:lastModifiedBy>Гость</cp:lastModifiedBy>
  <dcterms:modified xsi:type="dcterms:W3CDTF">2005-12-22T15:30:44Z</dcterms:modified>
  <cp:revision>4</cp:revision>
  <dc:subject/>
  <dc:title>Расположен в одном из самых удаленных уголков Вологодской области. Город имеет статус заповедника. Центр художественных ремёсел: просечное железо, разноцветная эмаль, чернь по серебру, резьба по бересте, оковка жестью, шитьё бисером,  чеканка.</dc:title>
</cp:coreProperties>
</file>