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2F3E-85C8-429D-AF6B-E9A5FBD6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7771-A0C9-4219-93DF-028D3592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5D2B-905E-4ECD-99C6-4C16C039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A85-45BE-48E7-BD9D-9C7584D0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3F5-AA00-40C9-BDEA-984F6F20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A26-F0CA-4959-A9B4-F1023F6A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86A-5B18-4C62-86E7-FCD6F040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394-1BF4-42B3-8E67-CC1767EC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F2A-4DE1-4111-9C58-A8AE3C22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239-4B2A-451C-BA7D-715E68F0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4D6-C50E-4E87-8A3C-A5870F32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03E-9C03-4546-9958-E523AA72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B832-D75A-472A-A3C7-0E09DC445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оложен в одном из самых удаленных уголков Вологодской области. Город имеет статус заповедника. Центр художественных ремёсел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ечное железо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цветная эмаль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рнь по серебру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ьба по бересте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овка жестью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итьё бисером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ка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2952720" cy="43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f614"/>
                </a:solidFill>
                <a:latin typeface="Arial"/>
              </a:rPr>
              <a:t>Путешествие по</a:t>
            </a:r>
            <a:br>
              <a:rPr sz="4400"/>
            </a:br>
            <a:r>
              <a:rPr b="1" lang="en-US" sz="4400" spc="-1" strike="noStrike">
                <a:solidFill>
                  <a:srgbClr val="3af614"/>
                </a:solidFill>
                <a:latin typeface="Arial"/>
              </a:rPr>
              <a:t>тропе сказок</a:t>
            </a:r>
            <a:r>
              <a:rPr b="1" lang="en-US" sz="4000" spc="-1" strike="noStrike">
                <a:solidFill>
                  <a:srgbClr val="3af614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4038480" cy="2611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91200" y="1600200"/>
            <a:ext cx="295272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55640" y="4508640"/>
            <a:ext cx="381636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9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Знакомство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русски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забава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12000" y="404640"/>
            <a:ext cx="1081080" cy="1152720"/>
          </a:xfrm>
          <a:custGeom>
            <a:avLst/>
            <a:gdLst>
              <a:gd name="textAreaLeft" fmla="*/ 445320 w 1081080"/>
              <a:gd name="textAreaRight" fmla="*/ 635760 w 1081080"/>
              <a:gd name="textAreaTop" fmla="*/ 474840 h 1152720"/>
              <a:gd name="textAreaBottom" fmla="*/ 677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667200">
            <a:off x="8242200" y="1484280"/>
            <a:ext cx="830520" cy="936720"/>
          </a:xfrm>
          <a:custGeom>
            <a:avLst/>
            <a:gdLst>
              <a:gd name="textAreaLeft" fmla="*/ 342000 w 830520"/>
              <a:gd name="textAreaRight" fmla="*/ 488520 w 83052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019800">
            <a:off x="250920" y="189000"/>
            <a:ext cx="1081080" cy="1152360"/>
          </a:xfrm>
          <a:custGeom>
            <a:avLst/>
            <a:gdLst>
              <a:gd name="textAreaLeft" fmla="*/ 445320 w 1081080"/>
              <a:gd name="textAreaRight" fmla="*/ 635760 w 1081080"/>
              <a:gd name="textAreaTop" fmla="*/ 474840 h 1152360"/>
              <a:gd name="textAreaBottom" fmla="*/ 677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195800">
            <a:off x="1332000" y="404280"/>
            <a:ext cx="1081080" cy="1152720"/>
          </a:xfrm>
          <a:custGeom>
            <a:avLst/>
            <a:gdLst>
              <a:gd name="textAreaLeft" fmla="*/ 445320 w 1081080"/>
              <a:gd name="textAreaRight" fmla="*/ 635760 w 1081080"/>
              <a:gd name="textAreaTop" fmla="*/ 474840 h 1152720"/>
              <a:gd name="textAreaBottom" fmla="*/ 677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0718600">
            <a:off x="323640" y="1412640"/>
            <a:ext cx="1081080" cy="1152360"/>
          </a:xfrm>
          <a:custGeom>
            <a:avLst/>
            <a:gdLst>
              <a:gd name="textAreaLeft" fmla="*/ 445320 w 1081080"/>
              <a:gd name="textAreaRight" fmla="*/ 635760 w 1081080"/>
              <a:gd name="textAreaTop" fmla="*/ 474840 h 1152360"/>
              <a:gd name="textAreaBottom" fmla="*/ 677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627280" y="260280"/>
            <a:ext cx="41720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итание в ресторане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125800" y="1052640"/>
            <a:ext cx="514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Устюг»</a:t>
            </a:r>
            <a:endParaRPr b="0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835280" y="2257560"/>
            <a:ext cx="5541840" cy="349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692280"/>
            <a:ext cx="863280" cy="1079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40720" y="5300640"/>
            <a:ext cx="863640" cy="1079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960" y="5300640"/>
            <a:ext cx="863640" cy="1079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96360" y="765000"/>
            <a:ext cx="863280" cy="1079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2544 C 0.01371 0.2259 0.0243 0.42659 -0.00486 0.49041 C -0.03403 0.55422 -0.06702 0.40717 -0.17153 0.40786 C -0.27604 0.40856 -0.55504 0.50058 -0.63177 0.49457 C -0.70851 0.48856 -0.65261 0.44185 -0.63177 0.37203 C -0.61094 0.3022 -0.56511 0.15214 -0.50643 0.07607 C -0.44775 -3.6994200000029E-006 -0.32483 -0.09896 -0.27934 -0.08462 C -0.23386 -0.07029 -0.2632 0.10035 -0.23334 0.16278 C -0.20347 0.22521 -0.12483 0.30497 -0.1 0.28948 C -0.07518 0.27399 -0.07222 0.12047 -0.0842 0.06983 C -0.09618 0.01919 -0.17656 0.00463 -0.17153 -0.01479 C -0.1665 -0.03422 -0.08264 -0.04901 -0.054 -0.04647 C -0.02535 -0.04393 -0.01268 -0.02196 2.22222E-006 -3.69942E-006 E">
                                      <p:cBhvr>
                                        <p:cTn id="25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56069E-006 L 0.36649 0.00416 L 0.6349 0.15838 L 0.78576 0.3889 L 0.76667 0.39098 L 0.74913 0.36555 L 0.59844 0.48624 L 0.6 0.56023 L 0.39045 0.73133 L 0.20469 0.69549 L 0.10799 0.5348 L 0.3158 0.52832 L 0.31424 0.26844 L -0.1 0.30636 L -0.01111 1.56069E-006 E">
                                      <p:cBhvr>
                                        <p:cTn id="26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28324E-006 C -0.02118 -0.04833 0.08854 -0.53804 0.13663 -0.62798 C 0.18472 -0.71793 0.2243 -0.51769 0.28889 -0.5392 C 0.35347 -0.5607 0.43975 -0.72047 0.52378 -0.757 C 0.60816 -0.79353 0.74566 -0.78035 0.79375 -0.75908 C 0.84184 -0.73781 0.81684 -0.71538 0.81284 -0.63006 C 0.80885 -0.54475 0.81441 -0.28532 0.76996 -0.24741 C 0.72552 -0.20949 0.56649 -0.3466 0.54618 -0.40186 C 0.52569 -0.45712 0.67344 -0.54498 0.64774 -0.57943 C 0.62205 -0.61388 0.41962 -0.68902 0.39219 -0.60902 C 0.36475 -0.52902 0.41232 -0.16879 0.48246 -0.09943 C 0.55295 -0.03006 0.76302 -0.20232 0.81441 -0.19238 C 0.8658 -0.18243 0.87656 -0.07307 0.79062 -0.04024 C 0.70469 -0.00741 0.38628 0.05387 0.29844 0.00415 C 0.21041 -0.04556 0.31215 -0.33781 0.26354 -0.33827 C 0.21475 -0.33874 0.02118 0.04832 -1.11111E-006 -7.28324E-006 Z">
                                      <p:cBhvr>
                                        <p:cTn id="2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6185E-006 L -0.53177 0.0615 L -0.53976 -0.12463 L -0.6033 -0.12856 L -0.8033 -0.27445 L -0.75243 -0.56833 L -0.61285 -0.57249 L -0.53663 -0.72046 L -0.24305 -0.64231 L -0.32882 -0.75653 L -0.69687 -0.34636 L -0.48107 -0.39723 L -0.37621 -0.58729 L -0.32066 -0.61896 L -0.15399 -0.52393 L -0.05399 -0.77757 L 0.00781 -0.71838 L -0.35243 -0.19862 L -0.01285 -0.5133 L 0.02049 -0.50705 L 0.07292 -0.46497 L 0.04601 -0.44601 L -0.39531 -0.03168 L -0.01285 -0.30613 L 0.01424 -0.03168 E">
                                      <p:cBhvr>
                                        <p:cTn id="26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0" y="333360"/>
            <a:ext cx="9144000" cy="61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ду Вас в гости 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новых встреч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Tree"/>
          <p:cNvSpPr/>
          <p:nvPr/>
        </p:nvSpPr>
        <p:spPr>
          <a:xfrm>
            <a:off x="1908000" y="2852640"/>
            <a:ext cx="1224000" cy="1162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ree"/>
          <p:cNvSpPr/>
          <p:nvPr/>
        </p:nvSpPr>
        <p:spPr>
          <a:xfrm>
            <a:off x="1042920" y="3068640"/>
            <a:ext cx="720720" cy="873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ree"/>
          <p:cNvSpPr/>
          <p:nvPr/>
        </p:nvSpPr>
        <p:spPr>
          <a:xfrm>
            <a:off x="250920" y="2637000"/>
            <a:ext cx="720720" cy="9442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ree"/>
          <p:cNvSpPr/>
          <p:nvPr/>
        </p:nvSpPr>
        <p:spPr>
          <a:xfrm>
            <a:off x="3348000" y="2781360"/>
            <a:ext cx="1152720" cy="1233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ree"/>
          <p:cNvSpPr/>
          <p:nvPr/>
        </p:nvSpPr>
        <p:spPr>
          <a:xfrm>
            <a:off x="4716360" y="2781360"/>
            <a:ext cx="1224000" cy="1233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ree"/>
          <p:cNvSpPr/>
          <p:nvPr/>
        </p:nvSpPr>
        <p:spPr>
          <a:xfrm>
            <a:off x="6084720" y="2708280"/>
            <a:ext cx="1368720" cy="1305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ree"/>
          <p:cNvSpPr/>
          <p:nvPr/>
        </p:nvSpPr>
        <p:spPr>
          <a:xfrm>
            <a:off x="7667640" y="2781360"/>
            <a:ext cx="1224000" cy="1233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36 -0.09711 -0.03472 -0.19399 0 -0.25803 C 0.03507 -0.32162 0.12413 -0.35769 0.20955 -0.38243 C 0.29496 -0.4074 0.4342 -0.42751 0.51285 -0.40786 C 0.59149 -0.38821 0.65243 -0.32 0.68107 -0.26405 C 0.70972 -0.20809 0.69288 -0.15861 0.6842 -0.07168 C 0.67552 0.01526 0.74635 0.17179 0.62864 0.25804 C 0.51094 0.34428 0.12535 0.46081 -0.02205 0.44624 C -0.16945 0.43168 -0.26997 0.29087 -0.25538 0.17133 C -0.2408 0.05179 -0.06945 -0.19653 0.0651 -0.27052 C 0.19965 -0.34451 0.46962 -0.33526 0.55243 -0.27283 C 0.63524 -0.20994 0.59548 0.01989 0.56198 0.1059 C 0.52847 0.19191 0.45486 0.21411 0.35087 0.24324 C 0.24687 0.27214 0.00503 0.32 -0.06181 0.27908 C -0.12865 0.23815 -0.11754 0.07283 -0.0507 -0.00208 C 0.01614 -0.07722 0.2434 -0.16347 0.33975 -0.1711 C 0.43611 -0.17873 0.53785 -0.0948 0.52708 -0.04855 C 0.51632 -0.00231 0.36354 0.10197 0.27465 0.1059 C 0.18576 0.10983 0.08975 0.04231 -0.00625 -0.02543 E">
                                      <p:cBhvr>
                                        <p:cTn id="278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36 -0.09711 -0.03472 -0.19399 0 -0.25803 C 0.03507 -0.32162 0.12413 -0.35769 0.20955 -0.38243 C 0.29496 -0.4074 0.4342 -0.42751 0.51285 -0.40786 C 0.59149 -0.38821 0.65243 -0.32 0.68107 -0.26405 C 0.70972 -0.20809 0.69288 -0.15861 0.6842 -0.07168 C 0.67552 0.01526 0.74635 0.17179 0.62864 0.25804 C 0.51094 0.34428 0.12535 0.46081 -0.02205 0.44624 C -0.16945 0.43168 -0.26997 0.29087 -0.25538 0.17133 C -0.2408 0.05179 -0.06945 -0.19653 0.0651 -0.27052 C 0.19965 -0.34451 0.46962 -0.33526 0.55243 -0.27283 C 0.63524 -0.20994 0.59548 0.01989 0.56198 0.1059 C 0.52847 0.19191 0.45486 0.21411 0.35087 0.24324 C 0.24687 0.27214 0.00503 0.32 -0.06181 0.27908 C -0.12865 0.23815 -0.11754 0.07283 -0.0507 -0.00208 C 0.01614 -0.07722 0.2434 -0.16347 0.33975 -0.1711 C 0.43611 -0.17873 0.53785 -0.0948 0.52708 -0.04855 C 0.51632 -0.00231 0.36354 0.10197 0.27465 0.1059 C 0.18576 0.10983 0.08975 0.04231 -0.00625 -0.02543 E">
                                      <p:cBhvr>
                                        <p:cTn id="28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36 -0.09711 -0.03472 -0.19399 0 -0.25803 C 0.03507 -0.32162 0.12413 -0.35769 0.20955 -0.38243 C 0.29496 -0.4074 0.4342 -0.42751 0.51285 -0.40786 C 0.59149 -0.38821 0.65243 -0.32 0.68107 -0.26405 C 0.70972 -0.20809 0.69288 -0.15861 0.6842 -0.07168 C 0.67552 0.01526 0.74635 0.17179 0.62864 0.25804 C 0.51094 0.34428 0.12535 0.46081 -0.02205 0.44624 C -0.16945 0.43168 -0.26997 0.29087 -0.25538 0.17133 C -0.2408 0.05179 -0.06945 -0.19653 0.0651 -0.27052 C 0.19965 -0.34451 0.46962 -0.33526 0.55243 -0.27283 C 0.63524 -0.20994 0.59548 0.01989 0.56198 0.1059 C 0.52847 0.19191 0.45486 0.21411 0.35087 0.24324 C 0.24687 0.27214 0.00503 0.32 -0.06181 0.27908 C -0.12865 0.23815 -0.11754 0.07283 -0.0507 -0.00208 C 0.01614 -0.07722 0.2434 -0.16347 0.33975 -0.1711 C 0.43611 -0.17873 0.53785 -0.0948 0.52708 -0.04855 C 0.51632 -0.00231 0.36354 0.10197 0.27465 0.1059 C 0.18576 0.10983 0.08975 0.04231 -0.00625 -0.02543 E">
                                      <p:cBhvr>
                                        <p:cTn id="28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36 -0.09711 -0.03472 -0.19399 0 -0.25803 C 0.03507 -0.32162 0.12413 -0.35769 0.20955 -0.38243 C 0.29496 -0.4074 0.4342 -0.42751 0.51285 -0.40786 C 0.59149 -0.38821 0.65243 -0.32 0.68107 -0.26405 C 0.70972 -0.20809 0.69288 -0.15861 0.6842 -0.07168 C 0.67552 0.01526 0.74635 0.17179 0.62864 0.25804 C 0.51094 0.34428 0.12535 0.46081 -0.02205 0.44624 C -0.16945 0.43168 -0.26997 0.29087 -0.25538 0.17133 C -0.2408 0.05179 -0.06945 -0.19653 0.0651 -0.27052 C 0.19965 -0.34451 0.46962 -0.33526 0.55243 -0.27283 C 0.63524 -0.20994 0.59548 0.01989 0.56198 0.1059 C 0.52847 0.19191 0.45486 0.21411 0.35087 0.24324 C 0.24687 0.27214 0.00503 0.32 -0.06181 0.27908 C -0.12865 0.23815 -0.11754 0.07283 -0.0507 -0.00208 C 0.01614 -0.07722 0.2434 -0.16347 0.33975 -0.1711 C 0.43611 -0.17873 0.53785 -0.0948 0.52708 -0.04855 C 0.51632 -0.00231 0.36354 0.10197 0.27465 0.1059 C 0.18576 0.10983 0.08975 0.04231 -0.00625 -0.02543 E">
                                      <p:cBhvr>
                                        <p:cTn id="28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36 -0.09711 -0.03472 -0.19399 0 -0.25803 C 0.03507 -0.32162 0.12413 -0.35769 0.20955 -0.38243 C 0.29496 -0.4074 0.4342 -0.42751 0.51285 -0.40786 C 0.59149 -0.38821 0.65243 -0.32 0.68107 -0.26405 C 0.70972 -0.20809 0.69288 -0.15861 0.6842 -0.07168 C 0.67552 0.01526 0.74635 0.17179 0.62864 0.25804 C 0.51094 0.34428 0.12535 0.46081 -0.02205 0.44624 C -0.16945 0.43168 -0.26997 0.29087 -0.25538 0.17133 C -0.2408 0.05179 -0.06945 -0.19653 0.0651 -0.27052 C 0.19965 -0.34451 0.46962 -0.33526 0.55243 -0.27283 C 0.63524 -0.20994 0.59548 0.01989 0.56198 0.1059 C 0.52847 0.19191 0.45486 0.21411 0.35087 0.24324 C 0.24687 0.27214 0.00503 0.32 -0.06181 0.27908 C -0.12865 0.23815 -0.11754 0.07283 -0.0507 -0.00208 C 0.01614 -0.07722 0.2434 -0.16347 0.33975 -0.1711 C 0.43611 -0.17873 0.53785 -0.0948 0.52708 -0.04855 C 0.51632 -0.00231 0.36354 0.10197 0.27465 0.1059 C 0.18576 0.10983 0.08975 0.04231 -0.00625 -0.02543 E">
                                      <p:cBhvr>
                                        <p:cTn id="28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36 -0.09711 -0.03472 -0.19399 0 -0.25803 C 0.03507 -0.32162 0.12413 -0.35769 0.20955 -0.38243 C 0.29496 -0.4074 0.4342 -0.42751 0.51285 -0.40786 C 0.59149 -0.38821 0.65243 -0.32 0.68107 -0.26405 C 0.70972 -0.20809 0.69288 -0.15861 0.6842 -0.07168 C 0.67552 0.01526 0.74635 0.17179 0.62864 0.25804 C 0.51094 0.34428 0.12535 0.46081 -0.02205 0.44624 C -0.16945 0.43168 -0.26997 0.29087 -0.25538 0.17133 C -0.2408 0.05179 -0.06945 -0.19653 0.0651 -0.27052 C 0.19965 -0.34451 0.46962 -0.33526 0.55243 -0.27283 C 0.63524 -0.20994 0.59548 0.01989 0.56198 0.1059 C 0.52847 0.19191 0.45486 0.21411 0.35087 0.24324 C 0.24687 0.27214 0.00503 0.32 -0.06181 0.27908 C -0.12865 0.23815 -0.11754 0.07283 -0.0507 -0.00208 C 0.01614 -0.07722 0.2434 -0.16347 0.33975 -0.1711 C 0.43611 -0.17873 0.53785 -0.0948 0.52708 -0.04855 C 0.51632 -0.00231 0.36354 0.10197 0.27465 0.1059 C 0.18576 0.10983 0.08975 0.04231 -0.00625 -0.02543 E">
                                      <p:cBhvr>
                                        <p:cTn id="28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36 -0.09711 -0.03472 -0.19399 0 -0.25803 C 0.03507 -0.32162 0.12413 -0.35769 0.20955 -0.38243 C 0.29496 -0.4074 0.4342 -0.42751 0.51285 -0.40786 C 0.59149 -0.38821 0.65243 -0.32 0.68107 -0.26405 C 0.70972 -0.20809 0.69288 -0.15861 0.6842 -0.07168 C 0.67552 0.01526 0.74635 0.17179 0.62864 0.25804 C 0.51094 0.34428 0.12535 0.46081 -0.02205 0.44624 C -0.16945 0.43168 -0.26997 0.29087 -0.25538 0.17133 C -0.2408 0.05179 -0.06945 -0.19653 0.0651 -0.27052 C 0.19965 -0.34451 0.46962 -0.33526 0.55243 -0.27283 C 0.63524 -0.20994 0.59548 0.01989 0.56198 0.1059 C 0.52847 0.19191 0.45486 0.21411 0.35087 0.24324 C 0.24687 0.27214 0.00503 0.32 -0.06181 0.27908 C -0.12865 0.23815 -0.11754 0.07283 -0.0507 -0.00208 C 0.01614 -0.07722 0.2434 -0.16347 0.33975 -0.1711 C 0.43611 -0.17873 0.53785 -0.0948 0.52708 -0.04855 C 0.51632 -0.00231 0.36354 0.10197 0.27465 0.1059 C 0.18576 0.10983 0.08975 0.04231 -0.00625 -0.02543 E">
                                      <p:cBhvr>
                                        <p:cTn id="29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7249"/>
            </a:gs>
            <a:gs pos="100000">
              <a:srgbClr val="d5f9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42920" y="1268280"/>
            <a:ext cx="7356600" cy="172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508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Посещение городской 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резиденции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Деда Мороза.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5364360" cy="3384720"/>
          </a:xfrm>
          <a:prstGeom prst="rect">
            <a:avLst/>
          </a:prstGeom>
          <a:ln w="0">
            <a:noFill/>
          </a:ln>
        </p:spPr>
      </p:pic>
      <p:sp>
        <p:nvSpPr>
          <p:cNvPr id="45" name="Tree"/>
          <p:cNvSpPr/>
          <p:nvPr/>
        </p:nvSpPr>
        <p:spPr>
          <a:xfrm>
            <a:off x="0" y="4221000"/>
            <a:ext cx="1809720" cy="18100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ree"/>
          <p:cNvSpPr/>
          <p:nvPr/>
        </p:nvSpPr>
        <p:spPr>
          <a:xfrm>
            <a:off x="7334280" y="429264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92720" y="981000"/>
            <a:ext cx="3603600" cy="554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0920" y="2133720"/>
            <a:ext cx="4752720" cy="3122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763640" y="189000"/>
            <a:ext cx="433548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07932" dir="81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Мастерские</a:t>
            </a:r>
            <a:endParaRPr b="0" lang="en-US" sz="3200" spc="1" strike="noStrike">
              <a:ln w="0">
                <a:noFill/>
              </a:ln>
              <a:solidFill>
                <a:srgbClr val="00ccff"/>
              </a:solidFill>
              <a:effectLst>
                <a:outerShdw dist="107932" dir="81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5445000"/>
            <a:ext cx="4608360" cy="11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венирная лавк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76720" y="1341360"/>
            <a:ext cx="3349800" cy="218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отправить открытки и письма родным и близким с автографом Деда Мор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есь пишут письма и просят подарки у Деда Мор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964040" y="3938760"/>
            <a:ext cx="3406680" cy="2187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539640" y="333360"/>
            <a:ext cx="7920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чта Деда Мороза.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009960" cy="452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24000" y="260280"/>
            <a:ext cx="8497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ставка"Новогодняя 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ждественская игрушк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церкви Жен Мироноси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067280" y="2852640"/>
            <a:ext cx="4475160" cy="29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a50021"/>
                </a:solidFill>
                <a:latin typeface="Arial"/>
              </a:rPr>
              <a:t>В тронном зале – встреча с Феей Добрых Дел. Можно сфотографироваться в новогодних костюм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816360" cy="57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4064040" cy="5904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76720" y="549360"/>
            <a:ext cx="366264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280" y="3428640"/>
            <a:ext cx="80758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Встреча с добрым волшебником и его помощниками, чайная дегустация в Зимнем саду Деда Мороза. Знакомство с попугаем Кешей и оленем Лёш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1295280" cy="1293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95280" y="549360"/>
            <a:ext cx="8136000" cy="21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e82da"/>
                    </a:gs>
                    <a:gs pos="100000">
                      <a:srgbClr val="cc99ff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Экскурсия по терем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e82da"/>
                  </a:gs>
                  <a:gs pos="100000">
                    <a:srgbClr val="cc99ff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e82da"/>
                    </a:gs>
                    <a:gs pos="100000">
                      <a:srgbClr val="cc99ff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Деда Мороз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e82da"/>
                  </a:gs>
                  <a:gs pos="100000">
                    <a:srgbClr val="cc99ff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093080" y="1700280"/>
            <a:ext cx="1511280" cy="150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 rot="211800">
            <a:off x="539280" y="-242640"/>
            <a:ext cx="7562880" cy="212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ждественские традиции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ных стран.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971640" y="2060640"/>
            <a:ext cx="7272360" cy="4321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236000" y="1197000"/>
            <a:ext cx="792000" cy="50472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209000">
            <a:off x="8028000" y="1484280"/>
            <a:ext cx="792000" cy="50472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415000">
            <a:off x="8100720" y="764640"/>
            <a:ext cx="792000" cy="5050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8982200">
            <a:off x="395280" y="1268280"/>
            <a:ext cx="792000" cy="5050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229000">
            <a:off x="0" y="2060640"/>
            <a:ext cx="792000" cy="50472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8661800">
            <a:off x="8352360" y="6091560"/>
            <a:ext cx="792360" cy="50472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3291600">
            <a:off x="35280" y="5588640"/>
            <a:ext cx="792360" cy="5050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0"/>
            <a:ext cx="647640" cy="50472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595000">
            <a:off x="360" y="4075560"/>
            <a:ext cx="792000" cy="5050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26800">
            <a:off x="8352000" y="4076280"/>
            <a:ext cx="541080" cy="4334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201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20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205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805 0.04393 L -0.46597 0.04393 L -0.42899 -0.00532 L -0.39305 0.04393 L -0.34097 0.04393 L -0.34097 0.11329 L -0.30503 0.16254 L -0.34097 0.2104 L -0.34097 0.27977 L -0.39305 0.27977 L -0.42899 0.32763 L -0.46597 0.27977 L -0.51805 0.27977 L -0.51805 0.2104 L -0.55503 0.16254 L -0.51805 0.11329 L -0.51805 0.04393 Z">
                                      <p:cBhvr>
                                        <p:cTn id="207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20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21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21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21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21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8 L 0.125 0 L 0.177 0 L 0.177 0.06925 L 0.213 0.11853 L 0.177 0.16647 L 0.177 0.23573 L 0.125 0.23573 L 0.089 0.28367 L 0.052 0.23573 L 0 0.23573 L 0 0.16647 L -0.037 0.11853 L 0 0.06925 L 0 0 Z">
                                      <p:cBhvr>
                                        <p:cTn id="21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19:32:30Z</dcterms:created>
  <dc:creator>Михаил</dc:creator>
  <dc:description/>
  <dc:language>en-US</dc:language>
  <cp:lastModifiedBy>Гость</cp:lastModifiedBy>
  <dcterms:modified xsi:type="dcterms:W3CDTF">2005-12-22T15:30:44Z</dcterms:modified>
  <cp:revision>4</cp:revision>
  <dc:subject/>
  <dc:title>Расположен в одном из самых удаленных уголков Вологодской области. Город имеет статус заповедника. Центр художественных ремёсел: просечное железо, разноцветная эмаль, чернь по серебру, резьба по бересте, оковка жестью, шитьё бисером,  чеканка.</dc:title>
</cp:coreProperties>
</file>