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AB07-8DE5-415A-86BB-AB8F7FAC3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409E-BB0A-4F74-A1A6-CA8EB3003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1DE-9A96-48AB-83D6-4CB7ECDC1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7D9-FC95-4169-BE40-B723B3C3C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72B-1E51-4ED3-BA61-B956D5FBF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797D-4FEC-41C9-AC40-235056C48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706-96CB-4348-9280-ACA1ADB58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64A0-1918-4980-A2E3-D820F445C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013-4F2F-4F46-96D3-EA7136EA6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34B-2ECC-411F-B7CA-A32D9358F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7A54-1034-44B4-9452-62096CDFD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430A-4774-42FE-AEE3-125F41C1E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1480-65A4-42BC-8147-C207AD3CA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24E-8730-4921-9E33-04E1F1A45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A7AF-4735-4C91-94FB-DCC2A4F27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A1E-0C36-4276-9A4A-099D65FF3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98A-D09A-41CB-B017-4F80F8504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45B9-D9EC-40D8-A3A2-0530F1E27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CAC-C55F-4380-9B78-98EB8A632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7294-4F81-4CA3-A6FA-7A1274F0E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2E4-0E7C-4DFE-A086-57D540EAD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367-C0D0-4A40-825C-0257ACA45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BE9-772C-4720-B0F0-768B18B12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B023-0BAF-42EC-8980-9D35D0747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0F47-3406-4B88-AA1B-F1BABB4DE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C77-EA16-4F66-A811-1EC90299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B33-EDC1-4D5E-B64B-666FF3BF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5D2-8DC0-4783-AFE6-CCB315AC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0FB-B52F-4671-9F21-5B268FD2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A60-8A65-4C3F-9D8F-FB7C736C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510-1947-4DFF-90F2-49110D93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3D8-571A-491B-8EF9-ED9F6F6F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64C-CA9F-4D96-869D-C9852489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06E-F5C9-4E5F-972B-9CD3ED2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450-EB9C-40E9-B81A-0FC3D134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888-D3D4-4A6B-878E-7689EA7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3C5-8A2D-4D13-968C-5F7D433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495D-006F-47FC-9FBD-CA0B52CFF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be.ru/wp-content/uploads/Bulgakov-Sobache-serdce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900igr.net/datas/literatura/Sobache-serdtse/0027-027-Bulgakov-Sobache-serdtse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орчество М. А. Булгакова – от сатиры до мистики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m1"/>
          <p:cNvPicPr/>
          <p:nvPr/>
        </p:nvPicPr>
        <p:blipFill>
          <a:blip r:embed="rId2"/>
          <a:srcRect l="3421" t="7197" r="0" b="0"/>
          <a:stretch/>
        </p:blipFill>
        <p:spPr>
          <a:xfrm>
            <a:off x="108000" y="2276640"/>
            <a:ext cx="8928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1325520"/>
          <a:ext cx="8208720" cy="4894200"/>
        </p:xfrm>
        <a:graphic>
          <a:graphicData uri="http://schemas.openxmlformats.org/drawingml/2006/table">
            <a:tbl>
              <a:tblPr/>
              <a:tblGrid>
                <a:gridCol w="231840"/>
                <a:gridCol w="1541160"/>
                <a:gridCol w="6435720"/>
              </a:tblGrid>
              <a:tr h="82872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греч. – притворство, насмешка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– осмеяние, содержащее отрицательную, осуждающую оценку того, что критикуется; тонкая, скрытая насмеш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итал. – причудливый) –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рушающее границы правдоподобия изображение людей, предметов или явлений в фантастически преувеличенном, уродливо-комическом ви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ТЕ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англ. – нрав, настроение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добродушной насмешке; смех, имеющий своей задачей не обличение, а указание/намек на недостатки, которые не носят характера поро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49680" rIns="49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(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лат. – смесь, всякая всячина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уничтожающем осмеянии явлений, которые представляются автору порочными; наиболее острая форма обличения действи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8" name="AutoShape 1"/>
          <p:cNvCxnSpPr/>
          <p:nvPr/>
        </p:nvCxnSpPr>
        <p:spPr>
          <a:xfrm flipV="1">
            <a:off x="468360" y="2420280"/>
            <a:ext cx="15832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2"/>
          <p:cNvCxnSpPr/>
          <p:nvPr/>
        </p:nvCxnSpPr>
        <p:spPr>
          <a:xfrm>
            <a:off x="468360" y="1844280"/>
            <a:ext cx="1583280" cy="25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3"/>
          <p:cNvCxnSpPr/>
          <p:nvPr/>
        </p:nvCxnSpPr>
        <p:spPr>
          <a:xfrm flipV="1">
            <a:off x="468360" y="1699920"/>
            <a:ext cx="1583280" cy="36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4"/>
          <p:cNvCxnSpPr/>
          <p:nvPr/>
        </p:nvCxnSpPr>
        <p:spPr>
          <a:xfrm>
            <a:off x="468000" y="2852640"/>
            <a:ext cx="1572120" cy="261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TextBox 8"/>
          <p:cNvSpPr/>
          <p:nvPr/>
        </p:nvSpPr>
        <p:spPr>
          <a:xfrm>
            <a:off x="326880" y="54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79280" y="1494000"/>
            <a:ext cx="864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сква – котел: в нем варят новую жизнь. Это очень трудно. Самим приходится вариться. Среди Дунек и неграмотных рождается новый, пронизывающий все углы бытия организационный скел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Москва! Я вижу тебя в небоскребах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Это черт знает что такое! Хуже вокзала. Купе на два места. На диванах явно новые чехлы, на окнах занавески. Проводник пришел, отобрал билет и плацкарту и выдал квитанц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жди вызывали  в Москве интересный грибной всход. Первыми появились на всех скрещениях красноголовцы. Это были милиционеры в новой форме. На них фуражки с красными околышами, черным верхом и зеленым кантом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Публика читающая вообще читает плохо, не вдумываясь. Ей кажется, что фельетонные герои – это так…чепуха… Напрасно, напрасно. Бурнаковский племянник – тип столь же прочный, как и бессмертные типы Н. В. Гогол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11680" y="5157720"/>
            <a:ext cx="88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их произведениях сатирически изображается «новый советский быт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 московская действ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95280" y="2781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Путевые заметки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1190520" y="19162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Столица в блокноте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3708720" y="206064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сква 20-х годов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3639960" y="3357720"/>
            <a:ext cx="177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(«Шансон Д'этэ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400680" y="436572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«Бурнаковский племянник)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395280" y="1159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Указать названия произведений М. Булгакова, цитаты из которых приведены ниже. Что объединяет эти произведения?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Москва 1920-х 30-х (9 фотографий), photo:2"/>
          <p:cNvPicPr/>
          <p:nvPr/>
        </p:nvPicPr>
        <p:blipFill>
          <a:blip r:embed="rId1"/>
          <a:stretch/>
        </p:blipFill>
        <p:spPr>
          <a:xfrm>
            <a:off x="0" y="1197000"/>
            <a:ext cx="3887640" cy="305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осква 1920-х 30-х (9 фотографий), photo:8"/>
          <p:cNvPicPr/>
          <p:nvPr/>
        </p:nvPicPr>
        <p:blipFill>
          <a:blip r:embed="rId2"/>
          <a:stretch/>
        </p:blipFill>
        <p:spPr>
          <a:xfrm>
            <a:off x="4500720" y="1413000"/>
            <a:ext cx="3527280" cy="248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Москва 1920-х 30-х (9 фотографий), photo:6"/>
          <p:cNvPicPr/>
          <p:nvPr/>
        </p:nvPicPr>
        <p:blipFill>
          <a:blip r:embed="rId3"/>
          <a:stretch/>
        </p:blipFill>
        <p:spPr>
          <a:xfrm>
            <a:off x="395280" y="3933720"/>
            <a:ext cx="3024360" cy="2378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Москва 4"/>
          <p:cNvPicPr/>
          <p:nvPr/>
        </p:nvPicPr>
        <p:blipFill>
          <a:blip r:embed="rId4"/>
          <a:stretch/>
        </p:blipFill>
        <p:spPr>
          <a:xfrm>
            <a:off x="6156360" y="4292640"/>
            <a:ext cx="2530440" cy="202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Москва 2 20-ых"/>
          <p:cNvPicPr/>
          <p:nvPr/>
        </p:nvPicPr>
        <p:blipFill>
          <a:blip r:embed="rId5"/>
          <a:stretch/>
        </p:blipFill>
        <p:spPr>
          <a:xfrm>
            <a:off x="3348000" y="4076640"/>
            <a:ext cx="2530440" cy="2024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755640" y="33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Москва 20-х годов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XX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50920" y="20066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 Москве 20-х годов можно было получить новое им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стоила поездка на трамва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краковской колбас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плата машинистки IX разряд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ая модная обувь на Кузнецк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835280" y="126828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76840" y="2602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Блиц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«Москва 20-х годов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XX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484720" y="2492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Пропечатал в газете и шабаш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809400" y="2924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8 копе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468360" y="371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Рубленая кобыла с чесноком и перц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408960" y="46530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4 с половиной червон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657360" y="551664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“Лаковые ботинки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187280" y="443700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9.  Дата начала тетради Борменталя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22 - го декабря 1924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. Понедельник. Окончания  тетради -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7 января 1925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История Клима"/>
          <p:cNvPicPr/>
          <p:nvPr/>
        </p:nvPicPr>
        <p:blipFill>
          <a:blip r:embed="rId1"/>
          <a:stretch/>
        </p:blipFill>
        <p:spPr>
          <a:xfrm>
            <a:off x="250920" y="1413000"/>
            <a:ext cx="2881080" cy="2447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492360" y="142272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9. Укажите даты начала и окончания тетради доктора Бормента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140360" y="401040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0. 31 декабря 1924 г. «В 12ч 12 мин. дня пес отчетливо пролаял слово - «А- б - ыр»!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Картинка 1 из 26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94472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900000" y="3213000"/>
            <a:ext cx="93528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артинка 15 из 26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13000"/>
            <a:ext cx="394344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826920" y="2852640"/>
            <a:ext cx="10083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32000" y="1206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0. На какой день после операции появился первый лай (повесть «Собачье сердце»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50920" y="1059840"/>
            <a:ext cx="84614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и  повести «Собачье сердце», которым принадлежат высказы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Его терпеть в квартире невозможно. Только и ищет – как бы чего своровать. Фарш слопал у Дарьи. Я его поучить хоте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Вот это парень, весь в меня. Ох, тяпнет он их сейчас, ох, тяпнет. Не знаю еще – каким способом, но как тяпнет… Бей и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Успевает всюду тот, кто никуда не торопится. Конечно, если бы я начал прыгать по заседаниям и распевать целый день, как соловей, вместо того, чтобы заниматься прямым своим делом, я бы никуда не поспе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Ох, ничего доброго у нас, кажется, не выйдет в квартир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Вы, гражданин Шариков, говорите в высшей степени несознательно. На воинский учет необходимо взять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739920" y="206064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Шар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6454080" y="2924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ес Шари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201680" y="429264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.Ф. Преображ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7103880" y="47242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Борменталь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4578480" y="57326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Швондер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826920" y="476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1. Блиц «Узнай геро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8996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ман М. А. Булгакова «Мастер и Маргари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50920" y="4660920"/>
            <a:ext cx="864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12. Замысел романа возник в 1928 году. Тогда он задумывался  как «роман о дьяволе». Первоначальные названия: «Черный маг», «Копыто инженера», «Консультант  с копытом», «Великий канцлер»,  «Сатана», «Вот и я», «Шляпа с пером», «Черный богослов»,  «Он появился», «Подкова иностранца», «Он явился», «Пришествие», «Копыто консультанта», «Князь ть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Картинка 28 из 9063"/>
          <p:cNvPicPr/>
          <p:nvPr/>
        </p:nvPicPr>
        <p:blipFill>
          <a:blip r:embed="rId1"/>
          <a:stretch/>
        </p:blipFill>
        <p:spPr>
          <a:xfrm>
            <a:off x="179280" y="1773360"/>
            <a:ext cx="310860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203640" y="1700280"/>
            <a:ext cx="56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 Перечислите как можно больше вариантов названий будущего романа «Мастер и Маргарит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50920" y="1131120"/>
            <a:ext cx="87138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. Блиц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«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исло-отве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ть  правильные ответы на вопросы, используя следующие чис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9, 30, 12, 13, 1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 сколько лет Маргарита Николаевна вышла замуж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Сколько Маргарит обнаружила в Москве свита Волан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Сколько человек входит в правление МАССОЛ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В какой главе появляется Мастер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 Сколько денег (тетрадрахм) получил Иуд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046160" y="32130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1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2265120" y="39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257480" y="4653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6226200" y="5084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321200" y="58770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30 тетрадрах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3348000" y="3580560"/>
            <a:ext cx="57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14. Счастливая судьба, местная уроженка, имя Маргари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Картинка 9 из 9063"/>
          <p:cNvPicPr/>
          <p:nvPr/>
        </p:nvPicPr>
        <p:blipFill>
          <a:blip r:embed="rId1"/>
          <a:stretch/>
        </p:blipFill>
        <p:spPr>
          <a:xfrm>
            <a:off x="250920" y="2637000"/>
            <a:ext cx="3087720" cy="3528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1133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4. Какие три условия должны были дать героине романа возможность стать королевой б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_8757_1_119"/>
          <p:cNvPicPr/>
          <p:nvPr/>
        </p:nvPicPr>
        <p:blipFill>
          <a:blip r:embed="rId1"/>
          <a:srcRect l="1969" t="2333" r="1969" b="2071"/>
          <a:stretch/>
        </p:blipFill>
        <p:spPr>
          <a:xfrm>
            <a:off x="0" y="119700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708360" y="422892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. «Разрешите, мессир, его выкинуть ко всем чертям из Москвы». «И я вышел в жизнь, держа его в руках, и тогда моя жизнь кончила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Картинка 229 из 9063"/>
          <p:cNvPicPr/>
          <p:nvPr/>
        </p:nvPicPr>
        <p:blipFill>
          <a:blip r:embed="rId1"/>
          <a:stretch/>
        </p:blipFill>
        <p:spPr>
          <a:xfrm>
            <a:off x="395280" y="3284640"/>
            <a:ext cx="3024360" cy="252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50920" y="1135440"/>
            <a:ext cx="8569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. Из представленного набора слов соберите 2 фразы из рома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стер и Маргари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ГО, РУКАХ, Я, В, МОСКВЫ, МОЯ, ЧЕРТЯМ, ВСЕМ, РАЗРЕШИТЕ, КО, ИЗ, МЕССИР, ЕГО, И, ВЫКИНУТЬ, ЖИЗНЬ, КОНЧИЛАСЬ, ТОГДА, И, ЖИЗНЬ, В, ВЫШЕЛ, ДЕР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411280" y="150480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. «Рукописи не горят», «Никогда и ничего не просите! Никогда и ничего, и в особенности у тех, кто сильнее вас. Сами предложат и сами все дадут!», «Правду говорить легко и приятно», «…тот, кто любит, должен разделять участь того, кого он любит», «Человек без сюрпризов внутри, в своем ящике, неинтересен», «А за квартиру Пушкин платить будет», «Вопросы крови - самые сложные вопросы в мире!», «Трусость один из самых главных пороков в мире», «Язык может скрыть истину, а глаза - никогда», «Подумаешь, бином Ньютона!», «Нет документа, нет и человека», «Что же у вас, чего не хватишься, ничего нет», «Квартирный вопрос только испортил их», «Осетрина второй свежести», «Денежки я приберу …нечего им тут валяться»,  «Мне ли бриллиантов не знать?», «Покайся, Иваныч! Тебе скидка выйдет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артинка 16 из 9063"/>
          <p:cNvPicPr/>
          <p:nvPr/>
        </p:nvPicPr>
        <p:blipFill>
          <a:blip r:embed="rId1"/>
          <a:stretch/>
        </p:blipFill>
        <p:spPr>
          <a:xfrm>
            <a:off x="250920" y="3716280"/>
            <a:ext cx="1909800" cy="2737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Картинка 1 из 2353"/>
          <p:cNvPicPr/>
          <p:nvPr/>
        </p:nvPicPr>
        <p:blipFill>
          <a:blip r:embed="rId2"/>
          <a:stretch/>
        </p:blipFill>
        <p:spPr>
          <a:xfrm>
            <a:off x="108000" y="1628640"/>
            <a:ext cx="2116080" cy="15843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. Многие фразы романа «Мастер и Маргарита» стали крылатыми. Назовите не менее 5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3780000" y="1996920"/>
            <a:ext cx="5148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7. Напечатан роман «Мастер и Маргарита» был в журнале «Москва» в 1966 (№11) и 1967 (№1) годах с многочисленными цензурными купюрами. Было сделано в общей сложности 159 купюр: 21 в первой части и 138 во второй (примерно 12%) текста, в основном пострадали страницы, относящиеся к римской и советской полиции, а также указывающие на сходство древнего и современного мира; ослаблялась роль и нравственная сила «истины» Иешу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Картинка 1 из 19950"/>
          <p:cNvPicPr/>
          <p:nvPr/>
        </p:nvPicPr>
        <p:blipFill>
          <a:blip r:embed="rId1"/>
          <a:stretch/>
        </p:blipFill>
        <p:spPr>
          <a:xfrm>
            <a:off x="179280" y="2349360"/>
            <a:ext cx="3529080" cy="3384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179280" y="26280"/>
            <a:ext cx="8713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7. Журнал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сква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»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в 1966 г. (№11) и 1967 г. (№1) напечатал роман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стер и Маргарита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»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с многочисленными искажениями. Сколько всего купюр (сокращений) было сделано, по мнению исследователей рома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1"/>
          <p:cNvSpPr txBox="1"/>
          <p:nvPr/>
        </p:nvSpPr>
        <p:spPr>
          <a:xfrm>
            <a:off x="395280" y="2492280"/>
            <a:ext cx="8424720" cy="186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2bfc5"/>
                </a:solidFill>
                <a:effectLst>
                  <a:outerShdw dist="107932" dir="2700000" blurRad="0" rotWithShape="0">
                    <a:srgbClr val="00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solidFill>
                <a:srgbClr val="72bfc5"/>
              </a:solidFill>
              <a:effectLst>
                <a:outerShdw dist="107932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Дом Булгакова"/>
          <p:cNvPicPr/>
          <p:nvPr/>
        </p:nvPicPr>
        <p:blipFill>
          <a:blip r:embed="rId1">
            <a:lum contrast="34000"/>
          </a:blip>
          <a:srcRect l="6185" t="0" r="6185" b="2993"/>
          <a:stretch/>
        </p:blipFill>
        <p:spPr>
          <a:xfrm>
            <a:off x="324000" y="1557360"/>
            <a:ext cx="3713040" cy="3527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500720" y="4015800"/>
            <a:ext cx="43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.На иллюстрации изображен дом - музей М.А.Булгакова (Дом Турбиных) , г. Ки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3739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раницы биографии М. А. Булгак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4356000" y="1844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пределите, какое здание изображено на 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ом-музей М. Булгакова, г. Ки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«Булгаковский дом», г. Моск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ом на Большой Садовой, 10 , г.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427640" y="4730760"/>
            <a:ext cx="442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2. В Киевском университете М.А. Булгаков обучался профессии врача – хирурга. Весной 1916 года окончил медицинский факультет университета и получил дип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Университет Киева"/>
          <p:cNvPicPr/>
          <p:nvPr/>
        </p:nvPicPr>
        <p:blipFill>
          <a:blip r:embed="rId1"/>
          <a:stretch/>
        </p:blipFill>
        <p:spPr>
          <a:xfrm>
            <a:off x="684360" y="1197000"/>
            <a:ext cx="2663640" cy="1900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684360" y="3213000"/>
            <a:ext cx="28796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ев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Диплом лекаря с отлич"/>
          <p:cNvPicPr/>
          <p:nvPr/>
        </p:nvPicPr>
        <p:blipFill>
          <a:blip r:embed="rId2"/>
          <a:srcRect l="0" t="0" r="1938" b="0"/>
          <a:stretch/>
        </p:blipFill>
        <p:spPr>
          <a:xfrm>
            <a:off x="1476360" y="3645000"/>
            <a:ext cx="1440000" cy="1859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395280" y="5589720"/>
            <a:ext cx="3672000" cy="78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иплом лекаря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 отличием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М.А. Булга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1 октября 1916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4067280" y="1413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Какое учебное заведение окончил М. А. Булгаков, какую специ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уч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3635280" y="465300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Своим учителем и наставником М.А. Булгаков считал Н.В. Гоголя, даже пытался подражать ему, прибегая в своих произведениях к образам потусторонних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надежда\Pictures\Гоголь 9.jpg"/>
          <p:cNvPicPr/>
          <p:nvPr/>
        </p:nvPicPr>
        <p:blipFill>
          <a:blip r:embed="rId1"/>
          <a:stretch/>
        </p:blipFill>
        <p:spPr>
          <a:xfrm>
            <a:off x="395280" y="1557360"/>
            <a:ext cx="308448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851280" y="1628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ого М. А. Булгаков считал своим учител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&lt;…&gt; Созревшее во мне желание прекратить мои писательские мучения заставляет меня обратиться к ________с письмом 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изведя анализ моих ____________, я обнаружил в прессе СССР за ______________ моей литературной работы _________ отзыв обо мне. Из них: похвальных — было ____, враждебно-ругательных — 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едние _____ представляют собой зеркальное отражение моей писательской __________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прошу принять во внимание, что невозможность писать равносильна для меня __________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прошу ____________ приказать мне в срочном порядке покинуть _______  в сопровождении моей жены __________&lt;…&gt;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укажите автора письма, кому оно адресовано, дату и повод для его на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Восстановите текс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468360" y="1509120"/>
            <a:ext cx="8496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 В конце 1920 - х годов пьесы М.А.Булгакова были сняты с репертуара, а его проза для публикации считалась «непроходимой». Он был обречен на молчание и несколько раз обращался к ответственным лицам страны с просьбой отпустить его с женой за границу, на что не получил ответов. Наконец в отчаянную минуту, 28 марта 1930 года, Булгаков написал и отослал письмо «Правительству ССС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&lt;…&gt; Созревшее во мне желание прекратить мои писательские мучения заставляет меня обратиться к _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тельству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с письмом _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дивым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я анализ моих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альбомных вырезок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я обнаружил в прессе СССР з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сять л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й литературной работы 301 отзыв обо мне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них: похвальных  было 3, враждебно-ругательных — 2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8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ставляют собой зеркальное отражение моей писательской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рошу принять во внимание, что невозможность писать равносильна для мен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гребению заживо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прош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вительство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казать мне в срочном порядке покину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елы ССС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в сопровождении моей жены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Любови  Евгеньевны Булгаковой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…&gt;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799128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ТЕЛЬСТВУ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 марта 1930 г. Моск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хаила Афанасьевича Булгако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осква, Б. Пироговская, 35-а, к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Середина 30"/>
          <p:cNvPicPr/>
          <p:nvPr/>
        </p:nvPicPr>
        <p:blipFill>
          <a:blip r:embed="rId1"/>
          <a:stretch/>
        </p:blipFill>
        <p:spPr>
          <a:xfrm>
            <a:off x="900000" y="2637000"/>
            <a:ext cx="1011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50920" y="30837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т это я тебе, взамен могильных р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мен кадильного курен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так сурово жил и до конца до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олепное презр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пил вино, ты как никто шу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душных стенах задыха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остью страшную ты сам к себе впус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 ней наедине остался. 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932360" y="299736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 Анна Ахматова. Бег времени (1963), часть 7. Памяти М.А. Булга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Ахматова 80"/>
          <p:cNvPicPr/>
          <p:nvPr/>
        </p:nvPicPr>
        <p:blipFill>
          <a:blip r:embed="rId1"/>
          <a:stretch/>
        </p:blipFill>
        <p:spPr>
          <a:xfrm>
            <a:off x="6084720" y="1413000"/>
            <a:ext cx="1440000" cy="16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Могила писателя"/>
          <p:cNvPicPr/>
          <p:nvPr/>
        </p:nvPicPr>
        <p:blipFill>
          <a:blip r:embed="rId2"/>
          <a:stretch/>
        </p:blipFill>
        <p:spPr>
          <a:xfrm>
            <a:off x="5148360" y="4005360"/>
            <a:ext cx="3389040" cy="23018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9280" y="12682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Назовите автора строк, название стихотворения, время соз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нняя проза, сатирические произведения М. А. Булгако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628640"/>
          <a:ext cx="8497800" cy="4967280"/>
        </p:xfrm>
        <a:graphic>
          <a:graphicData uri="http://schemas.openxmlformats.org/drawingml/2006/table">
            <a:tbl>
              <a:tblPr/>
              <a:tblGrid>
                <a:gridCol w="226800"/>
                <a:gridCol w="1597320"/>
                <a:gridCol w="667368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греч. – притворство, насмешка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осмеяние, содержащее отрицательную, осуждающую оценку того, что критикуется; тонкая, скрытая насмеш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ТИ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итал. – причудливый) –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рушающее границы правдоподобия изображение людей, предметов или явлений в фантастически преувеличенном, уродливо-комическом ви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ТЕ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англ. – нрав, настроение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добродушной насмешке; смех, имеющий своей задачей не обличение, а указание/намек на недостатки, которые не носят характера поро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лат. – смесь, всякая всячина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пособ проявления комического в искусстве, заключающийся в уничтожающем осмеянии явлений, которые представляются автору порочными; наиболее острая форма обличения действи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-365400" y="1197360"/>
            <a:ext cx="9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. Сопоставьте термины и определения к ним (соедините стрелками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5:57:46Z</dcterms:created>
  <dc:creator>надежда</dc:creator>
  <dc:description/>
  <dc:language>en-US</dc:language>
  <cp:lastModifiedBy>надежда</cp:lastModifiedBy>
  <dcterms:modified xsi:type="dcterms:W3CDTF">2011-08-16T12:54:42Z</dcterms:modified>
  <cp:revision>124</cp:revision>
  <dc:subject/>
  <dc:title>Слайд 1</dc:title>
</cp:coreProperties>
</file>