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3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C584-7E9E-4B89-9D87-5F15D4FC0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66D9-0E0B-4FB0-9F2C-6304B003C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2CC-3AD5-474D-A74B-9451A452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3A6-081A-4B08-811C-FF559376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4D9-A2C8-482E-B07B-D783C30B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EB3-76BC-49CB-BDFF-9146BDE3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8F0B-2A99-433A-97E6-6BD1534D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2D32-B327-4361-A334-B7AC63F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54C4-2E00-4BA7-A6B4-DFD62582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E51D-B60D-4067-ADCB-5DB4861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9B76-59FD-419F-BEB1-2E521543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D9BF-19FB-4C50-A10D-458598A2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743F-FD42-46AA-9E55-03B443F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6AF-AA72-4DB7-836F-1133A178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33AE-0D1E-4764-9A07-C12C6A65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9D58-BAF7-471E-996D-21B158A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A519-567C-494C-BFC2-44288BA4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73EC-A0CA-4A07-8A4A-FD6A27E9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CF7F-8B17-4564-802B-28FB6EDA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C6EA-ABB0-49CB-BCB8-42DAEA22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1259-0EB5-4EC0-B776-C509B6B7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F6BC-2C81-4918-AC84-3F36D95D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D24E-A33C-4D32-B270-D4E74B6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62C7-9A3A-4623-B08A-711F3453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AEB-2F28-4CF7-8E73-8D2E48E1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7B50-266F-4F93-AB77-FA6242A8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996C-D0CE-4B60-8F6F-36D15EE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EC5E-FB3B-4A04-B6A2-575E506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98D6-34D8-4E16-8633-6CDBF47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E238-82CE-40AD-9D21-1B6C8187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AA4E-B86C-4149-84EA-8DFBED23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AAF6-B18D-492F-B88E-4E36D0EB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BFF-1B9D-4866-86C5-31E630C9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D68-C0E0-4D88-9209-6ACEA8A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67F-EFD5-4AA8-9F5D-FF4A59AE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B6B-96C8-4BB5-B2EF-1A07473B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845-370C-411B-A8B9-7A3C94B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070-9D8D-47B7-AE90-DD04D35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860-846C-4389-B1A2-BAE6DBEA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720"/>
            <a:ext cx="6150960" cy="5135400"/>
            <a:chOff x="3309480" y="1737720"/>
            <a:chExt cx="615096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2640"/>
              <a:ext cx="6150960" cy="4765320"/>
              <a:chOff x="3309480" y="1772640"/>
              <a:chExt cx="6150960" cy="476532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2640"/>
                <a:ext cx="6150960" cy="4765320"/>
                <a:chOff x="3309480" y="1772640"/>
                <a:chExt cx="6150960" cy="476532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6200" y="2959200"/>
                  <a:ext cx="530388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9080" y="3103920"/>
                  <a:ext cx="565524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0920"/>
                <a:ext cx="6120360" cy="4756320"/>
                <a:chOff x="3313800" y="1780920"/>
                <a:chExt cx="6120360" cy="475632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4560" y="2973600"/>
                  <a:ext cx="5259240" cy="304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7880"/>
                  <a:ext cx="563796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440" y="2529720"/>
              <a:ext cx="2676240" cy="41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880" y="2424960"/>
              <a:ext cx="3528720" cy="4215600"/>
              <a:chOff x="5132880" y="2424960"/>
              <a:chExt cx="3528720" cy="421560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3440" y="2609280"/>
                <a:ext cx="2887560" cy="3540960"/>
                <a:chOff x="5563440" y="2609280"/>
                <a:chExt cx="2887560" cy="35409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8280" y="3381480"/>
                  <a:ext cx="2250720" cy="196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4640" y="2707200"/>
                  <a:ext cx="13244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880" y="2424960"/>
                <a:ext cx="3528720" cy="4215600"/>
                <a:chOff x="5132880" y="2424960"/>
                <a:chExt cx="3528720" cy="421560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280" y="3254400"/>
                  <a:ext cx="2721240" cy="231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720" y="2595240"/>
                  <a:ext cx="175032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0760" y="3017520"/>
              <a:ext cx="3829680" cy="3753000"/>
              <a:chOff x="4100760" y="301752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480" y="3688560"/>
                <a:ext cx="2711880" cy="2883960"/>
                <a:chOff x="4146480" y="368856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20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5920" y="3988800"/>
                  <a:ext cx="1772640" cy="22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0760" y="3017520"/>
                <a:ext cx="3829680" cy="3753000"/>
                <a:chOff x="4100760" y="301752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548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200" y="357624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240" y="1737720"/>
              <a:ext cx="3408840" cy="3309840"/>
              <a:chOff x="4125240" y="173772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320" cy="2799360"/>
                <a:chOff x="4792680" y="2189880"/>
                <a:chExt cx="266832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24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240" y="1737720"/>
                <a:ext cx="3408840" cy="3309840"/>
                <a:chOff x="4125240" y="173772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240" y="239040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7360" y="2063160"/>
                  <a:ext cx="268524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2840" y="2098800"/>
              <a:ext cx="4904280" cy="4774320"/>
              <a:chOff x="4182840" y="2098800"/>
              <a:chExt cx="490428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3640"/>
                <a:ext cx="3838680" cy="4021920"/>
                <a:chOff x="5141520" y="2753640"/>
                <a:chExt cx="3838680" cy="40219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240"/>
                  <a:ext cx="2924640" cy="33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2840" y="2098800"/>
                <a:ext cx="4904280" cy="4774320"/>
                <a:chOff x="4182840" y="2098800"/>
                <a:chExt cx="490428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2840" y="3044520"/>
                  <a:ext cx="4781520" cy="296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960" cy="38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45AF-0D62-4BA9-BE57-4CF74E4FF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720"/>
            <a:ext cx="6150960" cy="5135400"/>
            <a:chOff x="3309480" y="1737720"/>
            <a:chExt cx="615096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2640"/>
              <a:ext cx="6150960" cy="4765320"/>
              <a:chOff x="3309480" y="1772640"/>
              <a:chExt cx="6150960" cy="476532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2640"/>
                <a:ext cx="6150960" cy="4765320"/>
                <a:chOff x="3309480" y="1772640"/>
                <a:chExt cx="6150960" cy="476532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6200" y="2959200"/>
                  <a:ext cx="530388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9080" y="3103920"/>
                  <a:ext cx="565524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0920"/>
                <a:ext cx="6120360" cy="4756320"/>
                <a:chOff x="3313800" y="1780920"/>
                <a:chExt cx="6120360" cy="475632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4560" y="2973600"/>
                  <a:ext cx="5259240" cy="304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7880"/>
                  <a:ext cx="5637960" cy="21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440" y="2529720"/>
              <a:ext cx="2676240" cy="41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880" y="2424960"/>
              <a:ext cx="3528720" cy="4215600"/>
              <a:chOff x="5132880" y="2424960"/>
              <a:chExt cx="3528720" cy="421560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3440" y="2609280"/>
                <a:ext cx="2887560" cy="3540960"/>
                <a:chOff x="5563440" y="2609280"/>
                <a:chExt cx="2887560" cy="35409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8280" y="3381480"/>
                  <a:ext cx="2250720" cy="196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4640" y="2707200"/>
                  <a:ext cx="13244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880" y="2424960"/>
                <a:ext cx="3528720" cy="4215600"/>
                <a:chOff x="5132880" y="2424960"/>
                <a:chExt cx="3528720" cy="421560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280" y="3254400"/>
                  <a:ext cx="2721240" cy="231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720" y="2595240"/>
                  <a:ext cx="175032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0760" y="3017520"/>
              <a:ext cx="3829680" cy="3753000"/>
              <a:chOff x="4100760" y="301752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480" y="3688560"/>
                <a:ext cx="2711880" cy="2883960"/>
                <a:chOff x="4146480" y="368856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20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5920" y="3988800"/>
                  <a:ext cx="1772640" cy="228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0760" y="3017520"/>
                <a:ext cx="3829680" cy="3753000"/>
                <a:chOff x="4100760" y="301752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548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200" y="357624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240" y="1737720"/>
              <a:ext cx="3408840" cy="3309840"/>
              <a:chOff x="4125240" y="173772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320" cy="2799360"/>
                <a:chOff x="4792680" y="2189880"/>
                <a:chExt cx="266832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24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240" y="1737720"/>
                <a:ext cx="3408840" cy="3309840"/>
                <a:chOff x="4125240" y="173772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240" y="239040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7360" y="2063160"/>
                  <a:ext cx="268524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2840" y="2098800"/>
              <a:ext cx="4904280" cy="4774320"/>
              <a:chOff x="4182840" y="2098800"/>
              <a:chExt cx="490428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3640"/>
                <a:ext cx="3838680" cy="4021920"/>
                <a:chOff x="5141520" y="2753640"/>
                <a:chExt cx="3838680" cy="40219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240"/>
                  <a:ext cx="2924640" cy="33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2840" y="2098800"/>
                <a:ext cx="4904280" cy="4774320"/>
                <a:chOff x="4182840" y="2098800"/>
                <a:chExt cx="490428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2840" y="3044520"/>
                  <a:ext cx="4781520" cy="296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960" cy="38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BE80-8DDD-4438-B3A3-8038C79FE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ая соединительная линия 7"/>
          <p:cNvSpPr/>
          <p:nvPr/>
        </p:nvSpPr>
        <p:spPr>
          <a:xfrm>
            <a:off x="0" y="3733920"/>
            <a:ext cx="9144000" cy="144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8"/>
          <p:cNvSpPr/>
          <p:nvPr/>
        </p:nvSpPr>
        <p:spPr>
          <a:xfrm>
            <a:off x="0" y="3886200"/>
            <a:ext cx="9144000" cy="144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9"/>
          <p:cNvSpPr/>
          <p:nvPr/>
        </p:nvSpPr>
        <p:spPr>
          <a:xfrm>
            <a:off x="0" y="4038480"/>
            <a:ext cx="9144000" cy="180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0"/>
          <p:cNvSpPr/>
          <p:nvPr/>
        </p:nvSpPr>
        <p:spPr>
          <a:xfrm>
            <a:off x="0" y="4191120"/>
            <a:ext cx="9144000" cy="1440"/>
          </a:xfrm>
          <a:prstGeom prst="line">
            <a:avLst/>
          </a:prstGeom>
          <a:ln w="38160">
            <a:solidFill>
              <a:srgbClr val="3db5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4" descr=""/>
          <p:cNvPicPr/>
          <p:nvPr/>
        </p:nvPicPr>
        <p:blipFill>
          <a:blip r:embed="rId1"/>
          <a:stretch/>
        </p:blipFill>
        <p:spPr>
          <a:xfrm>
            <a:off x="146160" y="433440"/>
            <a:ext cx="8778600" cy="1303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оля\Desktop\gen.host-it.ru__Pushkin.jpg"/>
          <p:cNvPicPr/>
          <p:nvPr/>
        </p:nvPicPr>
        <p:blipFill>
          <a:blip r:embed="rId2"/>
          <a:stretch/>
        </p:blipFill>
        <p:spPr>
          <a:xfrm>
            <a:off x="4952880" y="1905120"/>
            <a:ext cx="3589560" cy="4452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оля\Desktop\www.tonnel.ru__1194354801_tonnel.gif"/>
          <p:cNvPicPr/>
          <p:nvPr/>
        </p:nvPicPr>
        <p:blipFill>
          <a:blip r:embed="rId3"/>
          <a:stretch/>
        </p:blipFill>
        <p:spPr>
          <a:xfrm>
            <a:off x="838080" y="1905120"/>
            <a:ext cx="3467160" cy="454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2"/>
          <p:cNvSpPr/>
          <p:nvPr/>
        </p:nvSpPr>
        <p:spPr>
          <a:xfrm>
            <a:off x="15228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Было время,когда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Пушкин поговаривал о самоубийстве.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Не забудем, что поэту двадцать пять лет; несправедливая ссылка, нелепая ссора с отцом, из которой могут выйти еще большие неприятности, - 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ахнет палачом и каторгой…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Броситься в омут, в первую попавшуюся дуэль, битву, заговор, побег - все это было 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685800" y="380988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Дружеская помощь, утешение были чрезвычайно своевременными.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И опять Жуковский, за сотни верст, в Петербурге, почувствовал!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И написал Пушкину пись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434340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Две силы, своя и дружеская, соединилис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Users\оля\Desktop\raifa.ru__pushkin-sea_big_46587152778.jpg"/>
          <p:cNvPicPr/>
          <p:nvPr/>
        </p:nvPicPr>
        <p:blipFill>
          <a:blip r:embed="rId1"/>
          <a:stretch/>
        </p:blipFill>
        <p:spPr>
          <a:xfrm>
            <a:off x="4952880" y="152280"/>
            <a:ext cx="3733920" cy="5457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2"/>
          <p:cNvSpPr/>
          <p:nvPr/>
        </p:nvSpPr>
        <p:spPr>
          <a:xfrm>
            <a:off x="304920" y="152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Тогда, в середине 1820-х годов, кроме моральной поддержки, очень скоро потребовалось и новое, практическое заступни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 начале 1826 года, после поражения декабристов, Жуковский, опять же вместе с Карамзиным, ведет сложную, нам во многом невидимую работу по вызволению Пушк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-1219320" y="4191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4343400" y="4876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Царь "послушался", вызвал Пушкина из заточения; Карамзина в это время уже не было в живых, а Жуковский, естественно, молчал: он вообще никогда не хвастал добрыми делам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1219320" y="3505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C:\Users\оля\Desktop\fejazima.narod.ru__pushkin.jpg"/>
          <p:cNvPicPr/>
          <p:nvPr/>
        </p:nvPicPr>
        <p:blipFill>
          <a:blip r:embed="rId1"/>
          <a:stretch/>
        </p:blipFill>
        <p:spPr>
          <a:xfrm>
            <a:off x="533520" y="3048120"/>
            <a:ext cx="2971800" cy="3681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:\Users\оля\Desktop\www.zhukovskiy.net.ru__3b.jpg"/>
          <p:cNvPicPr/>
          <p:nvPr/>
        </p:nvPicPr>
        <p:blipFill>
          <a:blip r:embed="rId2"/>
          <a:stretch/>
        </p:blipFill>
        <p:spPr>
          <a:xfrm>
            <a:off x="5029200" y="685800"/>
            <a:ext cx="32767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1"/>
          <p:cNvSpPr/>
          <p:nvPr/>
        </p:nvSpPr>
        <p:spPr>
          <a:xfrm>
            <a:off x="2362320" y="-15011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ходится регулярно выслушивать житейские нравоучения и наставл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усть в шутливой, арзамасской форме)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е нужно считаться с самим фактом существ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э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читал стих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изусть и если вдруг ошибался в слове, 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лово тотчас заменя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0" y="2413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7"/>
          <p:cNvSpPr/>
          <p:nvPr/>
        </p:nvSpPr>
        <p:spPr>
          <a:xfrm>
            <a:off x="228600" y="22860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есной на почте вскрыли письмо Пушкина к жене, доставили текст Николаю, и царь охотно прочитал да еще выразил неудовольствие следующими строками (о двух Александрах - старшем сыне Николая I и старшем сыне Пушкина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8"/>
          <p:cNvSpPr/>
          <p:nvPr/>
        </p:nvSpPr>
        <p:spPr>
          <a:xfrm>
            <a:off x="2590920" y="3200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ушкин узнает о перехвате своего письма и 10 м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9"/>
          <p:cNvSpPr/>
          <p:nvPr/>
        </p:nvSpPr>
        <p:spPr>
          <a:xfrm>
            <a:off x="-1981080" y="144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0"/>
          <p:cNvSpPr/>
          <p:nvPr/>
        </p:nvSpPr>
        <p:spPr>
          <a:xfrm>
            <a:off x="4191120" y="50292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Наконец Жуковский добивается у царя фразы: "...пускай он (Пушкин) возьмет назад свое письмо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C:\Users\оля\Desktop\www.kulichki.com__01.jpg"/>
          <p:cNvPicPr/>
          <p:nvPr/>
        </p:nvPicPr>
        <p:blipFill>
          <a:blip r:embed="rId1"/>
          <a:stretch/>
        </p:blipFill>
        <p:spPr>
          <a:xfrm>
            <a:off x="838080" y="3733920"/>
            <a:ext cx="2605320" cy="279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C:\Users\оля\Desktop\www.kulichki.com__02.jpg"/>
          <p:cNvPicPr/>
          <p:nvPr/>
        </p:nvPicPr>
        <p:blipFill>
          <a:blip r:embed="rId2"/>
          <a:stretch/>
        </p:blipFill>
        <p:spPr>
          <a:xfrm>
            <a:off x="6248520" y="228600"/>
            <a:ext cx="261612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2"/>
          <p:cNvSpPr/>
          <p:nvPr/>
        </p:nvSpPr>
        <p:spPr>
          <a:xfrm>
            <a:off x="990720" y="228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риближается решающая дуэль в судьбе Пушкина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266720" y="1112400"/>
            <a:ext cx="48769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С этим трудно согласиться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Жуковский как мог, как умел старался расстроить поединок, избавить Пушкина от малейшей угрозы насильственной смерти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Ситуация была запутанной, тяжелой, у Жуковского получалось далеко не все; в конце концов, мы знаем, Пушкин начал от него таиться и, формально согласившись на примирение, отнюдь не простил врагам и оскорбителям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Тем не менее, Жуковский до конца оставался ближайшим, родным Пушкину человеком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Его отчаянные усилия в начале ноября остановили неминуемую, казалось бы, дуэль, но через короткий срок опасность снова увеличивается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8" name="Picture 3" descr="C:\Users\оля\Desktop\www.rvb.ru__pushkin_1824.jpg"/>
          <p:cNvPicPr/>
          <p:nvPr/>
        </p:nvPicPr>
        <p:blipFill>
          <a:blip r:embed="rId1"/>
          <a:stretch/>
        </p:blipFill>
        <p:spPr>
          <a:xfrm>
            <a:off x="762120" y="1600200"/>
            <a:ext cx="309060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4114800" y="1219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"/>
          <p:cNvSpPr/>
          <p:nvPr/>
        </p:nvSpPr>
        <p:spPr>
          <a:xfrm>
            <a:off x="228600" y="365040"/>
            <a:ext cx="4572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И снова в Германию. Жуковский не мог жить там, где погиб Пушки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он считал себя виноватым: пытался ведь примирить великого поэта с системой, но если при этом гений гибнет - значит, изначальная посылка была ошибочна и система порочна, значит, смысл жизни определен неверно..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Жуковский не мог больше и праздновать свой день рождения - столь же весело, легко, бездумно, как 29 января 1834 года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Всякое 29 января отзывалось эхом 1837-го... 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    Через 15 лет после гибели Пушкина, в 1852-м, Жуковский скончался в Герм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5410080" y="457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Пушкин погибает на дуэ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C:\Users\оля\Desktop\pushkin-life.narod.ru__pushkin_05.jpg"/>
          <p:cNvPicPr/>
          <p:nvPr/>
        </p:nvPicPr>
        <p:blipFill>
          <a:blip r:embed="rId1"/>
          <a:stretch/>
        </p:blipFill>
        <p:spPr>
          <a:xfrm>
            <a:off x="4952880" y="2209680"/>
            <a:ext cx="361980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152280" y="533520"/>
            <a:ext cx="4038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Calibri"/>
              </a:rPr>
              <a:t>Сложный и запутанный вопрос о связях Пушкина с его учителем – Жуковским, крупнейшим русским поэтом. Тема ” Пушкин и Жуковский ”: она важна для изучения не только роли Жуковского в творческой эволюции Пушкина, отношений “ ученика” и “ учителя ”, но шире – для общей трактовки путей и судеб поэтического творчест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C:\Users\оля\Desktop\www.library.ru__297b.jpg"/>
          <p:cNvPicPr/>
          <p:nvPr/>
        </p:nvPicPr>
        <p:blipFill>
          <a:blip r:embed="rId1"/>
          <a:stretch/>
        </p:blipFill>
        <p:spPr>
          <a:xfrm>
            <a:off x="4267080" y="304920"/>
            <a:ext cx="4591080" cy="6121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оля\Desktop\www.kulichki.com__01.jpg"/>
          <p:cNvPicPr/>
          <p:nvPr/>
        </p:nvPicPr>
        <p:blipFill>
          <a:blip r:embed="rId2"/>
          <a:stretch/>
        </p:blipFill>
        <p:spPr>
          <a:xfrm>
            <a:off x="990720" y="4343400"/>
            <a:ext cx="2133360" cy="2290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286000" y="172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276720" y="3581280"/>
            <a:ext cx="5486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 тот год, когда родился Пушкин, Жуковский благодаря хлопотам отца находится в одном из лучших дворянских заведений, Благородном пансионе при Московском университете, и вскоре заводит знакомство с Карамзиным, братьями Тургеневыми, братьями Сергеем Львовичем и Василием Львовичем Пушкин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Users\оля\Desktop\lh3.ggpht.com__pushkin_otets.jpg"/>
          <p:cNvPicPr/>
          <p:nvPr/>
        </p:nvPicPr>
        <p:blipFill>
          <a:blip r:embed="rId1"/>
          <a:stretch/>
        </p:blipFill>
        <p:spPr>
          <a:xfrm>
            <a:off x="3048120" y="152280"/>
            <a:ext cx="2671560" cy="3353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:\Users\оля\Desktop\imwerden.de__pushkin_v_l.jpg"/>
          <p:cNvPicPr/>
          <p:nvPr/>
        </p:nvPicPr>
        <p:blipFill>
          <a:blip r:embed="rId2"/>
          <a:stretch/>
        </p:blipFill>
        <p:spPr>
          <a:xfrm>
            <a:off x="38088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C:\Users\оля\Desktop\pushkina.com__pushkin_04.jpg"/>
          <p:cNvPicPr/>
          <p:nvPr/>
        </p:nvPicPr>
        <p:blipFill>
          <a:blip r:embed="rId3"/>
          <a:stretch/>
        </p:blipFill>
        <p:spPr>
          <a:xfrm>
            <a:off x="6019920" y="152280"/>
            <a:ext cx="2566800" cy="334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C:\Users\оля\Desktop\всвыамцс"/>
          <p:cNvPicPr/>
          <p:nvPr/>
        </p:nvPicPr>
        <p:blipFill>
          <a:blip r:embed="rId1"/>
          <a:stretch/>
        </p:blipFill>
        <p:spPr>
          <a:xfrm>
            <a:off x="3019320" y="2971800"/>
            <a:ext cx="5705640" cy="36860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"/>
          <p:cNvSpPr/>
          <p:nvPr/>
        </p:nvSpPr>
        <p:spPr>
          <a:xfrm>
            <a:off x="2286000" y="15825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5257800" y="53352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1816 год</a:t>
            </a:r>
            <a:br>
              <a:rPr sz="2000"/>
            </a:b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33-летний Жуковский появляется в Царском Селе и знакомится с 17-летним Пушк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C:\Users\оля\Desktop\вацу"/>
          <p:cNvPicPr/>
          <p:nvPr/>
        </p:nvPicPr>
        <p:blipFill>
          <a:blip r:embed="rId2"/>
          <a:stretch/>
        </p:blipFill>
        <p:spPr>
          <a:xfrm>
            <a:off x="228600" y="22860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52280" y="38098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Много ли общих тем? Вряд 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Жуковский вдвое старше, формально мог бы даже быть отцом Пушкина; он знаменитый поэт.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И тем не менее буквально с первых встреч старший и младший подружились: отношения близкие, веселые, творческие и, главное, совершенно р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C:\Users\оля\Desktop\cinema.fopf.mipt.ru__pushkin.jpg"/>
          <p:cNvPicPr/>
          <p:nvPr/>
        </p:nvPicPr>
        <p:blipFill>
          <a:blip r:embed="rId1"/>
          <a:stretch/>
        </p:blipFill>
        <p:spPr>
          <a:xfrm>
            <a:off x="685800" y="152280"/>
            <a:ext cx="3130560" cy="3505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Users\оля\Desktop\feb-web.ru__rp_grib3.jpg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6305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C:\Users\оля\Desktop\lh3.ggpht.com__x1-Z5_136.jpg"/>
          <p:cNvPicPr/>
          <p:nvPr/>
        </p:nvPicPr>
        <p:blipFill>
          <a:blip r:embed="rId1"/>
          <a:stretch/>
        </p:blipFill>
        <p:spPr>
          <a:xfrm>
            <a:off x="4800600" y="609480"/>
            <a:ext cx="4106880" cy="5867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152280" y="15228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т - известная над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ортрете Жуковск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аренном автору "Руслана и Людмилы"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Победителю-ученику от побежденного учителя в тот высокоторжественный день, в который он окончил свою поэму..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C:\Users\оля\Desktop\www.tonnel.ru__1194354801_tonnel.gif"/>
          <p:cNvPicPr/>
          <p:nvPr/>
        </p:nvPicPr>
        <p:blipFill>
          <a:blip r:embed="rId2"/>
          <a:stretch/>
        </p:blipFill>
        <p:spPr>
          <a:xfrm>
            <a:off x="609480" y="1981080"/>
            <a:ext cx="3467160" cy="4622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2"/>
          <p:cNvSpPr/>
          <p:nvPr/>
        </p:nvSpPr>
        <p:spPr>
          <a:xfrm>
            <a:off x="2286000" y="269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228600" y="152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шкину приходится регулярно выслушивать житейские нравоучения и наставления Жуковского (пусть в шутливой, арзамасской фор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572000" y="380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шкин часто читал стихи Жуковского наизусть и если вдруг ошибался в слове, то Жуковский это слово тотчас заменял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C:\Users\оля\Desktop\www.playcast.ru__262647.jpg"/>
          <p:cNvPicPr/>
          <p:nvPr/>
        </p:nvPicPr>
        <p:blipFill>
          <a:blip r:embed="rId1"/>
          <a:stretch/>
        </p:blipFill>
        <p:spPr>
          <a:xfrm>
            <a:off x="152388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15228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152280" y="22860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 1820 году над юным поэтом за его вольные стихи, эпиграммы нависла угроза Соловков или Сибири.    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Известно, что Пушкин даже пал духом: не хотел в ссылку, чувствовал, что не выдержит, погибнет.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У хорошего человека, однако, хорошие друзья. </a:t>
            </a:r>
            <a:br>
              <a:rPr sz="1800"/>
            </a:b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Главным заступником был Карамзин, но именно Жуковский явился спасителем  Алекса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4419720" y="5181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 мае 1820 года Пушкин и Жуковский расстаются на семь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   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прочем, в те небыстрые времена подобные разлуки для дружбы не поме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C:\Users\оля\Desktop\pushkin-onegin.narod.ru__pushkin.jpg"/>
          <p:cNvPicPr/>
          <p:nvPr/>
        </p:nvPicPr>
        <p:blipFill>
          <a:blip r:embed="rId1"/>
          <a:stretch/>
        </p:blipFill>
        <p:spPr>
          <a:xfrm>
            <a:off x="6324480" y="2057400"/>
            <a:ext cx="2422800" cy="3112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C:\Users\оля\Desktop\www.hrono.ru__zhukovski_vasandr.jpg"/>
          <p:cNvPicPr/>
          <p:nvPr/>
        </p:nvPicPr>
        <p:blipFill>
          <a:blip r:embed="rId2"/>
          <a:stretch/>
        </p:blipFill>
        <p:spPr>
          <a:xfrm>
            <a:off x="914400" y="2438280"/>
            <a:ext cx="2968560" cy="4013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2286000" y="1859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457200" y="243828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торой раз - в конце 1824 года.     Сосланный в Михайловское, поэт раздражен клеветой врагов и мнимых друзей. Через несколько месяцев после начала второй ссылки создает "Коварность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434340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Как важно иметь друга, способного вовремя найти такие слова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3886200" y="4572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7"/>
          <p:cNvSpPr/>
          <p:nvPr/>
        </p:nvSpPr>
        <p:spPr>
          <a:xfrm>
            <a:off x="0" y="5943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Выход из кризиса найден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оля\Desktop\www.tonnel.ru__824887160_tonnel.gif"/>
          <p:cNvPicPr/>
          <p:nvPr/>
        </p:nvPicPr>
        <p:blipFill>
          <a:blip r:embed="rId1"/>
          <a:stretch/>
        </p:blipFill>
        <p:spPr>
          <a:xfrm>
            <a:off x="4572000" y="304920"/>
            <a:ext cx="3889440" cy="51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7:43:06Z</dcterms:created>
  <dc:creator>оля</dc:creator>
  <dc:description/>
  <dc:language>en-US</dc:language>
  <cp:lastModifiedBy>Admin</cp:lastModifiedBy>
  <dcterms:modified xsi:type="dcterms:W3CDTF">2009-04-12T14:19:48Z</dcterms:modified>
  <cp:revision>45</cp:revision>
  <dc:subject/>
  <dc:title>Слайд 1</dc:title>
</cp:coreProperties>
</file>