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24.jpeg" ContentType="image/jpeg"/>
  <Override PartName="/ppt/media/image7.png" ContentType="image/png"/>
  <Override PartName="/ppt/media/image34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22.jpeg" ContentType="image/jpeg"/>
  <Override PartName="/ppt/media/image9.png" ContentType="image/png"/>
  <Override PartName="/ppt/media/image38.jpeg" ContentType="image/jpeg"/>
  <Override PartName="/ppt/media/image33.jpeg" ContentType="image/jpeg"/>
  <Override PartName="/ppt/media/image27.jpeg" ContentType="image/jpeg"/>
  <Override PartName="/ppt/media/image36.jpeg" ContentType="image/jpeg"/>
  <Override PartName="/ppt/media/image3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9A98-992C-43CC-9FD1-3E5443C514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EABD-353B-400F-8869-FDD70E6B29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21C9-7587-4C26-9D88-4BE1EA42D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D2CE-24B9-45B2-8B63-8F5A1DD0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2292-2CE7-4968-AAE8-B69A7076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A585-5E99-4342-8668-A435B39D9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7F34-DA71-441E-AD1B-FF333013C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6323-4E36-4A79-BD3D-11CEE1A5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A627-C4B1-485A-B6B2-FF38B6FB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69D3-A464-4741-A34F-38B17DEE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0DA4-E711-4B2E-ACC2-E9E86733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BE43-4C25-450F-82A9-E2789E87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AD01-DBDA-4E6B-80C8-74D92330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9C5F-CE3A-4751-A684-098CBF2B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8143-EC94-48E7-B9CD-6052C6DF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C7DC-07C2-4189-BE56-073F7D14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EEA9-973F-4E12-A1AF-5A0D2388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9969-9709-4A6F-B6D9-471296154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F01E-5BFB-44EA-B7E6-093C0CFD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BC559-4043-4E43-ADD5-2BFABC6F2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4D0F2-9A79-40EA-A6F7-FA3890F0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83353-5C53-4944-A030-8114EA62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66D28-DB0A-4AE6-98AA-9BB86AFF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879CE-09B2-4284-A8A7-A8FD76C9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E838-7942-4C14-A5DC-5DC4CB35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B0D5E-AE9A-4C45-9A3F-60693F79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037D1-90B4-4DBD-8F19-20CD22FD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45BF6-6B7A-44D5-BCF8-52520DEB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78DDB-1668-4D90-BCB0-5C75C96E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627D4-E682-4FFF-BDA0-E77DD4D7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47246-3B43-41ED-A2D1-554BD5329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E276F-AEC4-4CD9-B8B0-3E0264E0D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86DB-6022-4695-B4ED-D4E115A4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D092-FE56-4D52-9219-1B529F31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DFE0-5BB6-4F94-B3FA-E267E12F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B49A-25CC-4157-BE6B-E78DAD90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246C-658F-4B9E-A4F4-1724CDAD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2AEC-B74D-4B03-BB36-AF20B3F9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13.xml"/><Relationship Id="rId21" Type="http://schemas.openxmlformats.org/officeDocument/2006/relationships/slideLayout" Target="../slideLayouts/slideLayout14.xml"/><Relationship Id="rId22" Type="http://schemas.openxmlformats.org/officeDocument/2006/relationships/slideLayout" Target="../slideLayouts/slideLayout15.xml"/><Relationship Id="rId23" Type="http://schemas.openxmlformats.org/officeDocument/2006/relationships/slideLayout" Target="../slideLayouts/slideLayout16.xml"/><Relationship Id="rId24" Type="http://schemas.openxmlformats.org/officeDocument/2006/relationships/slideLayout" Target="../slideLayouts/slideLayout17.xml"/><Relationship Id="rId25" Type="http://schemas.openxmlformats.org/officeDocument/2006/relationships/slideLayout" Target="../slideLayouts/slideLayout18.xml"/><Relationship Id="rId26" Type="http://schemas.openxmlformats.org/officeDocument/2006/relationships/slideLayout" Target="../slideLayouts/slideLayout19.xml"/><Relationship Id="rId27" Type="http://schemas.openxmlformats.org/officeDocument/2006/relationships/slideLayout" Target="../slideLayouts/slideLayout20.xml"/><Relationship Id="rId28" Type="http://schemas.openxmlformats.org/officeDocument/2006/relationships/slideLayout" Target="../slideLayouts/slideLayout21.xml"/><Relationship Id="rId29" Type="http://schemas.openxmlformats.org/officeDocument/2006/relationships/slideLayout" Target="../slideLayouts/slideLayout22.xml"/><Relationship Id="rId30" Type="http://schemas.openxmlformats.org/officeDocument/2006/relationships/slideLayout" Target="../slideLayouts/slideLayout23.xml"/><Relationship Id="rId3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25.xml"/><Relationship Id="rId21" Type="http://schemas.openxmlformats.org/officeDocument/2006/relationships/slideLayout" Target="../slideLayouts/slideLayout26.xml"/><Relationship Id="rId22" Type="http://schemas.openxmlformats.org/officeDocument/2006/relationships/slideLayout" Target="../slideLayouts/slideLayout27.xml"/><Relationship Id="rId23" Type="http://schemas.openxmlformats.org/officeDocument/2006/relationships/slideLayout" Target="../slideLayouts/slideLayout28.xml"/><Relationship Id="rId24" Type="http://schemas.openxmlformats.org/officeDocument/2006/relationships/slideLayout" Target="../slideLayouts/slideLayout29.xml"/><Relationship Id="rId25" Type="http://schemas.openxmlformats.org/officeDocument/2006/relationships/slideLayout" Target="../slideLayouts/slideLayout30.xml"/><Relationship Id="rId26" Type="http://schemas.openxmlformats.org/officeDocument/2006/relationships/slideLayout" Target="../slideLayouts/slideLayout31.xml"/><Relationship Id="rId27" Type="http://schemas.openxmlformats.org/officeDocument/2006/relationships/slideLayout" Target="../slideLayouts/slideLayout32.xml"/><Relationship Id="rId28" Type="http://schemas.openxmlformats.org/officeDocument/2006/relationships/slideLayout" Target="../slideLayouts/slideLayout33.xml"/><Relationship Id="rId29" Type="http://schemas.openxmlformats.org/officeDocument/2006/relationships/slideLayout" Target="../slideLayouts/slideLayout34.xml"/><Relationship Id="rId30" Type="http://schemas.openxmlformats.org/officeDocument/2006/relationships/slideLayout" Target="../slideLayouts/slideLayout35.xml"/><Relationship Id="rId3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Group 101" descr=""/>
          <p:cNvPicPr/>
          <p:nvPr/>
        </p:nvPicPr>
        <p:blipFill>
          <a:blip r:embed="rId7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BAE9-E362-4332-8988-1F2A81737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56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63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Group 101" descr=""/>
          <p:cNvPicPr/>
          <p:nvPr/>
        </p:nvPicPr>
        <p:blipFill>
          <a:blip r:embed="rId7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21"/>
          <p:cNvGrpSpPr/>
          <p:nvPr/>
        </p:nvGrpSpPr>
        <p:grpSpPr>
          <a:xfrm>
            <a:off x="3309480" y="1737720"/>
            <a:ext cx="6150960" cy="5135400"/>
            <a:chOff x="3309480" y="1737720"/>
            <a:chExt cx="6150960" cy="5135400"/>
          </a:xfrm>
        </p:grpSpPr>
        <p:grpSp>
          <p:nvGrpSpPr>
            <p:cNvPr id="70" name="Group 42"/>
            <p:cNvGrpSpPr/>
            <p:nvPr/>
          </p:nvGrpSpPr>
          <p:grpSpPr>
            <a:xfrm>
              <a:off x="3309480" y="1772640"/>
              <a:ext cx="6150960" cy="4765320"/>
              <a:chOff x="3309480" y="1772640"/>
              <a:chExt cx="6150960" cy="4765320"/>
            </a:xfrm>
          </p:grpSpPr>
          <p:grpSp>
            <p:nvGrpSpPr>
              <p:cNvPr id="71" name="Freeform 21"/>
              <p:cNvGrpSpPr/>
              <p:nvPr/>
            </p:nvGrpSpPr>
            <p:grpSpPr>
              <a:xfrm>
                <a:off x="3309480" y="1772640"/>
                <a:ext cx="6150960" cy="4765320"/>
                <a:chOff x="3309480" y="1772640"/>
                <a:chExt cx="6150960" cy="4765320"/>
              </a:xfrm>
            </p:grpSpPr>
            <p:pic>
              <p:nvPicPr>
                <p:cNvPr id="72" name="Freeform 21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156200" y="2959200"/>
                  <a:ext cx="530388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3" name=""/>
                <p:cNvSpPr/>
                <p:nvPr/>
              </p:nvSpPr>
              <p:spPr>
                <a:xfrm rot="19693200">
                  <a:off x="3439080" y="3103920"/>
                  <a:ext cx="5655240" cy="21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Freeform 22"/>
              <p:cNvGrpSpPr/>
              <p:nvPr/>
            </p:nvGrpSpPr>
            <p:grpSpPr>
              <a:xfrm>
                <a:off x="3313800" y="1780920"/>
                <a:ext cx="6120360" cy="4756320"/>
                <a:chOff x="3313800" y="1780920"/>
                <a:chExt cx="6120360" cy="4756320"/>
              </a:xfrm>
            </p:grpSpPr>
            <p:pic>
              <p:nvPicPr>
                <p:cNvPr id="75" name="Freeform 22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74560" y="2973600"/>
                  <a:ext cx="5259240" cy="3048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" name=""/>
                <p:cNvSpPr/>
                <p:nvPr/>
              </p:nvSpPr>
              <p:spPr>
                <a:xfrm rot="19693200">
                  <a:off x="3444480" y="3107880"/>
                  <a:ext cx="5637960" cy="21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7" name="Straight Connector 8" descr=""/>
            <p:cNvPicPr/>
            <p:nvPr/>
          </p:nvPicPr>
          <p:blipFill>
            <a:blip r:embed="rId10"/>
            <a:stretch/>
          </p:blipFill>
          <p:spPr>
            <a:xfrm rot="21599400">
              <a:off x="5131440" y="2529720"/>
              <a:ext cx="2676240" cy="4188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Group 38"/>
            <p:cNvGrpSpPr/>
            <p:nvPr/>
          </p:nvGrpSpPr>
          <p:grpSpPr>
            <a:xfrm>
              <a:off x="5132880" y="2424960"/>
              <a:ext cx="3528720" cy="4215600"/>
              <a:chOff x="5132880" y="2424960"/>
              <a:chExt cx="3528720" cy="4215600"/>
            </a:xfrm>
          </p:grpSpPr>
          <p:grpSp>
            <p:nvGrpSpPr>
              <p:cNvPr id="79" name="Freeform 19"/>
              <p:cNvGrpSpPr/>
              <p:nvPr/>
            </p:nvGrpSpPr>
            <p:grpSpPr>
              <a:xfrm>
                <a:off x="5563440" y="2609280"/>
                <a:ext cx="2887560" cy="3540960"/>
                <a:chOff x="5563440" y="2609280"/>
                <a:chExt cx="2887560" cy="3540960"/>
              </a:xfrm>
            </p:grpSpPr>
            <p:pic>
              <p:nvPicPr>
                <p:cNvPr id="80" name="Freeform 19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5858280" y="3381480"/>
                  <a:ext cx="2250720" cy="196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" name=""/>
                <p:cNvSpPr/>
                <p:nvPr/>
              </p:nvSpPr>
              <p:spPr>
                <a:xfrm rot="19693200">
                  <a:off x="6344640" y="2707200"/>
                  <a:ext cx="13244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" name="Freeform 20"/>
              <p:cNvGrpSpPr/>
              <p:nvPr/>
            </p:nvGrpSpPr>
            <p:grpSpPr>
              <a:xfrm>
                <a:off x="5132880" y="2424960"/>
                <a:ext cx="3528720" cy="4215600"/>
                <a:chOff x="5132880" y="2424960"/>
                <a:chExt cx="3528720" cy="4215600"/>
              </a:xfrm>
            </p:grpSpPr>
            <p:pic>
              <p:nvPicPr>
                <p:cNvPr id="83" name="Freeform 20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5489280" y="3254400"/>
                  <a:ext cx="2721240" cy="2313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" name=""/>
                <p:cNvSpPr/>
                <p:nvPr/>
              </p:nvSpPr>
              <p:spPr>
                <a:xfrm rot="19693200">
                  <a:off x="6021720" y="2595240"/>
                  <a:ext cx="1750320" cy="38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" name="Group 39"/>
            <p:cNvGrpSpPr/>
            <p:nvPr/>
          </p:nvGrpSpPr>
          <p:grpSpPr>
            <a:xfrm>
              <a:off x="4100760" y="3017520"/>
              <a:ext cx="3829680" cy="3753000"/>
              <a:chOff x="4100760" y="3017520"/>
              <a:chExt cx="3829680" cy="3753000"/>
            </a:xfrm>
          </p:grpSpPr>
          <p:grpSp>
            <p:nvGrpSpPr>
              <p:cNvPr id="86" name="Freeform 17"/>
              <p:cNvGrpSpPr/>
              <p:nvPr/>
            </p:nvGrpSpPr>
            <p:grpSpPr>
              <a:xfrm>
                <a:off x="4146480" y="3688560"/>
                <a:ext cx="2711880" cy="2883960"/>
                <a:chOff x="4146480" y="3688560"/>
                <a:chExt cx="2711880" cy="2883960"/>
              </a:xfrm>
            </p:grpSpPr>
            <p:pic>
              <p:nvPicPr>
                <p:cNvPr id="87" name="Freeform 17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4975560" y="368820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" name=""/>
                <p:cNvSpPr/>
                <p:nvPr/>
              </p:nvSpPr>
              <p:spPr>
                <a:xfrm rot="19693200">
                  <a:off x="4615920" y="3988800"/>
                  <a:ext cx="1772640" cy="228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Freeform 18"/>
              <p:cNvGrpSpPr/>
              <p:nvPr/>
            </p:nvGrpSpPr>
            <p:grpSpPr>
              <a:xfrm>
                <a:off x="4100760" y="3017520"/>
                <a:ext cx="3829680" cy="3753000"/>
                <a:chOff x="4100760" y="3017520"/>
                <a:chExt cx="3829680" cy="3753000"/>
              </a:xfrm>
            </p:grpSpPr>
            <p:pic>
              <p:nvPicPr>
                <p:cNvPr id="90" name="Freeform 18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024880" y="316548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" name=""/>
                <p:cNvSpPr/>
                <p:nvPr/>
              </p:nvSpPr>
              <p:spPr>
                <a:xfrm rot="19693200">
                  <a:off x="4579200" y="357624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" name="Group 37"/>
            <p:cNvGrpSpPr/>
            <p:nvPr/>
          </p:nvGrpSpPr>
          <p:grpSpPr>
            <a:xfrm>
              <a:off x="4125240" y="1737720"/>
              <a:ext cx="3408840" cy="3309840"/>
              <a:chOff x="4125240" y="1737720"/>
              <a:chExt cx="3408840" cy="3309840"/>
            </a:xfrm>
          </p:grpSpPr>
          <p:grpSp>
            <p:nvGrpSpPr>
              <p:cNvPr id="93" name="Freeform 15"/>
              <p:cNvGrpSpPr/>
              <p:nvPr/>
            </p:nvGrpSpPr>
            <p:grpSpPr>
              <a:xfrm>
                <a:off x="4792680" y="2189880"/>
                <a:ext cx="2668320" cy="2799360"/>
                <a:chOff x="4792680" y="2189880"/>
                <a:chExt cx="2668320" cy="2799360"/>
              </a:xfrm>
            </p:grpSpPr>
            <p:pic>
              <p:nvPicPr>
                <p:cNvPr id="94" name="Freeform 15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792680" y="2682720"/>
                  <a:ext cx="2656440" cy="1807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 rot="11786400">
                  <a:off x="514224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Freeform 16"/>
              <p:cNvGrpSpPr/>
              <p:nvPr/>
            </p:nvGrpSpPr>
            <p:grpSpPr>
              <a:xfrm>
                <a:off x="4125240" y="1737720"/>
                <a:ext cx="3408840" cy="3309840"/>
                <a:chOff x="4125240" y="1737720"/>
                <a:chExt cx="3408840" cy="3309840"/>
              </a:xfrm>
            </p:grpSpPr>
            <p:pic>
              <p:nvPicPr>
                <p:cNvPr id="97" name="Freeform 16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4125240" y="239040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"/>
                <p:cNvSpPr/>
                <p:nvPr/>
              </p:nvSpPr>
              <p:spPr>
                <a:xfrm rot="11786400">
                  <a:off x="4527360" y="2063160"/>
                  <a:ext cx="268524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Group 36"/>
            <p:cNvGrpSpPr/>
            <p:nvPr/>
          </p:nvGrpSpPr>
          <p:grpSpPr>
            <a:xfrm>
              <a:off x="4182840" y="2098800"/>
              <a:ext cx="4904280" cy="4774320"/>
              <a:chOff x="4182840" y="2098800"/>
              <a:chExt cx="4904280" cy="4774320"/>
            </a:xfrm>
          </p:grpSpPr>
          <p:grpSp>
            <p:nvGrpSpPr>
              <p:cNvPr id="100" name="Freeform 13"/>
              <p:cNvGrpSpPr/>
              <p:nvPr/>
            </p:nvGrpSpPr>
            <p:grpSpPr>
              <a:xfrm>
                <a:off x="5141520" y="2753640"/>
                <a:ext cx="3838680" cy="4021920"/>
                <a:chOff x="5141520" y="2753640"/>
                <a:chExt cx="3838680" cy="4021920"/>
              </a:xfrm>
            </p:grpSpPr>
            <p:pic>
              <p:nvPicPr>
                <p:cNvPr id="101" name="Freeform 13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" name=""/>
                <p:cNvSpPr/>
                <p:nvPr/>
              </p:nvSpPr>
              <p:spPr>
                <a:xfrm rot="11786400">
                  <a:off x="5644080" y="3099240"/>
                  <a:ext cx="2924640" cy="33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Freeform 14"/>
              <p:cNvGrpSpPr/>
              <p:nvPr/>
            </p:nvGrpSpPr>
            <p:grpSpPr>
              <a:xfrm>
                <a:off x="4182840" y="2098800"/>
                <a:ext cx="4904280" cy="4774320"/>
                <a:chOff x="4182840" y="2098800"/>
                <a:chExt cx="4904280" cy="4774320"/>
              </a:xfrm>
            </p:grpSpPr>
            <p:pic>
              <p:nvPicPr>
                <p:cNvPr id="104" name="Freeform 14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82840" y="3044520"/>
                  <a:ext cx="4781520" cy="296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" name=""/>
                <p:cNvSpPr/>
                <p:nvPr/>
              </p:nvSpPr>
              <p:spPr>
                <a:xfrm rot="11786400">
                  <a:off x="4757760" y="2567160"/>
                  <a:ext cx="3864960" cy="38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6" name="Picture 230" descr="star"/>
          <p:cNvPicPr/>
          <p:nvPr/>
        </p:nvPicPr>
        <p:blipFill>
          <a:blip r:embed="rId19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E051-B208-4B2B-94E4-0424FD385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0"/>
    <p:sldLayoutId id="2147483663" r:id="rId21"/>
    <p:sldLayoutId id="2147483664" r:id="rId22"/>
    <p:sldLayoutId id="2147483665" r:id="rId23"/>
    <p:sldLayoutId id="2147483666" r:id="rId24"/>
    <p:sldLayoutId id="2147483667" r:id="rId25"/>
    <p:sldLayoutId id="2147483668" r:id="rId26"/>
    <p:sldLayoutId id="2147483669" r:id="rId27"/>
    <p:sldLayoutId id="2147483670" r:id="rId28"/>
    <p:sldLayoutId id="2147483671" r:id="rId29"/>
    <p:sldLayoutId id="2147483672" r:id="rId30"/>
    <p:sldLayoutId id="2147483673" r:id="rId3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49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56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Group 101" descr=""/>
          <p:cNvPicPr/>
          <p:nvPr/>
        </p:nvPicPr>
        <p:blipFill>
          <a:blip r:embed="rId7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21"/>
          <p:cNvGrpSpPr/>
          <p:nvPr/>
        </p:nvGrpSpPr>
        <p:grpSpPr>
          <a:xfrm>
            <a:off x="3309480" y="1737720"/>
            <a:ext cx="6150960" cy="5135400"/>
            <a:chOff x="3309480" y="1737720"/>
            <a:chExt cx="6150960" cy="5135400"/>
          </a:xfrm>
        </p:grpSpPr>
        <p:grpSp>
          <p:nvGrpSpPr>
            <p:cNvPr id="163" name="Group 42"/>
            <p:cNvGrpSpPr/>
            <p:nvPr/>
          </p:nvGrpSpPr>
          <p:grpSpPr>
            <a:xfrm>
              <a:off x="3309480" y="1772640"/>
              <a:ext cx="6150960" cy="4765320"/>
              <a:chOff x="3309480" y="1772640"/>
              <a:chExt cx="6150960" cy="4765320"/>
            </a:xfrm>
          </p:grpSpPr>
          <p:grpSp>
            <p:nvGrpSpPr>
              <p:cNvPr id="164" name="Freeform 21"/>
              <p:cNvGrpSpPr/>
              <p:nvPr/>
            </p:nvGrpSpPr>
            <p:grpSpPr>
              <a:xfrm>
                <a:off x="3309480" y="1772640"/>
                <a:ext cx="6150960" cy="4765320"/>
                <a:chOff x="3309480" y="1772640"/>
                <a:chExt cx="6150960" cy="4765320"/>
              </a:xfrm>
            </p:grpSpPr>
            <p:pic>
              <p:nvPicPr>
                <p:cNvPr id="165" name="Freeform 21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156200" y="2959200"/>
                  <a:ext cx="530388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6" name=""/>
                <p:cNvSpPr/>
                <p:nvPr/>
              </p:nvSpPr>
              <p:spPr>
                <a:xfrm rot="19693200">
                  <a:off x="3439080" y="3103920"/>
                  <a:ext cx="5655240" cy="21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Freeform 22"/>
              <p:cNvGrpSpPr/>
              <p:nvPr/>
            </p:nvGrpSpPr>
            <p:grpSpPr>
              <a:xfrm>
                <a:off x="3313800" y="1780920"/>
                <a:ext cx="6120360" cy="4756320"/>
                <a:chOff x="3313800" y="1780920"/>
                <a:chExt cx="6120360" cy="4756320"/>
              </a:xfrm>
            </p:grpSpPr>
            <p:pic>
              <p:nvPicPr>
                <p:cNvPr id="168" name="Freeform 22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74560" y="2973600"/>
                  <a:ext cx="5259240" cy="3048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9" name=""/>
                <p:cNvSpPr/>
                <p:nvPr/>
              </p:nvSpPr>
              <p:spPr>
                <a:xfrm rot="19693200">
                  <a:off x="3444480" y="3107880"/>
                  <a:ext cx="5637960" cy="21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70" name="Straight Connector 8" descr=""/>
            <p:cNvPicPr/>
            <p:nvPr/>
          </p:nvPicPr>
          <p:blipFill>
            <a:blip r:embed="rId10"/>
            <a:stretch/>
          </p:blipFill>
          <p:spPr>
            <a:xfrm rot="21599400">
              <a:off x="5131440" y="2529720"/>
              <a:ext cx="2676240" cy="4188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38"/>
            <p:cNvGrpSpPr/>
            <p:nvPr/>
          </p:nvGrpSpPr>
          <p:grpSpPr>
            <a:xfrm>
              <a:off x="5132880" y="2424960"/>
              <a:ext cx="3528720" cy="4215600"/>
              <a:chOff x="5132880" y="2424960"/>
              <a:chExt cx="3528720" cy="4215600"/>
            </a:xfrm>
          </p:grpSpPr>
          <p:grpSp>
            <p:nvGrpSpPr>
              <p:cNvPr id="172" name="Freeform 19"/>
              <p:cNvGrpSpPr/>
              <p:nvPr/>
            </p:nvGrpSpPr>
            <p:grpSpPr>
              <a:xfrm>
                <a:off x="5563440" y="2609280"/>
                <a:ext cx="2887560" cy="3540960"/>
                <a:chOff x="5563440" y="2609280"/>
                <a:chExt cx="2887560" cy="3540960"/>
              </a:xfrm>
            </p:grpSpPr>
            <p:pic>
              <p:nvPicPr>
                <p:cNvPr id="173" name="Freeform 19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5858280" y="3381480"/>
                  <a:ext cx="2250720" cy="196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" name=""/>
                <p:cNvSpPr/>
                <p:nvPr/>
              </p:nvSpPr>
              <p:spPr>
                <a:xfrm rot="19693200">
                  <a:off x="6344640" y="2707200"/>
                  <a:ext cx="13244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Freeform 20"/>
              <p:cNvGrpSpPr/>
              <p:nvPr/>
            </p:nvGrpSpPr>
            <p:grpSpPr>
              <a:xfrm>
                <a:off x="5132880" y="2424960"/>
                <a:ext cx="3528720" cy="4215600"/>
                <a:chOff x="5132880" y="2424960"/>
                <a:chExt cx="3528720" cy="4215600"/>
              </a:xfrm>
            </p:grpSpPr>
            <p:pic>
              <p:nvPicPr>
                <p:cNvPr id="176" name="Freeform 20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5489280" y="3254400"/>
                  <a:ext cx="2721240" cy="2313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 rot="19693200">
                  <a:off x="6021720" y="2595240"/>
                  <a:ext cx="1750320" cy="38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Group 39"/>
            <p:cNvGrpSpPr/>
            <p:nvPr/>
          </p:nvGrpSpPr>
          <p:grpSpPr>
            <a:xfrm>
              <a:off x="4100760" y="3017520"/>
              <a:ext cx="3829680" cy="3753000"/>
              <a:chOff x="4100760" y="3017520"/>
              <a:chExt cx="3829680" cy="3753000"/>
            </a:xfrm>
          </p:grpSpPr>
          <p:grpSp>
            <p:nvGrpSpPr>
              <p:cNvPr id="179" name="Freeform 17"/>
              <p:cNvGrpSpPr/>
              <p:nvPr/>
            </p:nvGrpSpPr>
            <p:grpSpPr>
              <a:xfrm>
                <a:off x="4146480" y="3688560"/>
                <a:ext cx="2711880" cy="2883960"/>
                <a:chOff x="4146480" y="3688560"/>
                <a:chExt cx="2711880" cy="2883960"/>
              </a:xfrm>
            </p:grpSpPr>
            <p:pic>
              <p:nvPicPr>
                <p:cNvPr id="180" name="Freeform 17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4975560" y="368820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1" name=""/>
                <p:cNvSpPr/>
                <p:nvPr/>
              </p:nvSpPr>
              <p:spPr>
                <a:xfrm rot="19693200">
                  <a:off x="4615920" y="3988800"/>
                  <a:ext cx="1772640" cy="228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Freeform 18"/>
              <p:cNvGrpSpPr/>
              <p:nvPr/>
            </p:nvGrpSpPr>
            <p:grpSpPr>
              <a:xfrm>
                <a:off x="4100760" y="3017520"/>
                <a:ext cx="3829680" cy="3753000"/>
                <a:chOff x="4100760" y="3017520"/>
                <a:chExt cx="3829680" cy="3753000"/>
              </a:xfrm>
            </p:grpSpPr>
            <p:pic>
              <p:nvPicPr>
                <p:cNvPr id="183" name="Freeform 18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024880" y="316548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" name=""/>
                <p:cNvSpPr/>
                <p:nvPr/>
              </p:nvSpPr>
              <p:spPr>
                <a:xfrm rot="19693200">
                  <a:off x="4579200" y="357624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5" name="Group 37"/>
            <p:cNvGrpSpPr/>
            <p:nvPr/>
          </p:nvGrpSpPr>
          <p:grpSpPr>
            <a:xfrm>
              <a:off x="4125240" y="1737720"/>
              <a:ext cx="3408840" cy="3309840"/>
              <a:chOff x="4125240" y="1737720"/>
              <a:chExt cx="3408840" cy="3309840"/>
            </a:xfrm>
          </p:grpSpPr>
          <p:grpSp>
            <p:nvGrpSpPr>
              <p:cNvPr id="186" name="Freeform 15"/>
              <p:cNvGrpSpPr/>
              <p:nvPr/>
            </p:nvGrpSpPr>
            <p:grpSpPr>
              <a:xfrm>
                <a:off x="4792680" y="2189880"/>
                <a:ext cx="2668320" cy="2799360"/>
                <a:chOff x="4792680" y="2189880"/>
                <a:chExt cx="2668320" cy="2799360"/>
              </a:xfrm>
            </p:grpSpPr>
            <p:pic>
              <p:nvPicPr>
                <p:cNvPr id="187" name="Freeform 15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792680" y="2682720"/>
                  <a:ext cx="2656440" cy="1807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8" name=""/>
                <p:cNvSpPr/>
                <p:nvPr/>
              </p:nvSpPr>
              <p:spPr>
                <a:xfrm rot="11786400">
                  <a:off x="514224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Freeform 16"/>
              <p:cNvGrpSpPr/>
              <p:nvPr/>
            </p:nvGrpSpPr>
            <p:grpSpPr>
              <a:xfrm>
                <a:off x="4125240" y="1737720"/>
                <a:ext cx="3408840" cy="3309840"/>
                <a:chOff x="4125240" y="1737720"/>
                <a:chExt cx="3408840" cy="3309840"/>
              </a:xfrm>
            </p:grpSpPr>
            <p:pic>
              <p:nvPicPr>
                <p:cNvPr id="190" name="Freeform 16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4125240" y="239040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1" name=""/>
                <p:cNvSpPr/>
                <p:nvPr/>
              </p:nvSpPr>
              <p:spPr>
                <a:xfrm rot="11786400">
                  <a:off x="4527360" y="2063160"/>
                  <a:ext cx="268524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2" name="Group 36"/>
            <p:cNvGrpSpPr/>
            <p:nvPr/>
          </p:nvGrpSpPr>
          <p:grpSpPr>
            <a:xfrm>
              <a:off x="4182840" y="2098800"/>
              <a:ext cx="4904280" cy="4774320"/>
              <a:chOff x="4182840" y="2098800"/>
              <a:chExt cx="4904280" cy="4774320"/>
            </a:xfrm>
          </p:grpSpPr>
          <p:grpSp>
            <p:nvGrpSpPr>
              <p:cNvPr id="193" name="Freeform 13"/>
              <p:cNvGrpSpPr/>
              <p:nvPr/>
            </p:nvGrpSpPr>
            <p:grpSpPr>
              <a:xfrm>
                <a:off x="5141520" y="2753640"/>
                <a:ext cx="3838680" cy="4021920"/>
                <a:chOff x="5141520" y="2753640"/>
                <a:chExt cx="3838680" cy="4021920"/>
              </a:xfrm>
            </p:grpSpPr>
            <p:pic>
              <p:nvPicPr>
                <p:cNvPr id="194" name="Freeform 13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 rot="11786400">
                  <a:off x="5644080" y="3099240"/>
                  <a:ext cx="2924640" cy="33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Freeform 14"/>
              <p:cNvGrpSpPr/>
              <p:nvPr/>
            </p:nvGrpSpPr>
            <p:grpSpPr>
              <a:xfrm>
                <a:off x="4182840" y="2098800"/>
                <a:ext cx="4904280" cy="4774320"/>
                <a:chOff x="4182840" y="2098800"/>
                <a:chExt cx="4904280" cy="4774320"/>
              </a:xfrm>
            </p:grpSpPr>
            <p:pic>
              <p:nvPicPr>
                <p:cNvPr id="197" name="Freeform 14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82840" y="3044520"/>
                  <a:ext cx="4781520" cy="296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 rot="11786400">
                  <a:off x="4757760" y="2567160"/>
                  <a:ext cx="3864960" cy="38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99" name="Picture 230" descr="star"/>
          <p:cNvPicPr/>
          <p:nvPr/>
        </p:nvPicPr>
        <p:blipFill>
          <a:blip r:embed="rId19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7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8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9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B72B-4966-4EDD-A9D5-06A0E636A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0"/>
    <p:sldLayoutId id="2147483676" r:id="rId21"/>
    <p:sldLayoutId id="2147483677" r:id="rId22"/>
    <p:sldLayoutId id="2147483678" r:id="rId23"/>
    <p:sldLayoutId id="2147483679" r:id="rId24"/>
    <p:sldLayoutId id="2147483680" r:id="rId25"/>
    <p:sldLayoutId id="2147483681" r:id="rId26"/>
    <p:sldLayoutId id="2147483682" r:id="rId27"/>
    <p:sldLayoutId id="2147483683" r:id="rId28"/>
    <p:sldLayoutId id="2147483684" r:id="rId29"/>
    <p:sldLayoutId id="2147483685" r:id="rId30"/>
    <p:sldLayoutId id="2147483686" r:id="rId3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ая соединительная линия 7"/>
          <p:cNvSpPr/>
          <p:nvPr/>
        </p:nvSpPr>
        <p:spPr>
          <a:xfrm>
            <a:off x="0" y="3733920"/>
            <a:ext cx="9144000" cy="1440"/>
          </a:xfrm>
          <a:prstGeom prst="line">
            <a:avLst/>
          </a:prstGeom>
          <a:ln w="38160">
            <a:solidFill>
              <a:srgbClr val="3db5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8"/>
          <p:cNvSpPr/>
          <p:nvPr/>
        </p:nvSpPr>
        <p:spPr>
          <a:xfrm>
            <a:off x="0" y="3886200"/>
            <a:ext cx="9144000" cy="1440"/>
          </a:xfrm>
          <a:prstGeom prst="line">
            <a:avLst/>
          </a:prstGeom>
          <a:ln w="38160">
            <a:solidFill>
              <a:srgbClr val="3db5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9"/>
          <p:cNvSpPr/>
          <p:nvPr/>
        </p:nvSpPr>
        <p:spPr>
          <a:xfrm>
            <a:off x="0" y="4038480"/>
            <a:ext cx="9144000" cy="1800"/>
          </a:xfrm>
          <a:prstGeom prst="line">
            <a:avLst/>
          </a:prstGeom>
          <a:ln w="38160">
            <a:solidFill>
              <a:srgbClr val="3db5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10"/>
          <p:cNvSpPr/>
          <p:nvPr/>
        </p:nvSpPr>
        <p:spPr>
          <a:xfrm>
            <a:off x="0" y="4191120"/>
            <a:ext cx="9144000" cy="1440"/>
          </a:xfrm>
          <a:prstGeom prst="line">
            <a:avLst/>
          </a:prstGeom>
          <a:ln w="38160">
            <a:solidFill>
              <a:srgbClr val="3db5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Прямоугольник 4" descr=""/>
          <p:cNvPicPr/>
          <p:nvPr/>
        </p:nvPicPr>
        <p:blipFill>
          <a:blip r:embed="rId1"/>
          <a:stretch/>
        </p:blipFill>
        <p:spPr>
          <a:xfrm>
            <a:off x="146160" y="433440"/>
            <a:ext cx="8778600" cy="13032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C:\Users\оля\Desktop\gen.host-it.ru__Pushkin.jpg"/>
          <p:cNvPicPr/>
          <p:nvPr/>
        </p:nvPicPr>
        <p:blipFill>
          <a:blip r:embed="rId2"/>
          <a:stretch/>
        </p:blipFill>
        <p:spPr>
          <a:xfrm>
            <a:off x="4952880" y="1905120"/>
            <a:ext cx="3589560" cy="44528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C:\Users\оля\Desktop\www.tonnel.ru__1194354801_tonnel.gif"/>
          <p:cNvPicPr/>
          <p:nvPr/>
        </p:nvPicPr>
        <p:blipFill>
          <a:blip r:embed="rId3"/>
          <a:stretch/>
        </p:blipFill>
        <p:spPr>
          <a:xfrm>
            <a:off x="838080" y="1905120"/>
            <a:ext cx="3467160" cy="4546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2"/>
          <p:cNvSpPr/>
          <p:nvPr/>
        </p:nvSpPr>
        <p:spPr>
          <a:xfrm>
            <a:off x="152280" y="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Было время,когда </a:t>
            </a:r>
            <a:br>
              <a:rPr sz="1800"/>
            </a:b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    Пушкин поговаривал о самоубийстве. </a:t>
            </a:r>
            <a:br>
              <a:rPr sz="1800"/>
            </a:b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    Не забудем, что поэту двадцать пять лет; несправедливая ссылка, нелепая ссора с отцом, из которой могут выйти еще большие неприятности, - </a:t>
            </a:r>
            <a:r>
              <a:rPr b="1" i="1" lang="en-US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пахнет палачом и каторгой…</a:t>
            </a:r>
            <a:r>
              <a:rPr b="1" i="1" lang="en-US" sz="1800" spc="-1" strike="noStrike">
                <a:solidFill>
                  <a:srgbClr val="003399"/>
                </a:solidFill>
                <a:latin typeface="Arial"/>
              </a:rPr>
              <a:t>”</a:t>
            </a: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Броситься в омут, в первую попавшуюся дуэль, битву, заговор, побег - все это было возмож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3"/>
          <p:cNvSpPr/>
          <p:nvPr/>
        </p:nvSpPr>
        <p:spPr>
          <a:xfrm>
            <a:off x="685800" y="3809880"/>
            <a:ext cx="3429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Дружеская помощь, утешение были чрезвычайно своевременными.</a:t>
            </a:r>
            <a:br>
              <a:rPr sz="1800"/>
            </a:b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    И опять Жуковский, за сотни верст, в Петербурге, почувствовал! </a:t>
            </a:r>
            <a:br>
              <a:rPr sz="1800"/>
            </a:b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    И написал Пушкину письм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5"/>
          <p:cNvSpPr/>
          <p:nvPr/>
        </p:nvSpPr>
        <p:spPr>
          <a:xfrm>
            <a:off x="4343400" y="571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Две силы, своя и дружеская, соединились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C:\Users\оля\Desktop\raifa.ru__pushkin-sea_big_46587152778.jpg"/>
          <p:cNvPicPr/>
          <p:nvPr/>
        </p:nvPicPr>
        <p:blipFill>
          <a:blip r:embed="rId1"/>
          <a:stretch/>
        </p:blipFill>
        <p:spPr>
          <a:xfrm>
            <a:off x="4952880" y="152280"/>
            <a:ext cx="3733920" cy="5457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рямоугольник 2"/>
          <p:cNvSpPr/>
          <p:nvPr/>
        </p:nvSpPr>
        <p:spPr>
          <a:xfrm>
            <a:off x="304920" y="1522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Тогда, в середине 1820-х годов, кроме моральной поддержки, очень скоро потребовалось и новое, практическое заступничест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    </a:t>
            </a: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В начале 1826 года, после поражения декабристов, Жуковский, опять же вместе с Карамзиным, ведет сложную, нам во многом невидимую работу по вызволению Пушк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3"/>
          <p:cNvSpPr/>
          <p:nvPr/>
        </p:nvSpPr>
        <p:spPr>
          <a:xfrm>
            <a:off x="-1219320" y="4191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4"/>
          <p:cNvSpPr/>
          <p:nvPr/>
        </p:nvSpPr>
        <p:spPr>
          <a:xfrm>
            <a:off x="4343400" y="487692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Царь "послушался", вызвал Пушкина из заточения; Карамзина в это время уже не было в живых, а Жуковский, естественно, молчал: он вообще никогда не хвастал добрыми делам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5"/>
          <p:cNvSpPr/>
          <p:nvPr/>
        </p:nvSpPr>
        <p:spPr>
          <a:xfrm>
            <a:off x="1219320" y="35053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3" descr="C:\Users\оля\Desktop\fejazima.narod.ru__pushkin.jpg"/>
          <p:cNvPicPr/>
          <p:nvPr/>
        </p:nvPicPr>
        <p:blipFill>
          <a:blip r:embed="rId1"/>
          <a:stretch/>
        </p:blipFill>
        <p:spPr>
          <a:xfrm>
            <a:off x="533520" y="3048120"/>
            <a:ext cx="2971800" cy="36813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C:\Users\оля\Desktop\www.zhukovskiy.net.ru__3b.jpg"/>
          <p:cNvPicPr/>
          <p:nvPr/>
        </p:nvPicPr>
        <p:blipFill>
          <a:blip r:embed="rId2"/>
          <a:stretch/>
        </p:blipFill>
        <p:spPr>
          <a:xfrm>
            <a:off x="5029200" y="685800"/>
            <a:ext cx="327672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Прямоугольник 1"/>
          <p:cNvSpPr/>
          <p:nvPr/>
        </p:nvSpPr>
        <p:spPr>
          <a:xfrm>
            <a:off x="2362320" y="-15011280"/>
            <a:ext cx="4572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шкин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ходится регулярно выслушивать житейские нравоучения и наставлен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уковск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усть в шутливой, арзамасской форме);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уковском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же нужно считаться с самим фактом существован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шкинск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эз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шк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асто читал стих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уковск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изусть и если вдруг ошибался в слове, т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ук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слово тотчас заменя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.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4"/>
          <p:cNvSpPr/>
          <p:nvPr/>
        </p:nvSpPr>
        <p:spPr>
          <a:xfrm>
            <a:off x="2286000" y="2413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7"/>
          <p:cNvSpPr/>
          <p:nvPr/>
        </p:nvSpPr>
        <p:spPr>
          <a:xfrm>
            <a:off x="228600" y="228600"/>
            <a:ext cx="457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Весной на почте вскрыли письмо Пушкина к жене, доставили текст Николаю, и царь охотно прочитал да еще выразил неудовольствие следующими строками (о двух Александрах - старшем сыне Николая I и старшем сыне Пушкина</a:t>
            </a: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8"/>
          <p:cNvSpPr/>
          <p:nvPr/>
        </p:nvSpPr>
        <p:spPr>
          <a:xfrm>
            <a:off x="2590920" y="3200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Пушкин узнает о перехвате своего письма и 10 м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9"/>
          <p:cNvSpPr/>
          <p:nvPr/>
        </p:nvSpPr>
        <p:spPr>
          <a:xfrm>
            <a:off x="-1981080" y="1447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10"/>
          <p:cNvSpPr/>
          <p:nvPr/>
        </p:nvSpPr>
        <p:spPr>
          <a:xfrm>
            <a:off x="4191120" y="502920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Наконец Жуковский добивается у царя фразы: "...пускай он (Пушкин) возьмет назад свое письмо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10" descr="C:\Users\оля\Desktop\www.kulichki.com__01.jpg"/>
          <p:cNvPicPr/>
          <p:nvPr/>
        </p:nvPicPr>
        <p:blipFill>
          <a:blip r:embed="rId1"/>
          <a:stretch/>
        </p:blipFill>
        <p:spPr>
          <a:xfrm>
            <a:off x="838080" y="3733920"/>
            <a:ext cx="2605320" cy="27972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1" descr="C:\Users\оля\Desktop\www.kulichki.com__02.jpg"/>
          <p:cNvPicPr/>
          <p:nvPr/>
        </p:nvPicPr>
        <p:blipFill>
          <a:blip r:embed="rId2"/>
          <a:stretch/>
        </p:blipFill>
        <p:spPr>
          <a:xfrm>
            <a:off x="6248520" y="228600"/>
            <a:ext cx="2616120" cy="28098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2"/>
          <p:cNvSpPr/>
          <p:nvPr/>
        </p:nvSpPr>
        <p:spPr>
          <a:xfrm>
            <a:off x="990720" y="2286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Приближается решающая дуэль в судьбе Пушкина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266720" y="1112400"/>
            <a:ext cx="487692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С этим трудно согласиться. </a:t>
            </a:r>
            <a:br>
              <a:rPr sz="2000"/>
            </a:b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    Жуковский как мог, как умел старался расстроить поединок, избавить Пушкина от малейшей угрозы насильственной смерти. </a:t>
            </a:r>
            <a:br>
              <a:rPr sz="2000"/>
            </a:b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    Ситуация была запутанной, тяжелой, у Жуковского получалось далеко не все; в конце концов, мы знаем, Пушкин начал от него таиться и, формально согласившись на примирение, отнюдь не простил врагам и оскорбителям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    </a:t>
            </a: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Тем не менее, Жуковский до конца оставался ближайшим, родным Пушкину человеком. </a:t>
            </a:r>
            <a:br>
              <a:rPr sz="2000"/>
            </a:b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    Его отчаянные усилия в начале ноября остановили неминуемую, казалось бы, дуэль, но через короткий срок опасность снова увеличивается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08" name="Picture 3" descr="C:\Users\оля\Desktop\www.rvb.ru__pushkin_1824.jpg"/>
          <p:cNvPicPr/>
          <p:nvPr/>
        </p:nvPicPr>
        <p:blipFill>
          <a:blip r:embed="rId1"/>
          <a:stretch/>
        </p:blipFill>
        <p:spPr>
          <a:xfrm>
            <a:off x="762120" y="1600200"/>
            <a:ext cx="3090600" cy="4214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рямоугольник 1"/>
          <p:cNvSpPr/>
          <p:nvPr/>
        </p:nvSpPr>
        <p:spPr>
          <a:xfrm>
            <a:off x="4114800" y="1219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2"/>
          <p:cNvSpPr/>
          <p:nvPr/>
        </p:nvSpPr>
        <p:spPr>
          <a:xfrm>
            <a:off x="228600" y="365040"/>
            <a:ext cx="45720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И снова в Германию. Жуковский не мог жить там, где погиб Пушкин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он считал себя виноватым: пытался ведь примирить великого поэта с системой, но если при этом гений гибнет - значит, изначальная посылка была ошибочна и система порочна, значит, смысл жизни определен неверно... </a:t>
            </a:r>
            <a:br>
              <a:rPr sz="2000"/>
            </a:b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    Жуковский не мог больше и праздновать свой день рождения - столь же весело, легко, бездумно, как 29 января 1834 года. </a:t>
            </a:r>
            <a:br>
              <a:rPr sz="2000"/>
            </a:b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    Всякое 29 января отзывалось эхом 1837-го... </a:t>
            </a:r>
            <a:br>
              <a:rPr sz="2000"/>
            </a:b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    Через 15 лет после гибели Пушкина, в 1852-м, Жуковский скончался в Герм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3"/>
          <p:cNvSpPr/>
          <p:nvPr/>
        </p:nvSpPr>
        <p:spPr>
          <a:xfrm>
            <a:off x="5410080" y="4572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Пушкин погибает на дуэ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5" descr="C:\Users\оля\Desktop\pushkin-life.narod.ru__pushkin_05.jpg"/>
          <p:cNvPicPr/>
          <p:nvPr/>
        </p:nvPicPr>
        <p:blipFill>
          <a:blip r:embed="rId1"/>
          <a:stretch/>
        </p:blipFill>
        <p:spPr>
          <a:xfrm>
            <a:off x="4952880" y="2209680"/>
            <a:ext cx="3619800" cy="2895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1"/>
          <p:cNvSpPr/>
          <p:nvPr/>
        </p:nvSpPr>
        <p:spPr>
          <a:xfrm>
            <a:off x="152280" y="533520"/>
            <a:ext cx="40388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Calibri"/>
              </a:rPr>
              <a:t>Сложный и запутанный вопрос о связях Пушкина с его учителем – Жуковским, крупнейшим русским поэтом. Тема ” Пушкин и Жуковский ”: она важна для изучения не только роли Жуковского в творческой эволюции Пушкина, отношений “ ученика” и “ учителя ”, но шире – для общей трактовки путей и судеб поэтического творчеств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C:\Users\оля\Desktop\www.library.ru__297b.jpg"/>
          <p:cNvPicPr/>
          <p:nvPr/>
        </p:nvPicPr>
        <p:blipFill>
          <a:blip r:embed="rId1"/>
          <a:stretch/>
        </p:blipFill>
        <p:spPr>
          <a:xfrm>
            <a:off x="4267080" y="304920"/>
            <a:ext cx="4591080" cy="6121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C:\Users\оля\Desktop\www.kulichki.com__01.jpg"/>
          <p:cNvPicPr/>
          <p:nvPr/>
        </p:nvPicPr>
        <p:blipFill>
          <a:blip r:embed="rId2"/>
          <a:stretch/>
        </p:blipFill>
        <p:spPr>
          <a:xfrm>
            <a:off x="990720" y="4343400"/>
            <a:ext cx="2133360" cy="22906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1"/>
          <p:cNvSpPr/>
          <p:nvPr/>
        </p:nvSpPr>
        <p:spPr>
          <a:xfrm>
            <a:off x="2286000" y="1720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3"/>
          <p:cNvSpPr/>
          <p:nvPr/>
        </p:nvSpPr>
        <p:spPr>
          <a:xfrm>
            <a:off x="3276720" y="3581280"/>
            <a:ext cx="54864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В тот год, когда родился Пушкин, Жуковский благодаря хлопотам отца находится в одном из лучших дворянских заведений, Благородном пансионе при Московском университете, и вскоре заводит знакомство с Карамзиным, братьями Тургеневыми, братьями Сергеем Львовичем и Василием Львовичем Пушкины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3" descr="C:\Users\оля\Desktop\lh3.ggpht.com__pushkin_otets.jpg"/>
          <p:cNvPicPr/>
          <p:nvPr/>
        </p:nvPicPr>
        <p:blipFill>
          <a:blip r:embed="rId1"/>
          <a:stretch/>
        </p:blipFill>
        <p:spPr>
          <a:xfrm>
            <a:off x="3048120" y="152280"/>
            <a:ext cx="2671560" cy="33530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C:\Users\оля\Desktop\imwerden.de__pushkin_v_l.jpg"/>
          <p:cNvPicPr/>
          <p:nvPr/>
        </p:nvPicPr>
        <p:blipFill>
          <a:blip r:embed="rId2"/>
          <a:stretch/>
        </p:blipFill>
        <p:spPr>
          <a:xfrm>
            <a:off x="380880" y="3048120"/>
            <a:ext cx="2514600" cy="3352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7" descr="C:\Users\оля\Desktop\pushkina.com__pushkin_04.jpg"/>
          <p:cNvPicPr/>
          <p:nvPr/>
        </p:nvPicPr>
        <p:blipFill>
          <a:blip r:embed="rId3"/>
          <a:stretch/>
        </p:blipFill>
        <p:spPr>
          <a:xfrm>
            <a:off x="6019920" y="152280"/>
            <a:ext cx="2566800" cy="33465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4" descr="C:\Users\оля\Desktop\всвыамцс"/>
          <p:cNvPicPr/>
          <p:nvPr/>
        </p:nvPicPr>
        <p:blipFill>
          <a:blip r:embed="rId1"/>
          <a:stretch/>
        </p:blipFill>
        <p:spPr>
          <a:xfrm>
            <a:off x="3019320" y="2971800"/>
            <a:ext cx="5705640" cy="368604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оугольник 1"/>
          <p:cNvSpPr/>
          <p:nvPr/>
        </p:nvSpPr>
        <p:spPr>
          <a:xfrm>
            <a:off x="2286000" y="15825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2"/>
          <p:cNvSpPr/>
          <p:nvPr/>
        </p:nvSpPr>
        <p:spPr>
          <a:xfrm>
            <a:off x="5257800" y="533520"/>
            <a:ext cx="3886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1816 год</a:t>
            </a:r>
            <a:br>
              <a:rPr sz="2000"/>
            </a:b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33-летний Жуковский появляется в Царском Селе и знакомится с 17-летним Пушки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3" descr="C:\Users\оля\Desktop\вацу"/>
          <p:cNvPicPr/>
          <p:nvPr/>
        </p:nvPicPr>
        <p:blipFill>
          <a:blip r:embed="rId2"/>
          <a:stretch/>
        </p:blipFill>
        <p:spPr>
          <a:xfrm>
            <a:off x="228600" y="228600"/>
            <a:ext cx="500076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2"/>
          <p:cNvSpPr/>
          <p:nvPr/>
        </p:nvSpPr>
        <p:spPr>
          <a:xfrm>
            <a:off x="152280" y="38098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Много ли общих тем? Вряд 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Жуковский вдвое старше, формально мог бы даже быть отцом Пушкина; он знаменитый поэт.</a:t>
            </a:r>
            <a:br>
              <a:rPr sz="1800"/>
            </a:b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И тем не менее буквально с первых встреч старший и младший подружились: отношения близкие, веселые, творческие и, главное, совершенно рав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" descr="C:\Users\оля\Desktop\cinema.fopf.mipt.ru__pushkin.jpg"/>
          <p:cNvPicPr/>
          <p:nvPr/>
        </p:nvPicPr>
        <p:blipFill>
          <a:blip r:embed="rId1"/>
          <a:stretch/>
        </p:blipFill>
        <p:spPr>
          <a:xfrm>
            <a:off x="685800" y="152280"/>
            <a:ext cx="3130560" cy="35053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C:\Users\оля\Desktop\feb-web.ru__rp_grib3.jpg"/>
          <p:cNvPicPr/>
          <p:nvPr/>
        </p:nvPicPr>
        <p:blipFill>
          <a:blip r:embed="rId2"/>
          <a:stretch/>
        </p:blipFill>
        <p:spPr>
          <a:xfrm>
            <a:off x="4800600" y="228600"/>
            <a:ext cx="4114800" cy="63054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4" descr="C:\Users\оля\Desktop\lh3.ggpht.com__x1-Z5_136.jpg"/>
          <p:cNvPicPr/>
          <p:nvPr/>
        </p:nvPicPr>
        <p:blipFill>
          <a:blip r:embed="rId1"/>
          <a:stretch/>
        </p:blipFill>
        <p:spPr>
          <a:xfrm>
            <a:off x="4800600" y="609480"/>
            <a:ext cx="4106880" cy="586764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4"/>
          <p:cNvSpPr/>
          <p:nvPr/>
        </p:nvSpPr>
        <p:spPr>
          <a:xfrm>
            <a:off x="152280" y="152280"/>
            <a:ext cx="563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т - известная надпис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 портрете Жуковског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даренном автору "Руслана и Людмилы",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"Победителю-ученику от побежденного учителя в тот высокоторжественный день, в который он окончил свою поэму...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3" descr="C:\Users\оля\Desktop\www.tonnel.ru__1194354801_tonnel.gif"/>
          <p:cNvPicPr/>
          <p:nvPr/>
        </p:nvPicPr>
        <p:blipFill>
          <a:blip r:embed="rId2"/>
          <a:stretch/>
        </p:blipFill>
        <p:spPr>
          <a:xfrm>
            <a:off x="609480" y="1981080"/>
            <a:ext cx="3467160" cy="46227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Прямоугольник 2"/>
          <p:cNvSpPr/>
          <p:nvPr/>
        </p:nvSpPr>
        <p:spPr>
          <a:xfrm>
            <a:off x="2286000" y="2690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5"/>
          <p:cNvSpPr/>
          <p:nvPr/>
        </p:nvSpPr>
        <p:spPr>
          <a:xfrm>
            <a:off x="228600" y="1522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ушкину приходится регулярно выслушивать житейские нравоучения и наставления Жуковского (пусть в шутливой, арзамасской форм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6"/>
          <p:cNvSpPr/>
          <p:nvPr/>
        </p:nvSpPr>
        <p:spPr>
          <a:xfrm>
            <a:off x="4572000" y="3808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ушкин часто читал стихи Жуковского наизусть и если вдруг ошибался в слове, то Жуковский это слово тотчас заменял..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7" descr="C:\Users\оля\Desktop\www.playcast.ru__262647.jpg"/>
          <p:cNvPicPr/>
          <p:nvPr/>
        </p:nvPicPr>
        <p:blipFill>
          <a:blip r:embed="rId1"/>
          <a:stretch/>
        </p:blipFill>
        <p:spPr>
          <a:xfrm>
            <a:off x="1523880" y="167652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3"/>
          <p:cNvSpPr/>
          <p:nvPr/>
        </p:nvSpPr>
        <p:spPr>
          <a:xfrm>
            <a:off x="152280" y="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4"/>
          <p:cNvSpPr/>
          <p:nvPr/>
        </p:nvSpPr>
        <p:spPr>
          <a:xfrm>
            <a:off x="152280" y="228600"/>
            <a:ext cx="8686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В 1820 году над юным поэтом за его вольные стихи, эпиграммы нависла угроза Соловков или Сибири.     </a:t>
            </a:r>
            <a:br>
              <a:rPr sz="1800"/>
            </a:b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   Известно, что Пушкин даже пал духом: не хотел в ссылку, чувствовал, что не выдержит, погибнет.</a:t>
            </a:r>
            <a:br>
              <a:rPr sz="1800"/>
            </a:b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    У хорошего человека, однако, хорошие друзья. </a:t>
            </a:r>
            <a:br>
              <a:rPr sz="1800"/>
            </a:b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   Главным заступником был Карамзин, но именно Жуковский явился спасителем  Александ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5"/>
          <p:cNvSpPr/>
          <p:nvPr/>
        </p:nvSpPr>
        <p:spPr>
          <a:xfrm>
            <a:off x="4419720" y="51814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В мае 1820 года Пушкин и Жуковский расстаются на семь л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    </a:t>
            </a: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Впрочем, в те небыстрые времена подобные разлуки для дружбы не помех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5" descr="C:\Users\оля\Desktop\pushkin-onegin.narod.ru__pushkin.jpg"/>
          <p:cNvPicPr/>
          <p:nvPr/>
        </p:nvPicPr>
        <p:blipFill>
          <a:blip r:embed="rId1"/>
          <a:stretch/>
        </p:blipFill>
        <p:spPr>
          <a:xfrm>
            <a:off x="6324480" y="2057400"/>
            <a:ext cx="2422800" cy="31129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C:\Users\оля\Desktop\www.hrono.ru__zhukovski_vasandr.jpg"/>
          <p:cNvPicPr/>
          <p:nvPr/>
        </p:nvPicPr>
        <p:blipFill>
          <a:blip r:embed="rId2"/>
          <a:stretch/>
        </p:blipFill>
        <p:spPr>
          <a:xfrm>
            <a:off x="914400" y="2438280"/>
            <a:ext cx="2968560" cy="4013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1"/>
          <p:cNvSpPr/>
          <p:nvPr/>
        </p:nvSpPr>
        <p:spPr>
          <a:xfrm>
            <a:off x="2286000" y="18590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2"/>
          <p:cNvSpPr/>
          <p:nvPr/>
        </p:nvSpPr>
        <p:spPr>
          <a:xfrm>
            <a:off x="457200" y="2438280"/>
            <a:ext cx="3581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Второй раз - в конце 1824 года.     Сосланный в Михайловское, поэт раздражен клеветой врагов и мнимых друзей. Через несколько месяцев после начала второй ссылки создает "Коварность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5"/>
          <p:cNvSpPr/>
          <p:nvPr/>
        </p:nvSpPr>
        <p:spPr>
          <a:xfrm>
            <a:off x="4343400" y="56386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Как важно иметь друга, способного вовремя найти такие слова!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6"/>
          <p:cNvSpPr/>
          <p:nvPr/>
        </p:nvSpPr>
        <p:spPr>
          <a:xfrm>
            <a:off x="3886200" y="4572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7"/>
          <p:cNvSpPr/>
          <p:nvPr/>
        </p:nvSpPr>
        <p:spPr>
          <a:xfrm>
            <a:off x="0" y="5943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Выход из кризиса найден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3" descr="C:\Users\оля\Desktop\www.tonnel.ru__824887160_tonnel.gif"/>
          <p:cNvPicPr/>
          <p:nvPr/>
        </p:nvPicPr>
        <p:blipFill>
          <a:blip r:embed="rId1"/>
          <a:stretch/>
        </p:blipFill>
        <p:spPr>
          <a:xfrm>
            <a:off x="4572000" y="304920"/>
            <a:ext cx="3889440" cy="5186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7:43:06Z</dcterms:created>
  <dc:creator>оля</dc:creator>
  <dc:description/>
  <dc:language>en-US</dc:language>
  <cp:lastModifiedBy>Admin</cp:lastModifiedBy>
  <dcterms:modified xsi:type="dcterms:W3CDTF">2009-04-12T14:19:48Z</dcterms:modified>
  <cp:revision>45</cp:revision>
  <dc:subject/>
  <dc:title>Слайд 1</dc:title>
</cp:coreProperties>
</file>