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AB060-FDA0-4BC8-B09F-1DB6B06DF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CDDDF-F222-4843-9B85-3B9031CC4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A5811-B95F-4F6A-984B-F2F731ADF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E5F7D-38E9-43BE-BB96-9331AC935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1BBE3-4836-478C-89F5-438E8521F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015D6-CC9E-406E-B8BC-4DF6034D5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EE89B-CF3C-42AF-8F33-064E2C655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C5205-B744-41A9-A2A0-38C27B4D3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6299B-660D-49E6-85C1-717DD087C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F805C-941A-4386-9D2F-5F5B90229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AD05B-CBBA-469F-A016-513E60B38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ADACA-2857-4299-B129-B9F57C312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CAFF9-999E-481B-9EF4-00ED5095F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56978-469A-4635-8AC9-EAB38DC64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61B2F-8250-428E-BA5E-03E4849F8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CCD58-9A0A-4941-AECF-C0F0DD33E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99010-8AB5-4266-90BC-E32166C5C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D1D5D-0174-4A6D-9406-971940E61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E0BB6-D506-4086-8159-6CFD7371C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143CE-A66E-4E84-9D17-D77772473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620DA-319D-4E20-A667-3A7D6734A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F7524-DB7C-4B03-82EA-266440B90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C6C63-8091-4F0A-975F-FF0E0AD86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E7249-1BAD-4F04-AFB1-8B68A80FE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5228C-7649-4DA3-A6E0-01D57507898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ACD5B-9833-408A-8296-17CF866B17AE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Муниципальное общеобразовательное учреждение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«Средняя общеобразовательная школа с углубленным изучением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тдельных предметов №32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Открытый урок учителя начальных классов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Савиновой Нины Михайловн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о чтению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на тему: Н.И.Сладков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«Лиса-плясунья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Times New Roman"/>
              </a:rPr>
              <a:t>Цель урока: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3600" spc="-1" strike="noStrike">
                <a:solidFill>
                  <a:srgbClr val="ffffff"/>
                </a:solidFill>
                <a:latin typeface="Times New Roman"/>
              </a:rPr>
              <a:t>Знакомство с рассказами Н.И.Сладкова о природе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eec94"/>
                </a:solidFill>
                <a:uFillTx/>
                <a:latin typeface="Times New Roman"/>
              </a:rPr>
              <a:t>Задачи урока: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знакомить с содержанием рассказа Н.И.Сладкова «Лиса-плясунья»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овершенствование навыков чтения, чтения по ролям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умение работать с текстом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умение выделять главную мысль произведения, делить его на части, озаглавливать их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закрепление навыков изложения прочитанного текста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ививать умение видеть и понимать природу, ценить ее красоту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eec94"/>
                </a:solidFill>
                <a:uFillTx/>
                <a:latin typeface="Times New Roman"/>
              </a:rPr>
              <a:t>Оборудование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ортрет Н.И.Сладкова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артины зайца, сороки, лисицы, барсука, медведя, зимы, осени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ластинка «Голоса птиц»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роигрыватель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Запись на доске: </a:t>
            </a:r>
            <a:r>
              <a:rPr b="0" i="1" lang="ru-RU" sz="3200" spc="-1" strike="noStrike">
                <a:solidFill>
                  <a:srgbClr val="ffffff"/>
                </a:solidFill>
                <a:latin typeface="Times New Roman"/>
              </a:rPr>
              <a:t>«Любить природу – значит охранять ее!»,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слова: </a:t>
            </a:r>
            <a:r>
              <a:rPr b="0" i="1" lang="ru-RU" sz="3200" spc="-1" strike="noStrike">
                <a:solidFill>
                  <a:srgbClr val="ffffff"/>
                </a:solidFill>
                <a:latin typeface="Times New Roman"/>
              </a:rPr>
              <a:t>«за околицу», «жнивье», «коромысло», «выкомаривает», «бинокль», «шасть», «сшибаются»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eec94"/>
                </a:solidFill>
                <a:uFillTx/>
                <a:latin typeface="Times New Roman"/>
              </a:rPr>
              <a:t>Ход урока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1.   Организационный момен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ru-RU" sz="3200" spc="-1" strike="noStrike">
                <a:solidFill>
                  <a:srgbClr val="ffffff"/>
                </a:solidFill>
                <a:latin typeface="Times New Roman"/>
              </a:rPr>
              <a:t>Поход в ле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7" name="Птицы.mp3" descr=""/>
          <p:cNvPicPr/>
          <p:nvPr/>
        </p:nvPicPr>
        <p:blipFill>
          <a:blip r:embed="rId1"/>
          <a:stretch/>
        </p:blipFill>
        <p:spPr>
          <a:xfrm>
            <a:off x="9325080" y="65530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6" descr="Зима1"/>
          <p:cNvPicPr/>
          <p:nvPr/>
        </p:nvPicPr>
        <p:blipFill>
          <a:blip r:embed="rId2"/>
          <a:stretch/>
        </p:blipFill>
        <p:spPr>
          <a:xfrm>
            <a:off x="3635280" y="2349360"/>
            <a:ext cx="5162760" cy="41767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7" descr="Сладков2"/>
          <p:cNvPicPr/>
          <p:nvPr/>
        </p:nvPicPr>
        <p:blipFill>
          <a:blip r:embed="rId3"/>
          <a:stretch/>
        </p:blipFill>
        <p:spPr>
          <a:xfrm>
            <a:off x="468360" y="3645000"/>
            <a:ext cx="2771640" cy="28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62410" fill="hold"/>
                                        <p:tgtEl>
                                          <p:spTgt spid="1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836640"/>
            <a:ext cx="8229600" cy="529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2. Сценка Н.И.Сладкова «Сорока и заяц»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-60336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Как называют в народе сороку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-60336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ообщение о Беляке и Русаке – зайце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-60336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Какого зайца мы увидели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3. Сценка «Барсук и медведь»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-60336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Что делают барсук и медведь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-60336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ообщение о барсуке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-60336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ообщение о медведе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1" name="Picture 5" descr="Сорока и заяц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5364000" y="1844640"/>
            <a:ext cx="3627720" cy="17557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Барсук и медведь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4788000" y="4797360"/>
            <a:ext cx="4140000" cy="16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79280" y="188640"/>
            <a:ext cx="8229600" cy="648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Поход в поле.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Физминутк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Чтение рассказа Н.И.Сладкова 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«Лиса-плясунья»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о частям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1 часть – жжужащее чтение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О чем эта часть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Озаглавим эту часть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(«Плохая погода»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2 часть – чтение цепочкой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Кого увидел автор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Что делала лиса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С кем сравнил он лису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Найдите в тексте, как охотилась лиса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Почему лиса даже не разжевала добычу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Озаглавим вторую часть («Голодная лиса»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4" name="Picture 4" descr="Зима2"/>
          <p:cNvPicPr/>
          <p:nvPr/>
        </p:nvPicPr>
        <p:blipFill>
          <a:blip r:embed="rId1"/>
          <a:stretch/>
        </p:blipFill>
        <p:spPr>
          <a:xfrm>
            <a:off x="5724360" y="1700280"/>
            <a:ext cx="3240360" cy="24303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5" descr="Лиса2"/>
          <p:cNvPicPr/>
          <p:nvPr/>
        </p:nvPicPr>
        <p:blipFill>
          <a:blip r:embed="rId2"/>
          <a:stretch/>
        </p:blipFill>
        <p:spPr>
          <a:xfrm>
            <a:off x="6804000" y="4292640"/>
            <a:ext cx="2068560" cy="1550880"/>
          </a:xfrm>
          <a:prstGeom prst="rect">
            <a:avLst/>
          </a:prstGeom>
          <a:ln w="0">
            <a:noFill/>
          </a:ln>
        </p:spPr>
      </p:pic>
      <p:pic>
        <p:nvPicPr>
          <p:cNvPr id="136" name="Птицы.mp3" descr=""/>
          <p:cNvPicPr/>
          <p:nvPr/>
        </p:nvPicPr>
        <p:blipFill>
          <a:blip r:embed="rId3"/>
          <a:stretch/>
        </p:blipFill>
        <p:spPr>
          <a:xfrm>
            <a:off x="975672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62410" fill="hold"/>
                                        <p:tgtEl>
                                          <p:spTgt spid="1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178920" y="188640"/>
            <a:ext cx="8280360" cy="648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3 часть – выборочное чтение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Почему автор сравнил ее с цирковой собачкой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Как повела себя лисица, увидев человека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Озаглавим третью часть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(«Лисий танец»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4 часть – чтение цепочкой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Как вел себя автор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Что он увидел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Озаглавим четвертую часть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(«Мышиные норки»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5 часть – чтение по абзацам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Как вели себя мыши полевки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Что понял автор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Почему вернулся домой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Озаглавим пятую часть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(«Возвращение домой»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8" name="Picture 5" descr="Лиса4"/>
          <p:cNvPicPr/>
          <p:nvPr/>
        </p:nvPicPr>
        <p:blipFill>
          <a:blip r:embed="rId1"/>
          <a:stretch/>
        </p:blipFill>
        <p:spPr>
          <a:xfrm>
            <a:off x="6732720" y="981000"/>
            <a:ext cx="1800000" cy="13543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6" descr="Нора1"/>
          <p:cNvPicPr/>
          <p:nvPr/>
        </p:nvPicPr>
        <p:blipFill>
          <a:blip r:embed="rId2"/>
          <a:stretch/>
        </p:blipFill>
        <p:spPr>
          <a:xfrm>
            <a:off x="6732720" y="2924280"/>
            <a:ext cx="1804680" cy="13651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7" descr="мышь2"/>
          <p:cNvPicPr/>
          <p:nvPr/>
        </p:nvPicPr>
        <p:blipFill>
          <a:blip r:embed="rId3"/>
          <a:stretch/>
        </p:blipFill>
        <p:spPr>
          <a:xfrm>
            <a:off x="6732720" y="4869000"/>
            <a:ext cx="1800000" cy="163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56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5. Сообщение о лисе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6. Обобщени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▪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еседа по прочитанному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Назовите героев рассказа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В какое время года происходит действие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Почему рассказ называется «Лиса-плясунья»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Как же называется лисья охота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Понравился ли вам рассказ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Физминутк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▪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Словесное рисование картины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▪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Сообщение о Темниковском заповеднике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2" name="Picture 5" descr="Осень1"/>
          <p:cNvPicPr/>
          <p:nvPr/>
        </p:nvPicPr>
        <p:blipFill>
          <a:blip r:embed="rId1"/>
          <a:stretch/>
        </p:blipFill>
        <p:spPr>
          <a:xfrm>
            <a:off x="6084720" y="981000"/>
            <a:ext cx="2698920" cy="19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57200" y="836640"/>
            <a:ext cx="8229600" cy="529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5482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  <a:p>
            <a:pPr marL="548280" indent="-5482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Times New Roman"/>
              </a:rPr>
              <a:t>Чем отличаются дикие животные от домашних?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48280" indent="-5482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Times New Roman"/>
              </a:rPr>
              <a:t>Как вы относитесь к животным?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48280" indent="-5482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Times New Roman"/>
              </a:rPr>
              <a:t>Для чего нужно оберегать диких животных?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48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48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7. Стихотворение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482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В парке плакала девочка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482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Посмотрите – ка, папочка,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482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У хорошенькой ласточки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482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Переломана лапочка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482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Я возьму птицу бедную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482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И в платочек укутаю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482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И отец призадумался,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482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Потрясенной минутою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482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И простил все грядущие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482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И капризы, и шалости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482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Милой, маленькой дочери,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482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Зарыдавшей от жалости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48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8. Итог урока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482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ru-RU" sz="1600" spc="-1" strike="noStrike">
                <a:solidFill>
                  <a:srgbClr val="ffffff"/>
                </a:solidFill>
                <a:latin typeface="Times New Roman"/>
              </a:rPr>
              <a:t>- Что вам понравилось на уроке?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482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Times New Roman"/>
              </a:rPr>
              <a:t>- Что нового узнали?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482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48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9. Домашнее задание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482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ru-RU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ru-RU" sz="1600" spc="-1" strike="noStrike">
                <a:solidFill>
                  <a:srgbClr val="ffffff"/>
                </a:solidFill>
                <a:latin typeface="Times New Roman"/>
              </a:rPr>
              <a:t>Краткий пересказ и рисунок к рассказу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06:46:35Z</dcterms:created>
  <dc:creator>Самаркин</dc:creator>
  <dc:description/>
  <dc:language>en-US</dc:language>
  <cp:lastModifiedBy>XP GAME 2010</cp:lastModifiedBy>
  <dcterms:modified xsi:type="dcterms:W3CDTF">2011-11-28T17:31:22Z</dcterms:modified>
  <cp:revision>10</cp:revision>
  <dc:subject/>
  <dc:title>Слайд 1</dc:title>
</cp:coreProperties>
</file>