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5C4-17FB-405B-903A-31D3F4BD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42A-93F9-4B5B-8948-072BD7D1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469-E237-43F3-96BB-E14BD955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050-DD3A-40F7-8F8A-087584B7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4DC9-2BFF-4AFB-A3EF-EEC2EA1B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974B-3771-4D1C-8A8C-68D9C58D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6857-1CC8-4324-BB69-A3ACAC80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1F6C-0C34-4CAD-B63E-FAC67D23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2C63-8D05-445A-803A-4EEAB673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A911-F877-4754-9D4A-CD84ECE3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5637-2AB7-4427-A0F0-C79C86CB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624-CFBD-4021-A47F-8A3CE95E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4985-ECAC-4C25-AA63-3330CAE2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437E-0992-4842-98D4-3E7FC3B5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02D1-785D-425E-B6FB-881A994A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70B1-B4F1-4E7E-9266-2D0A2B54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1D98-D969-4F45-978E-08A80282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3E9-E970-4CA4-85EE-FE386668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C5A-289C-42FF-93DC-0B942E4F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186-DFB5-4906-AE89-14405570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AAB-23C2-4610-8E0D-B6D0EA4E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91F-94F5-46F4-AAD3-E9BF3707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AD7-F9A1-4F6F-954B-01FAE97B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93A-435F-4CC6-90DD-13CB5F6D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D0E7-BB4B-4B4E-97C1-2D346041FD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4753-C6ED-4C17-9BEF-2F22D1CE14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Средняя общеобразовательная школа с углубленным изучени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дельных предметов №32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рытый урок учителя начальных классо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виновой Нины Михайлов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чтени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тему: Н.И.Сладков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«Лиса-плясунь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Цель урока: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Знакомство с рассказами Н.И.Сладкова о природ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Задачи урока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комить с содержанием рассказа Н.И.Сладкова «Лиса-плясунья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ершенствование навыков чтения, чтения по роля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мение работать с текст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мение выделять главную мысль произведения, делить его на части, озаглавливать и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репление навыков изложения прочитанного текс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вивать умение видеть и понимать природу, ценить ее красо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Оборудов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ртрет Н.И.Сладков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ртины зайца, сороки, лисицы, барсука, медведя, зимы, осен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стинка «Голоса птиц»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игрыватель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пись на доске: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«Любить природу – значит охранять ее!»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лова: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«за околицу», «жнивье», «коромысло», «выкомаривает», «бинокль», «шасть», «сшибаются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Ход уро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  Организационный момен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оход в ле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Птицы.mp3" descr=""/>
          <p:cNvPicPr/>
          <p:nvPr/>
        </p:nvPicPr>
        <p:blipFill>
          <a:blip r:embed="rId1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Зима1"/>
          <p:cNvPicPr/>
          <p:nvPr/>
        </p:nvPicPr>
        <p:blipFill>
          <a:blip r:embed="rId2"/>
          <a:stretch/>
        </p:blipFill>
        <p:spPr>
          <a:xfrm>
            <a:off x="3635280" y="2349360"/>
            <a:ext cx="5162760" cy="4176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Сладков2"/>
          <p:cNvPicPr/>
          <p:nvPr/>
        </p:nvPicPr>
        <p:blipFill>
          <a:blip r:embed="rId3"/>
          <a:stretch/>
        </p:blipFill>
        <p:spPr>
          <a:xfrm>
            <a:off x="468360" y="3645000"/>
            <a:ext cx="2771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41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ценка Н.И.Сладкова «Сорока и заяц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называют в народе сорок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бщение о Беляке и Русаке – зайц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ого зайца мы увидел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Сценка «Барсук и медведь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делают барсук и медведь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бщение о барсу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бщение о медвед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Сорока и заяц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64000" y="1844640"/>
            <a:ext cx="362772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Барсук и медведь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788000" y="4797360"/>
            <a:ext cx="4140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оход в поле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изминут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ение рассказа Н.И.Сладкова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«Лиса-плясунья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ча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 часть – жжужащее чт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 чем эта час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заглавим эту ча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«Плохая погода»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 часть – чтение цепоч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ого увидел автор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делала лис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 кем сравнил он лис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йдите в тексте, как охотилась лис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чему лиса даже не разжевала добыч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заглавим вторую часть («Голодная лиса»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Зима2"/>
          <p:cNvPicPr/>
          <p:nvPr/>
        </p:nvPicPr>
        <p:blipFill>
          <a:blip r:embed="rId1"/>
          <a:stretch/>
        </p:blipFill>
        <p:spPr>
          <a:xfrm>
            <a:off x="5724360" y="170028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Лиса2"/>
          <p:cNvPicPr/>
          <p:nvPr/>
        </p:nvPicPr>
        <p:blipFill>
          <a:blip r:embed="rId2"/>
          <a:stretch/>
        </p:blipFill>
        <p:spPr>
          <a:xfrm>
            <a:off x="6804000" y="4292640"/>
            <a:ext cx="2068560" cy="1550880"/>
          </a:xfrm>
          <a:prstGeom prst="rect">
            <a:avLst/>
          </a:prstGeom>
          <a:ln w="0">
            <a:noFill/>
          </a:ln>
        </p:spPr>
      </p:pic>
      <p:pic>
        <p:nvPicPr>
          <p:cNvPr id="136" name="Птицы.mp3" descr=""/>
          <p:cNvPicPr/>
          <p:nvPr/>
        </p:nvPicPr>
        <p:blipFill>
          <a:blip r:embed="rId3"/>
          <a:stretch/>
        </p:blipFill>
        <p:spPr>
          <a:xfrm>
            <a:off x="9756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241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2803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 часть – выборочное чт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чему автор сравнил ее с цирковой собачко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к повела себя лисица, увидев человек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заглавим третью ча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«Лисий танец»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 часть – чтение цепоч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к вел себя автор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он увидел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заглавим четвертую ча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«Мышиные норки»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 часть – чтение по абзац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к вели себя мыши полевк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понял автор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чему вернулся домо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заглавим пятую ча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«Возвращение домой»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Лиса4"/>
          <p:cNvPicPr/>
          <p:nvPr/>
        </p:nvPicPr>
        <p:blipFill>
          <a:blip r:embed="rId1"/>
          <a:stretch/>
        </p:blipFill>
        <p:spPr>
          <a:xfrm>
            <a:off x="6732720" y="981000"/>
            <a:ext cx="1800000" cy="1354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Нора1"/>
          <p:cNvPicPr/>
          <p:nvPr/>
        </p:nvPicPr>
        <p:blipFill>
          <a:blip r:embed="rId2"/>
          <a:stretch/>
        </p:blipFill>
        <p:spPr>
          <a:xfrm>
            <a:off x="6732720" y="2924280"/>
            <a:ext cx="1804680" cy="1365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мышь2"/>
          <p:cNvPicPr/>
          <p:nvPr/>
        </p:nvPicPr>
        <p:blipFill>
          <a:blip r:embed="rId3"/>
          <a:stretch/>
        </p:blipFill>
        <p:spPr>
          <a:xfrm>
            <a:off x="6732720" y="4869000"/>
            <a:ext cx="180000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Сообщение о лис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 Обобщ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еда по прочитанном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зовите героев рассказ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какое время года происходит действие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чему рассказ называется «Лиса-плясунья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к же называется лисья охо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онравился ли вам рассказ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зминут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▪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овесное рисование карт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▪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общение о Темниковском заповедни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Осень1"/>
          <p:cNvPicPr/>
          <p:nvPr/>
        </p:nvPicPr>
        <p:blipFill>
          <a:blip r:embed="rId1"/>
          <a:stretch/>
        </p:blipFill>
        <p:spPr>
          <a:xfrm>
            <a:off x="6084720" y="981000"/>
            <a:ext cx="269892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Чем отличаются дикие животные от домашних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ак вы относитесь к животным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Для чего нужно оберегать диких животных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7. Стихотворе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 парке плакала девоч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смотрите – ка, папочка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 хорошенькой ласточ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еломана лапоч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Я возьму птицу бедну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 в платочек укута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 отец призадумался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трясенной минуто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 простил все грядущ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 капризы, и шал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илой, маленькой дочери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рыдавшей от жал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8. Итог уро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 Что вам понравилось на урок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 Что нового узнали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9. Домашнее зада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раткий пересказ и рисунок к рассказу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6:46:35Z</dcterms:created>
  <dc:creator>Самаркин</dc:creator>
  <dc:description/>
  <dc:language>en-US</dc:language>
  <cp:lastModifiedBy>XP GAME 2010</cp:lastModifiedBy>
  <dcterms:modified xsi:type="dcterms:W3CDTF">2011-11-28T17:31:22Z</dcterms:modified>
  <cp:revision>10</cp:revision>
  <dc:subject/>
  <dc:title>Слайд 1</dc:title>
</cp:coreProperties>
</file>