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081-AA75-44BC-B75D-80CF08F0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F01-A851-41B3-B87F-3C61EDAA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B88-DAE4-4621-A3C9-3AA654BB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14A-1C60-420A-BAE5-0F9393AD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440-FF3A-40BE-879F-1243C94B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D94-945D-45B5-BF3D-0016B9C6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F38-5B69-4F42-AB60-8FF8991F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73B-F586-489A-82B4-EF93A5DD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AF7-DEFD-4BBA-A0A8-FE785B1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3C6-B116-414F-8D99-F7FF07A6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D83-4338-49A4-9059-54E5332B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1A0-D9FE-4B0B-ACB6-8FA47F3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BE12-790C-4094-955A-4363F1CD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ngara.net/photo/pict/2025?album=1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ngara.net/photo/pict/1007?album=1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angara.net/photo/pict/1008?album=1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angara.net/photo/pict/2231?album=11" TargetMode="External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47640" y="1052640"/>
            <a:ext cx="8496360" cy="32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Чудесный    мир - 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рода"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630360" y="-82440"/>
            <a:ext cx="1040616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У охотничьего кост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Мишуткины проказ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Лесные та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Семнадцать перыш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Вещий кам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«Жила была ча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71640" y="47628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сказ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-1656720" y="3177360"/>
            <a:ext cx="5545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ладимир  Данилов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700280"/>
            <a:ext cx="60595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«Лесной доз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«Магелланы с берегов Нежен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«Норки, Клава и 7-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борник: «Эхо соснового бо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71640" y="333360"/>
            <a:ext cx="37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сти 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это книга, которую надо прочитать и   правильно понят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9900"/>
                </a:solidFill>
                <a:latin typeface="Arial"/>
              </a:rPr>
              <a:t>М. Л. Наябандя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333360"/>
            <a:ext cx="468000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рода  -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3289320"/>
            <a:ext cx="5472000" cy="3568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3265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49 г. –окончил библиотечный технику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54 – окончил П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Работал в редакции республиканской газеты «Юные ленинцы» редактором программ для детей на Карельском ради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56000" y="47628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ография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56 г. –появились первые расска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59 г. вышла первая книга «У охотничьего кост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1968 г. по сценарию В. М. Данилова на петрозаводской студии был снят документальный фильм « Земля Карельск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70000" cy="292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1197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433760"/>
            <a:ext cx="3132000" cy="242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64000" y="4157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6191280" y="0"/>
            <a:ext cx="2952720" cy="2211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2916360" y="4221000"/>
            <a:ext cx="2708280" cy="202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6659640" y="2276640"/>
            <a:ext cx="2292120" cy="171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0" y="2852640"/>
            <a:ext cx="2124000" cy="1586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2916360" y="0"/>
            <a:ext cx="16570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Церковь ап. Петра"/>
          <p:cNvPicPr/>
          <p:nvPr/>
        </p:nvPicPr>
        <p:blipFill>
          <a:blip r:embed="rId1"/>
          <a:stretch/>
        </p:blipFill>
        <p:spPr>
          <a:xfrm>
            <a:off x="1258920" y="1700280"/>
            <a:ext cx="6480000" cy="486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979640" y="18900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циальные 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6:49:02Z</dcterms:created>
  <dc:creator>я</dc:creator>
  <dc:description/>
  <dc:language>en-US</dc:language>
  <cp:lastModifiedBy>master</cp:lastModifiedBy>
  <dcterms:modified xsi:type="dcterms:W3CDTF">2005-10-18T07:14:59Z</dcterms:modified>
  <cp:revision>17</cp:revision>
  <dc:subject/>
  <dc:title>Слайд 1</dc:title>
</cp:coreProperties>
</file>