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6B5-96B5-428E-94AD-5991C20A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C20-22DB-433B-B85D-AC5E9F4C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86F9-0B42-4BC8-8CA5-84EE74E5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46C-6C80-4436-A73A-117C130E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E0AA-A3E4-4D09-ABE0-FD9A13D4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A684-EA0C-46C3-97B2-BB182941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BADB-4B39-4BCA-9664-D70FDE53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FAD9-3CDF-4762-9874-E32FFD3C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107D-68C4-4CDB-9941-7706F5A5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2BA9-6E29-4D75-B174-A22BD1FC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5C06-A99A-4039-BACA-CEE49ADE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E1C-AE71-46A4-A62A-42D51DF2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1D6B-7D86-4AEB-88BF-B02394EC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2138-B2B0-4B9E-BE18-2041ABF7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B25B-C851-4F6D-9D92-95890160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80DD-4641-4B61-B690-289F75DC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A8A0-A03A-4429-9AED-FC6A20FE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F30-61FF-4BAC-9413-EDB8FB74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06F-0329-4E07-A8B0-CB4EE202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5D2-8A2F-4B15-B1BA-40D845FA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90C-890E-4772-BF44-F00BA09E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E0C-D59C-4450-A640-CE45F7F5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9AB-7C6C-4211-8157-ABF0897B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35C-C839-4233-830B-87E0155F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1560" indent="-2271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98760" indent="-22716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5960" indent="-2271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5960" indent="-2271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5960" indent="-2271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6F6D-1069-49E1-8A8F-7B3AA6D08BC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1560" indent="-2271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98760" indent="-22716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5960" indent="-2271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5960" indent="-2271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5960" indent="-2271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6604-A0AA-4300-B399-96E5925BD32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ЕТОДИКА ПРОВЕДЕНИЯ ИНТЕГРИРОВАННОГО УРОКА АЛГЕБРЫ И ИНФОРМАТИКИ В 8КЛАССЕ ПО ТЕМЕ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ГРАФИЧЕСКИЙ СПОСОБ РЕШЕНИЯ УРАВНЕНИЙ»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одготовила учитель МОУ-СОШ с.Александровка Хаджимурадова Т.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и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2344680" y="2362320"/>
          <a:ext cx="46800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4680" y="2362320"/>
                    <a:ext cx="46800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и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Chart 5" descr=""/>
          <p:cNvPicPr/>
          <p:nvPr/>
        </p:nvPicPr>
        <p:blipFill>
          <a:blip r:embed="rId1"/>
          <a:stretch/>
        </p:blipFill>
        <p:spPr>
          <a:xfrm>
            <a:off x="835200" y="2359080"/>
            <a:ext cx="770544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Итоги урока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бота учащихся оценивается двумя отметкам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 решение уравнений средствами алгебры и устные отве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 работу в программе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S 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правильность  оформления таблицы, умение пользоваться  «Мастером диаграмм»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флексия 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(выслушать всех желающих высказаться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конце урока рефлексия: подвести итоги урока и сделать вывод, что при графическом решении уравнений можно использовать информационные технологии, т.к. с помощью компьютера можно более точно построить графики и более точно найти координаты точек пересечения, а следовательно и решение уравн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витие информационных технологий сделало информационное пространство одним из основных элементов окружающей среды человека и это невозможно игнорировать при организации учебного процесса. Использование информационных технологий на общеобразовательных предметах – актуальная задача. Обучение предстает самостоятельным творческим поиском.  А компьютер и программное обеспечение являются универсальными средствами предметной области, где ученик ставит перед собой проблемы и сам разрешает их.  Учитель математики с помощью компьютера может сделать урок более интересным, насыщенным. Но здесь важен разумный взвешенный подход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ограмма курса информатики в 8кл включает изучение тем «Построение графиков и диаграмм с помощью электронных таблиц» и «Математическое моделирование». Программа по алгебре предполагает изучение графического способа решения различных уравнений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оведение интегрированного урока по этим темам актуально. Математическая составляющая включает повторение свойств изученных функций ( устная работа по готовым графикам, отображенным на экране компьютера на каждом рабочем месте), закрепление навыков построения графиков функций и нахождение решения по координатам точек пересечения график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ставляющая по информатике включает заполнение таблицы значений функции (проведение вычислений с помощью формул) и построение графиков функций в программе MS Exc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l с помощью «мастера диаграмм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дания подбираются так, чтобы графики имели одну, две и вообще не имели точек пересечения. Такая вариативность способствует развитию гибкости мышл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Эпиграфом к такому уроку можно взять слова Паскаля: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«</a:t>
            </a:r>
            <a:r>
              <a:rPr b="1" i="1" lang="ru-RU" sz="1600" spc="-1" strike="noStrike">
                <a:solidFill>
                  <a:srgbClr val="006666"/>
                </a:solidFill>
                <a:latin typeface="Mistral"/>
              </a:rPr>
              <a:t>Предмет математики настолько серьёзен, что полезно не упускать  случаев  делать его немного занимательным»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и этого урок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торение свойств функций: у = х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; у = к/х;          у = х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;  у = кх + 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торение элементов графического решения уравн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нение электронных таблиц на практике: заполнение таблицы значений функции, построение графиков с помощью «мастера диаграмм», нахождение точек пересе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витие исследовательской, творческой и познавательной деятельности учащихс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од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ходе урока учащимся предлагаетс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стная работа по готовым графикам, отображенным на экране каждого рабочего мес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шение уравнений графически (класс делится на пары, в которых один ученик решает уравнения средствами алгебры, а другой на компьютере в электронных таблицах  с взаимопроверкой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ворческая работа по карточкам ( дифференцированные задания) на построение графиков, которые в своем пересечении образуют забавные фигур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лан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I устно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) что вы знаете об этих функциях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у = х</a:t>
            </a:r>
            <a:r>
              <a:rPr b="0" lang="ru-RU" sz="1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;     у = к/х ;    у = х</a:t>
            </a:r>
            <a:r>
              <a:rPr b="0" lang="ru-RU" sz="14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;       у = ах + в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2) в чем заключается графический способ решения уравнений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II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 работа в тетради и на компьютер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) постройте график функции у = х</a:t>
            </a:r>
            <a:r>
              <a:rPr b="0" lang="ru-RU" sz="1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и используя его решите уравнения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)  х</a:t>
            </a:r>
            <a:r>
              <a:rPr b="0" lang="ru-RU" sz="1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= х+2, если х[-4;4]  с шагом 0,2 (задание выполняется на компьютере под руководством учителя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2) решите уравнения сначала графически на компьютере, а затем с помощью формулы    корней в тетради, сравните корни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) х</a:t>
            </a:r>
            <a:r>
              <a:rPr b="0" lang="ru-RU" sz="1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– 3х + 2 = 0     если х[-5;5]  с шагом 0,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в) 2х</a:t>
            </a:r>
            <a:r>
              <a:rPr b="0" lang="ru-RU" sz="1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7х + 3 = 0     если х[-5;5]  с шагом 0,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III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работа по карточка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строить изображение в одной системе координат , заданное графиками функций на указанных промежутках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арточка №1 (для более слабых уч-ся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у = -х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+ 12 , если х[-12;12]  с шагом 0,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у = -х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+ 6 , если х[-4;4]  с шагом 0,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у = -(х +8)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+ 6,  если х[-12;-4]  с шагом 0,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) у = -(х-8)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+ 6, если х[4;12]  с шагом 0,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) у = 2(х +3)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9, если х[-4;-0,3]  с шагом 0,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6) у = 1,5(х +3)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10, если х[-4;0,2]  с шагом 0,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 правильном построении в результате получится зонти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онти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187280" y="2349360"/>
          <a:ext cx="7345440" cy="42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49360"/>
                    <a:ext cx="7345440" cy="42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арточка №2  (для более сильных учащихся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) у = х2 – 3 , если х[0; 9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) у = 0,04х2 – 3, если х[10; 0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) у = (х+6)2 + 1, если х[-9;-3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) у =  -(х – 3)2 + 6, если х[-3; 9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) у = (х-5)2 + 2, если х[5; 8,3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) у = (х – 7)2 + 1,5, если х[5;8,5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7) у = - 0,75(х + 11)2 + 6, если х[-13;- 9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8)  у = - 0,5(х +13)2 + 3, если х[-15;-13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9) у = 1, если х[-15; -10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0) у = 3, если х[3; 4]  с шагом 0,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 правильном построении получается ки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9:25:10Z</dcterms:created>
  <dc:creator>Пользователь</dc:creator>
  <dc:description/>
  <dc:language>en-US</dc:language>
  <cp:lastModifiedBy>cassiopea</cp:lastModifiedBy>
  <dcterms:modified xsi:type="dcterms:W3CDTF">2011-03-21T18:58:00Z</dcterms:modified>
  <cp:revision>8</cp:revision>
  <dc:subject/>
  <dc:title>МЕТОДИКА ПРОВЕДЕНИЯ ИНТЕГРИРОВАННОГО УРОКА АЛГЕБРЫ И ИНФОРМАТИКИ В 8КЛАССЕ ПО ТЕМЕ   «ГРАФИЧЕСКИЙ СПОСОБ РЕШЕНИЯ УРАВНЕНИЙ»</dc:title>
</cp:coreProperties>
</file>