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C5CA-07FF-4E25-B450-21A37B12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4D8-12DE-4BA2-881C-915CBBA2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A61E-B0FE-4FB6-86C8-46176058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3896-4186-4093-A8EB-DCA61480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2EDE-1891-4C69-9716-F0647A31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7CF5-BA17-4D00-A19E-197D51CA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ABDA-7730-4070-8EB3-2CA605E7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1ADA-C63E-49CF-8E2F-4702BDC1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3F3A-7A69-433D-AE56-C9BEC5E5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5B51-2FB3-4206-BE58-4701641C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1D7A-5BF4-455D-B3EA-031A1048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2D7-1D72-40EB-A2FA-FB3457F0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33CB-F124-4133-9071-3F7463A8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FBD6-A8D6-429B-9C7C-58F10CB6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4FCA-C54C-49FD-A131-E9D89A97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3112-DB4E-4477-9D39-0A581426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9A0B-0EC9-4775-AAEA-32271497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EF53-E15B-4043-9A4B-4758BA2D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FDA-9315-41AE-9F2E-9044F7BF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A504-090B-4A31-959A-42AD6BA9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B967-F26C-43C2-AB77-4025CA29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5CC-F32E-477E-84AF-57B87585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1638-6C85-4F7D-B8EF-E4A8364F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15EE-8FB7-46E5-A023-DEC7897A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1560" indent="-2271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98760" indent="-22716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5960" indent="-22716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5960" indent="-22716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5960" indent="-22716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9178-0B78-4453-B6CD-E3B252A7DD6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1560" indent="-2271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98760" indent="-22716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5960" indent="-22716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5960" indent="-22716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5960" indent="-22716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1D48-0944-40C2-85E8-DD911CAAE1F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ЕТОДИКА ПРОВЕДЕНИЯ ИНТЕГРИРОВАННОГО УРОКА АЛГЕБРЫ И ИНФОРМАТИКИ В 8КЛАССЕ ПО ТЕМЕ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ГРАФИЧЕСКИЙ СПОСОБ РЕШЕНИЯ УРАВНЕНИЙ»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одготовила учитель МОУ-СОШ с.Александровка Хаджимурадова Т.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и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2344680" y="2362320"/>
          <a:ext cx="46800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4680" y="2362320"/>
                    <a:ext cx="46800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и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Chart 5" descr=""/>
          <p:cNvPicPr/>
          <p:nvPr/>
        </p:nvPicPr>
        <p:blipFill>
          <a:blip r:embed="rId1"/>
          <a:stretch/>
        </p:blipFill>
        <p:spPr>
          <a:xfrm>
            <a:off x="835200" y="2359080"/>
            <a:ext cx="770544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Итоги урока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бота учащихся оценивается двумя отметкам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 решение уравнений средствами алгебры и устные отве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 работу в программе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S Exce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правильность  оформления таблицы, умение пользоваться  «Мастером диаграмм»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флексия 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(выслушать всех желающих высказаться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конце урока рефлексия: подвести итоги урока и сделать вывод, что при графическом решении уравнений можно использовать информационные технологии, т.к. с помощью компьютера можно более точно построить графики и более точно найти координаты точек пересечения, а следовательно и решение уравн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витие информационных технологий сделало информационное пространство одним из основных элементов окружающей среды человека и это невозможно игнорировать при организации учебного процесса. Использование информационных технологий на общеобразовательных предметах – актуальная задача. Обучение предстает самостоятельным творческим поиском.  А компьютер и программное обеспечение являются универсальными средствами предметной области, где ученик ставит перед собой проблемы и сам разрешает их.  Учитель математики с помощью компьютера может сделать урок более интересным, насыщенным. Но здесь важен разумный взвешенный подход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ограмма курса информатики в 8кл включает изучение тем «Построение графиков и диаграмм с помощью электронных таблиц» и «Математическое моделирование». Программа по алгебре предполагает изучение графического способа решения различных уравнений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роведение интегрированного урока по этим темам актуально. Математическая составляющая включает повторение свойств изученных функций ( устная работа по готовым графикам, отображенным на экране компьютера на каждом рабочем месте), закрепление навыков построения графиков функций и нахождение решения по координатам точек пересечения график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ставляющая по информатике включает заполнение таблицы значений функции (проведение вычислений с помощью формул) и построение графиков функций в программе MS Exc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l с помощью «мастера диаграмм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адания подбираются так, чтобы графики имели одну, две и вообще не имели точек пересечения. Такая вариативность способствует развитию гибкости мышл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Эпиграфом к такому уроку можно взять слова Паскаля: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«</a:t>
            </a:r>
            <a:r>
              <a:rPr b="1" i="1" lang="ru-RU" sz="1600" spc="-1" strike="noStrike">
                <a:solidFill>
                  <a:srgbClr val="006666"/>
                </a:solidFill>
                <a:latin typeface="Mistral"/>
              </a:rPr>
              <a:t>Предмет математики настолько серьёзен, что полезно не упускать  случаев  делать его немного занимательным»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и этого урок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вторение свойств функций: у = х</a:t>
            </a:r>
            <a:r>
              <a:rPr b="0" lang="ru-RU" sz="2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; у = к/х;          у = х</a:t>
            </a:r>
            <a:r>
              <a:rPr b="0" lang="ru-RU" sz="2400" spc="-1" strike="noStrike" baseline="30000">
                <a:solidFill>
                  <a:srgbClr val="003366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;  у = кх + 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вторение элементов графического решения уравн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нение электронных таблиц на практике: заполнение таблицы значений функции, построение графиков с помощью «мастера диаграмм», нахождение точек пересе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витие исследовательской, творческой и познавательной деятельности учащихс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од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ходе урока учащимся предлагаетс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стная работа по готовым графикам, отображенным на экране каждого рабочего мес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ешение уравнений графически (класс делится на пары, в которых один ученик решает уравнения средствами алгебры, а другой на компьютере в электронных таблицах  с взаимопроверкой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ворческая работа по карточкам ( дифференцированные задания) на построение графиков, которые в своем пересечении образуют забавные фигур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лан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I устно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1) что вы знаете об этих функциях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у = х</a:t>
            </a:r>
            <a:r>
              <a:rPr b="0" lang="ru-RU" sz="1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;     у = к/х ;    у = х</a:t>
            </a:r>
            <a:r>
              <a:rPr b="0" lang="ru-RU" sz="1400" spc="-1" strike="noStrike" baseline="30000">
                <a:solidFill>
                  <a:srgbClr val="003366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;       у = ах + в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2) в чем заключается графический способ решения уравнений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II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 работа в тетради и на компьютер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1) постройте график функции у = х</a:t>
            </a:r>
            <a:r>
              <a:rPr b="0" lang="ru-RU" sz="1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и используя его решите уравнения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)  х</a:t>
            </a:r>
            <a:r>
              <a:rPr b="0" lang="ru-RU" sz="1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= х+2, если х[-4;4]  с шагом 0,2 (задание выполняется на компьютере под руководством учителя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2) решите уравнения сначала графически на компьютере, а затем с помощью формулы    корней в тетради, сравните корни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) х</a:t>
            </a:r>
            <a:r>
              <a:rPr b="0" lang="ru-RU" sz="1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– 3х + 2 = 0     если х[-5;5]  с шагом 0,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в) 2х</a:t>
            </a:r>
            <a:r>
              <a:rPr b="0" lang="ru-RU" sz="1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-7х + 3 = 0     если х[-5;5]  с шагом 0,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III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работа по карточкам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строить изображение в одной системе координат , заданное графиками функций на указанных промежутках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арточка №1 (для более слабых уч-ся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у = -х</a:t>
            </a:r>
            <a:r>
              <a:rPr b="0" lang="ru-RU" sz="2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+ 12 , если х[-12;12]  с шагом 0,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у = -х</a:t>
            </a:r>
            <a:r>
              <a:rPr b="0" lang="ru-RU" sz="2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+ 6 , если х[-4;4]  с шагом 0,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у = -(х +8)</a:t>
            </a:r>
            <a:r>
              <a:rPr b="0" lang="ru-RU" sz="2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+ 6,  если х[-12;-4]  с шагом 0,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) у = -(х-8)</a:t>
            </a:r>
            <a:r>
              <a:rPr b="0" lang="ru-RU" sz="2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+ 6, если х[4;12]  с шагом 0,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) у = 2(х +3)</a:t>
            </a:r>
            <a:r>
              <a:rPr b="0" lang="ru-RU" sz="2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9, если х[-4;-0,3]  с шагом 0,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6) у = 1,5(х +3)</a:t>
            </a:r>
            <a:r>
              <a:rPr b="0" lang="ru-RU" sz="2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10, если х[-4;0,2]  с шагом 0,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 правильном построении в результате получится зонти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онти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1187280" y="2349360"/>
          <a:ext cx="7345440" cy="42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349360"/>
                    <a:ext cx="7345440" cy="42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арточка №2  (для более сильных учащихся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) у = х2 – 3 , если х[0; 9]  с шагом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) у = 0,04х2 – 3, если х[10; 0]  с шагом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) у = (х+6)2 + 1, если х[-9;-3]  с шагом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) у =  -(х – 3)2 + 6, если х[-3; 9]  с шагом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) у = (х-5)2 + 2, если х[5; 8,3]  с шагом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) у = (х – 7)2 + 1,5, если х[5;8,5]  с шагом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7) у = - 0,75(х + 11)2 + 6, если х[-13;- 9]  с шагом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8)  у = - 0,5(х +13)2 + 3, если х[-15;-13]  с шагом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9) у = 1, если х[-15; -10]  с шагом 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0) у = 3, если х[3; 4]  с шагом 0,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 правильном построении получается ки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09:25:10Z</dcterms:created>
  <dc:creator>Пользователь</dc:creator>
  <dc:description/>
  <dc:language>en-US</dc:language>
  <cp:lastModifiedBy>cassiopea</cp:lastModifiedBy>
  <dcterms:modified xsi:type="dcterms:W3CDTF">2011-03-21T18:58:00Z</dcterms:modified>
  <cp:revision>8</cp:revision>
  <dc:subject/>
  <dc:title>МЕТОДИКА ПРОВЕДЕНИЯ ИНТЕГРИРОВАННОГО УРОКА АЛГЕБРЫ И ИНФОРМАТИКИ В 8КЛАССЕ ПО ТЕМЕ   «ГРАФИЧЕСКИЙ СПОСОБ РЕШЕНИЯ УРАВНЕНИЙ»</dc:title>
</cp:coreProperties>
</file>