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2.png" ContentType="image/png"/>
  <Override PartName="/ppt/media/image46.png" ContentType="image/png"/>
  <Override PartName="/ppt/media/image6.wmf" ContentType="image/x-wmf"/>
  <Override PartName="/ppt/media/image38.png" ContentType="image/png"/>
  <Override PartName="/ppt/media/image41.wmf" ContentType="image/x-wmf"/>
  <Override PartName="/ppt/media/image50.gif" ContentType="image/gif"/>
  <Override PartName="/ppt/media/image9.png" ContentType="image/png"/>
  <Override PartName="/ppt/media/image42.wmf" ContentType="image/x-wmf"/>
  <Override PartName="/ppt/media/image3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7.wmf" ContentType="image/x-wmf"/>
  <Override PartName="/ppt/media/image12.png" ContentType="image/png"/>
  <Override PartName="/ppt/media/image49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FB8-0FD7-4D67-BFFF-40EB5E6CC9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f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FE6-396E-49B4-AE21-133AD92E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FF1-B937-49B3-8DD8-C7E917D4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099-9B46-41ED-AE64-2439EC9C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A8F-A9ED-4442-9EDE-5749DF5F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E0A-04CB-44B4-9FC8-E488F9A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725-E878-4D7F-AA1B-213D28E0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D47-5FCD-404F-BB0A-C0AC8CA6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540-CC8E-4932-A8E9-0AFB18C4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323-0778-4578-B02A-07B60008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A61-C91D-451F-86BE-C85F4B4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CE1-0E46-4C2D-9D43-ED2BB13A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D09-BEBE-4482-A391-971FDB12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C20-A53F-4B5E-9B27-38DD3E02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1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0099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ема занятия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343400" y="0"/>
            <a:ext cx="4495680" cy="2209680"/>
            <a:chOff x="4343400" y="0"/>
            <a:chExt cx="4495680" cy="2209680"/>
          </a:xfrm>
        </p:grpSpPr>
        <p:sp>
          <p:nvSpPr>
            <p:cNvPr id="50" name=""/>
            <p:cNvSpPr/>
            <p:nvPr/>
          </p:nvSpPr>
          <p:spPr>
            <a:xfrm>
              <a:off x="4343400" y="0"/>
              <a:ext cx="4495680" cy="2209680"/>
            </a:xfrm>
            <a:prstGeom prst="rect">
              <a:avLst/>
            </a:prstGeom>
            <a:solidFill>
              <a:srgbClr val="99653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0" y="228600"/>
              <a:ext cx="4157640" cy="1882800"/>
            </a:xfrm>
            <a:prstGeom prst="rect">
              <a:avLst/>
            </a:prstGeom>
            <a:solidFill>
              <a:srgbClr val="32cc6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228600" y="457200"/>
            <a:ext cx="8153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аздел:   ЛОГИ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2133720"/>
            <a:ext cx="167616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МНОЖЕ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876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указанных групп предметов выберите те, которые являются множества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йте названия этим множеств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09880" cy="3674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79064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ение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228600"/>
            <a:ext cx="4572000" cy="4419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057400"/>
            <a:ext cx="4267080" cy="4419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1017720" cy="1152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90760" y="2333520"/>
            <a:ext cx="1281240" cy="1095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3520" y="2465280"/>
            <a:ext cx="1076040" cy="96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895480" y="533520"/>
            <a:ext cx="922320" cy="1733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057400" y="2611440"/>
            <a:ext cx="1033560" cy="1633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34600" y="449568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8000" y="5867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410080" y="3048120"/>
            <a:ext cx="115272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6095880" y="49528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7238880" y="3429000"/>
            <a:ext cx="1690920" cy="87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477120" y="380880"/>
            <a:ext cx="8380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5000" y="449532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04920"/>
            <a:ext cx="6781680" cy="655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960" y="5791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BD00028_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47560" cy="1419120"/>
          </a:xfrm>
          <a:prstGeom prst="rect">
            <a:avLst/>
          </a:prstGeom>
          <a:ln w="0">
            <a:noFill/>
          </a:ln>
        </p:spPr>
      </p:pic>
      <p:pic>
        <p:nvPicPr>
          <p:cNvPr id="192" name="PE01981_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193" name="PE01686_" descr=""/>
          <p:cNvPicPr/>
          <p:nvPr/>
        </p:nvPicPr>
        <p:blipFill>
          <a:blip r:embed="rId3"/>
          <a:stretch/>
        </p:blipFill>
        <p:spPr>
          <a:xfrm>
            <a:off x="3330720" y="3429000"/>
            <a:ext cx="2482560" cy="2706840"/>
          </a:xfrm>
          <a:prstGeom prst="rect">
            <a:avLst/>
          </a:prstGeom>
          <a:ln w="0">
            <a:noFill/>
          </a:ln>
        </p:spPr>
      </p:pic>
      <p:pic>
        <p:nvPicPr>
          <p:cNvPr id="194" name="PE03738_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24136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BD00017_" descr=""/>
          <p:cNvPicPr/>
          <p:nvPr/>
        </p:nvPicPr>
        <p:blipFill>
          <a:blip r:embed="rId5"/>
          <a:stretch/>
        </p:blipFill>
        <p:spPr>
          <a:xfrm>
            <a:off x="2057400" y="1550880"/>
            <a:ext cx="1330200" cy="3756240"/>
          </a:xfrm>
          <a:prstGeom prst="rect">
            <a:avLst/>
          </a:prstGeom>
          <a:ln w="0">
            <a:noFill/>
          </a:ln>
        </p:spPr>
      </p:pic>
      <p:pic>
        <p:nvPicPr>
          <p:cNvPr id="196" name="BD07153_" descr=""/>
          <p:cNvPicPr/>
          <p:nvPr/>
        </p:nvPicPr>
        <p:blipFill>
          <a:blip r:embed="rId6"/>
          <a:stretch/>
        </p:blipFill>
        <p:spPr>
          <a:xfrm>
            <a:off x="5943600" y="4038480"/>
            <a:ext cx="185580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525744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647640"/>
            <a:ext cx="6324840" cy="5905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2209680" cy="1743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1981080" cy="1815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486400" y="32004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22856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исуйте в тетрадя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жество школьных принадлеж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62520" y="1676520"/>
            <a:ext cx="4876560" cy="4876560"/>
            <a:chOff x="3962520" y="1676520"/>
            <a:chExt cx="4876560" cy="4876560"/>
          </a:xfrm>
        </p:grpSpPr>
        <p:sp>
          <p:nvSpPr>
            <p:cNvPr id="207" name=""/>
            <p:cNvSpPr/>
            <p:nvPr/>
          </p:nvSpPr>
          <p:spPr>
            <a:xfrm>
              <a:off x="3962520" y="1676520"/>
              <a:ext cx="4876560" cy="4876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105160" y="2438280"/>
              <a:ext cx="2971080" cy="3275640"/>
              <a:chOff x="5105160" y="2438280"/>
              <a:chExt cx="2971080" cy="3275640"/>
            </a:xfrm>
          </p:grpSpPr>
          <p:sp>
            <p:nvSpPr>
              <p:cNvPr id="209" name=""/>
              <p:cNvSpPr/>
              <p:nvPr/>
            </p:nvSpPr>
            <p:spPr>
              <a:xfrm>
                <a:off x="5105160" y="2742480"/>
                <a:ext cx="1904760" cy="1371240"/>
              </a:xfrm>
              <a:prstGeom prst="roundRect">
                <a:avLst>
                  <a:gd name="adj" fmla="val 16667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8320" y="2438280"/>
                <a:ext cx="761760" cy="30420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0" y="192"/>
                    </a:moveTo>
                    <a:cubicBezTo>
                      <a:pt x="20" y="96"/>
                      <a:pt x="40" y="0"/>
                      <a:pt x="96" y="0"/>
                    </a:cubicBezTo>
                    <a:cubicBezTo>
                      <a:pt x="152" y="0"/>
                      <a:pt x="304" y="160"/>
                      <a:pt x="336" y="192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43440" y="3504600"/>
                <a:ext cx="532800" cy="22093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5680" y="2819160"/>
              <a:ext cx="3504600" cy="2971080"/>
              <a:chOff x="4495680" y="2819160"/>
              <a:chExt cx="3504600" cy="2971080"/>
            </a:xfrm>
          </p:grpSpPr>
          <p:sp>
            <p:nvSpPr>
              <p:cNvPr id="213" name=""/>
              <p:cNvSpPr/>
              <p:nvPr/>
            </p:nvSpPr>
            <p:spPr>
              <a:xfrm>
                <a:off x="5104800" y="2819160"/>
                <a:ext cx="1828440" cy="68544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cubicBezTo>
                      <a:pt x="192" y="216"/>
                      <a:pt x="384" y="432"/>
                      <a:pt x="576" y="432"/>
                    </a:cubicBezTo>
                    <a:cubicBezTo>
                      <a:pt x="768" y="432"/>
                      <a:pt x="1056" y="72"/>
                      <a:pt x="115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43240" y="3504600"/>
                <a:ext cx="151920" cy="15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6400" y="3504600"/>
                <a:ext cx="304560" cy="456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95680" y="4723920"/>
                <a:ext cx="1371240" cy="151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62200" y="4647600"/>
                <a:ext cx="75960" cy="1142640"/>
              </a:xfrm>
              <a:custGeom>
                <a:avLst/>
                <a:gdLst>
                  <a:gd name="textAreaLeft" fmla="*/ 16560 w 75960"/>
                  <a:gd name="textAreaRight" fmla="*/ 59400 w 75960"/>
                  <a:gd name="textAreaTop" fmla="*/ 251280 h 1142640"/>
                  <a:gd name="textAreaBottom" fmla="*/ 891360 h 114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19400" y="3809520"/>
                <a:ext cx="380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пена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1828800" y="304920"/>
            <a:ext cx="4648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Задание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Благодарю за работу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пингвины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3403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144792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720" y="1981080"/>
            <a:ext cx="690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2614680"/>
            <a:ext cx="68580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362320"/>
            <a:ext cx="5713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66880" y="2475000"/>
            <a:ext cx="127188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762120" cy="762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495680"/>
            <a:ext cx="129528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486400"/>
            <a:ext cx="1752480" cy="685800"/>
          </a:xfrm>
          <a:prstGeom prst="flowChartDecision">
            <a:avLst/>
          </a:prstGeom>
          <a:solidFill>
            <a:srgbClr val="ff5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642600" y="4690800"/>
            <a:ext cx="914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1899720" y="5414760"/>
            <a:ext cx="5335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5120" y="4267080"/>
            <a:ext cx="8380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6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2666880" y="4876560"/>
            <a:ext cx="14382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TN00332_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1531800" cy="760320"/>
          </a:xfrm>
          <a:prstGeom prst="rect">
            <a:avLst/>
          </a:prstGeom>
          <a:ln w="0">
            <a:noFill/>
          </a:ln>
        </p:spPr>
      </p:pic>
      <p:pic>
        <p:nvPicPr>
          <p:cNvPr id="68" name="TN00333_" descr=""/>
          <p:cNvPicPr/>
          <p:nvPr/>
        </p:nvPicPr>
        <p:blipFill>
          <a:blip r:embed="rId6"/>
          <a:stretch/>
        </p:blipFill>
        <p:spPr>
          <a:xfrm>
            <a:off x="7391520" y="2286000"/>
            <a:ext cx="823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IN00357_" descr=""/>
          <p:cNvPicPr/>
          <p:nvPr/>
        </p:nvPicPr>
        <p:blipFill>
          <a:blip r:embed="rId7"/>
          <a:stretch/>
        </p:blipFill>
        <p:spPr>
          <a:xfrm>
            <a:off x="5105520" y="2514600"/>
            <a:ext cx="11570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BD07281_" descr=""/>
          <p:cNvPicPr/>
          <p:nvPr/>
        </p:nvPicPr>
        <p:blipFill>
          <a:blip r:embed="rId8"/>
          <a:stretch/>
        </p:blipFill>
        <p:spPr>
          <a:xfrm>
            <a:off x="6324480" y="1600200"/>
            <a:ext cx="1065240" cy="1220760"/>
          </a:xfrm>
          <a:prstGeom prst="rect">
            <a:avLst/>
          </a:prstGeom>
          <a:ln w="0">
            <a:noFill/>
          </a:ln>
        </p:spPr>
      </p:pic>
      <p:pic>
        <p:nvPicPr>
          <p:cNvPr id="71" name="TN00686_" descr=""/>
          <p:cNvPicPr/>
          <p:nvPr/>
        </p:nvPicPr>
        <p:blipFill>
          <a:blip r:embed="rId9"/>
          <a:stretch/>
        </p:blipFill>
        <p:spPr>
          <a:xfrm>
            <a:off x="7543800" y="990720"/>
            <a:ext cx="9828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йте общее название группам предм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4640" y="3429000"/>
            <a:ext cx="19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09880" y="6278400"/>
            <a:ext cx="44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9880" y="60199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133720" cy="156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248520" y="1143000"/>
            <a:ext cx="2514600" cy="105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40160" y="1981080"/>
            <a:ext cx="2262240" cy="123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38080" y="3429000"/>
            <a:ext cx="23958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9480" y="3429000"/>
            <a:ext cx="2819520" cy="1981080"/>
            <a:chOff x="609480" y="3429000"/>
            <a:chExt cx="2819520" cy="1981080"/>
          </a:xfrm>
        </p:grpSpPr>
        <p:sp>
          <p:nvSpPr>
            <p:cNvPr id="86" name=""/>
            <p:cNvSpPr/>
            <p:nvPr/>
          </p:nvSpPr>
          <p:spPr>
            <a:xfrm flipH="1">
              <a:off x="609480" y="3429000"/>
              <a:ext cx="243864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3429000"/>
              <a:ext cx="2743200" cy="19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339200" y="5425920"/>
            <a:ext cx="779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можно назвать оставшую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у предмето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16938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13336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117520" cy="1617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934320" y="1066680"/>
            <a:ext cx="1823760" cy="190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86760" y="5425920"/>
            <a:ext cx="566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думайте назв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той группе предм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705720" y="1219320"/>
            <a:ext cx="213336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1219320"/>
            <a:ext cx="198144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795840" y="1447920"/>
            <a:ext cx="1552320" cy="167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42680" y="304920"/>
            <a:ext cx="585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йди лишний предме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371600"/>
            <a:ext cx="2286000" cy="1219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048120"/>
            <a:ext cx="1752840" cy="160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2080" y="914400"/>
            <a:ext cx="160020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914400"/>
            <a:ext cx="1752480" cy="1676520"/>
          </a:xfrm>
          <a:prstGeom prst="hexagon">
            <a:avLst>
              <a:gd name="adj" fmla="val 26133"/>
              <a:gd name="vf" fmla="val 1154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286000"/>
            <a:ext cx="1295280" cy="2286000"/>
          </a:xfrm>
          <a:prstGeom prst="diamond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4267080"/>
            <a:ext cx="60948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778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можно назва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тавшуюся группу предмето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ы и явления можно объединять в группы. В информатике и математике такие объединения называют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ножеств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533520"/>
            <a:ext cx="609624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такое множество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981080"/>
            <a:ext cx="4295880" cy="1023480"/>
            <a:chOff x="0" y="1981080"/>
            <a:chExt cx="4295880" cy="1023480"/>
          </a:xfrm>
        </p:grpSpPr>
        <p:sp>
          <p:nvSpPr>
            <p:cNvPr id="111" name=""/>
            <p:cNvSpPr/>
            <p:nvPr/>
          </p:nvSpPr>
          <p:spPr>
            <a:xfrm>
              <a:off x="101160" y="2057400"/>
              <a:ext cx="419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,2,3,4…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множество чисе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9810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40" y="3048120"/>
            <a:ext cx="4767840" cy="2423880"/>
            <a:chOff x="1440" y="3048120"/>
            <a:chExt cx="4767840" cy="242388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3048120"/>
              <a:ext cx="4007160" cy="2423880"/>
              <a:chOff x="762120" y="3048120"/>
              <a:chExt cx="4007160" cy="24238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762120" y="3048120"/>
                <a:ext cx="3538800" cy="1930320"/>
                <a:chOff x="762120" y="3048120"/>
                <a:chExt cx="3538800" cy="19303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762120" y="3378960"/>
                  <a:ext cx="868680" cy="973440"/>
                  <a:chOff x="762120" y="3378960"/>
                  <a:chExt cx="868680" cy="973440"/>
                </a:xfrm>
              </p:grpSpPr>
              <p:pic>
                <p:nvPicPr>
                  <p:cNvPr id="11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62120" y="3378960"/>
                    <a:ext cx="8686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" name=""/>
                  <p:cNvSpPr txBox="1"/>
                  <p:nvPr/>
                </p:nvSpPr>
                <p:spPr>
                  <a:xfrm>
                    <a:off x="762120" y="3378960"/>
                    <a:ext cx="868680" cy="97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rmAutofit/>
                  </a:bodyPr>
                  <a:p>
                    <a:pPr marL="343080" indent="-343080"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37680" y="3792600"/>
                  <a:ext cx="1158480" cy="118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58320" y="3048120"/>
                  <a:ext cx="642600" cy="146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1" name=""/>
              <p:cNvSpPr/>
              <p:nvPr/>
            </p:nvSpPr>
            <p:spPr>
              <a:xfrm>
                <a:off x="1278360" y="4951440"/>
                <a:ext cx="349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множество цвет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440" y="33192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5410080"/>
            <a:ext cx="3909960" cy="947160"/>
            <a:chOff x="0" y="5410080"/>
            <a:chExt cx="3909960" cy="947160"/>
          </a:xfrm>
        </p:grpSpPr>
        <p:sp>
          <p:nvSpPr>
            <p:cNvPr id="124" name=""/>
            <p:cNvSpPr/>
            <p:nvPr/>
          </p:nvSpPr>
          <p:spPr>
            <a:xfrm>
              <a:off x="228600" y="5410080"/>
              <a:ext cx="368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к, и, д, а, в, м … 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множество бук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1008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1104840"/>
            <a:ext cx="4419720" cy="4381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оже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это объединение предметов  (элементов) в группы на основе общих свойств или призна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52424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144792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267080" y="2979720"/>
            <a:ext cx="1362240" cy="897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96080" y="5029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428640" y="34290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6483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029200"/>
            <a:ext cx="37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менты множ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а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429000" y="2666880"/>
            <a:ext cx="32767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581280" y="3429000"/>
            <a:ext cx="32767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Что такое множество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5960" y="5715000"/>
            <a:ext cx="473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Множество фл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Для объединения во множество достаточно выделить характерный признак, по которому можно четко определить, принадлежность  к нему предмета (элемент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7339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286000"/>
            <a:ext cx="4572000" cy="4572000"/>
            <a:chOff x="304920" y="2286000"/>
            <a:chExt cx="4572000" cy="4572000"/>
          </a:xfrm>
        </p:grpSpPr>
        <p:sp>
          <p:nvSpPr>
            <p:cNvPr id="143" name=""/>
            <p:cNvSpPr/>
            <p:nvPr/>
          </p:nvSpPr>
          <p:spPr>
            <a:xfrm>
              <a:off x="304920" y="2286000"/>
              <a:ext cx="4572000" cy="457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90720" y="2590920"/>
              <a:ext cx="3581280" cy="3619440"/>
              <a:chOff x="990720" y="2590920"/>
              <a:chExt cx="3581280" cy="36194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200400"/>
                <a:ext cx="795240" cy="1219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" name=""/>
              <p:cNvGrpSpPr/>
              <p:nvPr/>
            </p:nvGrpSpPr>
            <p:grpSpPr>
              <a:xfrm>
                <a:off x="1143000" y="2590920"/>
                <a:ext cx="3429000" cy="3619440"/>
                <a:chOff x="1143000" y="2590920"/>
                <a:chExt cx="3429000" cy="361944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38280" y="2590920"/>
                  <a:ext cx="909720" cy="175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3000" y="4762440"/>
                  <a:ext cx="90792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63960" y="3467160"/>
                  <a:ext cx="60804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0920" y="5067360"/>
                  <a:ext cx="1082520" cy="114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2514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9600" y="380988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жество люд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1de"/>
            </a:gs>
            <a:gs pos="100000">
              <a:srgbClr val="ffd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04920" y="2276640"/>
            <a:ext cx="4572000" cy="4572000"/>
            <a:chOff x="304920" y="2276640"/>
            <a:chExt cx="4572000" cy="4572000"/>
          </a:xfrm>
        </p:grpSpPr>
        <p:sp>
          <p:nvSpPr>
            <p:cNvPr id="154" name=""/>
            <p:cNvSpPr/>
            <p:nvPr/>
          </p:nvSpPr>
          <p:spPr>
            <a:xfrm>
              <a:off x="304920" y="2276640"/>
              <a:ext cx="4572000" cy="457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90720" y="2581560"/>
              <a:ext cx="3581280" cy="3619440"/>
              <a:chOff x="990720" y="2581560"/>
              <a:chExt cx="3581280" cy="361944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191040"/>
                <a:ext cx="795240" cy="1219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7" name=""/>
              <p:cNvGrpSpPr/>
              <p:nvPr/>
            </p:nvGrpSpPr>
            <p:grpSpPr>
              <a:xfrm>
                <a:off x="1143000" y="2581560"/>
                <a:ext cx="3429000" cy="3619440"/>
                <a:chOff x="1143000" y="2581560"/>
                <a:chExt cx="3429000" cy="3619440"/>
              </a:xfrm>
            </p:grpSpPr>
            <p:pic>
              <p:nvPicPr>
                <p:cNvPr id="15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38280" y="2581560"/>
                  <a:ext cx="909720" cy="175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3000" y="4753080"/>
                  <a:ext cx="90792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63960" y="3457800"/>
                  <a:ext cx="608040" cy="1676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0920" y="5058000"/>
                  <a:ext cx="1082520" cy="114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62" name=""/>
          <p:cNvSpPr/>
          <p:nvPr/>
        </p:nvSpPr>
        <p:spPr>
          <a:xfrm>
            <a:off x="5410080" y="2651040"/>
            <a:ext cx="339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жество люд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иней одеж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29200" y="4191120"/>
            <a:ext cx="121932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09320" y="2590920"/>
            <a:ext cx="1448280" cy="1828800"/>
            <a:chOff x="2209320" y="2590920"/>
            <a:chExt cx="1448280" cy="1828800"/>
          </a:xfrm>
        </p:grpSpPr>
        <p:sp>
          <p:nvSpPr>
            <p:cNvPr id="165" name=""/>
            <p:cNvSpPr/>
            <p:nvPr/>
          </p:nvSpPr>
          <p:spPr>
            <a:xfrm>
              <a:off x="2286000" y="2590920"/>
              <a:ext cx="1371600" cy="18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209320" y="2590920"/>
              <a:ext cx="1219320" cy="18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104800" y="182880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Другой же предмет, у которого этот признак отсутствует, включать в элементы этого множества нельз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8:36:38Z</dcterms:created>
  <dc:creator>Slava</dc:creator>
  <dc:description/>
  <dc:language>en-US</dc:language>
  <cp:lastModifiedBy>Администратор</cp:lastModifiedBy>
  <dcterms:modified xsi:type="dcterms:W3CDTF">2004-02-06T11:04:41Z</dcterms:modified>
  <cp:revision>40</cp:revision>
  <dc:subject/>
  <dc:title>МНОЖЕСТВА</dc:title>
</cp:coreProperties>
</file>