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FDD-C9FD-4257-9CFE-6216F337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AC0-FC22-4AE0-B0CB-C24D9D2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0F2-9070-4E4C-A7B4-0235641D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A84-2449-40B7-AB82-28799713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4372-D488-409D-AE22-8556DDBF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9C0-26DE-420C-8932-2F297449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668E-A506-4CFF-9076-E0F45726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0FBF-74FD-4BBF-A980-3D57983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8F5D-8F74-47DE-B9AA-D842B7C0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47A4-C392-471D-8C9A-029FA3C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8B7-AD83-4883-8B2D-44329D5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A50-629D-4313-95BD-0D85CDE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39E7-19EE-463F-A66D-859D743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4DA8-801B-4FB1-AA04-90119DF6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7B01-6795-49DD-8ECF-0ECBFD50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642-CF40-447E-8404-0EC27F60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837D-425B-4D79-BF49-F5F4D923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658-9B98-4212-A217-43B6FF24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9E6-A28F-4931-8C8E-5420817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34B-1A9E-46BB-9201-8CC85C43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F18-526A-47C3-A95B-3AB8CFC7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C97-7E2E-459C-B21E-7E921D7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A30-5033-4552-B0BD-A59C2F03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0BC-C230-46F7-BB78-28061BE2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E87-5DC9-402A-8A84-0F891A5877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1BE9-FE2D-4048-8FD3-3B01524A94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bright="66000"/>
          </a:blip>
          <a:srcRect l="18526" t="53239" r="25781" b="21075"/>
          <a:stretch/>
        </p:blipFill>
        <p:spPr>
          <a:xfrm rot="19447800">
            <a:off x="-252360" y="836640"/>
            <a:ext cx="6858000" cy="3851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459200" y="6210000"/>
            <a:ext cx="1684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40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80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443700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42926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Т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443700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082600" y="1811160"/>
            <a:ext cx="26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Д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39120" y="508464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Р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285264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270828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85264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32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cap="rnd" w="1144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052E-007 L 0.46459 0.48254 E">
                                      <p:cBhvr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5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83237E-006 L 0.55833 -0.55375 E"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33 -0.55375 L -0.05591 -0.51167 E">
                                      <p:cBhvr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1861" t="5542" r="41264" b="53984"/>
          <a:stretch/>
        </p:blipFill>
        <p:spPr>
          <a:xfrm>
            <a:off x="539640" y="1628640"/>
            <a:ext cx="8353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Петрович</cp:lastModifiedBy>
  <dcterms:modified xsi:type="dcterms:W3CDTF">2005-10-20T18:19:36Z</dcterms:modified>
  <cp:revision>8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