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F900-3BCA-4F8F-80DD-0D45018A7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B5AB-CCB6-4478-BDDD-92924B1F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8905-DA5C-4486-87E5-38FAF8BDF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5294-6248-421A-958B-EE143309A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D6DD-EC9C-49F1-89E9-42D98FAAB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8C21-DAD9-4281-B6BA-AACAE305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CFBD-2AC8-468B-8AAE-2E00552B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C5D1-F433-4CAC-8D23-0FC8F4AE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88751-C327-444D-87FC-51D1D422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5758-23C2-4812-A2DF-F516A95A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815DD-0D51-431F-9C08-44E9A89C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E5B2-F9CE-4AD3-AF75-8535EF55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AC0F3-ED7D-44B2-A5A4-940F3B6A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12CF-47D8-49AA-BDBE-91AE5ECF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7777-2C3F-4B9C-A2FE-88EBDA8D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0883-6B9D-4D42-9811-3EAE9F416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8D5B-B874-4D96-A742-49DAFA02A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E036-D6F5-4272-9728-74F24CB5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5EB1-DDB7-470E-864B-67CE63A4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3E10-3CDF-40A2-A8DC-A0FB561A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A8A3-78A8-4451-A1FB-EE682049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2C7D-2766-49C4-B411-3ED925EE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E0C5-5467-456C-BEA7-549EC364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293E-363E-4339-B88A-EDA2D497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6B61-E529-4441-B3BB-264C19B968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7A70-8107-41E2-A2B1-9EE3DED9F11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>
            <a:lum bright="66000"/>
          </a:blip>
          <a:srcRect l="18526" t="53239" r="25781" b="21075"/>
          <a:stretch/>
        </p:blipFill>
        <p:spPr>
          <a:xfrm rot="19447800">
            <a:off x="-252360" y="836640"/>
            <a:ext cx="6858000" cy="3851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459200" y="6210000"/>
            <a:ext cx="1684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9 клас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>
            <a:lum bright="18000"/>
          </a:blip>
          <a:srcRect l="1861" t="5542" r="41264" b="53984"/>
          <a:stretch/>
        </p:blipFill>
        <p:spPr>
          <a:xfrm>
            <a:off x="3348000" y="3137040"/>
            <a:ext cx="5506920" cy="30891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Нуклеиновые кислот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421000"/>
            <a:ext cx="784836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Генетический код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аследственная информация записана в молекулах НК в виде последовательности нуклеотидов. Определенные участки молекулы ДНК и РНК (у вирусов и фагов) содержат информацию о первичной структуре одного белка и называются 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генам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 ген = 1 молекула белк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этому наследственную информацию, которую содержат ДНК называют 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генетической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9280" y="1699920"/>
            <a:ext cx="3924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дна аминокислота закодирована тремя нуклеотидами (один кодон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5312880" y="1989000"/>
            <a:ext cx="7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Ц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6247080" y="1994040"/>
            <a:ext cx="76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Г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7261200" y="198900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А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545800" y="2316600"/>
            <a:ext cx="216000" cy="576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6553800" y="2316600"/>
            <a:ext cx="216000" cy="576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7488720" y="2316600"/>
            <a:ext cx="216000" cy="576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5708160" y="278604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риплет, кодо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6553800" y="2174040"/>
            <a:ext cx="287280" cy="2663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69120 h 2663640"/>
              <a:gd name="textAreaBottom" fmla="*/ 2594520 h 26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454800" y="364968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е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5537880" y="41497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К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6474240" y="41544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К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7482600" y="41497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К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 rot="16200000">
            <a:off x="6696720" y="3613680"/>
            <a:ext cx="287640" cy="2663640"/>
          </a:xfrm>
          <a:custGeom>
            <a:avLst/>
            <a:gdLst>
              <a:gd name="textAreaLeft" fmla="*/ 183960 w 287640"/>
              <a:gd name="textAreaRight" fmla="*/ 288000 w 287640"/>
              <a:gd name="textAreaTop" fmla="*/ 69120 h 2663640"/>
              <a:gd name="textAreaBottom" fmla="*/ 2594520 h 26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6370920" y="510552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ел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55280" y="4941360"/>
            <a:ext cx="392436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р: АК триптофан закодирована в РНК УГГ, в ДНК - АЦЦ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5" dur="2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7000"/>
                            </p:stCondLst>
                            <p:childTnLst>
                              <p:par>
                                <p:cTn id="19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8" dur="2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400"/>
                            </p:stCondLst>
                            <p:childTnLst>
                              <p:par>
                                <p:cTn id="21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8800"/>
                            </p:stCondLst>
                            <p:childTnLst>
                              <p:par>
                                <p:cTn id="22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1200"/>
                            </p:stCondLst>
                            <p:childTnLst>
                              <p:par>
                                <p:cTn id="2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3200"/>
                            </p:stCondLst>
                            <p:childTnLst>
                              <p:par>
                                <p:cTn id="2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66280" y="1752120"/>
            <a:ext cx="39243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меется 64 кодона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284360" y="3573000"/>
            <a:ext cx="3924360" cy="24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61 кодон кодирует 20 (21) аминокислот, три кодона являются знаками препинания: кодоны-терминаторы УАА, УАГ, УГА (в РНК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1065240" y="2276640"/>
            <a:ext cx="441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Ц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1763640" y="2421000"/>
            <a:ext cx="287280" cy="1655640"/>
          </a:xfrm>
          <a:custGeom>
            <a:avLst/>
            <a:gdLst>
              <a:gd name="textAreaLeft" fmla="*/ 0 w 287280"/>
              <a:gd name="textAreaRight" fmla="*/ 103680 w 28728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2293920" y="3073320"/>
            <a:ext cx="455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Свойства генетического кода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ниверсальност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искретность (кодовые триплеты считываются с молекулы РНК целиком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пецифичность (кодон кодирует только АК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збыточность кода (несколько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эритроциты - двояковогнутые диски, содержат гемоглобин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орма: 6-е место – глу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атология – вал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Гемоглобин - бело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 молекула = 4 полимер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 полимер = 574 АК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ри изменении молекулы белка изменяется свойство гемоглобина, возникает наследственное заболевание: серповидно-клеточная анемия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Verdana"/>
              </a:rPr>
              <a:t>Пример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ывод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уклеиновые кислоты: ДНК и РН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НК – полимер. Мономер – нуклеотид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Молекулы ДНК обладают видовой специфичностью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Молекула ДНК – двойная спираль, поддерживается водородными связям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Цепи ДНК строятся по принципу комплиментарност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одержание ДНК в клетке постояннно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ункция ДНК – хранение и пердача наследственной информаци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ткрытие Н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ткрыты во второй половине 19 века швейцарским биохимиком Ф. Мишером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первые обнаружены в ядре («нуклеус» - ядро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rcRect l="62420" t="27455" r="21075" b="43525"/>
          <a:stretch/>
        </p:blipFill>
        <p:spPr>
          <a:xfrm>
            <a:off x="5292720" y="981000"/>
            <a:ext cx="33447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троение Н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3564000" y="4437000"/>
            <a:ext cx="2158920" cy="7923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глевод –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езоксирибо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4292640"/>
            <a:ext cx="2158920" cy="1081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зотисто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нов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А, Г, Ц, Т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6300720" y="4437000"/>
            <a:ext cx="2158920" cy="792360"/>
          </a:xfrm>
          <a:prstGeom prst="flowChartAlternate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таток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2916360" y="4869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5724360" y="4869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2082600" y="1811160"/>
            <a:ext cx="2637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cc0000"/>
                </a:solidFill>
                <a:latin typeface="Verdana"/>
              </a:rPr>
              <a:t>ДНК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1239120" y="5084640"/>
            <a:ext cx="250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cc0000"/>
                </a:solidFill>
                <a:latin typeface="Verdana"/>
              </a:rPr>
              <a:t>РНК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3564000" y="2852640"/>
            <a:ext cx="2158920" cy="7923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глевод –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ибо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755640" y="2708280"/>
            <a:ext cx="2158920" cy="1081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зотисто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нов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А, Г, Ц, У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2852640"/>
            <a:ext cx="2158920" cy="792360"/>
          </a:xfrm>
          <a:prstGeom prst="flowChartAlternate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таток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2916360" y="3284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5724360" y="3284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005360"/>
            <a:ext cx="9144000" cy="0"/>
          </a:xfrm>
          <a:prstGeom prst="line">
            <a:avLst/>
          </a:prstGeom>
          <a:ln cap="rnd" w="11448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path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4.44444E-006 -8.67052E-007 L 0.46459 0.48254 E">
                                      <p:cBhvr>
                                        <p:cTn id="19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0.5">
                                      <p:cBhvr additive="repl">
                                        <p:cTn id="2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83237E-006 L 0.55833 -0.55375 E">
                                      <p:cBhvr>
                                        <p:cTn id="60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0"/>
                            </p:stCondLst>
                            <p:childTnLst>
                              <p:par>
                                <p:cTn id="6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833 -0.55375 L -0.05591 -0.51167 E">
                                      <p:cBhvr>
                                        <p:cTn id="63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7000"/>
                            </p:stCondLst>
                            <p:childTnLst>
                              <p:par>
                                <p:cTn id="65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6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троение Н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Нуклеотид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- химическое соединение остатков трех веществ: азотистого основания, углевода, фосфорной кислоты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Модель ДН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853 г. – создание модели ДН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rcRect l="31190" t="35901" r="35764" b="33706"/>
          <a:stretch/>
        </p:blipFill>
        <p:spPr>
          <a:xfrm>
            <a:off x="611280" y="2781360"/>
            <a:ext cx="4464000" cy="3240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rcRect l="53239" t="25781" r="21075" b="18526"/>
          <a:stretch/>
        </p:blipFill>
        <p:spPr>
          <a:xfrm>
            <a:off x="5292720" y="0"/>
            <a:ext cx="385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rcRect l="1861" t="5542" r="41264" b="53984"/>
          <a:stretch/>
        </p:blipFill>
        <p:spPr>
          <a:xfrm>
            <a:off x="539640" y="1628640"/>
            <a:ext cx="835344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Комплиментарност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Комплиментарность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- пространственная взаимодополняемость молекул или их частей, приводящая к образованию водородных связе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омплиментарные структуры подходят друг к другу как «ключ с замком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2556000" y="4869000"/>
            <a:ext cx="5040360" cy="86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(А+Т)+(Г+Ц)=100%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rcRect l="9185" t="3829" r="50449" b="53984"/>
          <a:stretch/>
        </p:blipFill>
        <p:spPr>
          <a:xfrm>
            <a:off x="324000" y="119160"/>
            <a:ext cx="8420040" cy="64785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Соединение нуклеотидов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иды РН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 клетке имеется несколько видов РНК. Все они участвуют в синтезе белк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Verdana"/>
              </a:rPr>
              <a:t>Транспортные РНК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(т-РНК) - это самые маленькие по размерам РНК. Они связывают АК и транспортируют их к месту синтеза белк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Verdana"/>
              </a:rPr>
              <a:t>Информационные РНК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(и-РНК) - они в 10 раз больше тРНК. Их функция состоит в переносе информации о структуре белка от ДНК к месту синтеза белк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Verdana"/>
              </a:rPr>
              <a:t>Рибосомные РНК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(р-РНК) - имеют наибольшие размеры молекулы, входят в состав рибосом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15:30:17Z</dcterms:created>
  <dc:creator>Петрович</dc:creator>
  <dc:description/>
  <dc:language>en-US</dc:language>
  <cp:lastModifiedBy>Петрович</cp:lastModifiedBy>
  <dcterms:modified xsi:type="dcterms:W3CDTF">2005-10-20T18:19:36Z</dcterms:modified>
  <cp:revision>8</cp:revision>
  <dc:subject/>
  <dc:title>Нуклеиновые кисло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