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D5F-10D0-4434-B918-718EE8D6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BF2-05B1-41E4-A40A-E1203E1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5B7-881A-44DD-A94D-F3BBB08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33E-6773-4D13-860A-31A3AC58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2CDD8-777E-4C6E-84F5-3A8CFEBA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691F-9232-4A69-B17F-B5CAC7D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7C081-2738-4C30-A78F-C6069931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03F4D-6807-40AA-8590-C5F6182D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4B49B-5F5F-4CF6-B85D-D087CCF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DCD65-DE7C-4470-A9AF-9174AA06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E5CA3-7B9F-4D8A-8ABF-6E26BEF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12E-5B4F-48B7-A807-F5B65DB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E292F-3006-4EF1-B53E-08386D2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B1C3-6F14-404E-BF38-A0D2497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3EA43-DB11-4DE0-B49C-0091293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8D625-1C86-4437-B177-0ED8223F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FDCCF-47F0-42AC-929F-408E395C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BF9D-0A8F-450B-993C-A7999DC5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E16B-41FD-4046-A11C-E66510B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E3A6-4F66-4044-A337-1C5EE981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99EC-44C4-4557-9AF9-54B62C17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B674-0609-472C-9488-7665C42B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959-24CD-481B-A203-3BE369E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4DAF-8A54-46B5-9729-9F71688B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C187-B3FF-4FFD-B8D7-426F880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FBF4-D293-4416-A15B-03BEC2B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028A-830C-4A6E-86FB-FA8AD340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9FD3-26C5-465E-B55E-6C487B8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768D-A2E3-4FB4-A719-DFA57FEB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B732-5BDA-45D6-830A-14FB654B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53F57-1AB2-400A-95CD-B2A39496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BEC62-26FC-496F-8FAA-859E068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FD2FD5-0DA1-43B2-BEA5-06DC1DD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361-E1DA-46F6-9E9D-EFD137EF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2712E-5A8D-4A52-873A-730BB03D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B8DC2-FC17-4013-B016-F26504D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13A09-CB4E-4445-999E-181E689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62A25-2188-426C-9876-7B129E9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EAA33-2350-44D6-84AF-452215E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69E88-27BD-48A1-B51B-CF5D910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22E02-B416-467C-86CC-696E80BD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81434-E675-4DAE-B65E-0C4FAD1A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57549-0C38-42D7-850E-D5689EEE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000-1090-42C0-BD00-8B86F53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6EE-1616-43F5-8D72-AE85DE80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0D7-2A62-47A8-8D89-7794803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52F-3E22-48EB-99D1-D832635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436-828C-415B-8BF9-5DC5873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11C-4A93-41E9-B59C-FED8B12D3E5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42E-4866-4058-AA90-C324A4B8BE4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AA9D-8739-45DE-B2E2-316CA43E798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F5A1-8567-434B-B452-E339ED38FE3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4608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лава 2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еловек и его прав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§ 9. ПРАВ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317520" y="3956040"/>
            <a:ext cx="8582040" cy="264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User\Desktop\воскресенье\для сайта\рисунки на сайт\рис (1).png"/>
          <p:cNvPicPr/>
          <p:nvPr/>
        </p:nvPicPr>
        <p:blipFill>
          <a:blip r:embed="rId2"/>
          <a:stretch/>
        </p:blipFill>
        <p:spPr>
          <a:xfrm>
            <a:off x="5148360" y="260280"/>
            <a:ext cx="3647880" cy="3278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73" name="TextBox 4"/>
          <p:cNvSpPr/>
          <p:nvPr/>
        </p:nvSpPr>
        <p:spPr>
          <a:xfrm>
            <a:off x="250920" y="333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лектронные материалы к урокам обществознания. 9 класс. ФРАГ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ебник А.И. Кравченк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Гришакина О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1523880"/>
          <a:ext cx="8229600" cy="5166000"/>
        </p:xfrm>
        <a:graphic>
          <a:graphicData uri="http://schemas.openxmlformats.org/drawingml/2006/table">
            <a:tbl>
              <a:tblPr/>
              <a:tblGrid>
                <a:gridCol w="2243160"/>
                <a:gridCol w="1727280"/>
                <a:gridCol w="2016000"/>
                <a:gridCol w="2243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ПРЕ-ЩА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ЯЗЫВА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ПРАВОМОЧИ-ВА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ИТАЕМ ПОЯС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С.79-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Зарисуем табл.с.82,                          но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рави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СЕ ПРАВОВЫЕ АКТЫ В СТРАНЕ ИМЕЮТ ЮРИДИЧЕСКУЮ ИЕРАРХ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ЫСШЕЙ СИЛОЙ ОБЛАДАЕТ Конституция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УДОВ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ОТРАС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РА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МЕЙ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ДМИНИСТРА-ТИВ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ЛОВ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АЖДАНСК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c5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ИТУ-ЦИОН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9" name="Стрелка вниз 4"/>
          <p:cNvSpPr/>
          <p:nvPr/>
        </p:nvSpPr>
        <p:spPr>
          <a:xfrm>
            <a:off x="468360" y="141300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Стрелка вниз 5"/>
          <p:cNvSpPr/>
          <p:nvPr/>
        </p:nvSpPr>
        <p:spPr>
          <a:xfrm>
            <a:off x="5867280" y="1413000"/>
            <a:ext cx="433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Стрелка вниз 6"/>
          <p:cNvSpPr/>
          <p:nvPr/>
        </p:nvSpPr>
        <p:spPr>
          <a:xfrm>
            <a:off x="2484360" y="141300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Users\User\Desktop\воскресенье\для сайта\рисунки на сайт\рис (4).gif"/>
          <p:cNvPicPr/>
          <p:nvPr/>
        </p:nvPicPr>
        <p:blipFill>
          <a:blip r:embed="rId2"/>
          <a:stretch/>
        </p:blipFill>
        <p:spPr>
          <a:xfrm>
            <a:off x="3059280" y="2349360"/>
            <a:ext cx="2952720" cy="3254400"/>
          </a:xfrm>
          <a:prstGeom prst="rect">
            <a:avLst/>
          </a:prstGeom>
          <a:ln w="0">
            <a:noFill/>
          </a:ln>
        </p:spPr>
      </p:pic>
      <p:sp>
        <p:nvSpPr>
          <p:cNvPr id="203" name="Стрелка вниз 8"/>
          <p:cNvSpPr/>
          <p:nvPr/>
        </p:nvSpPr>
        <p:spPr>
          <a:xfrm>
            <a:off x="6084720" y="530064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трелка вниз 9"/>
          <p:cNvSpPr/>
          <p:nvPr/>
        </p:nvSpPr>
        <p:spPr>
          <a:xfrm>
            <a:off x="2627280" y="537372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трелка вниз 10"/>
          <p:cNvSpPr/>
          <p:nvPr/>
        </p:nvSpPr>
        <p:spPr>
          <a:xfrm rot="5400000">
            <a:off x="2303640" y="512028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низ 11"/>
          <p:cNvSpPr/>
          <p:nvPr/>
        </p:nvSpPr>
        <p:spPr>
          <a:xfrm rot="16200000">
            <a:off x="6408000" y="504864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324000" y="1749600"/>
            <a:ext cx="8697600" cy="480348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1" descr=""/>
          <p:cNvPicPr/>
          <p:nvPr/>
        </p:nvPicPr>
        <p:blipFill>
          <a:blip r:embed="rId2"/>
          <a:stretch/>
        </p:blipFill>
        <p:spPr>
          <a:xfrm>
            <a:off x="328680" y="146160"/>
            <a:ext cx="84740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5" descr=""/>
          <p:cNvPicPr/>
          <p:nvPr/>
        </p:nvPicPr>
        <p:blipFill>
          <a:blip r:embed="rId1"/>
          <a:stretch/>
        </p:blipFill>
        <p:spPr>
          <a:xfrm>
            <a:off x="517680" y="523800"/>
            <a:ext cx="8278560" cy="545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User\Desktop\воскресенье\для сайта\рисунки на сайт\рис (1).gif"/>
          <p:cNvPicPr/>
          <p:nvPr/>
        </p:nvPicPr>
        <p:blipFill>
          <a:blip r:embed="rId2"/>
          <a:stretch/>
        </p:blipFill>
        <p:spPr>
          <a:xfrm>
            <a:off x="7451640" y="2060640"/>
            <a:ext cx="1328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3212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00120"/>
            <a:ext cx="8242560" cy="4619520"/>
          </a:xfrm>
          <a:prstGeom prst="rect">
            <a:avLst/>
          </a:prstGeom>
          <a:ln w="0">
            <a:noFill/>
          </a:ln>
        </p:spPr>
      </p:pic>
      <p:pic>
        <p:nvPicPr>
          <p:cNvPr id="181" name="Заголовок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"/>
          <p:cNvPicPr/>
          <p:nvPr/>
        </p:nvPicPr>
        <p:blipFill>
          <a:blip r:embed="rId1"/>
          <a:stretch/>
        </p:blipFill>
        <p:spPr>
          <a:xfrm>
            <a:off x="433440" y="476280"/>
            <a:ext cx="8277120" cy="564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User\Desktop\воскресенье\для сайта\рисунки на сайт\рис (7).jpg"/>
          <p:cNvPicPr/>
          <p:nvPr/>
        </p:nvPicPr>
        <p:blipFill>
          <a:blip r:embed="rId2"/>
          <a:stretch/>
        </p:blipFill>
        <p:spPr>
          <a:xfrm>
            <a:off x="7164360" y="2565360"/>
            <a:ext cx="144792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User\Desktop\воскресенье\для сайта\рисунки на сайт\рис (7).jpg"/>
          <p:cNvPicPr/>
          <p:nvPr/>
        </p:nvPicPr>
        <p:blipFill>
          <a:blip r:embed="rId3"/>
          <a:stretch/>
        </p:blipFill>
        <p:spPr>
          <a:xfrm>
            <a:off x="539640" y="4664160"/>
            <a:ext cx="1368360" cy="722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User\Desktop\воскресенье\для сайта\рисунки на сайт\рис (7).jpg"/>
          <p:cNvPicPr/>
          <p:nvPr/>
        </p:nvPicPr>
        <p:blipFill>
          <a:blip r:embed="rId4"/>
          <a:stretch/>
        </p:blipFill>
        <p:spPr>
          <a:xfrm>
            <a:off x="539640" y="549360"/>
            <a:ext cx="12542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44600" y="1438200"/>
            <a:ext cx="8285040" cy="466416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2" descr=""/>
          <p:cNvPicPr/>
          <p:nvPr/>
        </p:nvPicPr>
        <p:blipFill>
          <a:blip r:embed="rId2"/>
          <a:stretch/>
        </p:blipFill>
        <p:spPr>
          <a:xfrm>
            <a:off x="328680" y="146160"/>
            <a:ext cx="9705960" cy="12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User\Desktop\воскресенье\для сайта\рисунки на сайт\рис (11).jpg"/>
          <p:cNvPicPr/>
          <p:nvPr/>
        </p:nvPicPr>
        <p:blipFill>
          <a:blip r:embed="rId3"/>
          <a:stretch/>
        </p:blipFill>
        <p:spPr>
          <a:xfrm>
            <a:off x="1547640" y="2997360"/>
            <a:ext cx="11592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"/>
          <p:cNvPicPr/>
          <p:nvPr/>
        </p:nvPicPr>
        <p:blipFill>
          <a:blip r:embed="rId1"/>
          <a:stretch/>
        </p:blipFill>
        <p:spPr>
          <a:xfrm>
            <a:off x="450720" y="542880"/>
            <a:ext cx="8242560" cy="586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User\Desktop\воскресенье\для сайта\рисунки на сайт\рис (8).jpg"/>
          <p:cNvPicPr/>
          <p:nvPr/>
        </p:nvPicPr>
        <p:blipFill>
          <a:blip r:embed="rId2"/>
          <a:stretch/>
        </p:blipFill>
        <p:spPr>
          <a:xfrm>
            <a:off x="324000" y="476280"/>
            <a:ext cx="2309760" cy="2031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Users\User\Desktop\воскресенье\для сайта\рисунки на сайт\рис (8).jpg"/>
          <p:cNvPicPr/>
          <p:nvPr/>
        </p:nvPicPr>
        <p:blipFill>
          <a:blip r:embed="rId3"/>
          <a:stretch/>
        </p:blipFill>
        <p:spPr>
          <a:xfrm>
            <a:off x="6372360" y="476280"/>
            <a:ext cx="2309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83480" cy="25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Users\User\Desktop\воскресенье\для сайта\рисунки на сайт\рис (16).jpg"/>
          <p:cNvPicPr/>
          <p:nvPr/>
        </p:nvPicPr>
        <p:blipFill>
          <a:blip r:embed="rId2"/>
          <a:stretch/>
        </p:blipFill>
        <p:spPr>
          <a:xfrm>
            <a:off x="2987640" y="3141720"/>
            <a:ext cx="2808360" cy="3252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User\Desktop\воскресенье\для сайта\рисунки на сайт\рис (17).jpg"/>
          <p:cNvPicPr/>
          <p:nvPr/>
        </p:nvPicPr>
        <p:blipFill>
          <a:blip r:embed="rId3"/>
          <a:stretch/>
        </p:blipFill>
        <p:spPr>
          <a:xfrm>
            <a:off x="395280" y="2852640"/>
            <a:ext cx="2340000" cy="19051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5940360" y="3573360"/>
            <a:ext cx="26640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орма прав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–              это правило поведения лиц                 в какой-либо правовой ситуации,     которое носит общеобязательный харак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95280" y="4797360"/>
            <a:ext cx="2376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, кто нарушает нормы, несет юридическую ответственность за свои поступ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8:58:10Z</dcterms:created>
  <dc:creator>User</dc:creator>
  <dc:description/>
  <dc:language>en-US</dc:language>
  <cp:lastModifiedBy>User</cp:lastModifiedBy>
  <dcterms:modified xsi:type="dcterms:W3CDTF">2011-11-28T05:37:35Z</dcterms:modified>
  <cp:revision>10</cp:revision>
  <dc:subject/>
  <dc:title>Право – это (от Лат. - justitia) система обязательных правил поведения, санкционированных государством и выраженных в определенных нормах.</dc:title>
</cp:coreProperties>
</file>