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14F-8BB0-4503-AAA7-6D66F686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429-4067-4BE5-B930-9B53F364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F5B-A191-425E-94C6-FE66B987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52A-5BC0-489C-A8E9-738F7F34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1958-64EF-4AFF-9751-1EC32BC6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7812C-5061-4866-B20F-767F113D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49D4-906D-457F-9F8B-B2EF4757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61DA7-683B-47EA-99CF-0B2FCEB6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9924C-E324-4E0B-957D-0CE20B0E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F0E06-6536-450C-A582-08537A5B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D2E75-71B6-43C6-8950-C15D24F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8C0-CB07-4E71-8398-71BD722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F647F-3EFB-4845-9074-34EC7588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3D3E4-8ED7-43D5-B06F-DC228D8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EAEF9-EA7A-434B-84BA-1E39D289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5A183-34A7-4235-80F9-81A1D7F4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691D3-371F-4EC5-B628-D4D7B167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4D64D-608B-46B8-9E7C-5F640DC9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D38D-9D00-47C8-A9F7-5F11E75F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5949-1E89-4A32-9117-EBF49F37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3A67-2506-4413-A7A6-FF28AB28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E1F8-6A8A-427B-AD81-1D764A6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F57-0496-433E-AE96-36016E64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6ADF-B2ED-4A91-8FD9-CDBDA017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1D7E-6303-497A-9E4A-8C7A168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23CC-B128-4FCA-BE2E-B7A8DD32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8610-8155-4643-88BB-4366A23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A83A-E9DA-4F69-A687-7881D8F1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CF96-49E5-471B-8A4A-E3B49141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AB8D-9D57-430C-87CD-FF4B333F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F8D9E-5053-424E-A7D2-8C3BA0D8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2B042-9111-4EA3-BD8A-94C84CE4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8F81C-7DEA-4975-849A-E5ED48B8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D61-928C-4C57-A21A-2122B0C4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2D74BA-DEBE-4781-9D37-B09306B9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90BAC-14BE-43D2-8EE9-94D91B9A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30402C-391B-42FE-BF7B-D5523C0E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22C5F-9CE1-4F9A-9F88-949FCF26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1976C-9FD3-4C2E-AE30-7631AB54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E1239E-769A-4610-9A69-6C1F0D48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584DA-F233-4001-BC26-E973E824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190C5-620B-452D-97F2-76A0DE66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14D8F3-0496-489C-B4F9-3A7B4517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436-9532-43EE-AAE2-B94F817C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3FF-E5FE-4388-876B-CEDE3C40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267-2AA6-4EDE-8927-6F545AE9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3B6-2DA9-4E80-9185-8FE8C0C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8FA-14C9-4DF2-B75D-6564E8E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312E-D913-41A1-A560-88491544147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8CF8-4FAF-4E2D-9929-A52FF00C6F0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E2CD-B9FA-486E-A142-3F24629797A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A9F7-3DB2-4405-8923-B41549DEF27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460836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Глава 2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Человек и его прав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§ 9. ПРАВ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317520" y="3956040"/>
            <a:ext cx="8582040" cy="264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User\Desktop\воскресенье\для сайта\рисунки на сайт\рис (1).png"/>
          <p:cNvPicPr/>
          <p:nvPr/>
        </p:nvPicPr>
        <p:blipFill>
          <a:blip r:embed="rId2"/>
          <a:stretch/>
        </p:blipFill>
        <p:spPr>
          <a:xfrm>
            <a:off x="5148360" y="260280"/>
            <a:ext cx="3647880" cy="3278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73" name="TextBox 4"/>
          <p:cNvSpPr/>
          <p:nvPr/>
        </p:nvSpPr>
        <p:spPr>
          <a:xfrm>
            <a:off x="250920" y="33336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лектронные материалы к урокам обществознания. 9 класс. ФРАГ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ебник А.И. Кравченк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читель Гришакина О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457200" y="1523880"/>
          <a:ext cx="8229600" cy="5166000"/>
        </p:xfrm>
        <a:graphic>
          <a:graphicData uri="http://schemas.openxmlformats.org/drawingml/2006/table">
            <a:tbl>
              <a:tblPr/>
              <a:tblGrid>
                <a:gridCol w="2243160"/>
                <a:gridCol w="1727280"/>
                <a:gridCol w="2016000"/>
                <a:gridCol w="2243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ПРЕ-ЩАЮ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ЯЗЫВАЮ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ПРАВОМОЧИ-ВАЮ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ЧИТАЕМ ПОЯСН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С.79-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nstantia"/>
                        </a:rPr>
                        <a:t>Зарисуем табл.с.82,                          но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рави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ВСЕ ПРАВОВЫЕ АКТЫ В СТРАНЕ ИМЕЮТ ЮРИДИЧЕСКУЮ ИЕРАРХИ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ВЫСШЕЙ СИЛОЙ ОБЛАДАЕТ Конституция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УДОВ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ОТРАС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РА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МЕЙ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ДМИНИСТРА-ТИВ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ГОЛОВ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b1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РАЖДАНСК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c5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СТИТУ-ЦИОННОЕ 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9" name="Стрелка вниз 4"/>
          <p:cNvSpPr/>
          <p:nvPr/>
        </p:nvSpPr>
        <p:spPr>
          <a:xfrm>
            <a:off x="468360" y="1413000"/>
            <a:ext cx="431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Стрелка вниз 5"/>
          <p:cNvSpPr/>
          <p:nvPr/>
        </p:nvSpPr>
        <p:spPr>
          <a:xfrm>
            <a:off x="5867280" y="1413000"/>
            <a:ext cx="4334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Стрелка вниз 6"/>
          <p:cNvSpPr/>
          <p:nvPr/>
        </p:nvSpPr>
        <p:spPr>
          <a:xfrm>
            <a:off x="2484360" y="141300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C:\Users\User\Desktop\воскресенье\для сайта\рисунки на сайт\рис (4).gif"/>
          <p:cNvPicPr/>
          <p:nvPr/>
        </p:nvPicPr>
        <p:blipFill>
          <a:blip r:embed="rId2"/>
          <a:stretch/>
        </p:blipFill>
        <p:spPr>
          <a:xfrm>
            <a:off x="3059280" y="2349360"/>
            <a:ext cx="2952720" cy="3254400"/>
          </a:xfrm>
          <a:prstGeom prst="rect">
            <a:avLst/>
          </a:prstGeom>
          <a:ln w="0">
            <a:noFill/>
          </a:ln>
        </p:spPr>
      </p:pic>
      <p:sp>
        <p:nvSpPr>
          <p:cNvPr id="203" name="Стрелка вниз 8"/>
          <p:cNvSpPr/>
          <p:nvPr/>
        </p:nvSpPr>
        <p:spPr>
          <a:xfrm>
            <a:off x="6084720" y="530064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Стрелка вниз 9"/>
          <p:cNvSpPr/>
          <p:nvPr/>
        </p:nvSpPr>
        <p:spPr>
          <a:xfrm>
            <a:off x="2627280" y="537372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Стрелка вниз 10"/>
          <p:cNvSpPr/>
          <p:nvPr/>
        </p:nvSpPr>
        <p:spPr>
          <a:xfrm rot="5400000">
            <a:off x="2303640" y="5120280"/>
            <a:ext cx="43200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трелка вниз 11"/>
          <p:cNvSpPr/>
          <p:nvPr/>
        </p:nvSpPr>
        <p:spPr>
          <a:xfrm rot="16200000">
            <a:off x="6408000" y="5048640"/>
            <a:ext cx="431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одержимое 3" descr=""/>
          <p:cNvPicPr/>
          <p:nvPr/>
        </p:nvPicPr>
        <p:blipFill>
          <a:blip r:embed="rId1"/>
          <a:stretch/>
        </p:blipFill>
        <p:spPr>
          <a:xfrm>
            <a:off x="324000" y="1749600"/>
            <a:ext cx="8697600" cy="4803480"/>
          </a:xfrm>
          <a:prstGeom prst="rect">
            <a:avLst/>
          </a:prstGeom>
          <a:ln w="0">
            <a:noFill/>
          </a:ln>
        </p:spPr>
      </p:pic>
      <p:pic>
        <p:nvPicPr>
          <p:cNvPr id="175" name="Заголовок 1" descr=""/>
          <p:cNvPicPr/>
          <p:nvPr/>
        </p:nvPicPr>
        <p:blipFill>
          <a:blip r:embed="rId2"/>
          <a:stretch/>
        </p:blipFill>
        <p:spPr>
          <a:xfrm>
            <a:off x="328680" y="146160"/>
            <a:ext cx="847404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5" descr=""/>
          <p:cNvPicPr/>
          <p:nvPr/>
        </p:nvPicPr>
        <p:blipFill>
          <a:blip r:embed="rId1"/>
          <a:stretch/>
        </p:blipFill>
        <p:spPr>
          <a:xfrm>
            <a:off x="517680" y="523800"/>
            <a:ext cx="8278560" cy="545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User\Desktop\воскресенье\для сайта\рисунки на сайт\рис (1).gif"/>
          <p:cNvPicPr/>
          <p:nvPr/>
        </p:nvPicPr>
        <p:blipFill>
          <a:blip r:embed="rId2"/>
          <a:stretch/>
        </p:blipFill>
        <p:spPr>
          <a:xfrm>
            <a:off x="7451640" y="2060640"/>
            <a:ext cx="1328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87520"/>
            <a:ext cx="8242560" cy="463212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2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00120"/>
            <a:ext cx="8242560" cy="4619520"/>
          </a:xfrm>
          <a:prstGeom prst="rect">
            <a:avLst/>
          </a:prstGeom>
          <a:ln w="0">
            <a:noFill/>
          </a:ln>
        </p:spPr>
      </p:pic>
      <p:pic>
        <p:nvPicPr>
          <p:cNvPr id="181" name="Заголовок 2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"/>
          <p:cNvPicPr/>
          <p:nvPr/>
        </p:nvPicPr>
        <p:blipFill>
          <a:blip r:embed="rId1"/>
          <a:stretch/>
        </p:blipFill>
        <p:spPr>
          <a:xfrm>
            <a:off x="433440" y="476280"/>
            <a:ext cx="8277120" cy="564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User\Desktop\воскресенье\для сайта\рисунки на сайт\рис (7).jpg"/>
          <p:cNvPicPr/>
          <p:nvPr/>
        </p:nvPicPr>
        <p:blipFill>
          <a:blip r:embed="rId2"/>
          <a:stretch/>
        </p:blipFill>
        <p:spPr>
          <a:xfrm>
            <a:off x="7164360" y="2565360"/>
            <a:ext cx="1447920" cy="762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User\Desktop\воскресенье\для сайта\рисунки на сайт\рис (7).jpg"/>
          <p:cNvPicPr/>
          <p:nvPr/>
        </p:nvPicPr>
        <p:blipFill>
          <a:blip r:embed="rId3"/>
          <a:stretch/>
        </p:blipFill>
        <p:spPr>
          <a:xfrm>
            <a:off x="539640" y="4664160"/>
            <a:ext cx="1368360" cy="722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User\Desktop\воскресенье\для сайта\рисунки на сайт\рис (7).jpg"/>
          <p:cNvPicPr/>
          <p:nvPr/>
        </p:nvPicPr>
        <p:blipFill>
          <a:blip r:embed="rId4"/>
          <a:stretch/>
        </p:blipFill>
        <p:spPr>
          <a:xfrm>
            <a:off x="539640" y="549360"/>
            <a:ext cx="12542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одержимое 3" descr=""/>
          <p:cNvPicPr/>
          <p:nvPr/>
        </p:nvPicPr>
        <p:blipFill>
          <a:blip r:embed="rId1"/>
          <a:stretch/>
        </p:blipFill>
        <p:spPr>
          <a:xfrm>
            <a:off x="444600" y="1438200"/>
            <a:ext cx="8285040" cy="4664160"/>
          </a:xfrm>
          <a:prstGeom prst="rect">
            <a:avLst/>
          </a:prstGeom>
          <a:ln w="0">
            <a:noFill/>
          </a:ln>
        </p:spPr>
      </p:pic>
      <p:pic>
        <p:nvPicPr>
          <p:cNvPr id="187" name="Заголовок 2" descr=""/>
          <p:cNvPicPr/>
          <p:nvPr/>
        </p:nvPicPr>
        <p:blipFill>
          <a:blip r:embed="rId2"/>
          <a:stretch/>
        </p:blipFill>
        <p:spPr>
          <a:xfrm>
            <a:off x="328680" y="146160"/>
            <a:ext cx="9705960" cy="123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Users\User\Desktop\воскресенье\для сайта\рисунки на сайт\рис (11).jpg"/>
          <p:cNvPicPr/>
          <p:nvPr/>
        </p:nvPicPr>
        <p:blipFill>
          <a:blip r:embed="rId3"/>
          <a:stretch/>
        </p:blipFill>
        <p:spPr>
          <a:xfrm>
            <a:off x="1547640" y="2997360"/>
            <a:ext cx="11592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"/>
          <p:cNvPicPr/>
          <p:nvPr/>
        </p:nvPicPr>
        <p:blipFill>
          <a:blip r:embed="rId1"/>
          <a:stretch/>
        </p:blipFill>
        <p:spPr>
          <a:xfrm>
            <a:off x="450720" y="542880"/>
            <a:ext cx="8242560" cy="5864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Users\User\Desktop\воскресенье\для сайта\рисунки на сайт\рис (8).jpg"/>
          <p:cNvPicPr/>
          <p:nvPr/>
        </p:nvPicPr>
        <p:blipFill>
          <a:blip r:embed="rId2"/>
          <a:stretch/>
        </p:blipFill>
        <p:spPr>
          <a:xfrm>
            <a:off x="324000" y="476280"/>
            <a:ext cx="2309760" cy="2031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C:\Users\User\Desktop\воскресенье\для сайта\рисунки на сайт\рис (8).jpg"/>
          <p:cNvPicPr/>
          <p:nvPr/>
        </p:nvPicPr>
        <p:blipFill>
          <a:blip r:embed="rId3"/>
          <a:stretch/>
        </p:blipFill>
        <p:spPr>
          <a:xfrm>
            <a:off x="6372360" y="476280"/>
            <a:ext cx="2309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583480" cy="25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Users\User\Desktop\воскресенье\для сайта\рисунки на сайт\рис (16).jpg"/>
          <p:cNvPicPr/>
          <p:nvPr/>
        </p:nvPicPr>
        <p:blipFill>
          <a:blip r:embed="rId2"/>
          <a:stretch/>
        </p:blipFill>
        <p:spPr>
          <a:xfrm>
            <a:off x="2987640" y="3141720"/>
            <a:ext cx="2808360" cy="3252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Users\User\Desktop\воскресенье\для сайта\рисунки на сайт\рис (17).jpg"/>
          <p:cNvPicPr/>
          <p:nvPr/>
        </p:nvPicPr>
        <p:blipFill>
          <a:blip r:embed="rId3"/>
          <a:stretch/>
        </p:blipFill>
        <p:spPr>
          <a:xfrm>
            <a:off x="395280" y="2852640"/>
            <a:ext cx="2340000" cy="19051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5940360" y="3573360"/>
            <a:ext cx="26640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орма права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–              это правило поведения лиц                 в какой-либо правовой ситуации,     которое носит общеобязательный харак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395280" y="4797360"/>
            <a:ext cx="23763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, кто нарушает нормы, несет юридическую ответственность за свои поступ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8:58:10Z</dcterms:created>
  <dc:creator>User</dc:creator>
  <dc:description/>
  <dc:language>en-US</dc:language>
  <cp:lastModifiedBy>User</cp:lastModifiedBy>
  <dcterms:modified xsi:type="dcterms:W3CDTF">2011-11-28T05:37:35Z</dcterms:modified>
  <cp:revision>10</cp:revision>
  <dc:subject/>
  <dc:title>Право – это (от Лат. - justitia) система обязательных правил поведения, санкционированных государством и выраженных в определенных нормах.</dc:title>
</cp:coreProperties>
</file>